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546-7B80-4EC6-B7CE-25AAB804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ADF-E5C5-4928-88A3-FEDC8864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3A9-859C-42D7-B79D-C937C14C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3C8-F308-4840-A029-E56C3788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3CD-BF9C-43DB-8978-13105201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E48-B183-4EFD-B77D-45CAE9CB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F66-E45E-4D41-B742-5581F4A8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424-FA56-40C5-9AFA-277925D6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C0D-0B11-42F3-9726-C495ED1F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301D-3E8B-4560-A724-5BF1A383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D00-29CE-4113-900D-BE858CF3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7ED-582A-4046-9236-8FA58EA1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2A53-4296-4918-8FC6-A870A527E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638680"/>
            <a:ext cx="8229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Crecimiento de 2,6% en 1990-2004, mejor que en los 80,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ero muy inferior a los 70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En 1998-2003 hubo un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exenio perdid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 Recuperación en 2004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Necesidad de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Reformar las reforma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de primera gener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229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Inestabilidad de la economía real causada por flujos de capitales volát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érica Latina: ciclos de median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791320"/>
            <a:ext cx="8229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inestabilidad real implica una baja tasa de utilización de la capacidad productiva, explicando la baja formación de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229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de cambio real altamente correlacionado con los movimientos de capi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01:34Z</dcterms:created>
  <dc:creator>rheresi</dc:creator>
  <dc:description/>
  <dc:language>en-US</dc:language>
  <cp:lastModifiedBy>rheresi</cp:lastModifiedBy>
  <dcterms:modified xsi:type="dcterms:W3CDTF">2005-09-23T14:53:57Z</dcterms:modified>
  <cp:revision>8</cp:revision>
  <dc:subject/>
  <dc:title>Crecimiento de 2,6% en 1990-2004, mejor que en los 80, pero muy inferior a los 70.    </dc:title>
</cp:coreProperties>
</file>