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32CB-BF1D-42E4-9138-5F69A887A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71FB-6E1C-4B18-8C84-80EDA688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34A3-A412-4936-BA4D-75B8F63A2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B6D4-9F45-4CDA-A843-1E2E04C5F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8AB0-C48B-4CE8-8DE9-C2D0EC2F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931C-4D61-4E7E-BB38-9FBB545B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B6DC-40B2-430F-90C6-16801FEF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A8B3-413A-4344-9B58-2D3DFB88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1881-0AA5-4791-BD36-B5954A53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5042-E971-41E3-B005-0B387764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21F3-4B27-42F1-8CDB-4B0129E7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DDDE-83A0-4E78-98E5-8809AC4F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E455-5327-42CF-AA9B-3E8138994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ormas Económicas en América La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ardo Ffrench-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90920" y="5334120"/>
            <a:ext cx="396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-09-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ormas Económicas en América La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ardo Ffrench-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5334120"/>
            <a:ext cx="396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-09-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5638680"/>
            <a:ext cx="8229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 Crecimiento de 2,6% en 1990-2004, mejor que en los 80,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ero muy inferior a los 70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 En 1998-2003 hubo un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exenio perdido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. Recuperación en 2004.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 Necesidad de 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Reformar las reformas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de primera generació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763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095880"/>
            <a:ext cx="82296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Inestabilidad de la economía real causada por flujos de capitales volát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érica Latina: ciclos de mediano p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229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61048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5791320"/>
            <a:ext cx="82296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a inestabilidad real implica una baja tasa de utilización de la capacidad productiva, explicando la baja formación de capi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05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5866920"/>
            <a:ext cx="82296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po de cambio real altamente correlacionado con los movimientos de capit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18:01:34Z</dcterms:created>
  <dc:creator>rheresi</dc:creator>
  <dc:description/>
  <dc:language>en-US</dc:language>
  <cp:lastModifiedBy>rheresi</cp:lastModifiedBy>
  <dcterms:modified xsi:type="dcterms:W3CDTF">2005-09-23T14:53:57Z</dcterms:modified>
  <cp:revision>8</cp:revision>
  <dc:subject/>
  <dc:title>Crecimiento de 2,6% en 1990-2004, mejor que en los 80, pero muy inferior a los 70.    </dc:title>
</cp:coreProperties>
</file>