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A690-B3C0-4B73-B9F1-780AC1E4E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AECD-779E-45B1-9BE0-B3E85BE4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2E90-2D41-4549-AE6F-36DBA891D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39DA-8A6A-4A8E-AFE9-D7C8DFAB1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66FD-275E-4919-BBEB-55BA256BD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43F2-9B1A-474B-9E2D-0F256913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D73A-66DF-4CCE-8D15-0CA5E4F3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1510-9ED1-46DC-9C52-B4BF5AFF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E322-757E-458F-AAC1-3F7D9FF1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3A4E-BFB9-4D6D-BE6D-D68D58C3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C90A-B75D-4694-A6F1-711B5D8B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BFDB-3CE0-418D-BA44-60896CD3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3C3E-C546-4F26-A255-A59C34D8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6B8F-D458-4304-9762-87C511EB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B2A5-ECF5-440C-90A7-0259CB24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8FEF-29EE-482D-8872-34A3A6B7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F64D-3528-4963-8738-1A90A5302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E0DF-1135-4053-BB71-CE90FFA3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08C1-C6B1-44CC-ABA6-D2D31DC8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7C3A-5DFB-4A88-9FD6-ABC5C95C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4834-CDA1-4196-877E-27341A15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8BEC-ACFD-49F2-85D9-4E562FAF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6F77-D101-428C-8A76-2444B8AF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1FFC-DB91-41D4-9C32-61D6A8B4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24F7-9E44-4E5B-B790-1366BC0A6E6D}" type="slidenum"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841A-7B43-450B-B34D-101F383875A0}" type="slidenum"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IR%20carreras%20t&#233;cnicas.pdf" TargetMode="External"/><Relationship Id="rId2" Type="http://schemas.openxmlformats.org/officeDocument/2006/relationships/hyperlink" Target="file:///10IngresoMensual.jpg" TargetMode="External"/><Relationship Id="rId3" Type="http://schemas.openxmlformats.org/officeDocument/2006/relationships/hyperlink" Target="file:///21IngresoMensual.jpg" TargetMode="External"/><Relationship Id="rId4" Type="http://schemas.openxmlformats.org/officeDocument/2006/relationships/hyperlink" Target="file:///35IngresoMensual.jpg" TargetMode="External"/><Relationship Id="rId5" Type="http://schemas.openxmlformats.org/officeDocument/2006/relationships/hyperlink" Target="file:///37IngresoMensual.jpg" TargetMode="External"/><Relationship Id="rId6" Type="http://schemas.openxmlformats.org/officeDocument/2006/relationships/hyperlink" Target="file:///38IngresoMensual.jpg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ANÁLISIS ECONÓMICO DEL FINANCIAMIENTO DE LA </a:t>
            </a:r>
            <a:r>
              <a:rPr b="0" lang="es-ES_tradnl" sz="3600" spc="-1" strike="noStrike">
                <a:solidFill>
                  <a:srgbClr val="cc9900"/>
                </a:solidFill>
                <a:latin typeface="Arial Black"/>
              </a:rPr>
              <a:t>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240" y="3962520"/>
            <a:ext cx="71629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6600"/>
                </a:solidFill>
                <a:latin typeface="Times New Roman"/>
              </a:rPr>
              <a:t>MGPP-IN609 2005</a:t>
            </a: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6600"/>
                </a:solidFill>
                <a:latin typeface="Times New Roman"/>
              </a:rPr>
              <a:t>Pablo González</a:t>
            </a: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9900"/>
                </a:solidFill>
                <a:latin typeface="Verdana"/>
              </a:rPr>
              <a:t>% QUE A LOS 14 AÑOS DE EDAD COMPLETA 6 AÑOS DE ESTUDIO Y A LOS 20 COMPLETA SECUNDARIA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066680" y="1754280"/>
          <a:ext cx="7188480" cy="450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4280"/>
                    <a:ext cx="7188480" cy="45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9900"/>
                </a:solidFill>
                <a:latin typeface="Verdana"/>
              </a:rPr>
              <a:t>DISTRIBUCIÓN MATRÍCULA EDUCACIÓN SUPERIOR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642960" y="2127240"/>
          <a:ext cx="7831080" cy="39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127240"/>
                    <a:ext cx="7831080" cy="39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9900"/>
                </a:solidFill>
                <a:latin typeface="Verdana"/>
              </a:rPr>
              <a:t>OBJETIVOS DE LOS SISTEMAS DE EDUCACIÓN SUPERIOR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1760" y="2165040"/>
            <a:ext cx="7723080" cy="3794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Calificaciones de la fuerza de trabaj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Hombres y mujeres cultos, no meros especialist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umentar el conoci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Transmisión de una cultura común y estándares de ciudadaní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Robbins (1963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OBJETIVOS DE POLÍTICA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58160" cy="419112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¿Cuáles son los objetivos económicos de la política de educación superior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casez: eficiencia y equidad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ficiencia macr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Volumen de recursos, tamaño sector, cobertura, TIR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ficiencia micr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Dados los recursos usarlos lo mejor posible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Se relaciona con la gestión y los incentivo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Satisfacción demandas (estudiantes, empresas, Estado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Calidad producto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OBJETIVOS POLÍTICA (2)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2504880"/>
            <a:ext cx="8178840" cy="308916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6600"/>
                </a:solidFill>
                <a:latin typeface="Verdana"/>
              </a:rPr>
              <a:t>Equidad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En el acceso (x capacidades; diferencias r/a educación escolar x ej. derechos)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En el pago (¿ingresos actuales o futuros?)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Igualdad de oportunidades y educación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Verdana"/>
              </a:rPr>
              <a:t>DOCENCIA/INVESTIGACIÓN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4840" y="2165400"/>
            <a:ext cx="7724520" cy="38656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quema analítico: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cc6600"/>
                </a:solidFill>
                <a:latin typeface="Verdana"/>
              </a:rPr>
              <a:t>Empresa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 multiproduct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Docenci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Capital humano o goce consum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Economía se centra en análisis como inversión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vestiga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Aumento stock de conocimientos humanidad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Otros? Extensión (actividades culturales, de difusión, servicio a la comunidad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OBJETIVOS PRIVADOS RESPECTO A LA DOCENCIA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ducación para los demandantes es en parte un bien de consumo y en parte un bien de invers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ersonas toman decisión de educarse sobre la base de: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eferenci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apacidad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formación disponib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Beneficios: mayores ingresos, etc.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ostos directos, indirectos y de oportunidad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ducarse si el VPN&gt;0 o equivalentemente TIR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LA DECISIÓN DE SEGUIR ESTUDIOS SUPERIORES</a:t>
            </a:r>
            <a:r>
              <a:rPr b="0" lang="es-ES_tradnl" sz="3200" spc="-1" strike="noStrike">
                <a:solidFill>
                  <a:srgbClr val="fbfff7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0" y="1600200"/>
          <a:ext cx="91440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9900"/>
                </a:solidFill>
                <a:latin typeface="Verdana"/>
              </a:rPr>
              <a:t>TASAS DE RETORNO DE EDUCACIÓN SUPERIOR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Han crecido en la última décad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Varios estudios para países latinoamericanos encuentran TIR &gt; 20% anual, excepto Uruguay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n Chile Beyer (2001), Sapelli y Torche (2002), Mizala y Romaguera (2002), Arellano y Braun (1999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Estimaciones por carrera utilizando información tributaria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Mayoría de las </a:t>
            </a: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carreras técnicas </a:t>
            </a: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se ubica por encima del 20%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Algunas carreras universitarias seleccionad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Derech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Ingeniería industri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4"/>
              </a:rPr>
              <a:t>Pedagogía en educación básic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5"/>
              </a:rPr>
              <a:t>Periodismo y comunicación soci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6"/>
              </a:rPr>
              <a:t>Psicologí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96633"/>
                </a:solidFill>
                <a:latin typeface="Verdana"/>
              </a:rPr>
              <a:t>ORDEN EXPOSICIÓN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l método</a:t>
            </a:r>
            <a:r>
              <a:rPr b="0" lang="es-CL" sz="2400" spc="-1" strike="noStrike">
                <a:solidFill>
                  <a:srgbClr val="cc6600"/>
                </a:solidFill>
                <a:latin typeface="Verdana"/>
              </a:rPr>
              <a:t> de la economí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Antecedentes educaci</a:t>
            </a:r>
            <a:r>
              <a:rPr b="0" lang="es-CL" sz="2400" spc="-1" strike="noStrike">
                <a:solidFill>
                  <a:srgbClr val="cc6600"/>
                </a:solidFill>
                <a:latin typeface="Verdana"/>
              </a:rPr>
              <a:t>ón superior en Chi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Objetivos sistema educación superior y de la política educacion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Marco conceptual: distintos product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Por qué el estado financia la educación superior? 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Financiamiento de la docenci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Otros temas: información, investigación, extensión, público vrs. privad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DUCACIÓN SUPERIOR ES UNA INVERSIÓN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ivadamente rentab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TIR ha ido creciendo en el tiemp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sto de hecho es una causa de que la distribución del ingreso no ha mejorado en los noventa, pese al aumento de la escolaridad de la población sin estudios universitari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9900"/>
                </a:solidFill>
                <a:latin typeface="Verdana"/>
              </a:rPr>
              <a:t>Dado que es una inversión rentable: ¿por qué Estado apoya financieramente docencia?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58160" cy="47242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Externalidades? 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De redes, fuera del mercado, crecimiento endógen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Difíciles de medir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Discutibles en educación superior </a:t>
            </a: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(Poterba, 1996, Hanushek, 2003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Aversión al riesgo privada 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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 social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Imperfecciones mercado de capitales? 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 ¿Restricciones de liquidez? </a:t>
            </a: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Cameron y Heckman (1999) 4% en EEUU. No quiere decir que en países en desarrollo no sea muy relevante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Bienes de mérito? (objetivos no privados de docencia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quidad ex-ante vrs. ex-post y capacidad de presión sobre el aparato públic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Verdana"/>
              </a:rPr>
              <a:t>EQUIDAD EN EL ACCES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Matrícula y nivel de ingresos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Cobertura 1er quintil es 9,4%, 5to quintil 65,6%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Crecimiento cobertura es 21% en 1er quintil, 5to es 60% desde el 92, pero desde el 87 es 147% contra 63% del V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Otros países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Mala distribución de la calidad de educación básica y media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P(ingreso U) 6 veces &gt; para un alumno egresado de un establecimiento particular pagado que de un liceo municipal. En U.Ch. y U.C. es más de 10 veces. 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Además pobres no egresan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ESQUEMA ACTUAL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58160" cy="47242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rédito contingente a ingresos es equitativo y eficiente (Barr, 1992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La ayuda estudiantil está relativamente bien focalizada comparada a otro países de LA pero mal r.a. otros niveles del sistema 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Monto total: limitaciones surgen principalmente de la morosidad y del subsidio de tasa de interés (2% fijo). Es cuestionable también el límite de 5% de los ingres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No cubre costos de oportunidad: manten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Facilitar el trabajo part-tim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scaso apoyo a CFT, IP, universidades privadas post 1981: becas Pdte Rep., nueva ley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ARANCEL DIFERENCIAD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¿Más difícil controlar ingreso actual que ingreso futuro?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enos recursos a educación 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Recursos públicos: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Limitación restringiría crecimiento ed. sup.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Costo de oportunidad: esquema actual permite mejorar razón Gpub sup/ Gpub escolar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Inequitativo ex-post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¿Cómo se financia? No se puede cobrar x sobre el costo a los más ricos porque se irían a otras Ue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OTROS TEMAS FINANCIAMIENTO ESTATAL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Mientras mayor el apoyo estatal, mayor la presión sobre el sistema para no crece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Deteriorar calidad para mayor cobertur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ermitir entrada de más recursos privados, sin deteriorar equidad en el acces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Necesidad de generar indicadores para mejorar asignación y uso de recurs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456840" y="1885680"/>
            <a:ext cx="8178840" cy="417204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455040" y="617400"/>
            <a:ext cx="8390160" cy="6156360"/>
            <a:chOff x="455040" y="617400"/>
            <a:chExt cx="8390160" cy="6156360"/>
          </a:xfrm>
        </p:grpSpPr>
        <p:sp>
          <p:nvSpPr>
            <p:cNvPr id="306" name=""/>
            <p:cNvSpPr/>
            <p:nvPr/>
          </p:nvSpPr>
          <p:spPr>
            <a:xfrm>
              <a:off x="455040" y="617400"/>
              <a:ext cx="8390160" cy="6156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262520" y="1544760"/>
              <a:ext cx="7317720" cy="429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62520" y="5360040"/>
              <a:ext cx="7317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262520" y="488268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62520" y="4408920"/>
              <a:ext cx="7317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262520" y="393048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62520" y="345312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62520" y="297468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62520" y="2500560"/>
              <a:ext cx="7317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262520" y="202212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262520" y="154476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262520" y="1544760"/>
              <a:ext cx="7317720" cy="4293360"/>
            </a:xfrm>
            <a:prstGeom prst="rect">
              <a:avLst/>
            </a:prstGeom>
            <a:noFill/>
            <a:ln w="12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62520" y="1544760"/>
              <a:ext cx="1080" cy="429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214280" y="583848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14280" y="5360040"/>
              <a:ext cx="48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14280" y="488268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14280" y="4408920"/>
              <a:ext cx="48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214280" y="393048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214280" y="345312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14280" y="297468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14280" y="2500560"/>
              <a:ext cx="48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14280" y="202212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14280" y="154476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62520" y="583848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1262520" y="5838120"/>
              <a:ext cx="108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2727000" y="5838120"/>
              <a:ext cx="108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4191120" y="5838120"/>
              <a:ext cx="72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5651640" y="5838120"/>
              <a:ext cx="108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7116120" y="5838120"/>
              <a:ext cx="72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8580240" y="5838120"/>
              <a:ext cx="72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017240" y="154044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91960" y="1562040"/>
              <a:ext cx="95760" cy="10872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9" y="0"/>
                  </a:moveTo>
                  <a:lnTo>
                    <a:pt x="97" y="48"/>
                  </a:lnTo>
                  <a:lnTo>
                    <a:pt x="49" y="96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969440" y="159912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8"/>
                  </a:lnTo>
                  <a:lnTo>
                    <a:pt x="48" y="97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242600" y="1621080"/>
              <a:ext cx="95760" cy="10872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8" y="0"/>
                  </a:moveTo>
                  <a:lnTo>
                    <a:pt x="97" y="48"/>
                  </a:lnTo>
                  <a:lnTo>
                    <a:pt x="48" y="96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17600" y="176868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8"/>
                  </a:lnTo>
                  <a:lnTo>
                    <a:pt x="48" y="97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83560" y="1773360"/>
              <a:ext cx="95760" cy="10872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9" y="0"/>
                  </a:moveTo>
                  <a:lnTo>
                    <a:pt x="97" y="48"/>
                  </a:lnTo>
                  <a:lnTo>
                    <a:pt x="49" y="96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808000" y="1852920"/>
              <a:ext cx="95760" cy="1098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9"/>
                  </a:lnTo>
                  <a:lnTo>
                    <a:pt x="48" y="97"/>
                  </a:lnTo>
                  <a:lnTo>
                    <a:pt x="0" y="4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808000" y="1866600"/>
              <a:ext cx="95760" cy="10872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8" y="0"/>
                  </a:moveTo>
                  <a:lnTo>
                    <a:pt x="97" y="48"/>
                  </a:lnTo>
                  <a:lnTo>
                    <a:pt x="48" y="96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26360" y="2001600"/>
              <a:ext cx="95760" cy="10908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8" y="0"/>
                  </a:moveTo>
                  <a:lnTo>
                    <a:pt x="97" y="48"/>
                  </a:lnTo>
                  <a:lnTo>
                    <a:pt x="48" y="96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358000" y="2068920"/>
              <a:ext cx="95760" cy="1098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9"/>
                  </a:lnTo>
                  <a:lnTo>
                    <a:pt x="48" y="97"/>
                  </a:lnTo>
                  <a:lnTo>
                    <a:pt x="0" y="4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209400" y="2085840"/>
              <a:ext cx="95760" cy="1098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28480" y="216180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9"/>
                  </a:lnTo>
                  <a:lnTo>
                    <a:pt x="48" y="97"/>
                  </a:lnTo>
                  <a:lnTo>
                    <a:pt x="0" y="4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058200" y="217908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19080" y="260640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10040" y="269964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91680" y="271656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8"/>
                  </a:lnTo>
                  <a:lnTo>
                    <a:pt x="48" y="97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78200" y="2797200"/>
              <a:ext cx="95760" cy="10908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8" y="0"/>
                  </a:moveTo>
                  <a:lnTo>
                    <a:pt x="97" y="48"/>
                  </a:lnTo>
                  <a:lnTo>
                    <a:pt x="48" y="96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988000" y="2817720"/>
              <a:ext cx="95760" cy="1098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002760" y="3270240"/>
              <a:ext cx="95400" cy="1098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41960" y="342684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72120" y="356220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9"/>
                  </a:lnTo>
                  <a:lnTo>
                    <a:pt x="48" y="97"/>
                  </a:lnTo>
                  <a:lnTo>
                    <a:pt x="0" y="4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415760" y="3583800"/>
              <a:ext cx="95760" cy="1098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455520" y="402336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18720" y="413388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117600" y="415404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46480" y="418032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741760" y="4273560"/>
              <a:ext cx="95760" cy="10908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8" y="0"/>
                  </a:moveTo>
                  <a:lnTo>
                    <a:pt x="97" y="48"/>
                  </a:lnTo>
                  <a:lnTo>
                    <a:pt x="48" y="96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08000" y="470880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8"/>
                  </a:lnTo>
                  <a:lnTo>
                    <a:pt x="48" y="97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53400" y="510192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93440" y="546552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644280" y="257220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67880" y="681120"/>
              <a:ext cx="69012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% del PIB dirigido a educación superior y proporción del gasto público en el gasto 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47240" y="2889360"/>
              <a:ext cx="268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reland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211920" y="2632680"/>
              <a:ext cx="450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rgentina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884680" y="2940480"/>
              <a:ext cx="29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pain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11720" y="4134960"/>
              <a:ext cx="455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donesia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903400" y="4225680"/>
              <a:ext cx="24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apan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381760" y="1724400"/>
              <a:ext cx="342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urkey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141640" y="2250720"/>
              <a:ext cx="294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z.R.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526120" y="2024640"/>
              <a:ext cx="352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exico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376720" y="2654280"/>
              <a:ext cx="235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taly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684880" y="2460960"/>
              <a:ext cx="406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ungary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279960" y="4108680"/>
              <a:ext cx="427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hilippines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315400" y="5056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hile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256880" y="5419080"/>
              <a:ext cx="235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orea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471080" y="4658760"/>
              <a:ext cx="33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ailand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616800" y="3978000"/>
              <a:ext cx="529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ited States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305760" y="3380040"/>
              <a:ext cx="21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srael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334840" y="3514320"/>
              <a:ext cx="308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nada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78120" y="3534840"/>
              <a:ext cx="34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ustralia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133240" y="1556280"/>
              <a:ext cx="284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celand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786200" y="1956240"/>
              <a:ext cx="31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weden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44840" y="1725480"/>
              <a:ext cx="29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orway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07840" y="1574280"/>
              <a:ext cx="357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nmark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79960" y="1495080"/>
              <a:ext cx="275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ustria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42280" y="1864080"/>
              <a:ext cx="328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ortugal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220200" y="2132280"/>
              <a:ext cx="273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rance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372480" y="2040120"/>
              <a:ext cx="474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etherlands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781440" y="408600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erú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168000" y="3224520"/>
              <a:ext cx="602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ited Kingdon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52520" y="1516320"/>
              <a:ext cx="45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witzerland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75400" y="1802880"/>
              <a:ext cx="361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ermany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09880" y="2518920"/>
              <a:ext cx="613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OECD average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33480" y="573264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33480" y="525420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33480" y="47746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33480" y="43030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933480" y="3825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33480" y="33483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933480" y="28666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33480" y="2394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33480" y="1917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58760" y="1437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159920" y="59907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685600" y="5990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89600" y="59907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611680" y="5990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013520" y="59907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538840" y="5990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560120" y="6291000"/>
              <a:ext cx="1510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 total/pib</a:t>
              </a:r>
              <a:endParaRPr b="0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6200000">
              <a:off x="75240" y="2936520"/>
              <a:ext cx="1611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rot="-5400000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 pub/total</a:t>
              </a:r>
              <a:endParaRPr b="0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5040" y="617400"/>
              <a:ext cx="8390160" cy="6156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3962520" y="2895480"/>
            <a:ext cx="3809880" cy="3200400"/>
          </a:xfrm>
          <a:prstGeom prst="ellipse">
            <a:avLst/>
          </a:prstGeom>
          <a:noFill/>
          <a:ln w="9360">
            <a:solidFill>
              <a:srgbClr val="fb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33920" y="1447920"/>
            <a:ext cx="1828800" cy="761760"/>
          </a:xfrm>
          <a:prstGeom prst="ellipse">
            <a:avLst/>
          </a:prstGeom>
          <a:noFill/>
          <a:ln w="9360">
            <a:solidFill>
              <a:srgbClr val="bf07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¿Qué debe hacer el estado respecto a la docencia?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Asegurar que los estudiantes meritorios tengan acceso a crédito contingente a ingresos futur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Esquemas eficientes y equitativos de pag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¿Regular el mercado? ¿Qué aspectos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¿Carreras saturadas? Importancia de la información en decisiones, pero problemas de otros instrumentos (ej. Informática en EEUU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Importancia de instituciones públic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ORTANCIA DE INFORMACIÓN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958160" cy="411012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Información incorrecta lleva a asignación de recursos inefici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dquirir información tiene costo (tiempo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tudios muestran que consumidores utilizan un pequeño set de informa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n educación consumidores utilizan: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sus redes social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oxis de calidad (apariencia física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89120" y="259920"/>
            <a:ext cx="782136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Verdana"/>
              </a:rPr>
              <a:t>ROL DEL ESTADO RESPECTO A INFORMA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quidad: capacidad de obtener y procesar información inversamente relacionadas con nivel educacional y socioeconómic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ficiencia: economías de escala en producción de información y características de bien público (no rival y es difícil de excluir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Homogeneidad información para poder comparar (caso planes Isapres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ALGUNOS ANTECEDENTES DEL SISTEMA DE EDUCACIÓN SUPERIOR CHILEN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OTROS VARIOS TEMAS...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ección, crédito e información aseguran cumplimiento de objetivos privados, no objetivos públic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ero </a:t>
            </a:r>
            <a:r>
              <a:rPr b="0" lang="es-ES_tradnl" sz="2800" spc="-1" strike="noStrike">
                <a:solidFill>
                  <a:srgbClr val="996633"/>
                </a:solidFill>
                <a:latin typeface="Verdana"/>
              </a:rPr>
              <a:t>que la institución sea pública tampoco asegura la producción de los bienes públicos</a:t>
            </a: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: debate sobre </a:t>
            </a:r>
            <a:r>
              <a:rPr b="0" lang="es-ES_tradnl" sz="2800" spc="-1" strike="noStrike">
                <a:solidFill>
                  <a:srgbClr val="cc6600"/>
                </a:solidFill>
                <a:latin typeface="Symbol"/>
                <a:ea typeface="Symbol"/>
              </a:rPr>
              <a:t></a:t>
            </a: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 propiedad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Debe haber incentivos para proveer esos bienes eficientemente: regulación; financiamiento.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¿Regulación respecto al lucro solo incentiva elusión tributaria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 Black"/>
              </a:rPr>
              <a:t>OTROS BIEN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 valor de la universidad pública: ¿pluralismo, independencia académica (¿pero en cuántos países no se confunde autonomía con impunidad? Importancia de accountability), cohesión social, reflexión sobre el futuro del país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Incluso en EEUU más de dos tercios de los estudiantes asisten a Ues estatal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portes institucionales, universidades regionales, financiamiento investigación,...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VOLUCIÓN MATRÍCULA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1447920"/>
          <a:ext cx="9144000" cy="53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14400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9900"/>
                </a:solidFill>
                <a:latin typeface="Verdana"/>
              </a:rPr>
              <a:t>COBERTURA DE EDUCACIÓN SUPERIOR POR QUINTIL DE INGRESO AUTONÓMO PER CAPITA DEL HOGAR, 1990, 2000 Y 2003</a:t>
            </a:r>
            <a:endParaRPr b="0" lang="en-US" sz="2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6600"/>
                </a:solidFill>
                <a:latin typeface="Tahoma"/>
              </a:rPr>
              <a:t>MIDEPLAN, División Social, a partir de Encuesta CASEN  años respectivos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700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bfff7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60360" y="5540400"/>
            <a:ext cx="333360" cy="171360"/>
          </a:xfrm>
          <a:prstGeom prst="rect">
            <a:avLst/>
          </a:prstGeom>
          <a:solidFill>
            <a:srgbClr val="ff0000">
              <a:alpha val="50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25560" y="5396040"/>
            <a:ext cx="319320" cy="315720"/>
          </a:xfrm>
          <a:prstGeom prst="rect">
            <a:avLst/>
          </a:prstGeom>
          <a:solidFill>
            <a:srgbClr val="ff0000">
              <a:alpha val="50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76720" y="5211720"/>
            <a:ext cx="331920" cy="500040"/>
          </a:xfrm>
          <a:prstGeom prst="rect">
            <a:avLst/>
          </a:prstGeom>
          <a:solidFill>
            <a:srgbClr val="ff0000">
              <a:alpha val="50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41920" y="4857840"/>
            <a:ext cx="319320" cy="853920"/>
          </a:xfrm>
          <a:prstGeom prst="rect">
            <a:avLst/>
          </a:prstGeom>
          <a:solidFill>
            <a:srgbClr val="ff0000">
              <a:alpha val="50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93080" y="4108320"/>
            <a:ext cx="331560" cy="1603440"/>
          </a:xfrm>
          <a:prstGeom prst="rect">
            <a:avLst/>
          </a:prstGeom>
          <a:solidFill>
            <a:srgbClr val="ff0000">
              <a:alpha val="50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93720" y="5343480"/>
            <a:ext cx="319320" cy="368280"/>
          </a:xfrm>
          <a:prstGeom prst="rect">
            <a:avLst/>
          </a:prstGeom>
          <a:solidFill>
            <a:srgbClr val="ff6600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4880" y="5067360"/>
            <a:ext cx="331560" cy="644400"/>
          </a:xfrm>
          <a:prstGeom prst="rect">
            <a:avLst/>
          </a:prstGeom>
          <a:solidFill>
            <a:srgbClr val="ff6600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8640" y="4556160"/>
            <a:ext cx="320400" cy="1155600"/>
          </a:xfrm>
          <a:prstGeom prst="rect">
            <a:avLst/>
          </a:prstGeom>
          <a:solidFill>
            <a:srgbClr val="ff6600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61240" y="3976560"/>
            <a:ext cx="331560" cy="1735200"/>
          </a:xfrm>
          <a:prstGeom prst="rect">
            <a:avLst/>
          </a:prstGeom>
          <a:solidFill>
            <a:srgbClr val="ff6600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24640" y="3097080"/>
            <a:ext cx="320760" cy="2614680"/>
          </a:xfrm>
          <a:prstGeom prst="rect">
            <a:avLst/>
          </a:prstGeom>
          <a:solidFill>
            <a:srgbClr val="ff6600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13040" y="5133960"/>
            <a:ext cx="331560" cy="577800"/>
          </a:xfrm>
          <a:prstGeom prst="rect">
            <a:avLst/>
          </a:prstGeom>
          <a:solidFill>
            <a:srgbClr val="3399ff">
              <a:alpha val="50000"/>
            </a:srgbClr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76440" y="4870440"/>
            <a:ext cx="320760" cy="841320"/>
          </a:xfrm>
          <a:prstGeom prst="rect">
            <a:avLst/>
          </a:prstGeom>
          <a:solidFill>
            <a:srgbClr val="3399ff">
              <a:alpha val="50000"/>
            </a:srgbClr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29040" y="4411800"/>
            <a:ext cx="331920" cy="1299960"/>
          </a:xfrm>
          <a:prstGeom prst="rect">
            <a:avLst/>
          </a:prstGeom>
          <a:solidFill>
            <a:srgbClr val="3399ff">
              <a:alpha val="50000"/>
            </a:srgbClr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92800" y="3859200"/>
            <a:ext cx="320760" cy="1852560"/>
          </a:xfrm>
          <a:prstGeom prst="rect">
            <a:avLst/>
          </a:prstGeom>
          <a:solidFill>
            <a:srgbClr val="3399ff">
              <a:alpha val="50000"/>
            </a:srgbClr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745400" y="2781360"/>
            <a:ext cx="331920" cy="2930400"/>
          </a:xfrm>
          <a:prstGeom prst="rect">
            <a:avLst/>
          </a:prstGeom>
          <a:solidFill>
            <a:srgbClr val="3399ff">
              <a:alpha val="50000"/>
            </a:srgbClr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27080" y="1730520"/>
            <a:ext cx="1800" cy="398124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571176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491004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412272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332100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53224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173052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27080" y="5711760"/>
            <a:ext cx="7296120" cy="180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027080" y="57117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490840" y="57117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943440" y="57117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407200" y="57117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859440" y="57117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8323200" y="57117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65640" y="5084640"/>
            <a:ext cx="308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9,4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09920" y="431964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28,9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49560" y="374184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43,5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61200" y="286056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65,6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60840" y="458136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21,3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73560" y="387180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40,2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79520" y="496260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12,4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56440" y="5146560"/>
            <a:ext cx="308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7,8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34000" y="5229360"/>
            <a:ext cx="308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4,4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96840" y="483084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16,2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84480" y="414972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32,8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01920" y="458136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21,2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04840" y="486900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14,5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856280" y="254484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73,7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29240" y="362268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46,4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9280" y="5560920"/>
            <a:ext cx="308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0,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3560" y="481824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20,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3560" y="403056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40,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3560" y="322884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60,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3560" y="244008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80,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7680" y="1638360"/>
            <a:ext cx="555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100,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38800" y="581652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I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6640" y="5816520"/>
            <a:ext cx="168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II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26720" y="5816520"/>
            <a:ext cx="25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III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72480" y="5816520"/>
            <a:ext cx="22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IV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3960" y="5816520"/>
            <a:ext cx="14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V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84960" y="6053040"/>
            <a:ext cx="3117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Quintil de ingreso autónomo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-347760" y="3372480"/>
            <a:ext cx="1314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(Porcentaje)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1797120"/>
            <a:ext cx="203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56160" y="1954080"/>
            <a:ext cx="74520" cy="79560"/>
          </a:xfrm>
          <a:prstGeom prst="rect">
            <a:avLst/>
          </a:prstGeom>
          <a:solidFill>
            <a:srgbClr val="ff0000">
              <a:alpha val="50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08800" y="190188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199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251400" y="1954080"/>
            <a:ext cx="73080" cy="795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c66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10520" y="190188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200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165800" y="1954080"/>
            <a:ext cx="73080" cy="79560"/>
          </a:xfrm>
          <a:prstGeom prst="rect">
            <a:avLst/>
          </a:prstGeom>
          <a:solidFill>
            <a:srgbClr val="3399ff">
              <a:alpha val="50000"/>
            </a:srgbClr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24920" y="190188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2003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9900"/>
                </a:solidFill>
                <a:latin typeface="Arial Black"/>
              </a:rPr>
              <a:t>INGRESO AUTONOMO PER CAPITA DEL HOGAR POR QUINTIL DE INGRESO: PROMEDIO, LIMITES MÍNIMOS Y MÁXIMOS</a:t>
            </a:r>
            <a:endParaRPr b="0" lang="en-US" sz="2000" spc="-1" strike="noStrike">
              <a:solidFill>
                <a:srgbClr val="cc9900"/>
              </a:solidFill>
              <a:latin typeface="Arial Black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57200" y="1886040"/>
            <a:ext cx="8178840" cy="4171680"/>
            <a:chOff x="457200" y="1886040"/>
            <a:chExt cx="8178840" cy="4171680"/>
          </a:xfrm>
        </p:grpSpPr>
        <p:sp>
          <p:nvSpPr>
            <p:cNvPr id="163" name=""/>
            <p:cNvSpPr/>
            <p:nvPr/>
          </p:nvSpPr>
          <p:spPr>
            <a:xfrm>
              <a:off x="6425640" y="5550840"/>
              <a:ext cx="221004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  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-  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82280" y="5550840"/>
              <a:ext cx="204300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168.639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26200" y="5550840"/>
              <a:ext cx="175572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-  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200" y="5550840"/>
              <a:ext cx="216900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25640" y="5045400"/>
              <a:ext cx="221004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  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-  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82280" y="5045400"/>
              <a:ext cx="204300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537.147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626200" y="5045400"/>
              <a:ext cx="175572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199.933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5045400"/>
              <a:ext cx="216900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25640" y="4538520"/>
              <a:ext cx="221004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199.906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382280" y="4538520"/>
              <a:ext cx="204300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144.368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26200" y="4538520"/>
              <a:ext cx="175572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106.875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4538520"/>
              <a:ext cx="216900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I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25640" y="4032720"/>
              <a:ext cx="221004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106.867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382280" y="4032720"/>
              <a:ext cx="204300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85.669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26200" y="4032720"/>
              <a:ext cx="175572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67.664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7200" y="4032720"/>
              <a:ext cx="216900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I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425640" y="3525840"/>
              <a:ext cx="221004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67.658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382280" y="3525840"/>
              <a:ext cx="204300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52.829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26200" y="3525840"/>
              <a:ext cx="175572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39.679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7200" y="3525840"/>
              <a:ext cx="216900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25640" y="3020760"/>
              <a:ext cx="2210040" cy="505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39.678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382280" y="3020760"/>
              <a:ext cx="2043000" cy="505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23.174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26200" y="3020760"/>
              <a:ext cx="1755720" cy="505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-  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200" y="3020760"/>
              <a:ext cx="2169000" cy="505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25640" y="1886040"/>
              <a:ext cx="2210040" cy="1134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Máximo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82280" y="1886040"/>
              <a:ext cx="2043000" cy="1134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Promedio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626200" y="1886040"/>
              <a:ext cx="1755720" cy="1134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Mínimo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7200" y="1886040"/>
              <a:ext cx="2169000" cy="1134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Quintil de ingreso  autónomo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7200" y="3020760"/>
              <a:ext cx="817884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26200" y="1886040"/>
              <a:ext cx="0" cy="417168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382280" y="1886040"/>
              <a:ext cx="0" cy="417168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25640" y="1886040"/>
              <a:ext cx="0" cy="417168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7200" y="3525840"/>
              <a:ext cx="817884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" y="4032720"/>
              <a:ext cx="817884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200" y="4538520"/>
              <a:ext cx="817884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7200" y="5045400"/>
              <a:ext cx="817884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" y="5550840"/>
              <a:ext cx="817884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7200" y="1886040"/>
              <a:ext cx="817884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7200" y="1886040"/>
              <a:ext cx="0" cy="417168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636040" y="1886040"/>
              <a:ext cx="0" cy="417168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7200" y="6057720"/>
              <a:ext cx="817884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7928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6600"/>
                </a:solidFill>
                <a:latin typeface="Tahoma"/>
              </a:rPr>
              <a:t>MIDEPLAN, División Social, a partir de Encuesta CASEN  2003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9900"/>
                </a:solidFill>
                <a:latin typeface="Verdana"/>
              </a:rPr>
              <a:t>DISTRIBUCIÓN DE LA MATRÍCULA DE EDUCACIÓN SUPERIOR POR QUINTIL DE INGRESO AUTONÓMO, 2003</a:t>
            </a:r>
            <a:endParaRPr b="0" lang="en-US" sz="2000" spc="-1" strike="noStrike">
              <a:solidFill>
                <a:srgbClr val="cc9900"/>
              </a:solidFill>
              <a:latin typeface="Arial Black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457200" y="1905120"/>
            <a:ext cx="8229600" cy="4143240"/>
            <a:chOff x="457200" y="1905120"/>
            <a:chExt cx="8229600" cy="4143240"/>
          </a:xfrm>
        </p:grpSpPr>
        <p:sp>
          <p:nvSpPr>
            <p:cNvPr id="209" name=""/>
            <p:cNvSpPr/>
            <p:nvPr/>
          </p:nvSpPr>
          <p:spPr>
            <a:xfrm>
              <a:off x="771192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3560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2,9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61080" y="5362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8476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0988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24080" y="5362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6,4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7200" y="5362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71192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3560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1,8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61080" y="4662360"/>
              <a:ext cx="9745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8476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6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0988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8,2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4080" y="4662360"/>
              <a:ext cx="68580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,8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4662360"/>
              <a:ext cx="2666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Educación Universitari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71192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3560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9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61080" y="3976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1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8476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3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0988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24080" y="3976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5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7200" y="3976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nstituto Profesion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1192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3560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61080" y="3276720"/>
              <a:ext cx="9745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7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8476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5,7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0988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24080" y="3276720"/>
              <a:ext cx="68580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3276720"/>
              <a:ext cx="2666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Centro de Formación Técnic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71192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73560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61080" y="259092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8476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80988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124080" y="259092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7200" y="25909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711920" y="19051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124080" y="1905120"/>
              <a:ext cx="458784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Quintil de ingreso autónomo percapit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" y="19051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" y="25909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2408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1192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098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78476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610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3560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" y="3976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7200" y="46623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200" y="5362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57200" y="190512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72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6868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7200" y="604836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17928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6600"/>
                </a:solidFill>
                <a:latin typeface="Tahoma"/>
              </a:rPr>
              <a:t>MIDEPLAN, División Social, a partir de Encuesta CASEN  años respectivos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9900"/>
                </a:solidFill>
                <a:latin typeface="Verdana"/>
              </a:rPr>
              <a:t>POBLACION 25-34 AÑOS POR QUINTIL DE INGRESO Y NIVEL DE ESCOLARIDAD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0" y="1752480"/>
          <a:ext cx="914400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2:48:43Z</dcterms:created>
  <dc:creator>Pablo Gonzalez</dc:creator>
  <dc:description/>
  <dc:language>en-US</dc:language>
  <cp:lastModifiedBy>UNIVERSIDAD DE CHILE.</cp:lastModifiedBy>
  <dcterms:modified xsi:type="dcterms:W3CDTF">2005-08-31T20:42:11Z</dcterms:modified>
  <cp:revision>30</cp:revision>
  <dc:subject/>
  <dc:title>ANÁLISIS ECONÓMICO DE LA EDUCACIÓN SUPERIOR</dc:title>
</cp:coreProperties>
</file>