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46D-C9B7-45B3-B2ED-31F1AE08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132-7116-4FF4-8612-AFB439B4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22F-9834-4B42-BFFA-DCACB59E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A5B-3C4D-45E3-B7CB-5F6C4C12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5CA9-E79E-4DA5-8D4B-B0D255A5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7165-1EA7-4E45-9080-398E988D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43E6-4B98-46BC-B4B1-97ABA109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4155-79B5-4282-9808-3943215D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F7B8-8535-4E31-8235-60B020D5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70FC-0E65-4130-9A18-0AEEC0C4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E59F-D25C-4D31-BB02-9EC33686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91E-F332-4D06-BAD9-47E27C0D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9738-B08C-48DC-9589-C396431F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0ED5-A89C-43F8-811B-B5D71164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AD8C-BF68-4CED-937E-AB792B9D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FC16-DDCD-4E6F-996B-862D8AD1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011A-35DF-4E49-B365-C51ADFBC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7DC-251D-4D6D-8AFD-78B26733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24F-1E27-4303-8095-FCB9A418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285-8CEA-4A94-A18A-221D79B5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30C-B5BD-409A-BB7C-7755ECC5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959-11E6-4079-85C1-F330E8F3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BEE-AC54-40DE-A4DC-A7C4D5DC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10F-38FD-4A37-BF73-3D61ACDF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50AB-ABF3-48BD-A974-035527E170BE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65ED-83CA-4816-9A79-C17B078837D3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10IngresoMensual.jpg" TargetMode="External"/><Relationship Id="rId3" Type="http://schemas.openxmlformats.org/officeDocument/2006/relationships/hyperlink" Target="file:///21IngresoMensual.jpg" TargetMode="External"/><Relationship Id="rId4" Type="http://schemas.openxmlformats.org/officeDocument/2006/relationships/hyperlink" Target="file:///35IngresoMensual.jpg" TargetMode="External"/><Relationship Id="rId5" Type="http://schemas.openxmlformats.org/officeDocument/2006/relationships/hyperlink" Target="file:///37IngresoMensual.jpg" TargetMode="External"/><Relationship Id="rId6" Type="http://schemas.openxmlformats.org/officeDocument/2006/relationships/hyperlink" Target="file:///38IngresoMensual.jpg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NÁLISIS ECONÓMICO DEL 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MGPP-IN609 2005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% QUE A LOS 14 AÑOS DE EDAD COMPLETA 6 AÑOS DE ESTUDIO Y A LOS 20 COMPLETA SECUNDARIA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66680" y="1754280"/>
          <a:ext cx="7188480" cy="45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4280"/>
                    <a:ext cx="71884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DISTRIBUCIÓN MATRÍCULA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42960" y="2127240"/>
          <a:ext cx="7831080" cy="39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127240"/>
                    <a:ext cx="783108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DE POLÍTIC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191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Cuáles son los objetivos económicos de la política de educación superior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casez: eficiencia y 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a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Volumen de recursos, tamaño sector, cobertura, TI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i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Dados los recursos usarlos lo mejor posible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e relaciona con la gestión y los incentivo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atisfacción demandas (estudiantes, empresas, Estado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Calidad product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OLÍTICA (2)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2504880"/>
            <a:ext cx="8178840" cy="308916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Verdana"/>
              </a:rPr>
              <a:t>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acceso (x capacidades; diferencias r/a educación escolar x ej. derechos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pago (¿ingresos actuales o futuros?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Igualdad de oportunidades y educación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DOCENCIA/INVESTIGA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multiproduc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en la última déc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lgunas carreras universitarias seleccionad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Verdana"/>
              </a:rPr>
              <a:t>ORDEN EXPOSI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método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 de la econom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ntecedentes educaci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ón superior en Chi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bjetivos sistema educación superior y de la política educacion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arco conceptual: distintos product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Por qué el estado financia la educación superior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miento de la 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tros temas: información, investigación, extensión, público vrs. privad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Dado que es una inversión rentable: ¿por qué Estado apoya financieramente docencia?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Externalidades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e redes, fuera del mercado, crecimiento endógen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fíciles de medi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scutibles en educación superior 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 </a:t>
            </a: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meron y Heckman (1999) 4% en EEUU. No quiere decir que en países en desarrollo no sea muy relevant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Bienes de mérito? (objetivos no privados de docenci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 ex-ante vrs. ex-post y capacidad de presión sobre el aparato públ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EQUIDAD EN EL ACCES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trícula y nivel de ingreso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obertura 1er quintil es 9,4%, 5to quintil 65,6%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recimiento cobertura es 21% en 1er quintil, 5to es 60% desde el 92, pero desde el 87 es 147% contra 63% del V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Otros paíse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la distribución de la calidad de educación básica y media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P(ingreso U) 6 veces &gt; para un alumno egresado de un establecimiento particular pagado que de un liceo municipal. En U.Ch. y U.C. es más de 10 veces. 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Además pobres no egresan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ESQUEMA ACTU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acilitar el trabajo part-tim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caso apoyo a CFT, IP, universidades privadas post 1981: becas Pdte Rep.,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Más difícil controlar ingreso actual que ingreso futuro?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ed. sup.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TROS TEMAS FINANCIAMIENTO ESTAT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ientras mayor el apoyo estatal, mayor la presión sobre el sistema para no crece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teriorar calidad para mayor cobertur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mitir entrada de más recursos privados, sin deteriorar equidad en el acce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Necesidad de generar indicadores para mejorar asignación y uso de recurs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56840" y="1885680"/>
            <a:ext cx="8178840" cy="417204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455040" y="617400"/>
            <a:ext cx="8390160" cy="6156360"/>
            <a:chOff x="455040" y="617400"/>
            <a:chExt cx="8390160" cy="6156360"/>
          </a:xfrm>
        </p:grpSpPr>
        <p:sp>
          <p:nvSpPr>
            <p:cNvPr id="306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520" y="536004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62520" y="4882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62520" y="440892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62520" y="3930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62520" y="3453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62520" y="2974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2520" y="250056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62520" y="2022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62520" y="154476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noFill/>
            <a:ln w="12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62520" y="1544760"/>
              <a:ext cx="1080" cy="429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14280" y="5838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14280" y="536004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4280" y="4882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14280" y="440892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14280" y="3930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4280" y="3453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14280" y="2974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14280" y="250056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4280" y="2022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4280" y="154476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62520" y="5838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6252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72700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191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65164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116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58024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17240" y="15404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91960" y="156204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69440" y="15991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2600" y="162108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17600" y="17686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83560" y="177336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08000" y="1852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08000" y="186660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20016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58000" y="2068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09400" y="208584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28480" y="21618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58200" y="217908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19080" y="26064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10040" y="26996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91680" y="27165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78200" y="27972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88000" y="28177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2760" y="3270240"/>
              <a:ext cx="9540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41960" y="34268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2120" y="35622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15760" y="358380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5520" y="40233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18720" y="41338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17600" y="41540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480" y="41803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1760" y="427356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8000" y="47088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3400" y="51019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3440" y="54655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44280" y="25722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67880" y="681120"/>
              <a:ext cx="6901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% del PIB dirigido a educación superior y proporción del gasto público en el gasto 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47240" y="288936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11920" y="263268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gentin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84680" y="2940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pain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1720" y="4134960"/>
              <a:ext cx="45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onesi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03400" y="4225680"/>
              <a:ext cx="24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81760" y="1724400"/>
              <a:ext cx="34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urke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41640" y="225072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z.R.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26120" y="202464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xico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76720" y="26542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tal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84880" y="2460960"/>
              <a:ext cx="40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ungar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9960" y="4108680"/>
              <a:ext cx="42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hilippin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15400" y="5056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56880" y="54190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re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71080" y="465876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ai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16800" y="3978000"/>
              <a:ext cx="52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05760" y="3380040"/>
              <a:ext cx="21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rae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34840" y="3514320"/>
              <a:ext cx="30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8120" y="3534840"/>
              <a:ext cx="34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33240" y="1556280"/>
              <a:ext cx="28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c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6200" y="1956240"/>
              <a:ext cx="31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ede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44840" y="1725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orwa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7840" y="157428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nmark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79960" y="1495080"/>
              <a:ext cx="27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2280" y="1864080"/>
              <a:ext cx="32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rtuga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20200" y="213228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2480" y="2040120"/>
              <a:ext cx="47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therland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81440" y="408600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rú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68000" y="3224520"/>
              <a:ext cx="602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Kingdo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52520" y="1516320"/>
              <a:ext cx="45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itzer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5400" y="1802880"/>
              <a:ext cx="361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9880" y="2518920"/>
              <a:ext cx="61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ECD averag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33480" y="57326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3480" y="52542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33480" y="4774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33480" y="430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33480" y="382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33480" y="3348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33480" y="2866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3480" y="2394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3480" y="1917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58760" y="1437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599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8560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8960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1168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35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3884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60120" y="6291000"/>
              <a:ext cx="151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total/pib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75240" y="2936520"/>
              <a:ext cx="1611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pub/total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962520" y="2895480"/>
            <a:ext cx="3809880" cy="3200400"/>
          </a:xfrm>
          <a:prstGeom prst="ellipse">
            <a:avLst/>
          </a:prstGeom>
          <a:noFill/>
          <a:ln w="9360">
            <a:solidFill>
              <a:srgbClr val="fb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1447920"/>
            <a:ext cx="1828800" cy="761760"/>
          </a:xfrm>
          <a:prstGeom prst="ellipse">
            <a:avLst/>
          </a:prstGeom>
          <a:noFill/>
          <a:ln w="9360">
            <a:solidFill>
              <a:srgbClr val="bf0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segurar que los estudiantes meritorios tengan acceso a crédito contingente a ingresos futur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quemas eficientes y equitativos de pag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Regular el mercado? ¿Qué aspect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ero problemas de otros instrumentos (ej. Informática en EEUU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mportancia de instituciones públic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es difícil de excluir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LGUNOS ANTECEDENTES DEL SISTEMA DE EDUCACIÓN SUPERIOR CHILEN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OTROS VARIOS TEMAS...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bienes públicos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: debate sobre </a:t>
            </a:r>
            <a:r>
              <a:rPr b="0" lang="es-ES_tradnl" sz="2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bienes eficientemente: regulación; financiamiento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¿pero en cuántos países no se confunde autonomía con impunidad? Importancia de accountability), cohesión social, reflexión sobre el futuro del paí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..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47920"/>
          <a:ext cx="914400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COBERTURA DE EDUCACIÓN SUPERIOR POR QUINTIL DE INGRESO AUTONÓMO PER CAPITA DEL HOGAR, 1990, 2000 Y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70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bfff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0360" y="5540400"/>
            <a:ext cx="333360" cy="1713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5560" y="5396040"/>
            <a:ext cx="319320" cy="3157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76720" y="5211720"/>
            <a:ext cx="331920" cy="5000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41920" y="4857840"/>
            <a:ext cx="319320" cy="8539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4108320"/>
            <a:ext cx="331560" cy="16034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93720" y="5343480"/>
            <a:ext cx="319320" cy="3682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4880" y="5067360"/>
            <a:ext cx="331560" cy="6444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8640" y="4556160"/>
            <a:ext cx="320400" cy="11556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1240" y="3976560"/>
            <a:ext cx="331560" cy="17352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24640" y="3097080"/>
            <a:ext cx="320760" cy="26146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13040" y="5133960"/>
            <a:ext cx="331560" cy="5778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76440" y="4870440"/>
            <a:ext cx="320760" cy="84132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29040" y="4411800"/>
            <a:ext cx="331920" cy="12999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92800" y="3859200"/>
            <a:ext cx="320760" cy="1852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5400" y="2781360"/>
            <a:ext cx="331920" cy="29304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1730520"/>
            <a:ext cx="1800" cy="39812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7117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491004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1227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3210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5322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7305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27080" y="5711760"/>
            <a:ext cx="7296120" cy="180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02708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908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9434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40720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85944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32320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65640" y="508464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9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09920" y="43196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8,9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49560" y="3741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3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61200" y="286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5,6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6084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73560" y="38718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79520" y="49626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2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6440" y="51465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34000" y="52293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96840" y="4830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6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84480" y="414972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32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0192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04840" y="48690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4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56280" y="2544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3,7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29240" y="36226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6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9280" y="556092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560" y="48182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560" y="403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560" y="3228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560" y="24400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8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7680" y="1638360"/>
            <a:ext cx="55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0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38800" y="581652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6640" y="581652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26720" y="58165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72480" y="5816520"/>
            <a:ext cx="22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3960" y="5816520"/>
            <a:ext cx="14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84960" y="6053040"/>
            <a:ext cx="3117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Quintil de ingreso autónomo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-347760" y="3372480"/>
            <a:ext cx="1314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(Porcentaje)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797120"/>
            <a:ext cx="203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56160" y="1954080"/>
            <a:ext cx="74520" cy="795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880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99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51400" y="1954080"/>
            <a:ext cx="73080" cy="79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105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5800" y="1954080"/>
            <a:ext cx="73080" cy="79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249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Arial Black"/>
              </a:rPr>
              <a:t>INGRESO AUTONOMO PER CAPITA DEL HOGAR POR QUINTIL DE INGRESO: PROMEDIO, LIMITES MÍNIMOS Y MÁXIMOS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1886040"/>
            <a:ext cx="8178840" cy="4171680"/>
            <a:chOff x="457200" y="1886040"/>
            <a:chExt cx="8178840" cy="4171680"/>
          </a:xfrm>
        </p:grpSpPr>
        <p:sp>
          <p:nvSpPr>
            <p:cNvPr id="163" name=""/>
            <p:cNvSpPr/>
            <p:nvPr/>
          </p:nvSpPr>
          <p:spPr>
            <a:xfrm>
              <a:off x="6425640" y="5550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2280" y="5550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68.63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6200" y="5550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5550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25640" y="504540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82280" y="504540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37.14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26200" y="504540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33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4540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25640" y="453852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06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82280" y="453852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44.36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6200" y="453852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75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53852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5640" y="403272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6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82280" y="403272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85.66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26200" y="403272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6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" y="403272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5640" y="3525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5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82280" y="3525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2.82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6200" y="3525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" y="3525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25640" y="3020760"/>
              <a:ext cx="221004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82280" y="3020760"/>
              <a:ext cx="2043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23.17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26200" y="3020760"/>
              <a:ext cx="175572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3020760"/>
              <a:ext cx="2169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25640" y="1886040"/>
              <a:ext cx="221004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áx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82280" y="1886040"/>
              <a:ext cx="2043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Promedi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26200" y="1886040"/>
              <a:ext cx="175572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ín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1886040"/>
              <a:ext cx="2169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Quintil de ingreso  autóno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302076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620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8228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2564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3525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40327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" y="45385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504540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5550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" y="188604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3604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605772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2003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2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POBLACION 25-34 AÑOS POR QUINTIL DE INGRESO Y NIVEL DE ESCOLARIDAD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752480"/>
          <a:ext cx="9144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UNIVERSIDAD DE CHILE.</cp:lastModifiedBy>
  <dcterms:modified xsi:type="dcterms:W3CDTF">2005-08-31T20:42:11Z</dcterms:modified>
  <cp:revision>30</cp:revision>
  <dc:subject/>
  <dc:title>ANÁLISIS ECONÓMICO DE LA EDUCACIÓN SUPERIOR</dc:title>
</cp:coreProperties>
</file>