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59A7-8AF7-4298-BDA8-33C4E327E1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Derecho</a:t>
            </a:r>
            <a:r>
              <a:rPr b="0" lang="es-ES" sz="1400" spc="-1" strike="noStrike">
                <a:solidFill>
                  <a:srgbClr val="000000"/>
                </a:solidFill>
                <a:latin typeface="Arial"/>
              </a:rPr>
              <a:t>: garantías explícitas de acceso, oportunidad, calidad y protección financiera y generar instrumentos  para el efectivo ejercicio de éstas, dotando a los usuarios de mecanismos para hacerlas exigibles (OI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400" spc="-1" strike="noStrike" u="sng">
                <a:solidFill>
                  <a:srgbClr val="000000"/>
                </a:solidFill>
                <a:uFillTx/>
                <a:latin typeface="Arial"/>
              </a:rPr>
              <a:t>Equidad</a:t>
            </a:r>
            <a:r>
              <a:rPr b="0" lang="es-ES" sz="1400" spc="-1" strike="noStrike">
                <a:solidFill>
                  <a:srgbClr val="000000"/>
                </a:solidFill>
                <a:latin typeface="Arial"/>
              </a:rPr>
              <a:t>. Equidad social para igualdad en salud. A través de mayores niveles de protección social y acceso universal a la atención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a:t>
            </a:r>
            <a:r>
              <a:rPr b="0" lang="es-ES" sz="1400" spc="-1" strike="noStrike" u="sng">
                <a:solidFill>
                  <a:srgbClr val="000000"/>
                </a:solidFill>
                <a:uFillTx/>
                <a:latin typeface="Arial"/>
              </a:rPr>
              <a:t>Solidaridad</a:t>
            </a:r>
            <a:r>
              <a:rPr b="0" lang="es-ES" sz="1400" spc="-1" strike="noStrike">
                <a:solidFill>
                  <a:srgbClr val="000000"/>
                </a:solidFill>
                <a:latin typeface="Arial"/>
              </a:rPr>
              <a:t>. Equidad es que los sanos solidarizan con enfermos, hombres con mujeres, jóvenes con viejos, ricos con pobres. Así se avanza en la igualdad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0" lang="es-ES" sz="1400" spc="-1" strike="noStrike" u="sng">
                <a:solidFill>
                  <a:srgbClr val="000000"/>
                </a:solidFill>
                <a:uFillTx/>
                <a:latin typeface="Arial"/>
              </a:rPr>
              <a:t>Eficiencia</a:t>
            </a:r>
            <a:r>
              <a:rPr b="0" lang="es-ES" sz="1400" spc="-1" strike="noStrike">
                <a:solidFill>
                  <a:srgbClr val="000000"/>
                </a:solidFill>
                <a:latin typeface="Arial"/>
              </a:rPr>
              <a:t>. Mejorar la gestión en recursos humanos y financieros. Mejor focalización y uso de los subsidios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a:t>
            </a:r>
            <a:r>
              <a:rPr b="0" lang="es-ES" sz="1400" spc="-1" strike="noStrike" u="sng">
                <a:solidFill>
                  <a:srgbClr val="000000"/>
                </a:solidFill>
                <a:uFillTx/>
                <a:latin typeface="Arial"/>
              </a:rPr>
              <a:t>Participación. </a:t>
            </a:r>
            <a:r>
              <a:rPr b="0" lang="es-ES" sz="1400" spc="-1" strike="noStrike">
                <a:solidFill>
                  <a:srgbClr val="000000"/>
                </a:solidFill>
                <a:latin typeface="Arial"/>
              </a:rPr>
              <a:t>Permitir expresar preferencias y expectativas respecto del sistema de salud y las políticas pública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Metas objetivos sanitario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Disminuir las desigualdades en salud</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Enfrentar los nuevos desafíos derivados del envejecimiento de la población y de los cambios de la socieda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3. Proveer servicios acordes a las necesidades y expectativas de la población.</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4. Mejorar logros sanitarios alcanzado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strumento eficaz para lograr objetivos sanitari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erramienta de equida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rantías de acceso, oportunidad, calidad y protección financiera</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rechos exigib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ecesidad sentida por los usuario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jemp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Hacienda</a:t>
            </a:r>
            <a:r>
              <a:rPr b="0" lang="es-ES" sz="1200" spc="-1" strike="noStrike">
                <a:solidFill>
                  <a:srgbClr val="000000"/>
                </a:solidFill>
                <a:latin typeface="Arial"/>
              </a:rPr>
              <a:t>: en este punto se puede señalar las relaciones y tensiones entre salud y hacienda por tema de recurs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Educación</a:t>
            </a:r>
            <a:r>
              <a:rPr b="0" lang="es-ES" sz="1200" spc="-1" strike="noStrike">
                <a:solidFill>
                  <a:srgbClr val="000000"/>
                </a:solidFill>
                <a:latin typeface="Arial"/>
              </a:rPr>
              <a:t>: en este punto se puede señalar por ejemplo que el aumento de la escolaridad en las personas trae consigo un aumento de las expectativas y exigencias en todos los ámbitos y específicamente en salud (mayor conocimiento de los derechos, modelo de atención basado más en la autonomía que en el paternalism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Vivienda: </a:t>
            </a:r>
            <a:r>
              <a:rPr b="0" lang="es-ES" sz="1200" spc="-1" strike="noStrike">
                <a:solidFill>
                  <a:srgbClr val="000000"/>
                </a:solidFill>
                <a:latin typeface="Arial"/>
              </a:rPr>
              <a:t>las personas y familias asocian más los vínculos entre calidad de vida material (vivienda y su entorno) con una mejor salud. Y esto implica mayores exigencias para las autoridades sanitarias tanto en el nivel local como na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rón clásico de las pirámides cuando los países avanzan en la transición demográfica. Pasan de una base ancha y extremo superior angosto (alta natalidad y baja esperanza de vida) a una con base angosta y extremo superior ancho (baja natalidad y alta esperanza de vida). Chile está en plena transición avanzando rápidamente a la figura casi rectangular típica de países desarrollado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cia Hombres / Mujeres: 6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malmente cuando aumenta la Eª de vida aumenta la brecha hombres/ mujeres. No ha sido caso de C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º de Vida, uno de los indicadores de Desarrollo Humano (escolaridad e ingresos son los otros) Chile lugar 32 mundo y 1 en A. Lati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sultado sanitario más importante en los últimos años es el descenso notable de la mortalidad infantil por neumonía. En 1990:760 casos y en 2004: 65 cas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taca:</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xcelente ubicación salud del menor y desempeño sanitario</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ubicación capacidad de respuesta (OIR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equidad financiera.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últimos años se ha incrementado gasto en salud % del PIB pasando de un 2,3% en 1993 a un 2,9% en 2002. Aumento sostenido del gasto presupuestario en el marco de una transición demográfica y epidemiológica acelerad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urante 2004 se invirtieron $15.214 millones en construcción, reposición, normalización y remodelación de consultorios y postas rurales, así como en compra de equipamient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88% quintil más bajo versus 30% quintil más alto en FONAS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quintil más bajo en ISAPRE versus 54% más alto en ISAP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lación con sector social. Uso de Chile Solidario para focalizar grupos objetivos y financiar prestaciones en nivel primario, secundario y terciar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s señales positivas subsisten problemas de desigualdades sociales y esto repercute en materias de salud. La reforma apunta a equilibrar las cuentas de Chile con su población, sobre todo la de menores ingres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le es uno de los países con la peor distribución del ingreso si bien el quintil más pobre es el que dispone de mayores recursos de todos los países de la reg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B380A-E532-454A-918A-28C0A1BF5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836ED-95CA-4563-AB43-F66EC03CB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36E3E-BF49-4111-B14E-B1EF3A6EC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09A3F-3963-4DBE-962F-4A0E289F2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47D7-F0DD-4186-8501-83E7F3C9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963C-F462-4056-A7F8-86A7E8369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D9D17-9345-487B-9E53-B37236E34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60E7-B53D-4663-9930-A2061C5F3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9E2E-BBA8-40B8-A0E6-BA9A59350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232A-ACDC-4895-97E7-95C924B1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632E-5B9E-48BD-A326-89C85FE0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EE57-BEA4-41E1-B037-DFB0CFF12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715C-4635-4A6C-8661-9C0AB2816EE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Users:cdebitte:Desktop:" descr=""/>
          <p:cNvPicPr/>
          <p:nvPr/>
        </p:nvPicPr>
        <p:blipFill>
          <a:blip r:embed="rId2"/>
          <a:stretch/>
        </p:blipFill>
        <p:spPr>
          <a:xfrm>
            <a:off x="457200" y="304920"/>
            <a:ext cx="1143000" cy="996840"/>
          </a:xfrm>
          <a:prstGeom prst="rect">
            <a:avLst/>
          </a:prstGeom>
          <a:ln w="0">
            <a:noFill/>
          </a:ln>
        </p:spPr>
      </p:pic>
      <p:sp>
        <p:nvSpPr>
          <p:cNvPr id="4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99"/>
                </a:solidFill>
                <a:latin typeface="Arial"/>
              </a:rPr>
              <a:t>Políticas Públicas en Salud</a:t>
            </a:r>
            <a:endParaRPr b="0" lang="en-US" sz="3000" spc="-1" strike="noStrike">
              <a:solidFill>
                <a:srgbClr val="000000"/>
              </a:solidFill>
              <a:latin typeface="Times New Roman"/>
            </a:endParaRPr>
          </a:p>
        </p:txBody>
      </p:sp>
      <p:sp>
        <p:nvSpPr>
          <p:cNvPr id="51" name=""/>
          <p:cNvSpPr/>
          <p:nvPr/>
        </p:nvSpPr>
        <p:spPr>
          <a:xfrm>
            <a:off x="524520" y="2712960"/>
            <a:ext cx="8094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La Reforma de la Salud </a:t>
            </a:r>
            <a:endParaRPr b="0" lang="en-US" sz="5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en Chile</a:t>
            </a:r>
            <a:endParaRPr b="0" lang="en-US" sz="5500" spc="-1" strike="noStrike">
              <a:solidFill>
                <a:srgbClr val="000000"/>
              </a:solidFill>
              <a:latin typeface="Times New Roman"/>
            </a:endParaRPr>
          </a:p>
        </p:txBody>
      </p:sp>
      <p:sp>
        <p:nvSpPr>
          <p:cNvPr id="52" name=""/>
          <p:cNvSpPr/>
          <p:nvPr/>
        </p:nvSpPr>
        <p:spPr>
          <a:xfrm>
            <a:off x="2146320" y="4800600"/>
            <a:ext cx="4851360" cy="113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b87f2"/>
                </a:solidFill>
                <a:latin typeface="Arial"/>
              </a:rPr>
              <a:t>Expositor:</a:t>
            </a:r>
            <a:r>
              <a:rPr b="1" lang="es-ES" sz="2000" spc="-1" strike="noStrike">
                <a:solidFill>
                  <a:srgbClr val="000000"/>
                </a:solidFill>
                <a:latin typeface="Arial"/>
              </a:rPr>
              <a:t>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Pedro García Aspillag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stro de Salud</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Users:cdebitte:Desktop:" descr=""/>
          <p:cNvPicPr/>
          <p:nvPr/>
        </p:nvPicPr>
        <p:blipFill>
          <a:blip r:embed="rId2"/>
          <a:stretch/>
        </p:blipFill>
        <p:spPr>
          <a:xfrm>
            <a:off x="457200" y="304920"/>
            <a:ext cx="1143000" cy="996840"/>
          </a:xfrm>
          <a:prstGeom prst="rect">
            <a:avLst/>
          </a:prstGeom>
          <a:ln w="0">
            <a:noFill/>
          </a:ln>
        </p:spPr>
      </p:pic>
      <p:sp>
        <p:nvSpPr>
          <p:cNvPr id="25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1905120" y="2971800"/>
            <a:ext cx="840096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recho a la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qu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olidar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 en Uso de Recursos</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ticipación Social en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
          <p:cNvSpPr/>
          <p:nvPr/>
        </p:nvSpPr>
        <p:spPr>
          <a:xfrm>
            <a:off x="2200320" y="1676520"/>
            <a:ext cx="3375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Principios de </a:t>
            </a:r>
            <a:endParaRPr b="0" lang="en-US" sz="4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61" name="" descr=""/>
          <p:cNvPicPr/>
          <p:nvPr/>
        </p:nvPicPr>
        <p:blipFill>
          <a:blip r:embed="rId3"/>
          <a:stretch/>
        </p:blipFill>
        <p:spPr>
          <a:xfrm>
            <a:off x="5672160" y="2743200"/>
            <a:ext cx="3548160" cy="4173480"/>
          </a:xfrm>
          <a:prstGeom prst="rect">
            <a:avLst/>
          </a:prstGeom>
          <a:ln w="0">
            <a:noFill/>
          </a:ln>
        </p:spPr>
      </p:pic>
      <p:sp>
        <p:nvSpPr>
          <p:cNvPr id="262"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Users:cdebitte:Desktop:" descr=""/>
          <p:cNvPicPr/>
          <p:nvPr/>
        </p:nvPicPr>
        <p:blipFill>
          <a:blip r:embed="rId2"/>
          <a:stretch/>
        </p:blipFill>
        <p:spPr>
          <a:xfrm>
            <a:off x="457200" y="304920"/>
            <a:ext cx="1143000" cy="996840"/>
          </a:xfrm>
          <a:prstGeom prst="rect">
            <a:avLst/>
          </a:prstGeom>
          <a:ln w="0">
            <a:noFill/>
          </a:ln>
        </p:spPr>
      </p:pic>
      <p:sp>
        <p:nvSpPr>
          <p:cNvPr id="265"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1905120" y="2666880"/>
            <a:ext cx="6248160" cy="36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5b87f2"/>
                </a:solidFill>
                <a:latin typeface="Arial"/>
              </a:rPr>
              <a:t>Garantías Explícitas</a:t>
            </a:r>
            <a:r>
              <a:rPr b="1" lang="es-C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lo de Atención</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Objetivos Sanitario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Autoridad Sanitaria </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rnización de las Redes asistenciale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Financiamiento Solidario</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Participación Social</a:t>
            </a:r>
            <a:endParaRPr b="0" lang="en-US" sz="2200" spc="-1" strike="noStrike">
              <a:solidFill>
                <a:srgbClr val="000000"/>
              </a:solidFill>
              <a:latin typeface="Times New Roman"/>
            </a:endParaRPr>
          </a:p>
        </p:txBody>
      </p:sp>
      <p:sp>
        <p:nvSpPr>
          <p:cNvPr id="267" name=""/>
          <p:cNvSpPr/>
          <p:nvPr/>
        </p:nvSpPr>
        <p:spPr>
          <a:xfrm>
            <a:off x="1905120" y="1600200"/>
            <a:ext cx="650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Ejes de la Reforma</a:t>
            </a:r>
            <a:endParaRPr b="0" lang="en-US" sz="4400" spc="-1" strike="noStrike">
              <a:solidFill>
                <a:srgbClr val="000000"/>
              </a:solidFill>
              <a:latin typeface="Times New Roman"/>
            </a:endParaRPr>
          </a:p>
        </p:txBody>
      </p:sp>
      <p:sp>
        <p:nvSpPr>
          <p:cNvPr id="26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Users:cdebitte:Desktop:" descr=""/>
          <p:cNvPicPr/>
          <p:nvPr/>
        </p:nvPicPr>
        <p:blipFill>
          <a:blip r:embed="rId2"/>
          <a:stretch/>
        </p:blipFill>
        <p:spPr>
          <a:xfrm>
            <a:off x="457200" y="304920"/>
            <a:ext cx="1143000" cy="996840"/>
          </a:xfrm>
          <a:prstGeom prst="rect">
            <a:avLst/>
          </a:prstGeom>
          <a:ln w="0">
            <a:noFill/>
          </a:ln>
        </p:spPr>
      </p:pic>
      <p:sp>
        <p:nvSpPr>
          <p:cNvPr id="27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380880" y="1676520"/>
            <a:ext cx="840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73" name=""/>
          <p:cNvGrpSpPr/>
          <p:nvPr/>
        </p:nvGrpSpPr>
        <p:grpSpPr>
          <a:xfrm>
            <a:off x="2666880" y="1447920"/>
            <a:ext cx="4521240" cy="5112000"/>
            <a:chOff x="2666880" y="1447920"/>
            <a:chExt cx="4521240" cy="5112000"/>
          </a:xfrm>
        </p:grpSpPr>
        <p:grpSp>
          <p:nvGrpSpPr>
            <p:cNvPr id="274" name=""/>
            <p:cNvGrpSpPr/>
            <p:nvPr/>
          </p:nvGrpSpPr>
          <p:grpSpPr>
            <a:xfrm>
              <a:off x="4927680" y="1885320"/>
              <a:ext cx="2260440" cy="1312200"/>
              <a:chOff x="4927680" y="1885320"/>
              <a:chExt cx="2260440" cy="1312200"/>
            </a:xfrm>
          </p:grpSpPr>
          <p:sp>
            <p:nvSpPr>
              <p:cNvPr id="275" name=""/>
              <p:cNvSpPr/>
              <p:nvPr/>
            </p:nvSpPr>
            <p:spPr>
              <a:xfrm>
                <a:off x="4927680" y="2103840"/>
                <a:ext cx="226044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18920" y="1885320"/>
                <a:ext cx="1749960" cy="36468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2666880" y="4803120"/>
              <a:ext cx="2260800" cy="1312200"/>
              <a:chOff x="2666880" y="4803120"/>
              <a:chExt cx="2260800" cy="1312200"/>
            </a:xfrm>
          </p:grpSpPr>
          <p:sp>
            <p:nvSpPr>
              <p:cNvPr id="278" name=""/>
              <p:cNvSpPr/>
              <p:nvPr/>
            </p:nvSpPr>
            <p:spPr>
              <a:xfrm>
                <a:off x="2666880" y="4803120"/>
                <a:ext cx="226080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812320" y="5751000"/>
                <a:ext cx="1870200" cy="36432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666880" y="3344400"/>
              <a:ext cx="4521240" cy="1312560"/>
            </a:xfrm>
            <a:prstGeom prst="roundRect">
              <a:avLst>
                <a:gd name="adj" fmla="val 16667"/>
              </a:avLst>
            </a:prstGeom>
            <a:solidFill>
              <a:srgbClr val="ffffff"/>
            </a:solidFill>
            <a:ln w="9360">
              <a:solidFill>
                <a:srgbClr val="e314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00040" y="2250360"/>
              <a:ext cx="2115000" cy="12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Arial"/>
                </a:rPr>
                <a:t>Protección económica y tiempos máximos de espera garantizad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2" name=""/>
            <p:cNvSpPr/>
            <p:nvPr/>
          </p:nvSpPr>
          <p:spPr>
            <a:xfrm>
              <a:off x="2666880" y="4921560"/>
              <a:ext cx="2260800" cy="117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Inseguridad Económica Famili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Listas de Esper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
            <p:cNvSpPr/>
            <p:nvPr/>
          </p:nvSpPr>
          <p:spPr>
            <a:xfrm>
              <a:off x="2666880" y="3564720"/>
              <a:ext cx="452124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ENCIONES</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E SALUD</a:t>
              </a:r>
              <a:endParaRPr b="0" lang="en-US" sz="3200" spc="-1" strike="noStrike">
                <a:solidFill>
                  <a:srgbClr val="000000"/>
                </a:solidFill>
                <a:latin typeface="Times New Roman"/>
              </a:endParaRPr>
            </a:p>
          </p:txBody>
        </p:sp>
        <p:sp>
          <p:nvSpPr>
            <p:cNvPr id="284" name=""/>
            <p:cNvSpPr/>
            <p:nvPr/>
          </p:nvSpPr>
          <p:spPr>
            <a:xfrm>
              <a:off x="4927680" y="1447920"/>
              <a:ext cx="226044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REFORMA</a:t>
              </a:r>
              <a:endParaRPr b="0" lang="en-US" sz="1600" spc="-1" strike="noStrike">
                <a:solidFill>
                  <a:srgbClr val="000000"/>
                </a:solidFill>
                <a:latin typeface="Times New Roman"/>
              </a:endParaRPr>
            </a:p>
          </p:txBody>
        </p:sp>
        <p:sp>
          <p:nvSpPr>
            <p:cNvPr id="285" name=""/>
            <p:cNvSpPr/>
            <p:nvPr/>
          </p:nvSpPr>
          <p:spPr>
            <a:xfrm>
              <a:off x="2666880" y="6222600"/>
              <a:ext cx="226080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REFORMA</a:t>
              </a:r>
              <a:endParaRPr b="0" lang="en-US" sz="1600" spc="-1" strike="noStrike">
                <a:solidFill>
                  <a:srgbClr val="000000"/>
                </a:solidFill>
                <a:latin typeface="Times New Roman"/>
              </a:endParaRPr>
            </a:p>
          </p:txBody>
        </p:sp>
      </p:grpSp>
      <p:sp>
        <p:nvSpPr>
          <p:cNvPr id="28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Users:cdebitte:Desktop:" descr=""/>
          <p:cNvPicPr/>
          <p:nvPr/>
        </p:nvPicPr>
        <p:blipFill>
          <a:blip r:embed="rId2"/>
          <a:stretch/>
        </p:blipFill>
        <p:spPr>
          <a:xfrm>
            <a:off x="457200" y="304920"/>
            <a:ext cx="1143000" cy="996840"/>
          </a:xfrm>
          <a:prstGeom prst="rect">
            <a:avLst/>
          </a:prstGeom>
          <a:ln w="0">
            <a:noFill/>
          </a:ln>
        </p:spPr>
      </p:pic>
      <p:sp>
        <p:nvSpPr>
          <p:cNvPr id="28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52760" y="2362320"/>
            <a:ext cx="4038480" cy="6904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ACCESO UNIVERSAL CON GARANTÍAS EXPLÍCITAS</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293" name=""/>
          <p:cNvSpPr/>
          <p:nvPr/>
        </p:nvSpPr>
        <p:spPr>
          <a:xfrm>
            <a:off x="3238560" y="3429000"/>
            <a:ext cx="2666880" cy="1600200"/>
          </a:xfrm>
          <a:prstGeom prst="roundRect">
            <a:avLst>
              <a:gd name="adj" fmla="val 3125"/>
            </a:avLst>
          </a:prstGeom>
          <a:solidFill>
            <a:srgbClr val="5b87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arantías Explícit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e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tección Financiera</a:t>
            </a:r>
            <a:endParaRPr b="0" lang="en-US" sz="1800" spc="-1" strike="noStrike">
              <a:solidFill>
                <a:srgbClr val="000000"/>
              </a:solidFill>
              <a:latin typeface="Times New Roman"/>
            </a:endParaRPr>
          </a:p>
        </p:txBody>
      </p:sp>
      <p:sp>
        <p:nvSpPr>
          <p:cNvPr id="294" name=""/>
          <p:cNvSpPr/>
          <p:nvPr/>
        </p:nvSpPr>
        <p:spPr>
          <a:xfrm>
            <a:off x="59436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86600" y="4191120"/>
            <a:ext cx="0" cy="106668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57400" y="4191120"/>
            <a:ext cx="0" cy="99036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3048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86720" y="1544760"/>
            <a:ext cx="92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b87f2"/>
                </a:solidFill>
                <a:latin typeface="Arial Black"/>
              </a:rPr>
              <a:t>GES</a:t>
            </a:r>
            <a:endParaRPr b="0" lang="en-US" sz="3200" spc="-1" strike="noStrike">
              <a:solidFill>
                <a:srgbClr val="000000"/>
              </a:solidFill>
              <a:latin typeface="Times New Roman"/>
            </a:endParaRPr>
          </a:p>
        </p:txBody>
      </p:sp>
      <p:sp>
        <p:nvSpPr>
          <p:cNvPr id="300" name=""/>
          <p:cNvSpPr/>
          <p:nvPr/>
        </p:nvSpPr>
        <p:spPr>
          <a:xfrm>
            <a:off x="4038480" y="5410080"/>
            <a:ext cx="1214640" cy="486000"/>
          </a:xfrm>
          <a:prstGeom prst="leftRightArrow">
            <a:avLst>
              <a:gd name="adj1" fmla="val 50000"/>
              <a:gd name="adj2" fmla="val 497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5181480"/>
            <a:ext cx="20574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Pública</a:t>
            </a:r>
            <a:endParaRPr b="0" lang="en-US" sz="2400" spc="-1" strike="noStrike">
              <a:solidFill>
                <a:srgbClr val="000000"/>
              </a:solidFill>
              <a:latin typeface="Times New Roman"/>
            </a:endParaRPr>
          </a:p>
        </p:txBody>
      </p:sp>
      <p:sp>
        <p:nvSpPr>
          <p:cNvPr id="302" name=""/>
          <p:cNvSpPr/>
          <p:nvPr/>
        </p:nvSpPr>
        <p:spPr>
          <a:xfrm flipH="1">
            <a:off x="6323760" y="5257800"/>
            <a:ext cx="16002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sonas</a:t>
            </a:r>
            <a:endParaRPr b="0" lang="en-US" sz="2400" spc="-1" strike="noStrike">
              <a:solidFill>
                <a:srgbClr val="000000"/>
              </a:solidFill>
              <a:latin typeface="Times New Roman"/>
            </a:endParaRPr>
          </a:p>
        </p:txBody>
      </p:sp>
      <p:sp>
        <p:nvSpPr>
          <p:cNvPr id="303"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Users:cdebitte:Desktop:" descr=""/>
          <p:cNvPicPr/>
          <p:nvPr/>
        </p:nvPicPr>
        <p:blipFill>
          <a:blip r:embed="rId2"/>
          <a:stretch/>
        </p:blipFill>
        <p:spPr>
          <a:xfrm>
            <a:off x="457200" y="304920"/>
            <a:ext cx="1143000" cy="996840"/>
          </a:xfrm>
          <a:prstGeom prst="rect">
            <a:avLst/>
          </a:prstGeom>
          <a:ln w="0">
            <a:noFill/>
          </a:ln>
        </p:spPr>
      </p:pic>
      <p:sp>
        <p:nvSpPr>
          <p:cNvPr id="306"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7" name=""/>
          <p:cNvSpPr/>
          <p:nvPr/>
        </p:nvSpPr>
        <p:spPr>
          <a:xfrm>
            <a:off x="380880" y="1676520"/>
            <a:ext cx="8401320" cy="380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Black"/>
              </a:rPr>
              <a:t>Atenciones AUGE 2005</a:t>
            </a:r>
            <a:endParaRPr b="0" lang="en-US" sz="3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Total : 202.350</a:t>
            </a:r>
            <a:endParaRPr b="0" lang="en-US" sz="3600" spc="-1" strike="noStrike">
              <a:solidFill>
                <a:srgbClr val="000000"/>
              </a:solidFill>
              <a:latin typeface="Times New Roman"/>
            </a:endParaRPr>
          </a:p>
          <a:p>
            <a:pPr lvl="2" marL="914400">
              <a:lnSpc>
                <a:spcPct val="5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ón arterial: </a:t>
            </a: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84.482</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Infección Respiratoria (Ira): </a:t>
            </a:r>
            <a:r>
              <a:rPr b="0" lang="es-ES" sz="2500" spc="-1" strike="noStrike">
                <a:solidFill>
                  <a:srgbClr val="000000"/>
                </a:solidFill>
                <a:latin typeface="Arial"/>
              </a:rPr>
              <a:t>	</a:t>
            </a:r>
            <a:r>
              <a:rPr b="0" lang="es-ES" sz="2500" spc="-1" strike="noStrike">
                <a:solidFill>
                  <a:srgbClr val="000000"/>
                </a:solidFill>
                <a:latin typeface="Arial"/>
              </a:rPr>
              <a:t>48.858</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Mellitus (tipo 2): </a:t>
            </a:r>
            <a:r>
              <a:rPr b="0" lang="es-ES" sz="2500" spc="-1" strike="noStrike">
                <a:solidFill>
                  <a:srgbClr val="000000"/>
                </a:solidFill>
                <a:latin typeface="Arial"/>
              </a:rPr>
              <a:t>	</a:t>
            </a:r>
            <a:r>
              <a:rPr b="0" lang="es-ES" sz="2500" spc="-1" strike="noStrike">
                <a:solidFill>
                  <a:srgbClr val="000000"/>
                </a:solidFill>
                <a:latin typeface="Arial"/>
              </a:rPr>
              <a:t>27.468</a:t>
            </a:r>
            <a:endParaRPr b="0" lang="en-US" sz="2500" spc="-1" strike="noStrike">
              <a:solidFill>
                <a:srgbClr val="000000"/>
              </a:solidFill>
              <a:latin typeface="Times New Roman"/>
            </a:endParaRPr>
          </a:p>
          <a:p>
            <a:pPr lvl="2" marL="914400">
              <a:lnSpc>
                <a:spcPct val="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5b87f2"/>
                </a:solidFill>
                <a:latin typeface="Arial"/>
              </a:rPr>
              <a:t>Corresponden al </a:t>
            </a:r>
            <a:r>
              <a:rPr b="1" lang="es-ES" sz="3200" spc="-1" strike="noStrike">
                <a:solidFill>
                  <a:srgbClr val="ff0000"/>
                </a:solidFill>
                <a:latin typeface="Arial"/>
              </a:rPr>
              <a:t>79%</a:t>
            </a:r>
            <a:r>
              <a:rPr b="1" lang="es-ES" sz="3200" spc="-1" strike="noStrike">
                <a:solidFill>
                  <a:srgbClr val="5b87f2"/>
                </a:solidFill>
                <a:latin typeface="Arial"/>
              </a:rPr>
              <a:t> del total</a:t>
            </a:r>
            <a:r>
              <a:rPr b="0" lang="es-ES" sz="3600" spc="-1" strike="noStrike">
                <a:solidFill>
                  <a:srgbClr val="000000"/>
                </a:solidFill>
                <a:latin typeface="Times New Roman"/>
              </a:rPr>
              <a:t>	</a:t>
            </a:r>
            <a:r>
              <a:rPr b="0"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Users:cdebitte:Desktop:" descr=""/>
          <p:cNvPicPr/>
          <p:nvPr/>
        </p:nvPicPr>
        <p:blipFill>
          <a:blip r:embed="rId2"/>
          <a:stretch/>
        </p:blipFill>
        <p:spPr>
          <a:xfrm>
            <a:off x="457200" y="304920"/>
            <a:ext cx="1143000" cy="996840"/>
          </a:xfrm>
          <a:prstGeom prst="rect">
            <a:avLst/>
          </a:prstGeom>
          <a:ln w="0">
            <a:noFill/>
          </a:ln>
        </p:spPr>
      </p:pic>
      <p:sp>
        <p:nvSpPr>
          <p:cNvPr id="31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95280" y="2895480"/>
            <a:ext cx="7486920" cy="36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Monitoreo de Garantías</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formatización del sistema de salud</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onitoreo línea de paciente y garantías</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738 establecimientos conectividad línea</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exión digital</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genda digital Pdte. Lagos</a:t>
            </a: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3" name=""/>
          <p:cNvSpPr/>
          <p:nvPr/>
        </p:nvSpPr>
        <p:spPr>
          <a:xfrm>
            <a:off x="2514600" y="171756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1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Users:cdebitte:Desktop:" descr=""/>
          <p:cNvPicPr/>
          <p:nvPr/>
        </p:nvPicPr>
        <p:blipFill>
          <a:blip r:embed="rId2"/>
          <a:stretch/>
        </p:blipFill>
        <p:spPr>
          <a:xfrm>
            <a:off x="457200" y="304920"/>
            <a:ext cx="1143000" cy="996840"/>
          </a:xfrm>
          <a:prstGeom prst="rect">
            <a:avLst/>
          </a:prstGeom>
          <a:ln w="0">
            <a:noFill/>
          </a:ln>
        </p:spPr>
      </p:pic>
      <p:sp>
        <p:nvSpPr>
          <p:cNvPr id="31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743040" y="2743200"/>
            <a:ext cx="84009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Derecho legal en salud para todos los chilenos 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ctor público y privado</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l 100% de las GES AUGE</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minación de la inequidad social y territorial</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Formación equipos gestores GES en todos los servicio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9"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
        <p:nvSpPr>
          <p:cNvPr id="321" name=""/>
          <p:cNvSpPr/>
          <p:nvPr/>
        </p:nvSpPr>
        <p:spPr>
          <a:xfrm>
            <a:off x="765720" y="2514600"/>
            <a:ext cx="400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Gestión de Garantías</a:t>
            </a:r>
            <a:endParaRPr b="0" lang="en-US" sz="3000" spc="-1" strike="noStrike">
              <a:solidFill>
                <a:srgbClr val="000000"/>
              </a:solidFill>
              <a:latin typeface="Times New Roman"/>
            </a:endParaRPr>
          </a:p>
        </p:txBody>
      </p:sp>
      <p:sp>
        <p:nvSpPr>
          <p:cNvPr id="322"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Users:cdebitte:Desktop:" descr=""/>
          <p:cNvPicPr/>
          <p:nvPr/>
        </p:nvPicPr>
        <p:blipFill>
          <a:blip r:embed="rId2"/>
          <a:stretch/>
        </p:blipFill>
        <p:spPr>
          <a:xfrm>
            <a:off x="457200" y="304920"/>
            <a:ext cx="1143000" cy="996840"/>
          </a:xfrm>
          <a:prstGeom prst="rect">
            <a:avLst/>
          </a:prstGeom>
          <a:ln w="0">
            <a:noFill/>
          </a:ln>
        </p:spPr>
      </p:pic>
      <p:sp>
        <p:nvSpPr>
          <p:cNvPr id="32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71520" y="3657600"/>
            <a:ext cx="8772480" cy="1769760"/>
          </a:xfrm>
          <a:prstGeom prst="rect">
            <a:avLst/>
          </a:prstGeom>
          <a:noFill/>
          <a:ln w="0">
            <a:noFill/>
          </a:ln>
        </p:spPr>
        <p:style>
          <a:lnRef idx="0"/>
          <a:fillRef idx="0"/>
          <a:effectRef idx="0"/>
          <a:fontRef idx="minor"/>
        </p:style>
        <p:txBody>
          <a:bodyPr lIns="90000" rIns="90000" tIns="46800" bIns="46800" anchor="t">
            <a:spAutoFit/>
          </a:bodyPr>
          <a:p>
            <a:pPr lvl="1" marL="473040" indent="-282600">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 2004 y 2005 por $9 mil millones e implementación de leasing por $13 mil millones a 7 años para Red nacional de imagenología compleja (scanner, resonadores magnéticos, angiógrafos, mamógrafos, electroencefalógramas, entre otr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6" name=""/>
          <p:cNvSpPr/>
          <p:nvPr/>
        </p:nvSpPr>
        <p:spPr>
          <a:xfrm>
            <a:off x="557640" y="2955960"/>
            <a:ext cx="439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Equip</a:t>
            </a:r>
            <a:r>
              <a:rPr b="1" lang="es-ES" sz="3000" spc="-1" strike="noStrike">
                <a:solidFill>
                  <a:srgbClr val="5b87f2"/>
                </a:solidFill>
                <a:latin typeface="Arial"/>
                <a:ea typeface="ヒラギノ角ゴ Pro W3"/>
              </a:rPr>
              <a:t>amiento en Salud</a:t>
            </a:r>
            <a:endParaRPr b="0" lang="en-US" sz="3000" spc="-1" strike="noStrike">
              <a:solidFill>
                <a:srgbClr val="000000"/>
              </a:solidFill>
              <a:latin typeface="Times New Roman"/>
            </a:endParaRPr>
          </a:p>
        </p:txBody>
      </p:sp>
      <p:sp>
        <p:nvSpPr>
          <p:cNvPr id="327"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2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Users:cdebitte:Desktop:" descr=""/>
          <p:cNvPicPr/>
          <p:nvPr/>
        </p:nvPicPr>
        <p:blipFill>
          <a:blip r:embed="rId2"/>
          <a:stretch/>
        </p:blipFill>
        <p:spPr>
          <a:xfrm>
            <a:off x="457200" y="304920"/>
            <a:ext cx="1143000" cy="996840"/>
          </a:xfrm>
          <a:prstGeom prst="rect">
            <a:avLst/>
          </a:prstGeom>
          <a:ln w="0">
            <a:noFill/>
          </a:ln>
        </p:spPr>
      </p:pic>
      <p:sp>
        <p:nvSpPr>
          <p:cNvPr id="33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32" name="" descr=""/>
          <p:cNvPicPr/>
          <p:nvPr/>
        </p:nvPicPr>
        <p:blipFill>
          <a:blip r:embed="rId3"/>
          <a:stretch/>
        </p:blipFill>
        <p:spPr>
          <a:xfrm>
            <a:off x="6172200" y="2152800"/>
            <a:ext cx="2773440" cy="3463920"/>
          </a:xfrm>
          <a:prstGeom prst="rect">
            <a:avLst/>
          </a:prstGeom>
          <a:ln w="0">
            <a:noFill/>
          </a:ln>
        </p:spPr>
      </p:pic>
      <p:sp>
        <p:nvSpPr>
          <p:cNvPr id="333" name=""/>
          <p:cNvSpPr/>
          <p:nvPr/>
        </p:nvSpPr>
        <p:spPr>
          <a:xfrm>
            <a:off x="457200" y="21337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Los caminos y tensiones </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de la Reforma en Salud</a:t>
            </a:r>
            <a:endParaRPr b="0" lang="en-US" sz="3600" spc="-1" strike="noStrike">
              <a:solidFill>
                <a:srgbClr val="000000"/>
              </a:solidFill>
              <a:latin typeface="Times New Roman"/>
            </a:endParaRPr>
          </a:p>
        </p:txBody>
      </p:sp>
      <p:sp>
        <p:nvSpPr>
          <p:cNvPr id="334" name=""/>
          <p:cNvSpPr/>
          <p:nvPr/>
        </p:nvSpPr>
        <p:spPr>
          <a:xfrm>
            <a:off x="2379240" y="2819520"/>
            <a:ext cx="2234520" cy="3658320"/>
          </a:xfrm>
          <a:prstGeom prst="rect">
            <a:avLst/>
          </a:prstGeom>
          <a:noFill/>
          <a:ln w="0">
            <a:noFill/>
          </a:ln>
        </p:spPr>
        <p:style>
          <a:lnRef idx="0"/>
          <a:fillRef idx="0"/>
          <a:effectRef idx="0"/>
          <a:fontRef idx="minor"/>
        </p:style>
        <p:txBody>
          <a:bodyPr wrap="none" lIns="90000" rIns="90000" tIns="46800" bIns="46800" anchor="t">
            <a:spAutoFit/>
          </a:bodyPr>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600" spc="-1" strike="noStrike">
                <a:solidFill>
                  <a:srgbClr val="000000"/>
                </a:solidFill>
                <a:latin typeface="Arial"/>
              </a:rPr>
              <a:t>Política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ociale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nciera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Gremiale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ctorial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Users:cdebitte:Desktop:" descr=""/>
          <p:cNvPicPr/>
          <p:nvPr/>
        </p:nvPicPr>
        <p:blipFill>
          <a:blip r:embed="rId2"/>
          <a:stretch/>
        </p:blipFill>
        <p:spPr>
          <a:xfrm>
            <a:off x="457200" y="304920"/>
            <a:ext cx="1143000" cy="996840"/>
          </a:xfrm>
          <a:prstGeom prst="rect">
            <a:avLst/>
          </a:prstGeom>
          <a:ln w="0">
            <a:noFill/>
          </a:ln>
        </p:spPr>
      </p:pic>
      <p:sp>
        <p:nvSpPr>
          <p:cNvPr id="33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
          <p:cNvSpPr/>
          <p:nvPr/>
        </p:nvSpPr>
        <p:spPr>
          <a:xfrm>
            <a:off x="1219320" y="2743200"/>
            <a:ext cx="7086600" cy="3596760"/>
          </a:xfrm>
          <a:prstGeom prst="rect">
            <a:avLst/>
          </a:prstGeom>
          <a:noFill/>
          <a:ln w="0">
            <a:noFill/>
          </a:ln>
        </p:spPr>
        <p:style>
          <a:lnRef idx="0"/>
          <a:fillRef idx="0"/>
          <a:effectRef idx="0"/>
          <a:fontRef idx="minor"/>
        </p:style>
        <p:txBody>
          <a:bodyPr lIns="90000" rIns="90000" tIns="46800" bIns="46800" anchor="t">
            <a:spAutoFit/>
          </a:bodyPr>
          <a:p>
            <a:pPr marL="38088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 </a:t>
            </a: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Trabajo</a:t>
            </a:r>
            <a:r>
              <a:rPr b="0" lang="es-ES" sz="2300" spc="-1" strike="noStrike">
                <a:solidFill>
                  <a:srgbClr val="5b87f2"/>
                </a:solidFill>
                <a:latin typeface="Times New Roman"/>
              </a:rPr>
              <a:t>:</a:t>
            </a:r>
            <a:r>
              <a:rPr b="0" lang="es-ES" sz="2300" spc="-1" strike="noStrike">
                <a:solidFill>
                  <a:srgbClr val="000000"/>
                </a:solidFill>
                <a:latin typeface="Times New Roman"/>
              </a:rPr>
              <a:t> </a:t>
            </a:r>
            <a:r>
              <a:rPr b="0" lang="es-ES" sz="2300" spc="-1" strike="noStrike">
                <a:solidFill>
                  <a:srgbClr val="000000"/>
                </a:solidFill>
                <a:latin typeface="Arial"/>
              </a:rPr>
              <a:t>bonificación mano de obra en regiones con alta desocupación, en proyectos de mejoramiento infraestructura de salud y atención</a:t>
            </a:r>
            <a:r>
              <a:rPr b="0" lang="es-ES" sz="2300" spc="-1" strike="noStrike">
                <a:solidFill>
                  <a:srgbClr val="000000"/>
                </a:solidFill>
                <a:latin typeface="Times New Roman"/>
              </a:rPr>
              <a:t> usuario.</a:t>
            </a:r>
            <a:endParaRPr b="0" lang="en-US" sz="2300" spc="-1" strike="noStrike">
              <a:solidFill>
                <a:srgbClr val="000000"/>
              </a:solidFill>
              <a:latin typeface="Times New Roman"/>
            </a:endParaRPr>
          </a:p>
          <a:p>
            <a:pPr marL="380880" indent="-282600">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Fosis</a:t>
            </a:r>
            <a:r>
              <a:rPr b="0" lang="es-ES" sz="2300" spc="-1" strike="noStrike">
                <a:solidFill>
                  <a:srgbClr val="000000"/>
                </a:solidFill>
                <a:latin typeface="Times New Roman"/>
              </a:rPr>
              <a:t>: </a:t>
            </a:r>
            <a:r>
              <a:rPr b="0" lang="es-ES" sz="2300" spc="-1" strike="noStrike">
                <a:solidFill>
                  <a:srgbClr val="000000"/>
                </a:solidFill>
                <a:latin typeface="Arial"/>
              </a:rPr>
              <a:t>proyectos de educación comunitaria en salud y de atención a postrados en domicilio, beneficiando a más de 4.000 familias de Chile Solidario</a:t>
            </a:r>
            <a:endParaRPr b="0" lang="en-US" sz="2300" spc="-1" strike="noStrike">
              <a:solidFill>
                <a:srgbClr val="000000"/>
              </a:solidFill>
              <a:latin typeface="Times New Roman"/>
            </a:endParaRPr>
          </a:p>
        </p:txBody>
      </p:sp>
      <p:sp>
        <p:nvSpPr>
          <p:cNvPr id="340" name=""/>
          <p:cNvSpPr/>
          <p:nvPr/>
        </p:nvSpPr>
        <p:spPr>
          <a:xfrm>
            <a:off x="609480" y="1981080"/>
            <a:ext cx="8001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Las interfaces de salud con otros sectore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s:</a:t>
            </a:r>
            <a:endParaRPr b="0" lang="en-US" sz="2800" spc="-1" strike="noStrike">
              <a:solidFill>
                <a:srgbClr val="000000"/>
              </a:solidFill>
              <a:latin typeface="Times New Roman"/>
            </a:endParaRPr>
          </a:p>
        </p:txBody>
      </p:sp>
      <p:sp>
        <p:nvSpPr>
          <p:cNvPr id="3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Users:cdebitte:Desktop:" descr=""/>
          <p:cNvPicPr/>
          <p:nvPr/>
        </p:nvPicPr>
        <p:blipFill>
          <a:blip r:embed="rId2"/>
          <a:stretch/>
        </p:blipFill>
        <p:spPr>
          <a:xfrm>
            <a:off x="457200" y="304920"/>
            <a:ext cx="1143000" cy="996840"/>
          </a:xfrm>
          <a:prstGeom prst="rect">
            <a:avLst/>
          </a:prstGeom>
          <a:ln w="0">
            <a:noFill/>
          </a:ln>
        </p:spPr>
      </p:pic>
      <p:sp>
        <p:nvSpPr>
          <p:cNvPr id="5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1333440" y="1295280"/>
            <a:ext cx="647712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Chile: Transición Demográfica</a:t>
            </a:r>
            <a:endParaRPr b="0" lang="en-US" sz="3300" spc="-1" strike="noStrike">
              <a:solidFill>
                <a:srgbClr val="000000"/>
              </a:solidFill>
              <a:latin typeface="Times New Roman"/>
            </a:endParaRPr>
          </a:p>
        </p:txBody>
      </p:sp>
      <p:pic>
        <p:nvPicPr>
          <p:cNvPr id="56" name="" descr=""/>
          <p:cNvPicPr/>
          <p:nvPr/>
        </p:nvPicPr>
        <p:blipFill>
          <a:blip r:embed="rId3"/>
          <a:stretch/>
        </p:blipFill>
        <p:spPr>
          <a:xfrm>
            <a:off x="990720" y="2286000"/>
            <a:ext cx="7391160" cy="3581280"/>
          </a:xfrm>
          <a:prstGeom prst="rect">
            <a:avLst/>
          </a:prstGeom>
          <a:ln w="0">
            <a:noFill/>
          </a:ln>
        </p:spPr>
      </p:pic>
      <p:sp>
        <p:nvSpPr>
          <p:cNvPr id="57"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Users:cdebitte:Desktop:" descr=""/>
          <p:cNvPicPr/>
          <p:nvPr/>
        </p:nvPicPr>
        <p:blipFill>
          <a:blip r:embed="rId2"/>
          <a:stretch/>
        </p:blipFill>
        <p:spPr>
          <a:xfrm>
            <a:off x="457200" y="304920"/>
            <a:ext cx="1143000" cy="996840"/>
          </a:xfrm>
          <a:prstGeom prst="rect">
            <a:avLst/>
          </a:prstGeom>
          <a:ln w="0">
            <a:noFill/>
          </a:ln>
        </p:spPr>
      </p:pic>
      <p:sp>
        <p:nvSpPr>
          <p:cNvPr id="3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45" name="" descr=""/>
          <p:cNvPicPr/>
          <p:nvPr/>
        </p:nvPicPr>
        <p:blipFill>
          <a:blip r:embed="rId3"/>
          <a:stretch/>
        </p:blipFill>
        <p:spPr>
          <a:xfrm>
            <a:off x="5715000" y="1066680"/>
            <a:ext cx="3429000" cy="3276720"/>
          </a:xfrm>
          <a:prstGeom prst="rect">
            <a:avLst/>
          </a:prstGeom>
          <a:ln w="0">
            <a:noFill/>
          </a:ln>
        </p:spPr>
      </p:pic>
      <p:sp>
        <p:nvSpPr>
          <p:cNvPr id="346"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066680" y="2362320"/>
            <a:ext cx="7010640" cy="42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políticas públic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rgen de la acción conjunt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a iniciativa privada y l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cciones del estado. El model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esarrollo integra los ejes de acció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sados en la libre competencia y</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pacidad emprendedora privada con un estad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derno, democrático, cuya política tiende 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calizar el gasto social en los más pobres. Su</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éxito está indicado por la reducción de la pobrez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ja de un 40% en 1987 a un 18% en 2004.</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62120" y="15238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Black"/>
              </a:rPr>
              <a:t>El eje Público / </a:t>
            </a:r>
            <a:r>
              <a:rPr b="1" lang="es-ES" sz="3200" spc="-1" strike="noStrike">
                <a:solidFill>
                  <a:srgbClr val="5b87f2"/>
                </a:solidFill>
                <a:latin typeface="Arial Black"/>
              </a:rPr>
              <a:t>Privado</a:t>
            </a:r>
            <a:endParaRPr b="0" lang="en-US" sz="3200" spc="-1" strike="noStrike">
              <a:solidFill>
                <a:srgbClr val="000000"/>
              </a:solidFill>
              <a:latin typeface="Times New Roman"/>
            </a:endParaRPr>
          </a:p>
        </p:txBody>
      </p:sp>
      <p:sp>
        <p:nvSpPr>
          <p:cNvPr id="350"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Users:cdebitte:Desktop:" descr=""/>
          <p:cNvPicPr/>
          <p:nvPr/>
        </p:nvPicPr>
        <p:blipFill>
          <a:blip r:embed="rId2"/>
          <a:stretch/>
        </p:blipFill>
        <p:spPr>
          <a:xfrm>
            <a:off x="457200" y="304920"/>
            <a:ext cx="1143000" cy="996840"/>
          </a:xfrm>
          <a:prstGeom prst="rect">
            <a:avLst/>
          </a:prstGeom>
          <a:ln w="0">
            <a:noFill/>
          </a:ln>
        </p:spPr>
      </p:pic>
      <p:sp>
        <p:nvSpPr>
          <p:cNvPr id="353"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Users:cdebitte:Desktop:PARA%20ENVIAR%20LOGOS%20:Logo%20NEW%20REFORMA" descr=""/>
          <p:cNvPicPr/>
          <p:nvPr/>
        </p:nvPicPr>
        <p:blipFill>
          <a:blip r:embed="rId3"/>
          <a:stretch/>
        </p:blipFill>
        <p:spPr>
          <a:xfrm>
            <a:off x="3089160" y="990720"/>
            <a:ext cx="3130560" cy="463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0" fill="hold"/>
                                        <p:tgtEl>
                                          <p:spTgt spid="356"/>
                                        </p:tgtEl>
                                        <p:attrNameLst>
                                          <p:attrName>ppt_x</p:attrName>
                                        </p:attrNameLst>
                                      </p:cBhvr>
                                      <p:tavLst>
                                        <p:tav tm="0">
                                          <p:val>
                                            <p:strVal val="#ppt_x"/>
                                          </p:val>
                                        </p:tav>
                                        <p:tav tm="100000">
                                          <p:val>
                                            <p:strVal val="#ppt_x"/>
                                          </p:val>
                                        </p:tav>
                                      </p:tavLst>
                                    </p:anim>
                                    <p:anim calcmode="lin" valueType="num">
                                      <p:cBhvr additive="base">
                                        <p:cTn id="8" dur="50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Users:cdebitte:Desktop:" descr=""/>
          <p:cNvPicPr/>
          <p:nvPr/>
        </p:nvPicPr>
        <p:blipFill>
          <a:blip r:embed="rId2"/>
          <a:stretch/>
        </p:blipFill>
        <p:spPr>
          <a:xfrm>
            <a:off x="457200" y="304920"/>
            <a:ext cx="1143000" cy="996840"/>
          </a:xfrm>
          <a:prstGeom prst="rect">
            <a:avLst/>
          </a:prstGeom>
          <a:ln w="0">
            <a:noFill/>
          </a:ln>
        </p:spPr>
      </p:pic>
      <p:sp>
        <p:nvSpPr>
          <p:cNvPr id="60"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60880" y="194796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43080" y="9907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333399"/>
                </a:solidFill>
                <a:latin typeface="Arial"/>
              </a:rPr>
              <a:t>Esperanza de vida al nacer, Chile 1965-2005</a:t>
            </a:r>
            <a:endParaRPr b="0" lang="en-US" sz="2900" spc="-1" strike="noStrike">
              <a:solidFill>
                <a:srgbClr val="000000"/>
              </a:solidFill>
              <a:latin typeface="Times New Roman"/>
            </a:endParaRPr>
          </a:p>
        </p:txBody>
      </p:sp>
      <p:graphicFrame>
        <p:nvGraphicFramePr>
          <p:cNvPr id="63" name=""/>
          <p:cNvGraphicFramePr/>
          <p:nvPr/>
        </p:nvGraphicFramePr>
        <p:xfrm>
          <a:off x="838080" y="2133720"/>
          <a:ext cx="7543800" cy="4354560"/>
        </p:xfrm>
        <a:graphic>
          <a:graphicData uri="http://schemas.openxmlformats.org/drawingml/2006/table">
            <a:tbl>
              <a:tblPr/>
              <a:tblGrid>
                <a:gridCol w="2239920"/>
                <a:gridCol w="1766880"/>
                <a:gridCol w="1770120"/>
                <a:gridCol w="1766880"/>
              </a:tblGrid>
              <a:tr h="39888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Períod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Sex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Amb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Homb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Muje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65-1970</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1</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58</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4</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80-198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1</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4</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8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2000-200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6</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3</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9</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bl>
          </a:graphicData>
        </a:graphic>
      </p:graphicFrame>
      <p:sp>
        <p:nvSpPr>
          <p:cNvPr id="6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Users:cdebitte:Desktop:" descr=""/>
          <p:cNvPicPr/>
          <p:nvPr/>
        </p:nvPicPr>
        <p:blipFill>
          <a:blip r:embed="rId2"/>
          <a:stretch/>
        </p:blipFill>
        <p:spPr>
          <a:xfrm>
            <a:off x="457200" y="304920"/>
            <a:ext cx="1143000" cy="996840"/>
          </a:xfrm>
          <a:prstGeom prst="rect">
            <a:avLst/>
          </a:prstGeom>
          <a:ln w="0">
            <a:noFill/>
          </a:ln>
        </p:spPr>
      </p:pic>
      <p:sp>
        <p:nvSpPr>
          <p:cNvPr id="6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762120" y="13716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MORTALIDAD </a:t>
            </a:r>
            <a:r>
              <a:rPr b="1" lang="es-CL" sz="3300" spc="-1" strike="noStrike">
                <a:solidFill>
                  <a:srgbClr val="333399"/>
                </a:solidFill>
                <a:latin typeface="Arial"/>
              </a:rPr>
              <a:t>MATERNA</a:t>
            </a:r>
            <a:br>
              <a:rPr sz="3300"/>
            </a:br>
            <a:r>
              <a:rPr b="1" lang="es-ES" sz="3300" spc="-1" strike="noStrike">
                <a:solidFill>
                  <a:srgbClr val="333399"/>
                </a:solidFill>
                <a:latin typeface="Arial"/>
              </a:rPr>
              <a:t> </a:t>
            </a:r>
            <a:r>
              <a:rPr b="1" lang="es-CL" sz="3300" spc="-1" strike="noStrike">
                <a:solidFill>
                  <a:srgbClr val="333399"/>
                </a:solidFill>
                <a:latin typeface="Arial"/>
              </a:rPr>
              <a:t>CHILE</a:t>
            </a:r>
            <a:r>
              <a:rPr b="1" lang="es-ES" sz="3300" spc="-1" strike="noStrike">
                <a:solidFill>
                  <a:srgbClr val="333399"/>
                </a:solidFill>
                <a:latin typeface="Arial"/>
              </a:rPr>
              <a:t> </a:t>
            </a:r>
            <a:r>
              <a:rPr b="1" lang="es-CL" sz="3300" spc="-1" strike="noStrike">
                <a:solidFill>
                  <a:srgbClr val="333399"/>
                </a:solidFill>
                <a:latin typeface="Arial"/>
              </a:rPr>
              <a:t>1960 - </a:t>
            </a:r>
            <a:r>
              <a:rPr b="1" lang="es-ES" sz="3300" spc="-1" strike="noStrike">
                <a:solidFill>
                  <a:srgbClr val="333399"/>
                </a:solidFill>
                <a:latin typeface="Arial"/>
              </a:rPr>
              <a:t>200</a:t>
            </a:r>
            <a:r>
              <a:rPr b="1" lang="es-CL" sz="3300" spc="-1" strike="noStrike">
                <a:solidFill>
                  <a:srgbClr val="333399"/>
                </a:solidFill>
                <a:latin typeface="Arial"/>
              </a:rPr>
              <a:t>2</a:t>
            </a:r>
            <a:r>
              <a:rPr b="1" lang="es-ES" sz="3300" spc="-1" strike="noStrike">
                <a:solidFill>
                  <a:srgbClr val="333399"/>
                </a:solidFill>
                <a:latin typeface="Arial"/>
              </a:rPr>
              <a:t>.</a:t>
            </a:r>
            <a:endParaRPr b="0" lang="en-US" sz="3300" spc="-1" strike="noStrike">
              <a:solidFill>
                <a:srgbClr val="000000"/>
              </a:solidFill>
              <a:latin typeface="Times New Roman"/>
            </a:endParaRPr>
          </a:p>
        </p:txBody>
      </p:sp>
      <p:grpSp>
        <p:nvGrpSpPr>
          <p:cNvPr id="69" name=""/>
          <p:cNvGrpSpPr/>
          <p:nvPr/>
        </p:nvGrpSpPr>
        <p:grpSpPr>
          <a:xfrm>
            <a:off x="1593720" y="2401920"/>
            <a:ext cx="5909040" cy="4375080"/>
            <a:chOff x="1593720" y="2401920"/>
            <a:chExt cx="5909040" cy="4375080"/>
          </a:xfrm>
        </p:grpSpPr>
        <p:sp>
          <p:nvSpPr>
            <p:cNvPr id="70" name=""/>
            <p:cNvSpPr/>
            <p:nvPr/>
          </p:nvSpPr>
          <p:spPr>
            <a:xfrm>
              <a:off x="2432160" y="2494080"/>
              <a:ext cx="5045040" cy="3705120"/>
            </a:xfrm>
            <a:prstGeom prst="rect">
              <a:avLst/>
            </a:prstGeom>
            <a:solidFill>
              <a:srgbClr val="df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3160" y="2795760"/>
              <a:ext cx="4927320" cy="3189240"/>
            </a:xfrm>
            <a:custGeom>
              <a:avLst/>
              <a:gdLst/>
              <a:ahLst/>
              <a:rect l="l" t="t" r="r" b="b"/>
              <a:pathLst>
                <a:path w="3342" h="2163">
                  <a:moveTo>
                    <a:pt x="0" y="136"/>
                  </a:moveTo>
                  <a:lnTo>
                    <a:pt x="6" y="115"/>
                  </a:lnTo>
                  <a:lnTo>
                    <a:pt x="13" y="93"/>
                  </a:lnTo>
                  <a:lnTo>
                    <a:pt x="23" y="68"/>
                  </a:lnTo>
                  <a:lnTo>
                    <a:pt x="34" y="43"/>
                  </a:lnTo>
                  <a:lnTo>
                    <a:pt x="48" y="21"/>
                  </a:lnTo>
                  <a:lnTo>
                    <a:pt x="63" y="6"/>
                  </a:lnTo>
                  <a:lnTo>
                    <a:pt x="79" y="0"/>
                  </a:lnTo>
                  <a:lnTo>
                    <a:pt x="94" y="3"/>
                  </a:lnTo>
                  <a:lnTo>
                    <a:pt x="106" y="12"/>
                  </a:lnTo>
                  <a:lnTo>
                    <a:pt x="117" y="26"/>
                  </a:lnTo>
                  <a:lnTo>
                    <a:pt x="126" y="43"/>
                  </a:lnTo>
                  <a:lnTo>
                    <a:pt x="142" y="85"/>
                  </a:lnTo>
                  <a:lnTo>
                    <a:pt x="159" y="129"/>
                  </a:lnTo>
                  <a:lnTo>
                    <a:pt x="171" y="166"/>
                  </a:lnTo>
                  <a:lnTo>
                    <a:pt x="182" y="211"/>
                  </a:lnTo>
                  <a:lnTo>
                    <a:pt x="191" y="259"/>
                  </a:lnTo>
                  <a:lnTo>
                    <a:pt x="199" y="308"/>
                  </a:lnTo>
                  <a:lnTo>
                    <a:pt x="207" y="352"/>
                  </a:lnTo>
                  <a:lnTo>
                    <a:pt x="216" y="389"/>
                  </a:lnTo>
                  <a:lnTo>
                    <a:pt x="226" y="414"/>
                  </a:lnTo>
                  <a:lnTo>
                    <a:pt x="238" y="423"/>
                  </a:lnTo>
                  <a:lnTo>
                    <a:pt x="247" y="417"/>
                  </a:lnTo>
                  <a:lnTo>
                    <a:pt x="253" y="399"/>
                  </a:lnTo>
                  <a:lnTo>
                    <a:pt x="260" y="374"/>
                  </a:lnTo>
                  <a:lnTo>
                    <a:pt x="266" y="344"/>
                  </a:lnTo>
                  <a:lnTo>
                    <a:pt x="275" y="313"/>
                  </a:lnTo>
                  <a:lnTo>
                    <a:pt x="285" y="285"/>
                  </a:lnTo>
                  <a:lnTo>
                    <a:pt x="300" y="264"/>
                  </a:lnTo>
                  <a:lnTo>
                    <a:pt x="318" y="251"/>
                  </a:lnTo>
                  <a:lnTo>
                    <a:pt x="337" y="250"/>
                  </a:lnTo>
                  <a:lnTo>
                    <a:pt x="358" y="255"/>
                  </a:lnTo>
                  <a:lnTo>
                    <a:pt x="378" y="266"/>
                  </a:lnTo>
                  <a:lnTo>
                    <a:pt x="398" y="280"/>
                  </a:lnTo>
                  <a:lnTo>
                    <a:pt x="411" y="294"/>
                  </a:lnTo>
                  <a:lnTo>
                    <a:pt x="421" y="311"/>
                  </a:lnTo>
                  <a:lnTo>
                    <a:pt x="430" y="331"/>
                  </a:lnTo>
                  <a:lnTo>
                    <a:pt x="437" y="352"/>
                  </a:lnTo>
                  <a:lnTo>
                    <a:pt x="445" y="371"/>
                  </a:lnTo>
                  <a:lnTo>
                    <a:pt x="453" y="389"/>
                  </a:lnTo>
                  <a:lnTo>
                    <a:pt x="464" y="402"/>
                  </a:lnTo>
                  <a:lnTo>
                    <a:pt x="477" y="409"/>
                  </a:lnTo>
                  <a:lnTo>
                    <a:pt x="498" y="407"/>
                  </a:lnTo>
                  <a:lnTo>
                    <a:pt x="519" y="395"/>
                  </a:lnTo>
                  <a:lnTo>
                    <a:pt x="540" y="383"/>
                  </a:lnTo>
                  <a:lnTo>
                    <a:pt x="557" y="380"/>
                  </a:lnTo>
                  <a:lnTo>
                    <a:pt x="567" y="388"/>
                  </a:lnTo>
                  <a:lnTo>
                    <a:pt x="575" y="400"/>
                  </a:lnTo>
                  <a:lnTo>
                    <a:pt x="583" y="417"/>
                  </a:lnTo>
                  <a:lnTo>
                    <a:pt x="590" y="439"/>
                  </a:lnTo>
                  <a:lnTo>
                    <a:pt x="601" y="491"/>
                  </a:lnTo>
                  <a:lnTo>
                    <a:pt x="610" y="551"/>
                  </a:lnTo>
                  <a:lnTo>
                    <a:pt x="616" y="614"/>
                  </a:lnTo>
                  <a:lnTo>
                    <a:pt x="623" y="673"/>
                  </a:lnTo>
                  <a:lnTo>
                    <a:pt x="629" y="724"/>
                  </a:lnTo>
                  <a:lnTo>
                    <a:pt x="636" y="761"/>
                  </a:lnTo>
                  <a:lnTo>
                    <a:pt x="650" y="812"/>
                  </a:lnTo>
                  <a:lnTo>
                    <a:pt x="662" y="859"/>
                  </a:lnTo>
                  <a:lnTo>
                    <a:pt x="671" y="883"/>
                  </a:lnTo>
                  <a:lnTo>
                    <a:pt x="682" y="910"/>
                  </a:lnTo>
                  <a:lnTo>
                    <a:pt x="696" y="941"/>
                  </a:lnTo>
                  <a:lnTo>
                    <a:pt x="716" y="977"/>
                  </a:lnTo>
                  <a:lnTo>
                    <a:pt x="737" y="1009"/>
                  </a:lnTo>
                  <a:lnTo>
                    <a:pt x="756" y="1029"/>
                  </a:lnTo>
                  <a:lnTo>
                    <a:pt x="775" y="1048"/>
                  </a:lnTo>
                  <a:lnTo>
                    <a:pt x="795" y="1077"/>
                  </a:lnTo>
                  <a:lnTo>
                    <a:pt x="809" y="1105"/>
                  </a:lnTo>
                  <a:lnTo>
                    <a:pt x="820" y="1135"/>
                  </a:lnTo>
                  <a:lnTo>
                    <a:pt x="829" y="1166"/>
                  </a:lnTo>
                  <a:lnTo>
                    <a:pt x="836" y="1196"/>
                  </a:lnTo>
                  <a:lnTo>
                    <a:pt x="844" y="1222"/>
                  </a:lnTo>
                  <a:lnTo>
                    <a:pt x="852" y="1244"/>
                  </a:lnTo>
                  <a:lnTo>
                    <a:pt x="862" y="1258"/>
                  </a:lnTo>
                  <a:lnTo>
                    <a:pt x="875" y="1264"/>
                  </a:lnTo>
                  <a:lnTo>
                    <a:pt x="887" y="1258"/>
                  </a:lnTo>
                  <a:lnTo>
                    <a:pt x="898" y="1241"/>
                  </a:lnTo>
                  <a:lnTo>
                    <a:pt x="907" y="1216"/>
                  </a:lnTo>
                  <a:lnTo>
                    <a:pt x="916" y="1188"/>
                  </a:lnTo>
                  <a:lnTo>
                    <a:pt x="924" y="1160"/>
                  </a:lnTo>
                  <a:lnTo>
                    <a:pt x="933" y="1136"/>
                  </a:lnTo>
                  <a:lnTo>
                    <a:pt x="943" y="1119"/>
                  </a:lnTo>
                  <a:lnTo>
                    <a:pt x="954" y="1113"/>
                  </a:lnTo>
                  <a:lnTo>
                    <a:pt x="966" y="1120"/>
                  </a:lnTo>
                  <a:lnTo>
                    <a:pt x="976" y="1139"/>
                  </a:lnTo>
                  <a:lnTo>
                    <a:pt x="984" y="1167"/>
                  </a:lnTo>
                  <a:lnTo>
                    <a:pt x="991" y="1201"/>
                  </a:lnTo>
                  <a:lnTo>
                    <a:pt x="999" y="1238"/>
                  </a:lnTo>
                  <a:lnTo>
                    <a:pt x="1008" y="1275"/>
                  </a:lnTo>
                  <a:lnTo>
                    <a:pt x="1019" y="1308"/>
                  </a:lnTo>
                  <a:lnTo>
                    <a:pt x="1034" y="1336"/>
                  </a:lnTo>
                  <a:lnTo>
                    <a:pt x="1050" y="1361"/>
                  </a:lnTo>
                  <a:lnTo>
                    <a:pt x="1066" y="1384"/>
                  </a:lnTo>
                  <a:lnTo>
                    <a:pt x="1085" y="1401"/>
                  </a:lnTo>
                  <a:lnTo>
                    <a:pt x="1098" y="1406"/>
                  </a:lnTo>
                  <a:lnTo>
                    <a:pt x="1114" y="1407"/>
                  </a:lnTo>
                  <a:lnTo>
                    <a:pt x="1128" y="1405"/>
                  </a:lnTo>
                  <a:lnTo>
                    <a:pt x="1139" y="1397"/>
                  </a:lnTo>
                  <a:lnTo>
                    <a:pt x="1149" y="1387"/>
                  </a:lnTo>
                  <a:lnTo>
                    <a:pt x="1157" y="1374"/>
                  </a:lnTo>
                  <a:lnTo>
                    <a:pt x="1173" y="1352"/>
                  </a:lnTo>
                  <a:lnTo>
                    <a:pt x="1182" y="1345"/>
                  </a:lnTo>
                  <a:lnTo>
                    <a:pt x="1193" y="1343"/>
                  </a:lnTo>
                  <a:lnTo>
                    <a:pt x="1207" y="1347"/>
                  </a:lnTo>
                  <a:lnTo>
                    <a:pt x="1218" y="1356"/>
                  </a:lnTo>
                  <a:lnTo>
                    <a:pt x="1227" y="1369"/>
                  </a:lnTo>
                  <a:lnTo>
                    <a:pt x="1235" y="1384"/>
                  </a:lnTo>
                  <a:lnTo>
                    <a:pt x="1251" y="1421"/>
                  </a:lnTo>
                  <a:lnTo>
                    <a:pt x="1261" y="1440"/>
                  </a:lnTo>
                  <a:lnTo>
                    <a:pt x="1273" y="1458"/>
                  </a:lnTo>
                  <a:lnTo>
                    <a:pt x="1308" y="1504"/>
                  </a:lnTo>
                  <a:lnTo>
                    <a:pt x="1352" y="1551"/>
                  </a:lnTo>
                  <a:lnTo>
                    <a:pt x="1377" y="1574"/>
                  </a:lnTo>
                  <a:lnTo>
                    <a:pt x="1396" y="1589"/>
                  </a:lnTo>
                  <a:lnTo>
                    <a:pt x="1413" y="1603"/>
                  </a:lnTo>
                  <a:lnTo>
                    <a:pt x="1432" y="1623"/>
                  </a:lnTo>
                  <a:lnTo>
                    <a:pt x="1443" y="1640"/>
                  </a:lnTo>
                  <a:lnTo>
                    <a:pt x="1452" y="1658"/>
                  </a:lnTo>
                  <a:lnTo>
                    <a:pt x="1467" y="1698"/>
                  </a:lnTo>
                  <a:lnTo>
                    <a:pt x="1475" y="1718"/>
                  </a:lnTo>
                  <a:lnTo>
                    <a:pt x="1484" y="1735"/>
                  </a:lnTo>
                  <a:lnTo>
                    <a:pt x="1496" y="1749"/>
                  </a:lnTo>
                  <a:lnTo>
                    <a:pt x="1511" y="1760"/>
                  </a:lnTo>
                  <a:lnTo>
                    <a:pt x="1529" y="1763"/>
                  </a:lnTo>
                  <a:lnTo>
                    <a:pt x="1546" y="1760"/>
                  </a:lnTo>
                  <a:lnTo>
                    <a:pt x="1566" y="1757"/>
                  </a:lnTo>
                  <a:lnTo>
                    <a:pt x="1591" y="1760"/>
                  </a:lnTo>
                  <a:lnTo>
                    <a:pt x="1619" y="1769"/>
                  </a:lnTo>
                  <a:lnTo>
                    <a:pt x="1637" y="1780"/>
                  </a:lnTo>
                  <a:lnTo>
                    <a:pt x="1652" y="1793"/>
                  </a:lnTo>
                  <a:lnTo>
                    <a:pt x="1670" y="1810"/>
                  </a:lnTo>
                  <a:lnTo>
                    <a:pt x="1696" y="1835"/>
                  </a:lnTo>
                  <a:lnTo>
                    <a:pt x="1712" y="1859"/>
                  </a:lnTo>
                  <a:lnTo>
                    <a:pt x="1728" y="1883"/>
                  </a:lnTo>
                  <a:lnTo>
                    <a:pt x="1750" y="1910"/>
                  </a:lnTo>
                  <a:lnTo>
                    <a:pt x="1770" y="1933"/>
                  </a:lnTo>
                  <a:lnTo>
                    <a:pt x="1785" y="1951"/>
                  </a:lnTo>
                  <a:lnTo>
                    <a:pt x="1802" y="1968"/>
                  </a:lnTo>
                  <a:lnTo>
                    <a:pt x="1830" y="1989"/>
                  </a:lnTo>
                  <a:lnTo>
                    <a:pt x="1854" y="2008"/>
                  </a:lnTo>
                  <a:lnTo>
                    <a:pt x="1872" y="2023"/>
                  </a:lnTo>
                  <a:lnTo>
                    <a:pt x="1890" y="2031"/>
                  </a:lnTo>
                  <a:lnTo>
                    <a:pt x="1909" y="2032"/>
                  </a:lnTo>
                  <a:lnTo>
                    <a:pt x="1922" y="2027"/>
                  </a:lnTo>
                  <a:lnTo>
                    <a:pt x="1932" y="2015"/>
                  </a:lnTo>
                  <a:lnTo>
                    <a:pt x="1940" y="1999"/>
                  </a:lnTo>
                  <a:lnTo>
                    <a:pt x="1947" y="1981"/>
                  </a:lnTo>
                  <a:lnTo>
                    <a:pt x="1955" y="1962"/>
                  </a:lnTo>
                  <a:lnTo>
                    <a:pt x="1964" y="1946"/>
                  </a:lnTo>
                  <a:lnTo>
                    <a:pt x="1975" y="1932"/>
                  </a:lnTo>
                  <a:lnTo>
                    <a:pt x="1989" y="1925"/>
                  </a:lnTo>
                  <a:lnTo>
                    <a:pt x="2006" y="1924"/>
                  </a:lnTo>
                  <a:lnTo>
                    <a:pt x="2022" y="1931"/>
                  </a:lnTo>
                  <a:lnTo>
                    <a:pt x="2041" y="1940"/>
                  </a:lnTo>
                  <a:lnTo>
                    <a:pt x="2068" y="1946"/>
                  </a:lnTo>
                  <a:lnTo>
                    <a:pt x="2094" y="1946"/>
                  </a:lnTo>
                  <a:lnTo>
                    <a:pt x="2111" y="1941"/>
                  </a:lnTo>
                  <a:lnTo>
                    <a:pt x="2127" y="1937"/>
                  </a:lnTo>
                  <a:lnTo>
                    <a:pt x="2148" y="1939"/>
                  </a:lnTo>
                  <a:lnTo>
                    <a:pt x="2171" y="1949"/>
                  </a:lnTo>
                  <a:lnTo>
                    <a:pt x="2188" y="1963"/>
                  </a:lnTo>
                  <a:lnTo>
                    <a:pt x="2204" y="1978"/>
                  </a:lnTo>
                  <a:lnTo>
                    <a:pt x="2227" y="1989"/>
                  </a:lnTo>
                  <a:lnTo>
                    <a:pt x="2249" y="1993"/>
                  </a:lnTo>
                  <a:lnTo>
                    <a:pt x="2264" y="1992"/>
                  </a:lnTo>
                  <a:lnTo>
                    <a:pt x="2281" y="1990"/>
                  </a:lnTo>
                  <a:lnTo>
                    <a:pt x="2307" y="1989"/>
                  </a:lnTo>
                  <a:lnTo>
                    <a:pt x="2332" y="1990"/>
                  </a:lnTo>
                  <a:lnTo>
                    <a:pt x="2349" y="1990"/>
                  </a:lnTo>
                  <a:lnTo>
                    <a:pt x="2387" y="1997"/>
                  </a:lnTo>
                  <a:lnTo>
                    <a:pt x="2411" y="2004"/>
                  </a:lnTo>
                  <a:lnTo>
                    <a:pt x="2427" y="2013"/>
                  </a:lnTo>
                  <a:lnTo>
                    <a:pt x="2443" y="2022"/>
                  </a:lnTo>
                  <a:lnTo>
                    <a:pt x="2466" y="2032"/>
                  </a:lnTo>
                  <a:lnTo>
                    <a:pt x="2488" y="2043"/>
                  </a:lnTo>
                  <a:lnTo>
                    <a:pt x="2504" y="2052"/>
                  </a:lnTo>
                  <a:lnTo>
                    <a:pt x="2521" y="2058"/>
                  </a:lnTo>
                  <a:lnTo>
                    <a:pt x="2546" y="2061"/>
                  </a:lnTo>
                  <a:lnTo>
                    <a:pt x="2571" y="2058"/>
                  </a:lnTo>
                  <a:lnTo>
                    <a:pt x="2589" y="2049"/>
                  </a:lnTo>
                  <a:lnTo>
                    <a:pt x="2604" y="2041"/>
                  </a:lnTo>
                  <a:lnTo>
                    <a:pt x="2625" y="2040"/>
                  </a:lnTo>
                  <a:lnTo>
                    <a:pt x="2639" y="2044"/>
                  </a:lnTo>
                  <a:lnTo>
                    <a:pt x="2650" y="2053"/>
                  </a:lnTo>
                  <a:lnTo>
                    <a:pt x="2666" y="2074"/>
                  </a:lnTo>
                  <a:lnTo>
                    <a:pt x="2682" y="2094"/>
                  </a:lnTo>
                  <a:lnTo>
                    <a:pt x="2692" y="2101"/>
                  </a:lnTo>
                  <a:lnTo>
                    <a:pt x="2705" y="2104"/>
                  </a:lnTo>
                  <a:lnTo>
                    <a:pt x="2717" y="2103"/>
                  </a:lnTo>
                  <a:lnTo>
                    <a:pt x="2727" y="2099"/>
                  </a:lnTo>
                  <a:lnTo>
                    <a:pt x="2744" y="2083"/>
                  </a:lnTo>
                  <a:lnTo>
                    <a:pt x="2761" y="2068"/>
                  </a:lnTo>
                  <a:lnTo>
                    <a:pt x="2772" y="2063"/>
                  </a:lnTo>
                  <a:lnTo>
                    <a:pt x="2785" y="2061"/>
                  </a:lnTo>
                  <a:lnTo>
                    <a:pt x="2797" y="2064"/>
                  </a:lnTo>
                  <a:lnTo>
                    <a:pt x="2807" y="2069"/>
                  </a:lnTo>
                  <a:lnTo>
                    <a:pt x="2822" y="2085"/>
                  </a:lnTo>
                  <a:lnTo>
                    <a:pt x="2839" y="2104"/>
                  </a:lnTo>
                  <a:lnTo>
                    <a:pt x="2850" y="2112"/>
                  </a:lnTo>
                  <a:lnTo>
                    <a:pt x="2864" y="2119"/>
                  </a:lnTo>
                  <a:lnTo>
                    <a:pt x="2885" y="2124"/>
                  </a:lnTo>
                  <a:lnTo>
                    <a:pt x="2901" y="2125"/>
                  </a:lnTo>
                  <a:lnTo>
                    <a:pt x="2918" y="2124"/>
                  </a:lnTo>
                  <a:lnTo>
                    <a:pt x="2944" y="2126"/>
                  </a:lnTo>
                  <a:lnTo>
                    <a:pt x="2968" y="2131"/>
                  </a:lnTo>
                  <a:lnTo>
                    <a:pt x="2984" y="2136"/>
                  </a:lnTo>
                  <a:lnTo>
                    <a:pt x="3000" y="2140"/>
                  </a:lnTo>
                  <a:lnTo>
                    <a:pt x="3023" y="2140"/>
                  </a:lnTo>
                  <a:lnTo>
                    <a:pt x="3047" y="2136"/>
                  </a:lnTo>
                  <a:lnTo>
                    <a:pt x="3064" y="2128"/>
                  </a:lnTo>
                  <a:lnTo>
                    <a:pt x="3080" y="2121"/>
                  </a:lnTo>
                  <a:lnTo>
                    <a:pt x="3103" y="2119"/>
                  </a:lnTo>
                  <a:lnTo>
                    <a:pt x="3126" y="2122"/>
                  </a:lnTo>
                  <a:lnTo>
                    <a:pt x="3142" y="2130"/>
                  </a:lnTo>
                  <a:lnTo>
                    <a:pt x="3159" y="2139"/>
                  </a:lnTo>
                  <a:lnTo>
                    <a:pt x="3182" y="2147"/>
                  </a:lnTo>
                  <a:lnTo>
                    <a:pt x="3220" y="2157"/>
                  </a:lnTo>
                  <a:lnTo>
                    <a:pt x="3262" y="2162"/>
                  </a:lnTo>
                  <a:lnTo>
                    <a:pt x="3292" y="2163"/>
                  </a:lnTo>
                  <a:lnTo>
                    <a:pt x="3317" y="2163"/>
                  </a:lnTo>
                  <a:lnTo>
                    <a:pt x="3342" y="2162"/>
                  </a:lnTo>
                </a:path>
              </a:pathLst>
            </a:custGeom>
            <a:noFill/>
            <a:ln w="82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432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flipV="1">
              <a:off x="2549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2665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2784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2900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3017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31352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3252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3370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34876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V="1">
              <a:off x="36050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V="1">
              <a:off x="37209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
            <p:cNvSpPr/>
            <p:nvPr/>
          </p:nvSpPr>
          <p:spPr>
            <a:xfrm flipV="1">
              <a:off x="3840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 name=""/>
            <p:cNvSpPr/>
            <p:nvPr/>
          </p:nvSpPr>
          <p:spPr>
            <a:xfrm flipV="1">
              <a:off x="3956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flipV="1">
              <a:off x="40734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flipV="1">
              <a:off x="4192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flipV="1">
              <a:off x="4308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442584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4543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flipV="1">
              <a:off x="46609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477828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48960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flipV="1">
              <a:off x="50115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V="1">
              <a:off x="513072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5248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3640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V="1">
              <a:off x="54831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flipV="1">
              <a:off x="55990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flipV="1">
              <a:off x="57164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V="1">
              <a:off x="5834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flipV="1">
              <a:off x="5951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V="1">
              <a:off x="60688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flipV="1">
              <a:off x="6186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flipV="1">
              <a:off x="6303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6419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6539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flipV="1">
              <a:off x="6654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V="1">
              <a:off x="6772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891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flipV="1">
              <a:off x="70074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71247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7242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flipV="1">
              <a:off x="73594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flipV="1">
              <a:off x="74772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2355840" y="61992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55840" y="567072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355840" y="5141880"/>
              <a:ext cx="76320" cy="0"/>
            </a:xfrm>
            <a:prstGeom prst="line">
              <a:avLst/>
            </a:prstGeom>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5840" y="461016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355840" y="40816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355840" y="35514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355840" y="3022560"/>
              <a:ext cx="76320" cy="1800"/>
            </a:xfrm>
            <a:prstGeom prst="line">
              <a:avLst/>
            </a:prstGeom>
            <a:ln w="144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2355840" y="24940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427120" y="6194520"/>
              <a:ext cx="504540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427120" y="2487600"/>
              <a:ext cx="1800" cy="370692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314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0</a:t>
              </a:r>
              <a:endParaRPr b="0" lang="en-US" sz="1300" spc="-1" strike="noStrike">
                <a:solidFill>
                  <a:srgbClr val="000000"/>
                </a:solidFill>
                <a:latin typeface="Times New Roman"/>
              </a:endParaRPr>
            </a:p>
          </p:txBody>
        </p:sp>
        <p:sp>
          <p:nvSpPr>
            <p:cNvPr id="127" name=""/>
            <p:cNvSpPr/>
            <p:nvPr/>
          </p:nvSpPr>
          <p:spPr>
            <a:xfrm>
              <a:off x="301896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5</a:t>
              </a:r>
              <a:endParaRPr b="0" lang="en-US" sz="1300" spc="-1" strike="noStrike">
                <a:solidFill>
                  <a:srgbClr val="000000"/>
                </a:solidFill>
                <a:latin typeface="Times New Roman"/>
              </a:endParaRPr>
            </a:p>
          </p:txBody>
        </p:sp>
        <p:sp>
          <p:nvSpPr>
            <p:cNvPr id="128" name=""/>
            <p:cNvSpPr/>
            <p:nvPr/>
          </p:nvSpPr>
          <p:spPr>
            <a:xfrm>
              <a:off x="36061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0</a:t>
              </a:r>
              <a:endParaRPr b="0" lang="en-US" sz="1300" spc="-1" strike="noStrike">
                <a:solidFill>
                  <a:srgbClr val="000000"/>
                </a:solidFill>
                <a:latin typeface="Times New Roman"/>
              </a:endParaRPr>
            </a:p>
          </p:txBody>
        </p:sp>
        <p:sp>
          <p:nvSpPr>
            <p:cNvPr id="129" name=""/>
            <p:cNvSpPr/>
            <p:nvPr/>
          </p:nvSpPr>
          <p:spPr>
            <a:xfrm>
              <a:off x="41918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5</a:t>
              </a:r>
              <a:endParaRPr b="0" lang="en-US" sz="1300" spc="-1" strike="noStrike">
                <a:solidFill>
                  <a:srgbClr val="000000"/>
                </a:solidFill>
                <a:latin typeface="Times New Roman"/>
              </a:endParaRPr>
            </a:p>
          </p:txBody>
        </p:sp>
        <p:sp>
          <p:nvSpPr>
            <p:cNvPr id="130" name=""/>
            <p:cNvSpPr/>
            <p:nvPr/>
          </p:nvSpPr>
          <p:spPr>
            <a:xfrm>
              <a:off x="47779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0</a:t>
              </a:r>
              <a:endParaRPr b="0" lang="en-US" sz="1300" spc="-1" strike="noStrike">
                <a:solidFill>
                  <a:srgbClr val="000000"/>
                </a:solidFill>
                <a:latin typeface="Times New Roman"/>
              </a:endParaRPr>
            </a:p>
          </p:txBody>
        </p:sp>
        <p:sp>
          <p:nvSpPr>
            <p:cNvPr id="131" name=""/>
            <p:cNvSpPr/>
            <p:nvPr/>
          </p:nvSpPr>
          <p:spPr>
            <a:xfrm>
              <a:off x="536508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5</a:t>
              </a:r>
              <a:endParaRPr b="0" lang="en-US" sz="1300" spc="-1" strike="noStrike">
                <a:solidFill>
                  <a:srgbClr val="000000"/>
                </a:solidFill>
                <a:latin typeface="Times New Roman"/>
              </a:endParaRPr>
            </a:p>
          </p:txBody>
        </p:sp>
        <p:sp>
          <p:nvSpPr>
            <p:cNvPr id="132" name=""/>
            <p:cNvSpPr/>
            <p:nvPr/>
          </p:nvSpPr>
          <p:spPr>
            <a:xfrm>
              <a:off x="595260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0</a:t>
              </a:r>
              <a:endParaRPr b="0" lang="en-US" sz="1300" spc="-1" strike="noStrike">
                <a:solidFill>
                  <a:srgbClr val="000000"/>
                </a:solidFill>
                <a:latin typeface="Times New Roman"/>
              </a:endParaRPr>
            </a:p>
          </p:txBody>
        </p:sp>
        <p:sp>
          <p:nvSpPr>
            <p:cNvPr id="133" name=""/>
            <p:cNvSpPr/>
            <p:nvPr/>
          </p:nvSpPr>
          <p:spPr>
            <a:xfrm>
              <a:off x="65383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5</a:t>
              </a:r>
              <a:endParaRPr b="0" lang="en-US" sz="1300" spc="-1" strike="noStrike">
                <a:solidFill>
                  <a:srgbClr val="000000"/>
                </a:solidFill>
                <a:latin typeface="Times New Roman"/>
              </a:endParaRPr>
            </a:p>
          </p:txBody>
        </p:sp>
        <p:sp>
          <p:nvSpPr>
            <p:cNvPr id="134" name=""/>
            <p:cNvSpPr/>
            <p:nvPr/>
          </p:nvSpPr>
          <p:spPr>
            <a:xfrm>
              <a:off x="71240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2000</a:t>
              </a:r>
              <a:endParaRPr b="0" lang="en-US" sz="1300" spc="-1" strike="noStrike">
                <a:solidFill>
                  <a:srgbClr val="000000"/>
                </a:solidFill>
                <a:latin typeface="Times New Roman"/>
              </a:endParaRPr>
            </a:p>
          </p:txBody>
        </p:sp>
        <p:sp>
          <p:nvSpPr>
            <p:cNvPr id="135" name=""/>
            <p:cNvSpPr/>
            <p:nvPr/>
          </p:nvSpPr>
          <p:spPr>
            <a:xfrm>
              <a:off x="4267080" y="6578640"/>
              <a:ext cx="11685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A ñ o</a:t>
              </a:r>
              <a:r>
                <a:rPr b="1" lang="en-US" sz="1300" spc="-1" strike="noStrike">
                  <a:solidFill>
                    <a:srgbClr val="ffffff"/>
                  </a:solidFill>
                  <a:latin typeface="Verdana"/>
                </a:rPr>
                <a:t>  o</a:t>
              </a:r>
              <a:endParaRPr b="0" lang="en-US" sz="1300" spc="-1" strike="noStrike">
                <a:solidFill>
                  <a:srgbClr val="000000"/>
                </a:solidFill>
                <a:latin typeface="Times New Roman"/>
              </a:endParaRPr>
            </a:p>
          </p:txBody>
        </p:sp>
        <p:sp>
          <p:nvSpPr>
            <p:cNvPr id="136" name=""/>
            <p:cNvSpPr/>
            <p:nvPr/>
          </p:nvSpPr>
          <p:spPr>
            <a:xfrm>
              <a:off x="2274840" y="610884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0</a:t>
              </a:r>
              <a:endParaRPr b="0" lang="en-US" sz="1300" spc="-1" strike="noStrike">
                <a:solidFill>
                  <a:srgbClr val="000000"/>
                </a:solidFill>
                <a:latin typeface="Times New Roman"/>
              </a:endParaRPr>
            </a:p>
          </p:txBody>
        </p:sp>
        <p:sp>
          <p:nvSpPr>
            <p:cNvPr id="137" name=""/>
            <p:cNvSpPr/>
            <p:nvPr/>
          </p:nvSpPr>
          <p:spPr>
            <a:xfrm>
              <a:off x="2274840" y="557856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5</a:t>
              </a:r>
              <a:endParaRPr b="0" lang="en-US" sz="1300" spc="-1" strike="noStrike">
                <a:solidFill>
                  <a:srgbClr val="000000"/>
                </a:solidFill>
                <a:latin typeface="Times New Roman"/>
              </a:endParaRPr>
            </a:p>
          </p:txBody>
        </p:sp>
        <p:sp>
          <p:nvSpPr>
            <p:cNvPr id="138" name=""/>
            <p:cNvSpPr/>
            <p:nvPr/>
          </p:nvSpPr>
          <p:spPr>
            <a:xfrm>
              <a:off x="2165760" y="50497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0</a:t>
              </a:r>
              <a:endParaRPr b="0" lang="en-US" sz="1300" spc="-1" strike="noStrike">
                <a:solidFill>
                  <a:srgbClr val="000000"/>
                </a:solidFill>
                <a:latin typeface="Times New Roman"/>
              </a:endParaRPr>
            </a:p>
          </p:txBody>
        </p:sp>
        <p:sp>
          <p:nvSpPr>
            <p:cNvPr id="139" name=""/>
            <p:cNvSpPr/>
            <p:nvPr/>
          </p:nvSpPr>
          <p:spPr>
            <a:xfrm>
              <a:off x="2165760" y="452124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5</a:t>
              </a:r>
              <a:endParaRPr b="0" lang="en-US" sz="1300" spc="-1" strike="noStrike">
                <a:solidFill>
                  <a:srgbClr val="000000"/>
                </a:solidFill>
                <a:latin typeface="Times New Roman"/>
              </a:endParaRPr>
            </a:p>
          </p:txBody>
        </p:sp>
        <p:sp>
          <p:nvSpPr>
            <p:cNvPr id="140" name=""/>
            <p:cNvSpPr/>
            <p:nvPr/>
          </p:nvSpPr>
          <p:spPr>
            <a:xfrm>
              <a:off x="2165760" y="399096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0</a:t>
              </a:r>
              <a:endParaRPr b="0" lang="en-US" sz="1300" spc="-1" strike="noStrike">
                <a:solidFill>
                  <a:srgbClr val="000000"/>
                </a:solidFill>
                <a:latin typeface="Times New Roman"/>
              </a:endParaRPr>
            </a:p>
          </p:txBody>
        </p:sp>
        <p:sp>
          <p:nvSpPr>
            <p:cNvPr id="141" name=""/>
            <p:cNvSpPr/>
            <p:nvPr/>
          </p:nvSpPr>
          <p:spPr>
            <a:xfrm>
              <a:off x="2165760" y="346248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5</a:t>
              </a:r>
              <a:endParaRPr b="0" lang="en-US" sz="1300" spc="-1" strike="noStrike">
                <a:solidFill>
                  <a:srgbClr val="000000"/>
                </a:solidFill>
                <a:latin typeface="Times New Roman"/>
              </a:endParaRPr>
            </a:p>
          </p:txBody>
        </p:sp>
        <p:sp>
          <p:nvSpPr>
            <p:cNvPr id="142" name=""/>
            <p:cNvSpPr/>
            <p:nvPr/>
          </p:nvSpPr>
          <p:spPr>
            <a:xfrm>
              <a:off x="2165760" y="293220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0</a:t>
              </a:r>
              <a:endParaRPr b="0" lang="en-US" sz="1300" spc="-1" strike="noStrike">
                <a:solidFill>
                  <a:srgbClr val="000000"/>
                </a:solidFill>
                <a:latin typeface="Times New Roman"/>
              </a:endParaRPr>
            </a:p>
          </p:txBody>
        </p:sp>
        <p:sp>
          <p:nvSpPr>
            <p:cNvPr id="143" name=""/>
            <p:cNvSpPr/>
            <p:nvPr/>
          </p:nvSpPr>
          <p:spPr>
            <a:xfrm>
              <a:off x="2165760" y="24019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5</a:t>
              </a:r>
              <a:endParaRPr b="0" lang="en-US" sz="1300" spc="-1" strike="noStrike">
                <a:solidFill>
                  <a:srgbClr val="000000"/>
                </a:solidFill>
                <a:latin typeface="Times New Roman"/>
              </a:endParaRPr>
            </a:p>
          </p:txBody>
        </p:sp>
        <p:sp>
          <p:nvSpPr>
            <p:cNvPr id="144" name=""/>
            <p:cNvSpPr/>
            <p:nvPr/>
          </p:nvSpPr>
          <p:spPr>
            <a:xfrm rot="16200000">
              <a:off x="239760" y="4494240"/>
              <a:ext cx="2951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Tasa por 10.000 nacidos vivos</a:t>
              </a:r>
              <a:endParaRPr b="0" lang="en-US" sz="1600" spc="-1" strike="noStrike">
                <a:solidFill>
                  <a:srgbClr val="000000"/>
                </a:solidFill>
                <a:latin typeface="Times New Roman"/>
              </a:endParaRPr>
            </a:p>
          </p:txBody>
        </p:sp>
      </p:grpSp>
      <p:sp>
        <p:nvSpPr>
          <p:cNvPr id="14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Users:cdebitte:Desktop:" descr=""/>
          <p:cNvPicPr/>
          <p:nvPr/>
        </p:nvPicPr>
        <p:blipFill>
          <a:blip r:embed="rId2"/>
          <a:stretch/>
        </p:blipFill>
        <p:spPr>
          <a:xfrm>
            <a:off x="457200" y="304920"/>
            <a:ext cx="1143000" cy="996840"/>
          </a:xfrm>
          <a:prstGeom prst="rect">
            <a:avLst/>
          </a:prstGeom>
          <a:ln w="0">
            <a:noFill/>
          </a:ln>
        </p:spPr>
      </p:pic>
      <p:sp>
        <p:nvSpPr>
          <p:cNvPr id="148" name=""/>
          <p:cNvSpPr/>
          <p:nvPr/>
        </p:nvSpPr>
        <p:spPr>
          <a:xfrm>
            <a:off x="56386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9" name=""/>
          <p:cNvGrpSpPr/>
          <p:nvPr/>
        </p:nvGrpSpPr>
        <p:grpSpPr>
          <a:xfrm>
            <a:off x="1901880" y="2209680"/>
            <a:ext cx="5764680" cy="4661280"/>
            <a:chOff x="1901880" y="2209680"/>
            <a:chExt cx="5764680" cy="4661280"/>
          </a:xfrm>
        </p:grpSpPr>
        <p:sp>
          <p:nvSpPr>
            <p:cNvPr id="150" name=""/>
            <p:cNvSpPr/>
            <p:nvPr/>
          </p:nvSpPr>
          <p:spPr>
            <a:xfrm>
              <a:off x="2809800" y="2311200"/>
              <a:ext cx="4840560" cy="3949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3320" y="2837880"/>
              <a:ext cx="4728960" cy="3173400"/>
            </a:xfrm>
            <a:custGeom>
              <a:avLst/>
              <a:gdLst/>
              <a:ahLst/>
              <a:rect l="l" t="t" r="r" b="b"/>
              <a:pathLst>
                <a:path w="3337" h="2152">
                  <a:moveTo>
                    <a:pt x="0" y="0"/>
                  </a:moveTo>
                  <a:lnTo>
                    <a:pt x="1" y="25"/>
                  </a:lnTo>
                  <a:lnTo>
                    <a:pt x="4" y="52"/>
                  </a:lnTo>
                  <a:lnTo>
                    <a:pt x="10" y="85"/>
                  </a:lnTo>
                  <a:lnTo>
                    <a:pt x="19" y="122"/>
                  </a:lnTo>
                  <a:lnTo>
                    <a:pt x="34" y="158"/>
                  </a:lnTo>
                  <a:lnTo>
                    <a:pt x="53" y="191"/>
                  </a:lnTo>
                  <a:lnTo>
                    <a:pt x="65" y="205"/>
                  </a:lnTo>
                  <a:lnTo>
                    <a:pt x="79" y="218"/>
                  </a:lnTo>
                  <a:lnTo>
                    <a:pt x="99" y="226"/>
                  </a:lnTo>
                  <a:lnTo>
                    <a:pt x="120" y="227"/>
                  </a:lnTo>
                  <a:lnTo>
                    <a:pt x="140" y="228"/>
                  </a:lnTo>
                  <a:lnTo>
                    <a:pt x="159" y="235"/>
                  </a:lnTo>
                  <a:lnTo>
                    <a:pt x="173" y="250"/>
                  </a:lnTo>
                  <a:lnTo>
                    <a:pt x="184" y="270"/>
                  </a:lnTo>
                  <a:lnTo>
                    <a:pt x="193" y="293"/>
                  </a:lnTo>
                  <a:lnTo>
                    <a:pt x="201" y="318"/>
                  </a:lnTo>
                  <a:lnTo>
                    <a:pt x="208" y="342"/>
                  </a:lnTo>
                  <a:lnTo>
                    <a:pt x="216" y="362"/>
                  </a:lnTo>
                  <a:lnTo>
                    <a:pt x="226" y="377"/>
                  </a:lnTo>
                  <a:lnTo>
                    <a:pt x="238" y="384"/>
                  </a:lnTo>
                  <a:lnTo>
                    <a:pt x="248" y="383"/>
                  </a:lnTo>
                  <a:lnTo>
                    <a:pt x="258" y="377"/>
                  </a:lnTo>
                  <a:lnTo>
                    <a:pt x="278" y="358"/>
                  </a:lnTo>
                  <a:lnTo>
                    <a:pt x="297" y="339"/>
                  </a:lnTo>
                  <a:lnTo>
                    <a:pt x="308" y="333"/>
                  </a:lnTo>
                  <a:lnTo>
                    <a:pt x="318" y="332"/>
                  </a:lnTo>
                  <a:lnTo>
                    <a:pt x="330" y="340"/>
                  </a:lnTo>
                  <a:lnTo>
                    <a:pt x="341" y="357"/>
                  </a:lnTo>
                  <a:lnTo>
                    <a:pt x="349" y="379"/>
                  </a:lnTo>
                  <a:lnTo>
                    <a:pt x="357" y="404"/>
                  </a:lnTo>
                  <a:lnTo>
                    <a:pt x="364" y="429"/>
                  </a:lnTo>
                  <a:lnTo>
                    <a:pt x="373" y="451"/>
                  </a:lnTo>
                  <a:lnTo>
                    <a:pt x="384" y="467"/>
                  </a:lnTo>
                  <a:lnTo>
                    <a:pt x="397" y="476"/>
                  </a:lnTo>
                  <a:lnTo>
                    <a:pt x="406" y="476"/>
                  </a:lnTo>
                  <a:lnTo>
                    <a:pt x="415" y="471"/>
                  </a:lnTo>
                  <a:lnTo>
                    <a:pt x="431" y="455"/>
                  </a:lnTo>
                  <a:lnTo>
                    <a:pt x="451" y="438"/>
                  </a:lnTo>
                  <a:lnTo>
                    <a:pt x="463" y="433"/>
                  </a:lnTo>
                  <a:lnTo>
                    <a:pt x="477" y="432"/>
                  </a:lnTo>
                  <a:lnTo>
                    <a:pt x="493" y="435"/>
                  </a:lnTo>
                  <a:lnTo>
                    <a:pt x="506" y="439"/>
                  </a:lnTo>
                  <a:lnTo>
                    <a:pt x="525" y="454"/>
                  </a:lnTo>
                  <a:lnTo>
                    <a:pt x="540" y="473"/>
                  </a:lnTo>
                  <a:lnTo>
                    <a:pt x="556" y="497"/>
                  </a:lnTo>
                  <a:lnTo>
                    <a:pt x="570" y="520"/>
                  </a:lnTo>
                  <a:lnTo>
                    <a:pt x="581" y="545"/>
                  </a:lnTo>
                  <a:lnTo>
                    <a:pt x="591" y="572"/>
                  </a:lnTo>
                  <a:lnTo>
                    <a:pt x="599" y="600"/>
                  </a:lnTo>
                  <a:lnTo>
                    <a:pt x="606" y="628"/>
                  </a:lnTo>
                  <a:lnTo>
                    <a:pt x="614" y="655"/>
                  </a:lnTo>
                  <a:lnTo>
                    <a:pt x="624" y="680"/>
                  </a:lnTo>
                  <a:lnTo>
                    <a:pt x="636" y="704"/>
                  </a:lnTo>
                  <a:lnTo>
                    <a:pt x="650" y="732"/>
                  </a:lnTo>
                  <a:lnTo>
                    <a:pt x="664" y="758"/>
                  </a:lnTo>
                  <a:lnTo>
                    <a:pt x="672" y="769"/>
                  </a:lnTo>
                  <a:lnTo>
                    <a:pt x="683" y="779"/>
                  </a:lnTo>
                  <a:lnTo>
                    <a:pt x="697" y="788"/>
                  </a:lnTo>
                  <a:lnTo>
                    <a:pt x="715" y="795"/>
                  </a:lnTo>
                  <a:lnTo>
                    <a:pt x="738" y="797"/>
                  </a:lnTo>
                  <a:lnTo>
                    <a:pt x="759" y="790"/>
                  </a:lnTo>
                  <a:lnTo>
                    <a:pt x="777" y="783"/>
                  </a:lnTo>
                  <a:lnTo>
                    <a:pt x="794" y="784"/>
                  </a:lnTo>
                  <a:lnTo>
                    <a:pt x="807" y="796"/>
                  </a:lnTo>
                  <a:lnTo>
                    <a:pt x="818" y="815"/>
                  </a:lnTo>
                  <a:lnTo>
                    <a:pt x="826" y="840"/>
                  </a:lnTo>
                  <a:lnTo>
                    <a:pt x="834" y="868"/>
                  </a:lnTo>
                  <a:lnTo>
                    <a:pt x="842" y="896"/>
                  </a:lnTo>
                  <a:lnTo>
                    <a:pt x="850" y="921"/>
                  </a:lnTo>
                  <a:lnTo>
                    <a:pt x="860" y="941"/>
                  </a:lnTo>
                  <a:lnTo>
                    <a:pt x="874" y="952"/>
                  </a:lnTo>
                  <a:lnTo>
                    <a:pt x="892" y="953"/>
                  </a:lnTo>
                  <a:lnTo>
                    <a:pt x="912" y="947"/>
                  </a:lnTo>
                  <a:lnTo>
                    <a:pt x="933" y="940"/>
                  </a:lnTo>
                  <a:lnTo>
                    <a:pt x="953" y="941"/>
                  </a:lnTo>
                  <a:lnTo>
                    <a:pt x="967" y="949"/>
                  </a:lnTo>
                  <a:lnTo>
                    <a:pt x="978" y="961"/>
                  </a:lnTo>
                  <a:lnTo>
                    <a:pt x="986" y="975"/>
                  </a:lnTo>
                  <a:lnTo>
                    <a:pt x="994" y="991"/>
                  </a:lnTo>
                  <a:lnTo>
                    <a:pt x="1010" y="1025"/>
                  </a:lnTo>
                  <a:lnTo>
                    <a:pt x="1020" y="1041"/>
                  </a:lnTo>
                  <a:lnTo>
                    <a:pt x="1033" y="1054"/>
                  </a:lnTo>
                  <a:lnTo>
                    <a:pt x="1053" y="1066"/>
                  </a:lnTo>
                  <a:lnTo>
                    <a:pt x="1074" y="1072"/>
                  </a:lnTo>
                  <a:lnTo>
                    <a:pt x="1093" y="1078"/>
                  </a:lnTo>
                  <a:lnTo>
                    <a:pt x="1112" y="1090"/>
                  </a:lnTo>
                  <a:lnTo>
                    <a:pt x="1125" y="1105"/>
                  </a:lnTo>
                  <a:lnTo>
                    <a:pt x="1135" y="1124"/>
                  </a:lnTo>
                  <a:lnTo>
                    <a:pt x="1144" y="1145"/>
                  </a:lnTo>
                  <a:lnTo>
                    <a:pt x="1151" y="1167"/>
                  </a:lnTo>
                  <a:lnTo>
                    <a:pt x="1159" y="1188"/>
                  </a:lnTo>
                  <a:lnTo>
                    <a:pt x="1168" y="1209"/>
                  </a:lnTo>
                  <a:lnTo>
                    <a:pt x="1178" y="1227"/>
                  </a:lnTo>
                  <a:lnTo>
                    <a:pt x="1192" y="1241"/>
                  </a:lnTo>
                  <a:lnTo>
                    <a:pt x="1210" y="1250"/>
                  </a:lnTo>
                  <a:lnTo>
                    <a:pt x="1230" y="1254"/>
                  </a:lnTo>
                  <a:lnTo>
                    <a:pt x="1250" y="1258"/>
                  </a:lnTo>
                  <a:lnTo>
                    <a:pt x="1271" y="1268"/>
                  </a:lnTo>
                  <a:lnTo>
                    <a:pt x="1288" y="1282"/>
                  </a:lnTo>
                  <a:lnTo>
                    <a:pt x="1301" y="1297"/>
                  </a:lnTo>
                  <a:lnTo>
                    <a:pt x="1321" y="1327"/>
                  </a:lnTo>
                  <a:lnTo>
                    <a:pt x="1335" y="1359"/>
                  </a:lnTo>
                  <a:lnTo>
                    <a:pt x="1351" y="1392"/>
                  </a:lnTo>
                  <a:lnTo>
                    <a:pt x="1360" y="1413"/>
                  </a:lnTo>
                  <a:lnTo>
                    <a:pt x="1368" y="1434"/>
                  </a:lnTo>
                  <a:lnTo>
                    <a:pt x="1382" y="1478"/>
                  </a:lnTo>
                  <a:lnTo>
                    <a:pt x="1390" y="1500"/>
                  </a:lnTo>
                  <a:lnTo>
                    <a:pt x="1400" y="1521"/>
                  </a:lnTo>
                  <a:lnTo>
                    <a:pt x="1413" y="1541"/>
                  </a:lnTo>
                  <a:lnTo>
                    <a:pt x="1430" y="1561"/>
                  </a:lnTo>
                  <a:lnTo>
                    <a:pt x="1448" y="1574"/>
                  </a:lnTo>
                  <a:lnTo>
                    <a:pt x="1465" y="1581"/>
                  </a:lnTo>
                  <a:lnTo>
                    <a:pt x="1484" y="1588"/>
                  </a:lnTo>
                  <a:lnTo>
                    <a:pt x="1509" y="1601"/>
                  </a:lnTo>
                  <a:lnTo>
                    <a:pt x="1537" y="1620"/>
                  </a:lnTo>
                  <a:lnTo>
                    <a:pt x="1555" y="1634"/>
                  </a:lnTo>
                  <a:lnTo>
                    <a:pt x="1570" y="1649"/>
                  </a:lnTo>
                  <a:lnTo>
                    <a:pt x="1589" y="1670"/>
                  </a:lnTo>
                  <a:lnTo>
                    <a:pt x="1612" y="1700"/>
                  </a:lnTo>
                  <a:lnTo>
                    <a:pt x="1628" y="1727"/>
                  </a:lnTo>
                  <a:lnTo>
                    <a:pt x="1644" y="1754"/>
                  </a:lnTo>
                  <a:lnTo>
                    <a:pt x="1668" y="1784"/>
                  </a:lnTo>
                  <a:lnTo>
                    <a:pt x="1687" y="1805"/>
                  </a:lnTo>
                  <a:lnTo>
                    <a:pt x="1702" y="1819"/>
                  </a:lnTo>
                  <a:lnTo>
                    <a:pt x="1720" y="1832"/>
                  </a:lnTo>
                  <a:lnTo>
                    <a:pt x="1748" y="1849"/>
                  </a:lnTo>
                  <a:lnTo>
                    <a:pt x="1771" y="1862"/>
                  </a:lnTo>
                  <a:lnTo>
                    <a:pt x="1787" y="1867"/>
                  </a:lnTo>
                  <a:lnTo>
                    <a:pt x="1804" y="1872"/>
                  </a:lnTo>
                  <a:lnTo>
                    <a:pt x="1827" y="1882"/>
                  </a:lnTo>
                  <a:lnTo>
                    <a:pt x="1850" y="1895"/>
                  </a:lnTo>
                  <a:lnTo>
                    <a:pt x="1866" y="1907"/>
                  </a:lnTo>
                  <a:lnTo>
                    <a:pt x="1882" y="1917"/>
                  </a:lnTo>
                  <a:lnTo>
                    <a:pt x="1907" y="1926"/>
                  </a:lnTo>
                  <a:lnTo>
                    <a:pt x="1928" y="1930"/>
                  </a:lnTo>
                  <a:lnTo>
                    <a:pt x="1944" y="1930"/>
                  </a:lnTo>
                  <a:lnTo>
                    <a:pt x="1961" y="1928"/>
                  </a:lnTo>
                  <a:lnTo>
                    <a:pt x="1986" y="1928"/>
                  </a:lnTo>
                  <a:lnTo>
                    <a:pt x="2065" y="1935"/>
                  </a:lnTo>
                  <a:lnTo>
                    <a:pt x="2088" y="1939"/>
                  </a:lnTo>
                  <a:lnTo>
                    <a:pt x="2105" y="1943"/>
                  </a:lnTo>
                  <a:lnTo>
                    <a:pt x="2121" y="1945"/>
                  </a:lnTo>
                  <a:lnTo>
                    <a:pt x="2145" y="1947"/>
                  </a:lnTo>
                  <a:lnTo>
                    <a:pt x="2169" y="1945"/>
                  </a:lnTo>
                  <a:lnTo>
                    <a:pt x="2186" y="1941"/>
                  </a:lnTo>
                  <a:lnTo>
                    <a:pt x="2202" y="1938"/>
                  </a:lnTo>
                  <a:lnTo>
                    <a:pt x="2224" y="1939"/>
                  </a:lnTo>
                  <a:lnTo>
                    <a:pt x="2248" y="1945"/>
                  </a:lnTo>
                  <a:lnTo>
                    <a:pt x="2264" y="1954"/>
                  </a:lnTo>
                  <a:lnTo>
                    <a:pt x="2280" y="1963"/>
                  </a:lnTo>
                  <a:lnTo>
                    <a:pt x="2304" y="1974"/>
                  </a:lnTo>
                  <a:lnTo>
                    <a:pt x="2327" y="1981"/>
                  </a:lnTo>
                  <a:lnTo>
                    <a:pt x="2343" y="1985"/>
                  </a:lnTo>
                  <a:lnTo>
                    <a:pt x="2360" y="1989"/>
                  </a:lnTo>
                  <a:lnTo>
                    <a:pt x="2383" y="1995"/>
                  </a:lnTo>
                  <a:lnTo>
                    <a:pt x="2406" y="2003"/>
                  </a:lnTo>
                  <a:lnTo>
                    <a:pt x="2423" y="2010"/>
                  </a:lnTo>
                  <a:lnTo>
                    <a:pt x="2439" y="2016"/>
                  </a:lnTo>
                  <a:lnTo>
                    <a:pt x="2463" y="2022"/>
                  </a:lnTo>
                  <a:lnTo>
                    <a:pt x="2486" y="2025"/>
                  </a:lnTo>
                  <a:lnTo>
                    <a:pt x="2502" y="2025"/>
                  </a:lnTo>
                  <a:lnTo>
                    <a:pt x="2519" y="2025"/>
                  </a:lnTo>
                  <a:lnTo>
                    <a:pt x="2542" y="2027"/>
                  </a:lnTo>
                  <a:lnTo>
                    <a:pt x="2566" y="2032"/>
                  </a:lnTo>
                  <a:lnTo>
                    <a:pt x="2583" y="2038"/>
                  </a:lnTo>
                  <a:lnTo>
                    <a:pt x="2598" y="2043"/>
                  </a:lnTo>
                  <a:lnTo>
                    <a:pt x="2621" y="2051"/>
                  </a:lnTo>
                  <a:lnTo>
                    <a:pt x="2701" y="2071"/>
                  </a:lnTo>
                  <a:lnTo>
                    <a:pt x="2740" y="2082"/>
                  </a:lnTo>
                  <a:lnTo>
                    <a:pt x="2780" y="2089"/>
                  </a:lnTo>
                  <a:lnTo>
                    <a:pt x="2804" y="2090"/>
                  </a:lnTo>
                  <a:lnTo>
                    <a:pt x="2820" y="2088"/>
                  </a:lnTo>
                  <a:lnTo>
                    <a:pt x="2837" y="2087"/>
                  </a:lnTo>
                  <a:lnTo>
                    <a:pt x="2860" y="2089"/>
                  </a:lnTo>
                  <a:lnTo>
                    <a:pt x="2883" y="2094"/>
                  </a:lnTo>
                  <a:lnTo>
                    <a:pt x="2899" y="2100"/>
                  </a:lnTo>
                  <a:lnTo>
                    <a:pt x="2916" y="2106"/>
                  </a:lnTo>
                  <a:lnTo>
                    <a:pt x="2939" y="2110"/>
                  </a:lnTo>
                  <a:lnTo>
                    <a:pt x="2962" y="2111"/>
                  </a:lnTo>
                  <a:lnTo>
                    <a:pt x="2978" y="2108"/>
                  </a:lnTo>
                  <a:lnTo>
                    <a:pt x="2995" y="2106"/>
                  </a:lnTo>
                  <a:lnTo>
                    <a:pt x="3019" y="2104"/>
                  </a:lnTo>
                  <a:lnTo>
                    <a:pt x="3059" y="2103"/>
                  </a:lnTo>
                  <a:lnTo>
                    <a:pt x="3098" y="2108"/>
                  </a:lnTo>
                  <a:lnTo>
                    <a:pt x="3121" y="2113"/>
                  </a:lnTo>
                  <a:lnTo>
                    <a:pt x="3138" y="2119"/>
                  </a:lnTo>
                  <a:lnTo>
                    <a:pt x="3154" y="2125"/>
                  </a:lnTo>
                  <a:lnTo>
                    <a:pt x="3178" y="2131"/>
                  </a:lnTo>
                  <a:lnTo>
                    <a:pt x="3216" y="2136"/>
                  </a:lnTo>
                  <a:lnTo>
                    <a:pt x="3257" y="2140"/>
                  </a:lnTo>
                  <a:lnTo>
                    <a:pt x="3313" y="2148"/>
                  </a:lnTo>
                  <a:lnTo>
                    <a:pt x="3337" y="2152"/>
                  </a:lnTo>
                </a:path>
              </a:pathLst>
            </a:custGeom>
            <a:noFill/>
            <a:ln w="77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809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 name=""/>
            <p:cNvSpPr/>
            <p:nvPr/>
          </p:nvSpPr>
          <p:spPr>
            <a:xfrm flipV="1">
              <a:off x="2922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
            <p:cNvSpPr/>
            <p:nvPr/>
          </p:nvSpPr>
          <p:spPr>
            <a:xfrm flipV="1">
              <a:off x="30351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 name=""/>
            <p:cNvSpPr/>
            <p:nvPr/>
          </p:nvSpPr>
          <p:spPr>
            <a:xfrm flipV="1">
              <a:off x="3147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326052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 name=""/>
            <p:cNvSpPr/>
            <p:nvPr/>
          </p:nvSpPr>
          <p:spPr>
            <a:xfrm flipV="1">
              <a:off x="33724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 name=""/>
            <p:cNvSpPr/>
            <p:nvPr/>
          </p:nvSpPr>
          <p:spPr>
            <a:xfrm flipV="1">
              <a:off x="3484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V="1">
              <a:off x="35978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 name=""/>
            <p:cNvSpPr/>
            <p:nvPr/>
          </p:nvSpPr>
          <p:spPr>
            <a:xfrm flipV="1">
              <a:off x="3709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 name=""/>
            <p:cNvSpPr/>
            <p:nvPr/>
          </p:nvSpPr>
          <p:spPr>
            <a:xfrm flipV="1">
              <a:off x="382320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flipV="1">
              <a:off x="3934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3" name=""/>
            <p:cNvSpPr/>
            <p:nvPr/>
          </p:nvSpPr>
          <p:spPr>
            <a:xfrm flipV="1">
              <a:off x="40482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4" name=""/>
            <p:cNvSpPr/>
            <p:nvPr/>
          </p:nvSpPr>
          <p:spPr>
            <a:xfrm flipV="1">
              <a:off x="41605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 name=""/>
            <p:cNvSpPr/>
            <p:nvPr/>
          </p:nvSpPr>
          <p:spPr>
            <a:xfrm flipV="1">
              <a:off x="42735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 name=""/>
            <p:cNvSpPr/>
            <p:nvPr/>
          </p:nvSpPr>
          <p:spPr>
            <a:xfrm flipV="1">
              <a:off x="4385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flipV="1">
              <a:off x="4499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
            <p:cNvSpPr/>
            <p:nvPr/>
          </p:nvSpPr>
          <p:spPr>
            <a:xfrm flipV="1">
              <a:off x="4610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9" name=""/>
            <p:cNvSpPr/>
            <p:nvPr/>
          </p:nvSpPr>
          <p:spPr>
            <a:xfrm flipV="1">
              <a:off x="47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 name=""/>
            <p:cNvSpPr/>
            <p:nvPr/>
          </p:nvSpPr>
          <p:spPr>
            <a:xfrm flipV="1">
              <a:off x="48362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 name=""/>
            <p:cNvSpPr/>
            <p:nvPr/>
          </p:nvSpPr>
          <p:spPr>
            <a:xfrm flipV="1">
              <a:off x="49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V="1">
              <a:off x="50616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 name=""/>
            <p:cNvSpPr/>
            <p:nvPr/>
          </p:nvSpPr>
          <p:spPr>
            <a:xfrm flipV="1">
              <a:off x="51735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 name=""/>
            <p:cNvSpPr/>
            <p:nvPr/>
          </p:nvSpPr>
          <p:spPr>
            <a:xfrm flipV="1">
              <a:off x="5286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V="1">
              <a:off x="53989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 name=""/>
            <p:cNvSpPr/>
            <p:nvPr/>
          </p:nvSpPr>
          <p:spPr>
            <a:xfrm flipV="1">
              <a:off x="5511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 name=""/>
            <p:cNvSpPr/>
            <p:nvPr/>
          </p:nvSpPr>
          <p:spPr>
            <a:xfrm flipV="1">
              <a:off x="56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V="1">
              <a:off x="5737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 name=""/>
            <p:cNvSpPr/>
            <p:nvPr/>
          </p:nvSpPr>
          <p:spPr>
            <a:xfrm flipV="1">
              <a:off x="58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 name=""/>
            <p:cNvSpPr/>
            <p:nvPr/>
          </p:nvSpPr>
          <p:spPr>
            <a:xfrm flipV="1">
              <a:off x="59612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V="1">
              <a:off x="60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flipV="1">
              <a:off x="61869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 name=""/>
            <p:cNvSpPr/>
            <p:nvPr/>
          </p:nvSpPr>
          <p:spPr>
            <a:xfrm flipV="1">
              <a:off x="63000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flipV="1">
              <a:off x="6412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 name=""/>
            <p:cNvSpPr/>
            <p:nvPr/>
          </p:nvSpPr>
          <p:spPr>
            <a:xfrm flipV="1">
              <a:off x="65253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flipV="1">
              <a:off x="66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 name=""/>
            <p:cNvSpPr/>
            <p:nvPr/>
          </p:nvSpPr>
          <p:spPr>
            <a:xfrm flipV="1">
              <a:off x="674928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flipV="1">
              <a:off x="6862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 name=""/>
            <p:cNvSpPr/>
            <p:nvPr/>
          </p:nvSpPr>
          <p:spPr>
            <a:xfrm flipV="1">
              <a:off x="69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0" name=""/>
            <p:cNvSpPr/>
            <p:nvPr/>
          </p:nvSpPr>
          <p:spPr>
            <a:xfrm flipV="1">
              <a:off x="70880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 name=""/>
            <p:cNvSpPr/>
            <p:nvPr/>
          </p:nvSpPr>
          <p:spPr>
            <a:xfrm flipV="1">
              <a:off x="7199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V="1">
              <a:off x="73130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flipV="1">
              <a:off x="74253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flipV="1">
              <a:off x="75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flipV="1">
              <a:off x="76507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2737440" y="626076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2737440" y="569736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737440" y="513252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737440" y="456768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737440" y="400428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737440" y="343944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2737440" y="287604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737440" y="231120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805480" y="6256080"/>
              <a:ext cx="484056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805480" y="2306880"/>
              <a:ext cx="1080" cy="394920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166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0</a:t>
              </a:r>
              <a:endParaRPr b="0" lang="en-US" sz="1200" spc="-1" strike="noStrike">
                <a:solidFill>
                  <a:srgbClr val="000000"/>
                </a:solidFill>
                <a:latin typeface="Times New Roman"/>
              </a:endParaRPr>
            </a:p>
          </p:txBody>
        </p:sp>
        <p:sp>
          <p:nvSpPr>
            <p:cNvPr id="207" name=""/>
            <p:cNvSpPr/>
            <p:nvPr/>
          </p:nvSpPr>
          <p:spPr>
            <a:xfrm>
              <a:off x="338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5</a:t>
              </a:r>
              <a:endParaRPr b="0" lang="en-US" sz="1200" spc="-1" strike="noStrike">
                <a:solidFill>
                  <a:srgbClr val="000000"/>
                </a:solidFill>
                <a:latin typeface="Times New Roman"/>
              </a:endParaRPr>
            </a:p>
          </p:txBody>
        </p:sp>
        <p:sp>
          <p:nvSpPr>
            <p:cNvPr id="208" name=""/>
            <p:cNvSpPr/>
            <p:nvPr/>
          </p:nvSpPr>
          <p:spPr>
            <a:xfrm>
              <a:off x="39398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0</a:t>
              </a:r>
              <a:endParaRPr b="0" lang="en-US" sz="1200" spc="-1" strike="noStrike">
                <a:solidFill>
                  <a:srgbClr val="000000"/>
                </a:solidFill>
                <a:latin typeface="Times New Roman"/>
              </a:endParaRPr>
            </a:p>
          </p:txBody>
        </p:sp>
        <p:sp>
          <p:nvSpPr>
            <p:cNvPr id="209" name=""/>
            <p:cNvSpPr/>
            <p:nvPr/>
          </p:nvSpPr>
          <p:spPr>
            <a:xfrm>
              <a:off x="4505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5</a:t>
              </a:r>
              <a:endParaRPr b="0" lang="en-US" sz="1200" spc="-1" strike="noStrike">
                <a:solidFill>
                  <a:srgbClr val="000000"/>
                </a:solidFill>
                <a:latin typeface="Times New Roman"/>
              </a:endParaRPr>
            </a:p>
          </p:txBody>
        </p:sp>
        <p:sp>
          <p:nvSpPr>
            <p:cNvPr id="210" name=""/>
            <p:cNvSpPr/>
            <p:nvPr/>
          </p:nvSpPr>
          <p:spPr>
            <a:xfrm>
              <a:off x="506736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0</a:t>
              </a:r>
              <a:endParaRPr b="0" lang="en-US" sz="1200" spc="-1" strike="noStrike">
                <a:solidFill>
                  <a:srgbClr val="000000"/>
                </a:solidFill>
                <a:latin typeface="Times New Roman"/>
              </a:endParaRPr>
            </a:p>
          </p:txBody>
        </p:sp>
        <p:sp>
          <p:nvSpPr>
            <p:cNvPr id="211" name=""/>
            <p:cNvSpPr/>
            <p:nvPr/>
          </p:nvSpPr>
          <p:spPr>
            <a:xfrm>
              <a:off x="563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5</a:t>
              </a:r>
              <a:endParaRPr b="0" lang="en-US" sz="1200" spc="-1" strike="noStrike">
                <a:solidFill>
                  <a:srgbClr val="000000"/>
                </a:solidFill>
                <a:latin typeface="Times New Roman"/>
              </a:endParaRPr>
            </a:p>
          </p:txBody>
        </p:sp>
        <p:sp>
          <p:nvSpPr>
            <p:cNvPr id="212" name=""/>
            <p:cNvSpPr/>
            <p:nvPr/>
          </p:nvSpPr>
          <p:spPr>
            <a:xfrm>
              <a:off x="61930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0</a:t>
              </a:r>
              <a:endParaRPr b="0" lang="en-US" sz="1200" spc="-1" strike="noStrike">
                <a:solidFill>
                  <a:srgbClr val="000000"/>
                </a:solidFill>
                <a:latin typeface="Times New Roman"/>
              </a:endParaRPr>
            </a:p>
          </p:txBody>
        </p:sp>
        <p:sp>
          <p:nvSpPr>
            <p:cNvPr id="213" name=""/>
            <p:cNvSpPr/>
            <p:nvPr/>
          </p:nvSpPr>
          <p:spPr>
            <a:xfrm>
              <a:off x="67564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5</a:t>
              </a:r>
              <a:endParaRPr b="0" lang="en-US" sz="1200" spc="-1" strike="noStrike">
                <a:solidFill>
                  <a:srgbClr val="000000"/>
                </a:solidFill>
                <a:latin typeface="Times New Roman"/>
              </a:endParaRPr>
            </a:p>
          </p:txBody>
        </p:sp>
        <p:sp>
          <p:nvSpPr>
            <p:cNvPr id="214" name=""/>
            <p:cNvSpPr/>
            <p:nvPr/>
          </p:nvSpPr>
          <p:spPr>
            <a:xfrm>
              <a:off x="73184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2000</a:t>
              </a:r>
              <a:endParaRPr b="0" lang="en-US" sz="1200" spc="-1" strike="noStrike">
                <a:solidFill>
                  <a:srgbClr val="000000"/>
                </a:solidFill>
                <a:latin typeface="Times New Roman"/>
              </a:endParaRPr>
            </a:p>
          </p:txBody>
        </p:sp>
        <p:sp>
          <p:nvSpPr>
            <p:cNvPr id="215" name=""/>
            <p:cNvSpPr/>
            <p:nvPr/>
          </p:nvSpPr>
          <p:spPr>
            <a:xfrm>
              <a:off x="5070600" y="6688080"/>
              <a:ext cx="45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ñ  o</a:t>
              </a:r>
              <a:endParaRPr b="0" lang="en-US" sz="1200" spc="-1" strike="noStrike">
                <a:solidFill>
                  <a:srgbClr val="000000"/>
                </a:solidFill>
                <a:latin typeface="Times New Roman"/>
              </a:endParaRPr>
            </a:p>
          </p:txBody>
        </p:sp>
        <p:sp>
          <p:nvSpPr>
            <p:cNvPr id="216" name=""/>
            <p:cNvSpPr/>
            <p:nvPr/>
          </p:nvSpPr>
          <p:spPr>
            <a:xfrm>
              <a:off x="2661120" y="61588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a:t>
              </a:r>
              <a:endParaRPr b="0" lang="en-US" sz="1200" spc="-1" strike="noStrike">
                <a:solidFill>
                  <a:srgbClr val="000000"/>
                </a:solidFill>
                <a:latin typeface="Times New Roman"/>
              </a:endParaRPr>
            </a:p>
          </p:txBody>
        </p:sp>
        <p:sp>
          <p:nvSpPr>
            <p:cNvPr id="217" name=""/>
            <p:cNvSpPr/>
            <p:nvPr/>
          </p:nvSpPr>
          <p:spPr>
            <a:xfrm>
              <a:off x="2566440" y="55954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0</a:t>
              </a:r>
              <a:endParaRPr b="0" lang="en-US" sz="1200" spc="-1" strike="noStrike">
                <a:solidFill>
                  <a:srgbClr val="000000"/>
                </a:solidFill>
                <a:latin typeface="Times New Roman"/>
              </a:endParaRPr>
            </a:p>
          </p:txBody>
        </p:sp>
        <p:sp>
          <p:nvSpPr>
            <p:cNvPr id="218" name=""/>
            <p:cNvSpPr/>
            <p:nvPr/>
          </p:nvSpPr>
          <p:spPr>
            <a:xfrm>
              <a:off x="2566440" y="503064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0</a:t>
              </a:r>
              <a:endParaRPr b="0" lang="en-US" sz="1200" spc="-1" strike="noStrike">
                <a:solidFill>
                  <a:srgbClr val="000000"/>
                </a:solidFill>
                <a:latin typeface="Times New Roman"/>
              </a:endParaRPr>
            </a:p>
          </p:txBody>
        </p:sp>
        <p:sp>
          <p:nvSpPr>
            <p:cNvPr id="219" name=""/>
            <p:cNvSpPr/>
            <p:nvPr/>
          </p:nvSpPr>
          <p:spPr>
            <a:xfrm>
              <a:off x="2566440" y="44658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60</a:t>
              </a:r>
              <a:endParaRPr b="0" lang="en-US" sz="1200" spc="-1" strike="noStrike">
                <a:solidFill>
                  <a:srgbClr val="000000"/>
                </a:solidFill>
                <a:latin typeface="Times New Roman"/>
              </a:endParaRPr>
            </a:p>
          </p:txBody>
        </p:sp>
        <p:sp>
          <p:nvSpPr>
            <p:cNvPr id="220" name=""/>
            <p:cNvSpPr/>
            <p:nvPr/>
          </p:nvSpPr>
          <p:spPr>
            <a:xfrm>
              <a:off x="2566440" y="39042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80</a:t>
              </a:r>
              <a:endParaRPr b="0" lang="en-US" sz="1200" spc="-1" strike="noStrike">
                <a:solidFill>
                  <a:srgbClr val="000000"/>
                </a:solidFill>
                <a:latin typeface="Times New Roman"/>
              </a:endParaRPr>
            </a:p>
          </p:txBody>
        </p:sp>
        <p:sp>
          <p:nvSpPr>
            <p:cNvPr id="221" name=""/>
            <p:cNvSpPr/>
            <p:nvPr/>
          </p:nvSpPr>
          <p:spPr>
            <a:xfrm>
              <a:off x="2472840" y="33379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0</a:t>
              </a:r>
              <a:endParaRPr b="0" lang="en-US" sz="1200" spc="-1" strike="noStrike">
                <a:solidFill>
                  <a:srgbClr val="000000"/>
                </a:solidFill>
                <a:latin typeface="Times New Roman"/>
              </a:endParaRPr>
            </a:p>
          </p:txBody>
        </p:sp>
        <p:sp>
          <p:nvSpPr>
            <p:cNvPr id="222" name=""/>
            <p:cNvSpPr/>
            <p:nvPr/>
          </p:nvSpPr>
          <p:spPr>
            <a:xfrm>
              <a:off x="2472840" y="27745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0</a:t>
              </a:r>
              <a:endParaRPr b="0" lang="en-US" sz="1200" spc="-1" strike="noStrike">
                <a:solidFill>
                  <a:srgbClr val="000000"/>
                </a:solidFill>
                <a:latin typeface="Times New Roman"/>
              </a:endParaRPr>
            </a:p>
          </p:txBody>
        </p:sp>
        <p:sp>
          <p:nvSpPr>
            <p:cNvPr id="223" name=""/>
            <p:cNvSpPr/>
            <p:nvPr/>
          </p:nvSpPr>
          <p:spPr>
            <a:xfrm>
              <a:off x="2472840" y="220968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0</a:t>
              </a:r>
              <a:endParaRPr b="0" lang="en-US" sz="1200" spc="-1" strike="noStrike">
                <a:solidFill>
                  <a:srgbClr val="000000"/>
                </a:solidFill>
                <a:latin typeface="Times New Roman"/>
              </a:endParaRPr>
            </a:p>
          </p:txBody>
        </p:sp>
        <p:sp>
          <p:nvSpPr>
            <p:cNvPr id="224" name=""/>
            <p:cNvSpPr/>
            <p:nvPr/>
          </p:nvSpPr>
          <p:spPr>
            <a:xfrm rot="16200000">
              <a:off x="779760" y="4512960"/>
              <a:ext cx="2487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asa por mil nacidos vivos</a:t>
              </a:r>
              <a:endParaRPr b="0" lang="en-US" sz="1600" spc="-1" strike="noStrike">
                <a:solidFill>
                  <a:srgbClr val="000000"/>
                </a:solidFill>
                <a:latin typeface="Times New Roman"/>
              </a:endParaRPr>
            </a:p>
          </p:txBody>
        </p:sp>
      </p:grpSp>
      <p:sp>
        <p:nvSpPr>
          <p:cNvPr id="225" name=""/>
          <p:cNvSpPr/>
          <p:nvPr/>
        </p:nvSpPr>
        <p:spPr>
          <a:xfrm>
            <a:off x="1752480" y="1438200"/>
            <a:ext cx="676296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Mortalidad Infantil, </a:t>
            </a:r>
            <a:endParaRPr b="0" lang="en-US" sz="3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Chile 1960 - 2002</a:t>
            </a:r>
            <a:endParaRPr b="0" lang="en-US" sz="3300" spc="-1" strike="noStrike">
              <a:solidFill>
                <a:srgbClr val="000000"/>
              </a:solidFill>
              <a:latin typeface="Times New Roman"/>
            </a:endParaRPr>
          </a:p>
        </p:txBody>
      </p:sp>
      <p:sp>
        <p:nvSpPr>
          <p:cNvPr id="22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Users:cdebitte:Desktop:" descr=""/>
          <p:cNvPicPr/>
          <p:nvPr/>
        </p:nvPicPr>
        <p:blipFill>
          <a:blip r:embed="rId2"/>
          <a:stretch/>
        </p:blipFill>
        <p:spPr>
          <a:xfrm>
            <a:off x="457200" y="304920"/>
            <a:ext cx="1143000" cy="996840"/>
          </a:xfrm>
          <a:prstGeom prst="rect">
            <a:avLst/>
          </a:prstGeom>
          <a:ln w="0">
            <a:noFill/>
          </a:ln>
        </p:spPr>
      </p:pic>
      <p:sp>
        <p:nvSpPr>
          <p:cNvPr id="22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1676520"/>
            <a:ext cx="840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flipH="1">
            <a:off x="1737720" y="2838600"/>
            <a:ext cx="745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212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Encuesta Nacional de Salud 2003</a:t>
            </a:r>
            <a:endParaRPr b="0" lang="en-US" sz="3300" spc="-1" strike="noStrike">
              <a:solidFill>
                <a:srgbClr val="000000"/>
              </a:solidFill>
              <a:latin typeface="Times New Roman"/>
            </a:endParaRPr>
          </a:p>
        </p:txBody>
      </p:sp>
      <p:sp>
        <p:nvSpPr>
          <p:cNvPr id="234" name=""/>
          <p:cNvSpPr/>
          <p:nvPr/>
        </p:nvSpPr>
        <p:spPr>
          <a:xfrm>
            <a:off x="1223280" y="3124080"/>
            <a:ext cx="7268760" cy="26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Cambios en el perfil epidemiológico</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edomino estilos de vida poco saludab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Mayor importancia: enfermedades cardiovascular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imera causa de muerte)</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esigualdades socia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iferencias por sexo y edad</a:t>
            </a:r>
            <a:endParaRPr b="0" lang="en-US" sz="2300" spc="-1" strike="noStrike">
              <a:solidFill>
                <a:srgbClr val="000000"/>
              </a:solidFill>
              <a:latin typeface="Times New Roman"/>
            </a:endParaRPr>
          </a:p>
        </p:txBody>
      </p:sp>
      <p:sp>
        <p:nvSpPr>
          <p:cNvPr id="235" name=""/>
          <p:cNvSpPr/>
          <p:nvPr/>
        </p:nvSpPr>
        <p:spPr>
          <a:xfrm>
            <a:off x="1066680" y="304812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5b87f2"/>
                </a:solidFill>
                <a:latin typeface="Arial"/>
              </a:rPr>
              <a:t>Los resultados confirman que:</a:t>
            </a:r>
            <a:endParaRPr b="0" lang="en-US" sz="2500" spc="-1" strike="noStrike">
              <a:solidFill>
                <a:srgbClr val="000000"/>
              </a:solidFill>
              <a:latin typeface="Times New Roman"/>
            </a:endParaRPr>
          </a:p>
        </p:txBody>
      </p:sp>
      <p:sp>
        <p:nvSpPr>
          <p:cNvPr id="23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Users:cdebitte:Desktop:" descr=""/>
          <p:cNvPicPr/>
          <p:nvPr/>
        </p:nvPicPr>
        <p:blipFill>
          <a:blip r:embed="rId2"/>
          <a:stretch/>
        </p:blipFill>
        <p:spPr>
          <a:xfrm>
            <a:off x="457200" y="304920"/>
            <a:ext cx="1143000" cy="996840"/>
          </a:xfrm>
          <a:prstGeom prst="rect">
            <a:avLst/>
          </a:prstGeom>
          <a:ln w="0">
            <a:noFill/>
          </a:ln>
        </p:spPr>
      </p:pic>
      <p:sp>
        <p:nvSpPr>
          <p:cNvPr id="23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228600" y="1523880"/>
            <a:ext cx="8610480" cy="68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s-ES" sz="2800" spc="-1" strike="noStrike">
                <a:solidFill>
                  <a:srgbClr val="333399"/>
                </a:solidFill>
                <a:latin typeface="Arial Black"/>
              </a:rPr>
              <a:t>Primera Encuesta Nacional de Salud (2003)</a:t>
            </a:r>
            <a:endParaRPr b="0" lang="en-US" sz="2800" spc="-1" strike="noStrike">
              <a:solidFill>
                <a:srgbClr val="000000"/>
              </a:solidFill>
              <a:latin typeface="Times New Roman"/>
            </a:endParaRPr>
          </a:p>
          <a:p>
            <a:pPr algn="ctr">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ales Enfermedades de los Chilenos</a:t>
            </a:r>
            <a:endParaRPr b="0" lang="en-US" sz="2400" spc="-1" strike="noStrike">
              <a:solidFill>
                <a:srgbClr val="000000"/>
              </a:solidFill>
              <a:latin typeface="Times New Roman"/>
            </a:endParaRPr>
          </a:p>
          <a:p>
            <a:pPr lvl="2" marL="914400">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Tabaquismo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Sedentarismo </a:t>
            </a:r>
            <a:r>
              <a:rPr b="0" lang="es-ES" sz="2500" spc="-1" strike="noStrike">
                <a:solidFill>
                  <a:srgbClr val="000000"/>
                </a:solidFill>
                <a:latin typeface="Arial"/>
              </a:rPr>
              <a:t>	</a:t>
            </a:r>
            <a:r>
              <a:rPr b="1" lang="es-ES" sz="2500" spc="-1" strike="noStrike">
                <a:solidFill>
                  <a:srgbClr val="ff7518"/>
                </a:solidFill>
                <a:latin typeface="Arial"/>
              </a:rPr>
              <a:t>89,4%</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Riesgo Cardiovascular</a:t>
            </a:r>
            <a:r>
              <a:rPr b="0" lang="es-ES" sz="2500" spc="-1" strike="noStrike">
                <a:solidFill>
                  <a:srgbClr val="000000"/>
                </a:solidFill>
                <a:latin typeface="Arial"/>
              </a:rPr>
              <a:t>	</a:t>
            </a:r>
            <a:r>
              <a:rPr b="1" lang="es-ES" sz="2500" spc="-1" strike="noStrike">
                <a:solidFill>
                  <a:srgbClr val="ff7518"/>
                </a:solidFill>
                <a:latin typeface="Arial"/>
              </a:rPr>
              <a:t>54,9%</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aries Dentales </a:t>
            </a:r>
            <a:r>
              <a:rPr b="0" lang="es-ES" sz="2500" spc="-1" strike="noStrike">
                <a:solidFill>
                  <a:srgbClr val="000000"/>
                </a:solidFill>
                <a:latin typeface="Arial"/>
              </a:rPr>
              <a:t>	</a:t>
            </a:r>
            <a:r>
              <a:rPr b="1" lang="es-ES" sz="2500" spc="-1" strike="noStrike">
                <a:solidFill>
                  <a:srgbClr val="ff7518"/>
                </a:solidFill>
                <a:latin typeface="Arial"/>
              </a:rPr>
              <a:t>66,2%</a:t>
            </a:r>
            <a:r>
              <a:rPr b="0" lang="es-ES" sz="2500" spc="-1" strike="noStrike">
                <a:solidFill>
                  <a:srgbClr val="000000"/>
                </a:solidFill>
                <a:latin typeface="Arial"/>
              </a:rPr>
              <a:t> 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a:t>
            </a:r>
            <a:r>
              <a:rPr b="0" lang="es-ES" sz="2500" spc="-1" strike="noStrike">
                <a:solidFill>
                  <a:srgbClr val="000000"/>
                </a:solidFill>
                <a:latin typeface="Arial"/>
                <a:ea typeface="ヒラギノ角ゴ Pro W3"/>
              </a:rPr>
              <a:t>ón </a:t>
            </a:r>
            <a:r>
              <a:rPr b="0" lang="es-ES" sz="2500" spc="-1" strike="noStrike">
                <a:solidFill>
                  <a:srgbClr val="000000"/>
                </a:solidFill>
                <a:latin typeface="Arial"/>
                <a:ea typeface="ヒラギノ角ゴ Pro W3"/>
              </a:rPr>
              <a:t>	</a:t>
            </a:r>
            <a:r>
              <a:rPr b="1" lang="es-ES" sz="2500" spc="-1" strike="noStrike">
                <a:solidFill>
                  <a:srgbClr val="ff7518"/>
                </a:solidFill>
                <a:latin typeface="Arial"/>
                <a:ea typeface="ヒラギノ角ゴ Pro W3"/>
              </a:rPr>
              <a:t>33,7%</a:t>
            </a:r>
            <a:r>
              <a:rPr b="0" lang="es-ES" sz="2500" spc="-1" strike="noStrike">
                <a:solidFill>
                  <a:srgbClr val="000000"/>
                </a:solidFill>
                <a:latin typeface="Arial"/>
                <a:ea typeface="ヒラギノ角ゴ Pro W3"/>
              </a:rPr>
              <a:t>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Obesidad </a:t>
            </a:r>
            <a:r>
              <a:rPr b="0" lang="es-ES" sz="2500" spc="-1" strike="noStrike">
                <a:solidFill>
                  <a:srgbClr val="000000"/>
                </a:solidFill>
                <a:latin typeface="Arial"/>
              </a:rPr>
              <a:t>	</a:t>
            </a:r>
            <a:r>
              <a:rPr b="1" lang="es-ES" sz="2500" spc="-1" strike="noStrike">
                <a:solidFill>
                  <a:srgbClr val="ff7518"/>
                </a:solidFill>
                <a:latin typeface="Arial"/>
              </a:rPr>
              <a:t>61,3%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p:txBody>
      </p:sp>
      <p:sp>
        <p:nvSpPr>
          <p:cNvPr id="2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Users:cdebitte:Desktop:" descr=""/>
          <p:cNvPicPr/>
          <p:nvPr/>
        </p:nvPicPr>
        <p:blipFill>
          <a:blip r:embed="rId2"/>
          <a:stretch/>
        </p:blipFill>
        <p:spPr>
          <a:xfrm>
            <a:off x="457200" y="304920"/>
            <a:ext cx="1143000" cy="996840"/>
          </a:xfrm>
          <a:prstGeom prst="rect">
            <a:avLst/>
          </a:prstGeom>
          <a:ln w="0">
            <a:noFill/>
          </a:ln>
        </p:spPr>
      </p:pic>
      <p:sp>
        <p:nvSpPr>
          <p:cNvPr id="2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1066680" y="2071800"/>
            <a:ext cx="72550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e70"/>
                </a:solidFill>
                <a:latin typeface="Arial"/>
              </a:rPr>
              <a:t>SALUD DE CHILE , OMS - INFORME 2000</a:t>
            </a:r>
            <a:r>
              <a:rPr b="1" lang="en-US" sz="1800" spc="-1" strike="noStrike">
                <a:solidFill>
                  <a:srgbClr val="5b87f2"/>
                </a:solidFill>
                <a:latin typeface="Arial"/>
              </a:rPr>
              <a:t> -</a:t>
            </a:r>
            <a:endParaRPr b="0" lang="en-US" sz="1800" spc="-1" strike="noStrike">
              <a:solidFill>
                <a:srgbClr val="000000"/>
              </a:solidFill>
              <a:latin typeface="Times New Roman"/>
            </a:endParaRPr>
          </a:p>
        </p:txBody>
      </p:sp>
      <p:sp>
        <p:nvSpPr>
          <p:cNvPr id="246" name=""/>
          <p:cNvSpPr/>
          <p:nvPr/>
        </p:nvSpPr>
        <p:spPr>
          <a:xfrm>
            <a:off x="1143000" y="1371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b87f2"/>
                </a:solidFill>
                <a:latin typeface="Arial Black"/>
              </a:rPr>
              <a:t>¿Porqué una Reforma?</a:t>
            </a:r>
            <a:endParaRPr b="0" lang="en-US" sz="3600" spc="-1" strike="noStrike">
              <a:solidFill>
                <a:srgbClr val="000000"/>
              </a:solidFill>
              <a:latin typeface="Times New Roman"/>
            </a:endParaRPr>
          </a:p>
        </p:txBody>
      </p:sp>
      <p:pic>
        <p:nvPicPr>
          <p:cNvPr id="247" name="" descr=""/>
          <p:cNvPicPr/>
          <p:nvPr/>
        </p:nvPicPr>
        <p:blipFill>
          <a:blip r:embed="rId3"/>
          <a:stretch/>
        </p:blipFill>
        <p:spPr>
          <a:xfrm>
            <a:off x="914400" y="2386080"/>
            <a:ext cx="7620120" cy="4214880"/>
          </a:xfrm>
          <a:prstGeom prst="rect">
            <a:avLst/>
          </a:prstGeom>
          <a:ln w="0">
            <a:noFill/>
          </a:ln>
        </p:spPr>
      </p:pic>
      <p:sp>
        <p:nvSpPr>
          <p:cNvPr id="24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Users:cdebitte:Desktop:" descr=""/>
          <p:cNvPicPr/>
          <p:nvPr/>
        </p:nvPicPr>
        <p:blipFill>
          <a:blip r:embed="rId2"/>
          <a:stretch/>
        </p:blipFill>
        <p:spPr>
          <a:xfrm>
            <a:off x="457200" y="304920"/>
            <a:ext cx="1143000" cy="996840"/>
          </a:xfrm>
          <a:prstGeom prst="rect">
            <a:avLst/>
          </a:prstGeom>
          <a:ln w="0">
            <a:noFill/>
          </a:ln>
        </p:spPr>
      </p:pic>
      <p:sp>
        <p:nvSpPr>
          <p:cNvPr id="251" name=""/>
          <p:cNvSpPr/>
          <p:nvPr/>
        </p:nvSpPr>
        <p:spPr>
          <a:xfrm>
            <a:off x="1910160" y="2057400"/>
            <a:ext cx="2905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Hora de </a:t>
            </a:r>
            <a:endParaRPr b="0" lang="en-US" sz="4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52" name="" descr=""/>
          <p:cNvPicPr/>
          <p:nvPr/>
        </p:nvPicPr>
        <p:blipFill>
          <a:blip r:embed="rId3"/>
          <a:stretch/>
        </p:blipFill>
        <p:spPr>
          <a:xfrm>
            <a:off x="5181480" y="1503360"/>
            <a:ext cx="3753000" cy="3849840"/>
          </a:xfrm>
          <a:prstGeom prst="rect">
            <a:avLst/>
          </a:prstGeom>
          <a:ln w="0">
            <a:noFill/>
          </a:ln>
        </p:spPr>
      </p:pic>
      <p:sp>
        <p:nvSpPr>
          <p:cNvPr id="253" name=""/>
          <p:cNvSpPr/>
          <p:nvPr/>
        </p:nvSpPr>
        <p:spPr>
          <a:xfrm>
            <a:off x="3352680" y="1219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76520" y="3429000"/>
            <a:ext cx="6940440" cy="3091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recimiento económic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ción de la pobreza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abilidad política</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serción internacional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íder regional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senso social amplio sobre modelo desarroll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lto Desarrollo Human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7:28Z</dcterms:created>
  <dc:creator>G4</dc:creator>
  <dc:description/>
  <dc:language>en-US</dc:language>
  <cp:lastModifiedBy>prupin</cp:lastModifiedBy>
  <cp:lastPrinted>2005-08-19T13:34:49Z</cp:lastPrinted>
  <dcterms:modified xsi:type="dcterms:W3CDTF">2005-08-22T15:32:40Z</dcterms:modified>
  <cp:revision>112</cp:revision>
  <dc:subject/>
  <dc:title>Presentación de PowerPoint</dc:title>
</cp:coreProperties>
</file>