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0246-B2A6-4745-9FCB-50A81963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187-8822-4C38-A7D8-4DD6D1AA8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A1AC-ECB8-45EC-924C-B0CBBDFF4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72E-73FA-4C60-8EFE-803BD0BC4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EAA6-701B-4022-9089-671C66EB1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D77A-4A5E-404F-86B1-36576610E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3AEBC-8008-4783-B335-E24BAD45D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16F-58B4-4EA8-B949-5860A9D37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58134-D14A-4DAD-8EA1-70843D590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61F0-F8FC-4854-984F-C7BBB4E52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606-7C00-4645-AAEA-7FB21537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077-F136-46DD-A678-F62C4C8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5DA8-14DF-4E32-87AD-E41D345C30C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oría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áximo Bos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23960" y="2606760"/>
            <a:ext cx="7696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. La mayoría son de precio (reducciones), sin embargo se sabe que ellas generan consumidores más elást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3. Muchas veces desfocalizan la construcción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Porqué existe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320040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Hi-Lo es una forma de mitigar la competencia por prec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2209680"/>
            <a:ext cx="746748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pongamos que los mercados se segmentan 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LES a la Marca B (y otr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WTCHERS  (50% eligen A y 50% eligen 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ta: esta segmentación es una simplificación para ejemplific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Objetivo: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2209680"/>
            <a:ext cx="79250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Switchers son el objetivo y la causa de la´mayoría de las promociones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sto es lo que llamamos Demanda Secund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s Efecto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209680"/>
            <a:ext cx="777240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efectos de las Promociones en los consumidores pueden ser  (caso productos compra frecuente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ticipar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ar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biarse de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0" y="2514600"/>
            <a:ext cx="9144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s casos extrem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 Los clientes sólo anticipan compra pero no aumentan consumo.  Supongamos compra  regularmente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533520" y="4267080"/>
            <a:ext cx="8229600" cy="2136240"/>
            <a:chOff x="533520" y="4267080"/>
            <a:chExt cx="8229600" cy="2136240"/>
          </a:xfrm>
        </p:grpSpPr>
        <p:sp>
          <p:nvSpPr>
            <p:cNvPr id="84" name=""/>
            <p:cNvSpPr/>
            <p:nvPr/>
          </p:nvSpPr>
          <p:spPr>
            <a:xfrm>
              <a:off x="1219320" y="5334120"/>
              <a:ext cx="1904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12408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4495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V="1">
              <a:off x="3581280" y="44953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40384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3581280" y="53341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81280" y="61722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038480" y="5334120"/>
              <a:ext cx="190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33520" y="51814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38280" y="42670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200400" y="59436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400800" y="502920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514600"/>
            <a:ext cx="8001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2 Los clientes no adelantan compra pero  aumentan consumo.  Supongamos compra 1 vez al mes 4 unid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380880" y="4648320"/>
            <a:ext cx="8229600" cy="1206360"/>
            <a:chOff x="380880" y="4648320"/>
            <a:chExt cx="8229600" cy="1206360"/>
          </a:xfrm>
        </p:grpSpPr>
        <p:sp>
          <p:nvSpPr>
            <p:cNvPr id="99" name=""/>
            <p:cNvSpPr/>
            <p:nvPr/>
          </p:nvSpPr>
          <p:spPr>
            <a:xfrm>
              <a:off x="1066680" y="533412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2971800" y="48006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971800" y="480060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3429000" y="480060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429000" y="533412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80880" y="518148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362320" y="464832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48520" y="502920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álisis de los Le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60958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 realidad será algo entremedio de estos ca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533520" y="1523880"/>
            <a:ext cx="8229600" cy="2136240"/>
            <a:chOff x="533520" y="1523880"/>
            <a:chExt cx="8229600" cy="2136240"/>
          </a:xfrm>
        </p:grpSpPr>
        <p:sp>
          <p:nvSpPr>
            <p:cNvPr id="110" name=""/>
            <p:cNvSpPr/>
            <p:nvPr/>
          </p:nvSpPr>
          <p:spPr>
            <a:xfrm>
              <a:off x="1219320" y="2590920"/>
              <a:ext cx="19047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V="1">
              <a:off x="3124080" y="17521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124080" y="17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3581280" y="1752120"/>
              <a:ext cx="0" cy="83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403848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3581280" y="259092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81280" y="3429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038480" y="2590920"/>
              <a:ext cx="190512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33520" y="2438280"/>
              <a:ext cx="533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438280" y="152388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200400" y="3200400"/>
              <a:ext cx="304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400800" y="2286000"/>
              <a:ext cx="2362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533520" y="4267080"/>
            <a:ext cx="8229600" cy="1206360"/>
            <a:chOff x="533520" y="4267080"/>
            <a:chExt cx="8229600" cy="1206360"/>
          </a:xfrm>
        </p:grpSpPr>
        <p:sp>
          <p:nvSpPr>
            <p:cNvPr id="123" name=""/>
            <p:cNvSpPr/>
            <p:nvPr/>
          </p:nvSpPr>
          <p:spPr>
            <a:xfrm>
              <a:off x="1219320" y="495288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>
              <a:off x="3124440" y="4419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124440" y="4419360"/>
              <a:ext cx="45720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3581640" y="4419360"/>
              <a:ext cx="144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581640" y="4952880"/>
              <a:ext cx="1905120" cy="14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33520" y="4800240"/>
              <a:ext cx="533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14960" y="4267080"/>
              <a:ext cx="30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401160" y="4647960"/>
              <a:ext cx="2361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Linea Base de Compr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5029200" y="114300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Anticipación de Compra sin aumentode consu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334120" y="3429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Aumenta consumo sin Anticipación de comp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eales: Caso Intermed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3429000"/>
            <a:ext cx="701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098800" y="1843200"/>
            <a:ext cx="5635440" cy="2608200"/>
          </a:xfrm>
          <a:custGeom>
            <a:avLst/>
            <a:gdLst/>
            <a:ahLst/>
            <a:rect l="l" t="t" r="r" b="b"/>
            <a:pathLst>
              <a:path w="3550" h="1643">
                <a:moveTo>
                  <a:pt x="0" y="1011"/>
                </a:moveTo>
                <a:cubicBezTo>
                  <a:pt x="67" y="966"/>
                  <a:pt x="84" y="969"/>
                  <a:pt x="160" y="945"/>
                </a:cubicBezTo>
                <a:cubicBezTo>
                  <a:pt x="168" y="930"/>
                  <a:pt x="184" y="893"/>
                  <a:pt x="198" y="879"/>
                </a:cubicBezTo>
                <a:cubicBezTo>
                  <a:pt x="227" y="851"/>
                  <a:pt x="266" y="835"/>
                  <a:pt x="293" y="803"/>
                </a:cubicBezTo>
                <a:cubicBezTo>
                  <a:pt x="300" y="794"/>
                  <a:pt x="306" y="785"/>
                  <a:pt x="312" y="775"/>
                </a:cubicBezTo>
                <a:cubicBezTo>
                  <a:pt x="319" y="763"/>
                  <a:pt x="321" y="748"/>
                  <a:pt x="330" y="737"/>
                </a:cubicBezTo>
                <a:cubicBezTo>
                  <a:pt x="337" y="728"/>
                  <a:pt x="384" y="698"/>
                  <a:pt x="397" y="690"/>
                </a:cubicBezTo>
                <a:cubicBezTo>
                  <a:pt x="424" y="649"/>
                  <a:pt x="451" y="598"/>
                  <a:pt x="491" y="567"/>
                </a:cubicBezTo>
                <a:cubicBezTo>
                  <a:pt x="509" y="553"/>
                  <a:pt x="548" y="529"/>
                  <a:pt x="548" y="529"/>
                </a:cubicBezTo>
                <a:cubicBezTo>
                  <a:pt x="575" y="489"/>
                  <a:pt x="616" y="466"/>
                  <a:pt x="652" y="435"/>
                </a:cubicBezTo>
                <a:cubicBezTo>
                  <a:pt x="709" y="386"/>
                  <a:pt x="665" y="405"/>
                  <a:pt x="718" y="388"/>
                </a:cubicBezTo>
                <a:cubicBezTo>
                  <a:pt x="721" y="378"/>
                  <a:pt x="726" y="369"/>
                  <a:pt x="727" y="359"/>
                </a:cubicBezTo>
                <a:cubicBezTo>
                  <a:pt x="732" y="322"/>
                  <a:pt x="726" y="282"/>
                  <a:pt x="736" y="246"/>
                </a:cubicBezTo>
                <a:cubicBezTo>
                  <a:pt x="754" y="181"/>
                  <a:pt x="768" y="201"/>
                  <a:pt x="803" y="170"/>
                </a:cubicBezTo>
                <a:cubicBezTo>
                  <a:pt x="835" y="142"/>
                  <a:pt x="867" y="115"/>
                  <a:pt x="897" y="85"/>
                </a:cubicBezTo>
                <a:cubicBezTo>
                  <a:pt x="930" y="52"/>
                  <a:pt x="900" y="58"/>
                  <a:pt x="944" y="29"/>
                </a:cubicBezTo>
                <a:cubicBezTo>
                  <a:pt x="953" y="23"/>
                  <a:pt x="964" y="24"/>
                  <a:pt x="973" y="19"/>
                </a:cubicBezTo>
                <a:cubicBezTo>
                  <a:pt x="983" y="14"/>
                  <a:pt x="992" y="6"/>
                  <a:pt x="1001" y="0"/>
                </a:cubicBezTo>
                <a:cubicBezTo>
                  <a:pt x="1076" y="9"/>
                  <a:pt x="1093" y="13"/>
                  <a:pt x="1152" y="48"/>
                </a:cubicBezTo>
                <a:cubicBezTo>
                  <a:pt x="1172" y="60"/>
                  <a:pt x="1209" y="85"/>
                  <a:pt x="1209" y="85"/>
                </a:cubicBezTo>
                <a:cubicBezTo>
                  <a:pt x="1227" y="113"/>
                  <a:pt x="1237" y="151"/>
                  <a:pt x="1265" y="170"/>
                </a:cubicBezTo>
                <a:cubicBezTo>
                  <a:pt x="1306" y="197"/>
                  <a:pt x="1338" y="230"/>
                  <a:pt x="1379" y="255"/>
                </a:cubicBezTo>
                <a:cubicBezTo>
                  <a:pt x="1385" y="265"/>
                  <a:pt x="1388" y="277"/>
                  <a:pt x="1397" y="284"/>
                </a:cubicBezTo>
                <a:cubicBezTo>
                  <a:pt x="1405" y="290"/>
                  <a:pt x="1419" y="286"/>
                  <a:pt x="1426" y="293"/>
                </a:cubicBezTo>
                <a:cubicBezTo>
                  <a:pt x="1433" y="300"/>
                  <a:pt x="1431" y="312"/>
                  <a:pt x="1435" y="321"/>
                </a:cubicBezTo>
                <a:cubicBezTo>
                  <a:pt x="1448" y="348"/>
                  <a:pt x="1461" y="357"/>
                  <a:pt x="1482" y="378"/>
                </a:cubicBezTo>
                <a:cubicBezTo>
                  <a:pt x="1499" y="425"/>
                  <a:pt x="1521" y="469"/>
                  <a:pt x="1549" y="510"/>
                </a:cubicBezTo>
                <a:cubicBezTo>
                  <a:pt x="1563" y="555"/>
                  <a:pt x="1600" y="574"/>
                  <a:pt x="1624" y="614"/>
                </a:cubicBezTo>
                <a:cubicBezTo>
                  <a:pt x="1674" y="698"/>
                  <a:pt x="1627" y="647"/>
                  <a:pt x="1681" y="699"/>
                </a:cubicBezTo>
                <a:cubicBezTo>
                  <a:pt x="1705" y="777"/>
                  <a:pt x="1765" y="826"/>
                  <a:pt x="1813" y="888"/>
                </a:cubicBezTo>
                <a:cubicBezTo>
                  <a:pt x="1868" y="959"/>
                  <a:pt x="1812" y="916"/>
                  <a:pt x="1870" y="954"/>
                </a:cubicBezTo>
                <a:cubicBezTo>
                  <a:pt x="1876" y="963"/>
                  <a:pt x="1883" y="972"/>
                  <a:pt x="1888" y="982"/>
                </a:cubicBezTo>
                <a:cubicBezTo>
                  <a:pt x="1893" y="991"/>
                  <a:pt x="1893" y="1002"/>
                  <a:pt x="1898" y="1011"/>
                </a:cubicBezTo>
                <a:cubicBezTo>
                  <a:pt x="1924" y="1053"/>
                  <a:pt x="1942" y="1060"/>
                  <a:pt x="1973" y="1096"/>
                </a:cubicBezTo>
                <a:cubicBezTo>
                  <a:pt x="2027" y="1158"/>
                  <a:pt x="2063" y="1211"/>
                  <a:pt x="2125" y="1266"/>
                </a:cubicBezTo>
                <a:cubicBezTo>
                  <a:pt x="2181" y="1316"/>
                  <a:pt x="2222" y="1374"/>
                  <a:pt x="2285" y="1417"/>
                </a:cubicBezTo>
                <a:cubicBezTo>
                  <a:pt x="2339" y="1492"/>
                  <a:pt x="2309" y="1468"/>
                  <a:pt x="2361" y="1502"/>
                </a:cubicBezTo>
                <a:cubicBezTo>
                  <a:pt x="2410" y="1568"/>
                  <a:pt x="2469" y="1586"/>
                  <a:pt x="2549" y="1596"/>
                </a:cubicBezTo>
                <a:cubicBezTo>
                  <a:pt x="2591" y="1610"/>
                  <a:pt x="2626" y="1620"/>
                  <a:pt x="2663" y="1643"/>
                </a:cubicBezTo>
                <a:cubicBezTo>
                  <a:pt x="2715" y="1636"/>
                  <a:pt x="2752" y="1635"/>
                  <a:pt x="2795" y="1606"/>
                </a:cubicBezTo>
                <a:cubicBezTo>
                  <a:pt x="2832" y="1550"/>
                  <a:pt x="2957" y="1484"/>
                  <a:pt x="3022" y="1464"/>
                </a:cubicBezTo>
                <a:cubicBezTo>
                  <a:pt x="3046" y="1426"/>
                  <a:pt x="3062" y="1381"/>
                  <a:pt x="3097" y="1351"/>
                </a:cubicBezTo>
                <a:cubicBezTo>
                  <a:pt x="3114" y="1336"/>
                  <a:pt x="3154" y="1313"/>
                  <a:pt x="3154" y="1313"/>
                </a:cubicBezTo>
                <a:cubicBezTo>
                  <a:pt x="3187" y="1267"/>
                  <a:pt x="3204" y="1230"/>
                  <a:pt x="3248" y="1200"/>
                </a:cubicBezTo>
                <a:cubicBezTo>
                  <a:pt x="3254" y="1190"/>
                  <a:pt x="3258" y="1178"/>
                  <a:pt x="3267" y="1171"/>
                </a:cubicBezTo>
                <a:cubicBezTo>
                  <a:pt x="3275" y="1165"/>
                  <a:pt x="3288" y="1169"/>
                  <a:pt x="3295" y="1162"/>
                </a:cubicBezTo>
                <a:cubicBezTo>
                  <a:pt x="3311" y="1146"/>
                  <a:pt x="3320" y="1124"/>
                  <a:pt x="3333" y="1105"/>
                </a:cubicBezTo>
                <a:cubicBezTo>
                  <a:pt x="3339" y="1096"/>
                  <a:pt x="3341" y="1081"/>
                  <a:pt x="3352" y="1077"/>
                </a:cubicBezTo>
                <a:cubicBezTo>
                  <a:pt x="3446" y="1043"/>
                  <a:pt x="3443" y="1001"/>
                  <a:pt x="3550" y="100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124080" y="28195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486400" y="3657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648320"/>
            <a:ext cx="66294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área 1 será un poco mayor que el área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ánto, dependerá de las características del produ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rvilletas de papel   Coca Cola     Sahne Nu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álisis de 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523880" y="174456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0% compra marca A, 50% compra marca 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33520" y="2514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o 1. Sin Promoción. Compra 4 al mes, la Línea base es 2 (para A). Sin Inven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80880" y="4343400"/>
            <a:ext cx="25909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971800" y="4343400"/>
            <a:ext cx="2590920" cy="0"/>
          </a:xfrm>
          <a:prstGeom prst="line">
            <a:avLst/>
          </a:prstGeom>
          <a:ln w="2844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095880" y="40384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inea base para la Marca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362320" y="3809880"/>
            <a:ext cx="5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914400" y="4038480"/>
            <a:ext cx="419112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334120" y="3657600"/>
            <a:ext cx="380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sumo total (marcas A y B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486400" y="4114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9480" y="4648320"/>
            <a:ext cx="480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28600" y="441972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971800" y="4038480"/>
            <a:ext cx="38088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343400"/>
            <a:ext cx="4343400" cy="3049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jetiv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2590920"/>
            <a:ext cx="74674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de 2 Objetiv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tenciar y Acelerar el desarrollo de una Nueva Mar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fender, Fortalecer y Expandir una Marca Exist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85800" y="419112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3200400" y="34286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34290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733920" y="34290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733920" y="4724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4191120" y="41907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191120" y="4191120"/>
            <a:ext cx="2819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40384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90920" y="297180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3886200"/>
            <a:ext cx="59436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876920" y="464832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remental  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ubiera comprado 4 en los dos meses de la marca A sin promoción, pero compró los 8 durante la promo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62120" y="4572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Análisis de  los switch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90720" y="1752480"/>
            <a:ext cx="716256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l incremental está determinado po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El límite de compra (¿es inventariable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* Por la distribución de los switch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(son 50-50, u otra proporción). Nuevamente el más beneficiado es el con menor particip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odo esto suponiendo que no hay aumento de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jemplo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66688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¿qué pasa si yo (A) no promociono y la B si lo ha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8080" y="44197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00400" y="44197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200400" y="51055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800600" y="44193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800600" y="441972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038480" y="3733920"/>
            <a:ext cx="0" cy="205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5334120"/>
            <a:ext cx="144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14800" y="53341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09588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i venta cae en el equivalente a dos meses y no uno.!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2209680"/>
            <a:ext cx="80773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está compuesta fundamentalmente por leales lo que interesa saber es si el mayor stock aumenta o no el consum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venta de la categoría es fuerte debido a los switchers, el de menor participación tiene incentivos claros para promocion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752480" y="259092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3526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410080" y="2666880"/>
            <a:ext cx="0" cy="297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8080" y="3429000"/>
            <a:ext cx="5105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990720" y="47242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38862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0 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48006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+C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133720" y="2666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886200" y="2819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120" y="3657600"/>
            <a:ext cx="121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die gana. Poca promo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905120" y="4952880"/>
            <a:ext cx="1218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da Uno Promociona hacia sus cli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373392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rca no líder con claros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5029200"/>
            <a:ext cx="1752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dos tienen Incen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ras consideracione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2438280"/>
            <a:ext cx="8001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s estudios demuestran que el grueso del efecto de las Promociones es en la Demanda secundaria. (brand switching) y mucho menos en la primaria (stock, aumento de consumo, cambio de categorí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495288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upta (1988)        84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ell et al (1999)    75%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.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2514600"/>
            <a:ext cx="7619760" cy="41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Nuestro análisis es simplis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Una forma habitual de segmentar a los consumidores 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ENSIBILIDAD A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Algunas Promociones pueden ser úitles paradiscriminar a los más sensibles de los me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" y="205740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s cupones son una forma de discriminar entre sensi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menos sens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no basadas en prec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2819520"/>
            <a:ext cx="77724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Loterías y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ues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8080" y="2362320"/>
            <a:ext cx="83059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lema de Fo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 foco    significa   Alto Cos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stras en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rategia muy efectiva en la Introducción de productos nuev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fini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438280"/>
            <a:ext cx="7924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 la componente de Marketing Mix que usa MATERIALES Y TECNICAS diseñadas para acelerar las funciones de VENTA y COMPRA a lo largo de la Cadena, con los dos objetivos anteri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mi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2590920"/>
            <a:ext cx="6553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iterios para selección de Prem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e tener valor para el público obje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Bonus pac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85800" y="2362320"/>
            <a:ext cx="83059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erta cantidad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importante en categorías donde hay mucha elasticidad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y efectiva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mento de Consumo y alta Rotación de Invent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ioran el precio 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de la Frecu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2438280"/>
            <a:ext cx="76201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baja , los consumidores tienden a acumular stock. (Krishna 1994), pe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, aumenta la notoriedad d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Si la frecuencia es alta parte importante de las ventas tenderá a realizarse en períodos de promociones. (Mela, gupta  y Lehmann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Linea base..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2666880"/>
            <a:ext cx="792504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problema de los FMG en baja Rota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Sema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 1  2 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1  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¿El 0 es que la demanda fue 0 no estaba en la góndol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ótese que la LB se ve afectada según lo que asumimos para esa cifra. La LB puede s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o 1,17, o 1,33 ( o más inclus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álculo del Efec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2666880"/>
            <a:ext cx="7543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 cálculo del Efecto es relativamente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ánto aumentó la venta durante la promoción respecto a la L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mente el período afectado se define como el período de la promoción, más una semana antes y una despué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fecto (de Corto Plaz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838080" y="2590920"/>
            <a:ext cx="7925040" cy="2438280"/>
            <a:chOff x="838080" y="2590920"/>
            <a:chExt cx="7925040" cy="2438280"/>
          </a:xfrm>
        </p:grpSpPr>
        <p:sp>
          <p:nvSpPr>
            <p:cNvPr id="218" name=""/>
            <p:cNvSpPr/>
            <p:nvPr/>
          </p:nvSpPr>
          <p:spPr>
            <a:xfrm>
              <a:off x="838080" y="5029200"/>
              <a:ext cx="7467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900000" y="3789360"/>
              <a:ext cx="7150320" cy="422280"/>
            </a:xfrm>
            <a:custGeom>
              <a:avLst/>
              <a:gdLst/>
              <a:ahLst/>
              <a:rect l="l" t="t" r="r" b="b"/>
              <a:pathLst>
                <a:path w="4504" h="266">
                  <a:moveTo>
                    <a:pt x="0" y="231"/>
                  </a:moveTo>
                  <a:cubicBezTo>
                    <a:pt x="67" y="208"/>
                    <a:pt x="140" y="217"/>
                    <a:pt x="210" y="205"/>
                  </a:cubicBezTo>
                  <a:cubicBezTo>
                    <a:pt x="253" y="177"/>
                    <a:pt x="301" y="161"/>
                    <a:pt x="349" y="144"/>
                  </a:cubicBezTo>
                  <a:cubicBezTo>
                    <a:pt x="365" y="154"/>
                    <a:pt x="376" y="172"/>
                    <a:pt x="393" y="179"/>
                  </a:cubicBezTo>
                  <a:cubicBezTo>
                    <a:pt x="448" y="200"/>
                    <a:pt x="510" y="192"/>
                    <a:pt x="568" y="196"/>
                  </a:cubicBezTo>
                  <a:cubicBezTo>
                    <a:pt x="610" y="240"/>
                    <a:pt x="557" y="190"/>
                    <a:pt x="611" y="222"/>
                  </a:cubicBezTo>
                  <a:cubicBezTo>
                    <a:pt x="637" y="237"/>
                    <a:pt x="651" y="255"/>
                    <a:pt x="681" y="266"/>
                  </a:cubicBezTo>
                  <a:cubicBezTo>
                    <a:pt x="745" y="263"/>
                    <a:pt x="809" y="265"/>
                    <a:pt x="873" y="257"/>
                  </a:cubicBezTo>
                  <a:cubicBezTo>
                    <a:pt x="898" y="254"/>
                    <a:pt x="920" y="215"/>
                    <a:pt x="943" y="205"/>
                  </a:cubicBezTo>
                  <a:cubicBezTo>
                    <a:pt x="1010" y="177"/>
                    <a:pt x="947" y="219"/>
                    <a:pt x="1013" y="179"/>
                  </a:cubicBezTo>
                  <a:cubicBezTo>
                    <a:pt x="1031" y="168"/>
                    <a:pt x="1065" y="144"/>
                    <a:pt x="1065" y="144"/>
                  </a:cubicBezTo>
                  <a:cubicBezTo>
                    <a:pt x="1110" y="153"/>
                    <a:pt x="1135" y="150"/>
                    <a:pt x="1178" y="135"/>
                  </a:cubicBezTo>
                  <a:cubicBezTo>
                    <a:pt x="1184" y="126"/>
                    <a:pt x="1191" y="118"/>
                    <a:pt x="1196" y="109"/>
                  </a:cubicBezTo>
                  <a:cubicBezTo>
                    <a:pt x="1200" y="101"/>
                    <a:pt x="1198" y="88"/>
                    <a:pt x="1205" y="83"/>
                  </a:cubicBezTo>
                  <a:cubicBezTo>
                    <a:pt x="1220" y="72"/>
                    <a:pt x="1257" y="65"/>
                    <a:pt x="1257" y="65"/>
                  </a:cubicBezTo>
                  <a:cubicBezTo>
                    <a:pt x="1269" y="83"/>
                    <a:pt x="1272" y="112"/>
                    <a:pt x="1292" y="118"/>
                  </a:cubicBezTo>
                  <a:cubicBezTo>
                    <a:pt x="1333" y="130"/>
                    <a:pt x="1374" y="139"/>
                    <a:pt x="1414" y="153"/>
                  </a:cubicBezTo>
                  <a:cubicBezTo>
                    <a:pt x="1435" y="172"/>
                    <a:pt x="1451" y="189"/>
                    <a:pt x="1475" y="205"/>
                  </a:cubicBezTo>
                  <a:cubicBezTo>
                    <a:pt x="1583" y="177"/>
                    <a:pt x="1384" y="226"/>
                    <a:pt x="1615" y="188"/>
                  </a:cubicBezTo>
                  <a:cubicBezTo>
                    <a:pt x="1685" y="176"/>
                    <a:pt x="1710" y="160"/>
                    <a:pt x="1789" y="153"/>
                  </a:cubicBezTo>
                  <a:cubicBezTo>
                    <a:pt x="1848" y="170"/>
                    <a:pt x="1838" y="221"/>
                    <a:pt x="1894" y="240"/>
                  </a:cubicBezTo>
                  <a:cubicBezTo>
                    <a:pt x="1976" y="228"/>
                    <a:pt x="2016" y="223"/>
                    <a:pt x="2104" y="231"/>
                  </a:cubicBezTo>
                  <a:cubicBezTo>
                    <a:pt x="2166" y="252"/>
                    <a:pt x="2141" y="239"/>
                    <a:pt x="2182" y="266"/>
                  </a:cubicBezTo>
                  <a:cubicBezTo>
                    <a:pt x="2283" y="165"/>
                    <a:pt x="2383" y="146"/>
                    <a:pt x="2522" y="126"/>
                  </a:cubicBezTo>
                  <a:cubicBezTo>
                    <a:pt x="2540" y="73"/>
                    <a:pt x="2589" y="64"/>
                    <a:pt x="2636" y="48"/>
                  </a:cubicBezTo>
                  <a:cubicBezTo>
                    <a:pt x="2662" y="53"/>
                    <a:pt x="2687" y="65"/>
                    <a:pt x="2714" y="65"/>
                  </a:cubicBezTo>
                  <a:cubicBezTo>
                    <a:pt x="2736" y="65"/>
                    <a:pt x="2757" y="45"/>
                    <a:pt x="2776" y="39"/>
                  </a:cubicBezTo>
                  <a:cubicBezTo>
                    <a:pt x="2793" y="34"/>
                    <a:pt x="2811" y="33"/>
                    <a:pt x="2828" y="30"/>
                  </a:cubicBezTo>
                  <a:cubicBezTo>
                    <a:pt x="2881" y="36"/>
                    <a:pt x="2951" y="44"/>
                    <a:pt x="3002" y="65"/>
                  </a:cubicBezTo>
                  <a:cubicBezTo>
                    <a:pt x="3039" y="80"/>
                    <a:pt x="3068" y="99"/>
                    <a:pt x="3107" y="109"/>
                  </a:cubicBezTo>
                  <a:cubicBezTo>
                    <a:pt x="3154" y="153"/>
                    <a:pt x="3109" y="118"/>
                    <a:pt x="3238" y="135"/>
                  </a:cubicBezTo>
                  <a:cubicBezTo>
                    <a:pt x="3247" y="136"/>
                    <a:pt x="3256" y="140"/>
                    <a:pt x="3264" y="144"/>
                  </a:cubicBezTo>
                  <a:cubicBezTo>
                    <a:pt x="3273" y="149"/>
                    <a:pt x="3280" y="160"/>
                    <a:pt x="3290" y="161"/>
                  </a:cubicBezTo>
                  <a:cubicBezTo>
                    <a:pt x="3342" y="168"/>
                    <a:pt x="3395" y="167"/>
                    <a:pt x="3448" y="170"/>
                  </a:cubicBezTo>
                  <a:cubicBezTo>
                    <a:pt x="3509" y="191"/>
                    <a:pt x="3483" y="194"/>
                    <a:pt x="3526" y="179"/>
                  </a:cubicBezTo>
                  <a:cubicBezTo>
                    <a:pt x="3639" y="190"/>
                    <a:pt x="3767" y="221"/>
                    <a:pt x="3875" y="188"/>
                  </a:cubicBezTo>
                  <a:cubicBezTo>
                    <a:pt x="3914" y="161"/>
                    <a:pt x="3953" y="150"/>
                    <a:pt x="3997" y="135"/>
                  </a:cubicBezTo>
                  <a:cubicBezTo>
                    <a:pt x="4026" y="107"/>
                    <a:pt x="4009" y="97"/>
                    <a:pt x="4050" y="83"/>
                  </a:cubicBezTo>
                  <a:cubicBezTo>
                    <a:pt x="4080" y="51"/>
                    <a:pt x="4130" y="43"/>
                    <a:pt x="4172" y="30"/>
                  </a:cubicBezTo>
                  <a:cubicBezTo>
                    <a:pt x="4198" y="22"/>
                    <a:pt x="4250" y="4"/>
                    <a:pt x="4250" y="4"/>
                  </a:cubicBezTo>
                  <a:cubicBezTo>
                    <a:pt x="4268" y="7"/>
                    <a:pt x="4286" y="8"/>
                    <a:pt x="4303" y="13"/>
                  </a:cubicBezTo>
                  <a:cubicBezTo>
                    <a:pt x="4315" y="17"/>
                    <a:pt x="4325" y="28"/>
                    <a:pt x="4338" y="30"/>
                  </a:cubicBezTo>
                  <a:cubicBezTo>
                    <a:pt x="4365" y="33"/>
                    <a:pt x="4392" y="7"/>
                    <a:pt x="4416" y="4"/>
                  </a:cubicBezTo>
                  <a:cubicBezTo>
                    <a:pt x="4445" y="0"/>
                    <a:pt x="4475" y="4"/>
                    <a:pt x="4504" y="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828800" y="2590920"/>
              <a:ext cx="5445000" cy="2008080"/>
            </a:xfrm>
            <a:custGeom>
              <a:avLst/>
              <a:gdLst/>
              <a:ahLst/>
              <a:rect l="l" t="t" r="r" b="b"/>
              <a:pathLst>
                <a:path w="3430" h="1256">
                  <a:moveTo>
                    <a:pt x="0" y="934"/>
                  </a:moveTo>
                  <a:cubicBezTo>
                    <a:pt x="9" y="931"/>
                    <a:pt x="18" y="930"/>
                    <a:pt x="26" y="925"/>
                  </a:cubicBezTo>
                  <a:cubicBezTo>
                    <a:pt x="33" y="921"/>
                    <a:pt x="36" y="909"/>
                    <a:pt x="44" y="907"/>
                  </a:cubicBezTo>
                  <a:cubicBezTo>
                    <a:pt x="69" y="900"/>
                    <a:pt x="96" y="902"/>
                    <a:pt x="122" y="899"/>
                  </a:cubicBezTo>
                  <a:cubicBezTo>
                    <a:pt x="247" y="857"/>
                    <a:pt x="388" y="868"/>
                    <a:pt x="515" y="864"/>
                  </a:cubicBezTo>
                  <a:cubicBezTo>
                    <a:pt x="555" y="854"/>
                    <a:pt x="598" y="852"/>
                    <a:pt x="637" y="838"/>
                  </a:cubicBezTo>
                  <a:cubicBezTo>
                    <a:pt x="666" y="828"/>
                    <a:pt x="687" y="812"/>
                    <a:pt x="716" y="803"/>
                  </a:cubicBezTo>
                  <a:cubicBezTo>
                    <a:pt x="763" y="753"/>
                    <a:pt x="787" y="690"/>
                    <a:pt x="829" y="637"/>
                  </a:cubicBezTo>
                  <a:cubicBezTo>
                    <a:pt x="850" y="610"/>
                    <a:pt x="888" y="585"/>
                    <a:pt x="917" y="567"/>
                  </a:cubicBezTo>
                  <a:cubicBezTo>
                    <a:pt x="944" y="526"/>
                    <a:pt x="982" y="507"/>
                    <a:pt x="1013" y="471"/>
                  </a:cubicBezTo>
                  <a:cubicBezTo>
                    <a:pt x="1043" y="436"/>
                    <a:pt x="1064" y="395"/>
                    <a:pt x="1091" y="358"/>
                  </a:cubicBezTo>
                  <a:cubicBezTo>
                    <a:pt x="1100" y="346"/>
                    <a:pt x="1107" y="334"/>
                    <a:pt x="1117" y="323"/>
                  </a:cubicBezTo>
                  <a:cubicBezTo>
                    <a:pt x="1134" y="304"/>
                    <a:pt x="1170" y="270"/>
                    <a:pt x="1170" y="270"/>
                  </a:cubicBezTo>
                  <a:cubicBezTo>
                    <a:pt x="1179" y="230"/>
                    <a:pt x="1197" y="221"/>
                    <a:pt x="1213" y="183"/>
                  </a:cubicBezTo>
                  <a:cubicBezTo>
                    <a:pt x="1244" y="111"/>
                    <a:pt x="1303" y="43"/>
                    <a:pt x="1379" y="17"/>
                  </a:cubicBezTo>
                  <a:cubicBezTo>
                    <a:pt x="1502" y="26"/>
                    <a:pt x="1498" y="23"/>
                    <a:pt x="1597" y="0"/>
                  </a:cubicBezTo>
                  <a:cubicBezTo>
                    <a:pt x="1620" y="3"/>
                    <a:pt x="1645" y="0"/>
                    <a:pt x="1667" y="8"/>
                  </a:cubicBezTo>
                  <a:cubicBezTo>
                    <a:pt x="1687" y="15"/>
                    <a:pt x="1719" y="43"/>
                    <a:pt x="1719" y="43"/>
                  </a:cubicBezTo>
                  <a:cubicBezTo>
                    <a:pt x="1748" y="99"/>
                    <a:pt x="1759" y="96"/>
                    <a:pt x="1807" y="131"/>
                  </a:cubicBezTo>
                  <a:cubicBezTo>
                    <a:pt x="1833" y="150"/>
                    <a:pt x="1845" y="179"/>
                    <a:pt x="1868" y="200"/>
                  </a:cubicBezTo>
                  <a:cubicBezTo>
                    <a:pt x="1879" y="233"/>
                    <a:pt x="1896" y="262"/>
                    <a:pt x="1920" y="288"/>
                  </a:cubicBezTo>
                  <a:cubicBezTo>
                    <a:pt x="1937" y="306"/>
                    <a:pt x="1973" y="340"/>
                    <a:pt x="1973" y="340"/>
                  </a:cubicBezTo>
                  <a:cubicBezTo>
                    <a:pt x="1987" y="386"/>
                    <a:pt x="2004" y="416"/>
                    <a:pt x="2034" y="454"/>
                  </a:cubicBezTo>
                  <a:cubicBezTo>
                    <a:pt x="2042" y="486"/>
                    <a:pt x="2067" y="549"/>
                    <a:pt x="2086" y="576"/>
                  </a:cubicBezTo>
                  <a:cubicBezTo>
                    <a:pt x="2111" y="611"/>
                    <a:pt x="2109" y="594"/>
                    <a:pt x="2138" y="619"/>
                  </a:cubicBezTo>
                  <a:cubicBezTo>
                    <a:pt x="2163" y="641"/>
                    <a:pt x="2185" y="666"/>
                    <a:pt x="2208" y="689"/>
                  </a:cubicBezTo>
                  <a:cubicBezTo>
                    <a:pt x="2214" y="695"/>
                    <a:pt x="2226" y="707"/>
                    <a:pt x="2226" y="707"/>
                  </a:cubicBezTo>
                  <a:cubicBezTo>
                    <a:pt x="2236" y="740"/>
                    <a:pt x="2254" y="764"/>
                    <a:pt x="2269" y="794"/>
                  </a:cubicBezTo>
                  <a:cubicBezTo>
                    <a:pt x="2279" y="815"/>
                    <a:pt x="2273" y="825"/>
                    <a:pt x="2295" y="838"/>
                  </a:cubicBezTo>
                  <a:cubicBezTo>
                    <a:pt x="2303" y="843"/>
                    <a:pt x="2313" y="843"/>
                    <a:pt x="2322" y="846"/>
                  </a:cubicBezTo>
                  <a:cubicBezTo>
                    <a:pt x="2332" y="880"/>
                    <a:pt x="2344" y="888"/>
                    <a:pt x="2374" y="907"/>
                  </a:cubicBezTo>
                  <a:cubicBezTo>
                    <a:pt x="2410" y="961"/>
                    <a:pt x="2439" y="1023"/>
                    <a:pt x="2505" y="1038"/>
                  </a:cubicBezTo>
                  <a:cubicBezTo>
                    <a:pt x="2530" y="1056"/>
                    <a:pt x="2546" y="1072"/>
                    <a:pt x="2575" y="1082"/>
                  </a:cubicBezTo>
                  <a:cubicBezTo>
                    <a:pt x="2601" y="1121"/>
                    <a:pt x="2633" y="1152"/>
                    <a:pt x="2671" y="1178"/>
                  </a:cubicBezTo>
                  <a:cubicBezTo>
                    <a:pt x="2693" y="1211"/>
                    <a:pt x="2725" y="1234"/>
                    <a:pt x="2758" y="1256"/>
                  </a:cubicBezTo>
                  <a:cubicBezTo>
                    <a:pt x="2830" y="1250"/>
                    <a:pt x="2882" y="1238"/>
                    <a:pt x="2950" y="1222"/>
                  </a:cubicBezTo>
                  <a:cubicBezTo>
                    <a:pt x="2983" y="1199"/>
                    <a:pt x="3016" y="1196"/>
                    <a:pt x="3055" y="1187"/>
                  </a:cubicBezTo>
                  <a:cubicBezTo>
                    <a:pt x="3083" y="1168"/>
                    <a:pt x="3101" y="1145"/>
                    <a:pt x="3133" y="1134"/>
                  </a:cubicBezTo>
                  <a:cubicBezTo>
                    <a:pt x="3145" y="1123"/>
                    <a:pt x="3153" y="1105"/>
                    <a:pt x="3168" y="1099"/>
                  </a:cubicBezTo>
                  <a:cubicBezTo>
                    <a:pt x="3182" y="1093"/>
                    <a:pt x="3198" y="1095"/>
                    <a:pt x="3212" y="1091"/>
                  </a:cubicBezTo>
                  <a:cubicBezTo>
                    <a:pt x="3262" y="1078"/>
                    <a:pt x="3256" y="1079"/>
                    <a:pt x="3290" y="1056"/>
                  </a:cubicBezTo>
                  <a:cubicBezTo>
                    <a:pt x="3320" y="1009"/>
                    <a:pt x="3358" y="925"/>
                    <a:pt x="3413" y="907"/>
                  </a:cubicBezTo>
                  <a:cubicBezTo>
                    <a:pt x="3419" y="898"/>
                    <a:pt x="3430" y="881"/>
                    <a:pt x="3430" y="881"/>
                  </a:cubicBezTo>
                </a:path>
              </a:pathLst>
            </a:cu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962520" y="3200400"/>
              <a:ext cx="685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ahoma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172200" y="388620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ahoma"/>
                </a:rPr>
                <a:t>_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153280" y="350532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L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952880" y="259092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Ventas Efectiv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imando Efectos en Ambientes Comerciales (Ma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371600" y="2362320"/>
            <a:ext cx="6324480" cy="3581280"/>
            <a:chOff x="1371600" y="2362320"/>
            <a:chExt cx="6324480" cy="3581280"/>
          </a:xfrm>
        </p:grpSpPr>
        <p:sp>
          <p:nvSpPr>
            <p:cNvPr id="227" name=""/>
            <p:cNvSpPr/>
            <p:nvPr/>
          </p:nvSpPr>
          <p:spPr>
            <a:xfrm>
              <a:off x="1371600" y="23623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F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505320" y="426708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úmer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72080" y="23623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5880" y="426708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ra Prome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800600" y="32767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2362320" y="32767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952880" y="548640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as de 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00400" y="236232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4114800" y="327384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486400" y="434340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7" name=""/>
            <p:cNvGrpSpPr/>
            <p:nvPr/>
          </p:nvGrpSpPr>
          <p:grpSpPr>
            <a:xfrm>
              <a:off x="3352680" y="3733920"/>
              <a:ext cx="2361960" cy="533160"/>
              <a:chOff x="3352680" y="3733920"/>
              <a:chExt cx="2361960" cy="533160"/>
            </a:xfrm>
          </p:grpSpPr>
          <p:sp>
            <p:nvSpPr>
              <p:cNvPr id="238" name=""/>
              <p:cNvSpPr/>
              <p:nvPr/>
            </p:nvSpPr>
            <p:spPr>
              <a:xfrm>
                <a:off x="3352680" y="37339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4495320" y="3733920"/>
                <a:ext cx="1219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495680" y="403848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2133720" y="2819520"/>
              <a:ext cx="2438280" cy="457200"/>
              <a:chOff x="2133720" y="2819520"/>
              <a:chExt cx="2438280" cy="457200"/>
            </a:xfrm>
          </p:grpSpPr>
          <p:sp>
            <p:nvSpPr>
              <p:cNvPr id="242" name=""/>
              <p:cNvSpPr/>
              <p:nvPr/>
            </p:nvSpPr>
            <p:spPr>
              <a:xfrm>
                <a:off x="2133720" y="28195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flipH="1">
                <a:off x="3276720" y="2819520"/>
                <a:ext cx="12952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3276720" y="3124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4572000" y="4724280"/>
              <a:ext cx="2361960" cy="762120"/>
              <a:chOff x="4572000" y="4724280"/>
              <a:chExt cx="2361960" cy="762120"/>
            </a:xfrm>
          </p:grpSpPr>
          <p:sp>
            <p:nvSpPr>
              <p:cNvPr id="246" name=""/>
              <p:cNvSpPr/>
              <p:nvPr/>
            </p:nvSpPr>
            <p:spPr>
              <a:xfrm>
                <a:off x="4572000" y="4724280"/>
                <a:ext cx="11430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>
                <a:off x="5714640" y="4724280"/>
                <a:ext cx="12193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5715000" y="50292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imando Efectos en Ambientes Comerciales (Ma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762120" y="2362320"/>
            <a:ext cx="6933960" cy="4038480"/>
            <a:chOff x="762120" y="2362320"/>
            <a:chExt cx="6933960" cy="4038480"/>
          </a:xfrm>
        </p:grpSpPr>
        <p:sp>
          <p:nvSpPr>
            <p:cNvPr id="251" name=""/>
            <p:cNvSpPr/>
            <p:nvPr/>
          </p:nvSpPr>
          <p:spPr>
            <a:xfrm>
              <a:off x="1371600" y="2362320"/>
              <a:ext cx="1600200" cy="457200"/>
            </a:xfrm>
            <a:prstGeom prst="rect">
              <a:avLst/>
            </a:prstGeom>
            <a:solidFill>
              <a:srgbClr val="fa0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Fren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505320" y="426708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úmero 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ansaccion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772080" y="23623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Entra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095880" y="426708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ompra Promedi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00600" y="3276720"/>
              <a:ext cx="1600200" cy="457200"/>
            </a:xfrm>
            <a:prstGeom prst="rect">
              <a:avLst/>
            </a:prstGeom>
            <a:solidFill>
              <a:srgbClr val="06de8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asa de Comp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2320" y="327672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ráfico en 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952880" y="5486400"/>
              <a:ext cx="160020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Ventas de l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Tien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200400" y="236232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>
              <a:off x="4114800" y="327384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86400" y="4343400"/>
              <a:ext cx="457200" cy="459720"/>
            </a:xfrm>
            <a:prstGeom prst="rect">
              <a:avLst/>
            </a:prstGeom>
            <a:solidFill>
              <a:srgbClr val="06de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1" name=""/>
            <p:cNvGrpSpPr/>
            <p:nvPr/>
          </p:nvGrpSpPr>
          <p:grpSpPr>
            <a:xfrm>
              <a:off x="3352680" y="3733920"/>
              <a:ext cx="2361960" cy="533160"/>
              <a:chOff x="3352680" y="3733920"/>
              <a:chExt cx="2361960" cy="533160"/>
            </a:xfrm>
          </p:grpSpPr>
          <p:sp>
            <p:nvSpPr>
              <p:cNvPr id="262" name=""/>
              <p:cNvSpPr/>
              <p:nvPr/>
            </p:nvSpPr>
            <p:spPr>
              <a:xfrm>
                <a:off x="3352680" y="37339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495320" y="3733920"/>
                <a:ext cx="121932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495680" y="4038480"/>
                <a:ext cx="76320" cy="2286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5" name=""/>
            <p:cNvGrpSpPr/>
            <p:nvPr/>
          </p:nvGrpSpPr>
          <p:grpSpPr>
            <a:xfrm>
              <a:off x="2133720" y="2819520"/>
              <a:ext cx="2438280" cy="457200"/>
              <a:chOff x="2133720" y="2819520"/>
              <a:chExt cx="2438280" cy="457200"/>
            </a:xfrm>
          </p:grpSpPr>
          <p:sp>
            <p:nvSpPr>
              <p:cNvPr id="266" name=""/>
              <p:cNvSpPr/>
              <p:nvPr/>
            </p:nvSpPr>
            <p:spPr>
              <a:xfrm>
                <a:off x="2133720" y="2819520"/>
                <a:ext cx="114300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flipH="1">
                <a:off x="3276720" y="2819520"/>
                <a:ext cx="1295280" cy="304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276720" y="3124080"/>
                <a:ext cx="0" cy="152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9" name=""/>
            <p:cNvGrpSpPr/>
            <p:nvPr/>
          </p:nvGrpSpPr>
          <p:grpSpPr>
            <a:xfrm>
              <a:off x="4572000" y="4724280"/>
              <a:ext cx="2361960" cy="762120"/>
              <a:chOff x="4572000" y="4724280"/>
              <a:chExt cx="2361960" cy="762120"/>
            </a:xfrm>
          </p:grpSpPr>
          <p:sp>
            <p:nvSpPr>
              <p:cNvPr id="270" name=""/>
              <p:cNvSpPr/>
              <p:nvPr/>
            </p:nvSpPr>
            <p:spPr>
              <a:xfrm>
                <a:off x="4572000" y="4724280"/>
                <a:ext cx="114300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5714640" y="4724280"/>
                <a:ext cx="1219320" cy="3049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715000" y="5029200"/>
                <a:ext cx="0" cy="4572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62120" y="5943600"/>
              <a:ext cx="1523880" cy="457200"/>
            </a:xfrm>
            <a:prstGeom prst="rect">
              <a:avLst/>
            </a:prstGeom>
            <a:solidFill>
              <a:srgbClr val="fa06d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medi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62120" y="449568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dato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2120" y="5181480"/>
              <a:ext cx="1523880" cy="4572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calcul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426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Estimando Efectos en Ambientes Comerciales (Mall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2666880"/>
            <a:ext cx="2362320" cy="396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Mercader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romo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ublic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Vende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Dis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Polític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Oper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(Ubicació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24080" y="2666880"/>
            <a:ext cx="2362320" cy="3962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áfico en Fr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a de Entr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sa de Ven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medi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400800" y="2590920"/>
            <a:ext cx="2362320" cy="39621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ciona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ía de la Sem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cion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conóm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m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828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124080" y="1905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de la Ti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400800" y="1828800"/>
            <a:ext cx="236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ables Incontrol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362320" y="4648320"/>
            <a:ext cx="761760" cy="380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86400" y="4648320"/>
            <a:ext cx="914400" cy="380880"/>
          </a:xfrm>
          <a:prstGeom prst="leftArrow">
            <a:avLst>
              <a:gd name="adj1" fmla="val 50000"/>
              <a:gd name="adj2" fmla="val 60019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 Importan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066680" y="2895480"/>
            <a:ext cx="72392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cesitamos Me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r los Efectos de nuestras a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Rediseñarl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Promo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28880" y="3048120"/>
            <a:ext cx="70866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 Directas al Consumi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 (Trade Promotio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del Reta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irectas al Consumid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209680"/>
            <a:ext cx="792468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oduc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Conciencia (Prueba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Generar Volumen (Compre 2, lleve 1 grat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bajas en el pre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 de Descuen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emios, Concur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lugar o el Merchandising (Displa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irigidas al Ca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2209680"/>
            <a:ext cx="73915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ductos grat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ducciones de Prec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 Ub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ublicidad Compartida (Catálog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Basadas en el Nivel de Ventas (Bonos e incentiv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blema del PassOver (No en productos HP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mociones del Retai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67816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scuentos del ret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isplay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t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up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gramas de Lealt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ndenci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2133720"/>
            <a:ext cx="73911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más de un 20% mayor que gasto en publicidad 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mociones al Canal. Tendencia crec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cluso en Retailers EDLP, siempre hay Promociones. En al menos algunas categorí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stos Indirect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1905120"/>
            <a:ext cx="80769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s promociones tienen costos indirectos que pueden ser gran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380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39880" y="4430880"/>
            <a:ext cx="2982960" cy="215640"/>
          </a:xfrm>
          <a:custGeom>
            <a:avLst/>
            <a:gdLst/>
            <a:ahLst/>
            <a:rect l="l" t="t" r="r" b="b"/>
            <a:pathLst>
              <a:path w="1879" h="136">
                <a:moveTo>
                  <a:pt x="0" y="136"/>
                </a:moveTo>
                <a:cubicBezTo>
                  <a:pt x="60" y="117"/>
                  <a:pt x="103" y="114"/>
                  <a:pt x="170" y="108"/>
                </a:cubicBezTo>
                <a:cubicBezTo>
                  <a:pt x="204" y="85"/>
                  <a:pt x="215" y="77"/>
                  <a:pt x="255" y="89"/>
                </a:cubicBezTo>
                <a:cubicBezTo>
                  <a:pt x="309" y="126"/>
                  <a:pt x="344" y="111"/>
                  <a:pt x="406" y="98"/>
                </a:cubicBezTo>
                <a:cubicBezTo>
                  <a:pt x="476" y="123"/>
                  <a:pt x="552" y="106"/>
                  <a:pt x="623" y="89"/>
                </a:cubicBezTo>
                <a:cubicBezTo>
                  <a:pt x="632" y="83"/>
                  <a:pt x="641" y="64"/>
                  <a:pt x="651" y="70"/>
                </a:cubicBezTo>
                <a:cubicBezTo>
                  <a:pt x="671" y="81"/>
                  <a:pt x="689" y="127"/>
                  <a:pt x="689" y="127"/>
                </a:cubicBezTo>
                <a:cubicBezTo>
                  <a:pt x="739" y="93"/>
                  <a:pt x="802" y="90"/>
                  <a:pt x="859" y="70"/>
                </a:cubicBezTo>
                <a:cubicBezTo>
                  <a:pt x="899" y="84"/>
                  <a:pt x="932" y="74"/>
                  <a:pt x="972" y="61"/>
                </a:cubicBezTo>
                <a:cubicBezTo>
                  <a:pt x="1038" y="64"/>
                  <a:pt x="1106" y="59"/>
                  <a:pt x="1171" y="70"/>
                </a:cubicBezTo>
                <a:cubicBezTo>
                  <a:pt x="1261" y="85"/>
                  <a:pt x="1123" y="120"/>
                  <a:pt x="1218" y="89"/>
                </a:cubicBezTo>
                <a:cubicBezTo>
                  <a:pt x="1283" y="104"/>
                  <a:pt x="1341" y="110"/>
                  <a:pt x="1407" y="98"/>
                </a:cubicBezTo>
                <a:cubicBezTo>
                  <a:pt x="1503" y="35"/>
                  <a:pt x="1441" y="63"/>
                  <a:pt x="1605" y="51"/>
                </a:cubicBezTo>
                <a:cubicBezTo>
                  <a:pt x="1680" y="0"/>
                  <a:pt x="1701" y="66"/>
                  <a:pt x="1766" y="70"/>
                </a:cubicBezTo>
                <a:cubicBezTo>
                  <a:pt x="1804" y="72"/>
                  <a:pt x="1841" y="70"/>
                  <a:pt x="1879" y="7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952880" y="3733920"/>
            <a:ext cx="0" cy="1981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952880" y="5715000"/>
            <a:ext cx="3200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946760" y="3747960"/>
            <a:ext cx="3913200" cy="1438560"/>
          </a:xfrm>
          <a:custGeom>
            <a:avLst/>
            <a:gdLst/>
            <a:ahLst/>
            <a:rect l="l" t="t" r="r" b="b"/>
            <a:pathLst>
              <a:path w="2465" h="906">
                <a:moveTo>
                  <a:pt x="0" y="604"/>
                </a:moveTo>
                <a:cubicBezTo>
                  <a:pt x="149" y="569"/>
                  <a:pt x="307" y="618"/>
                  <a:pt x="453" y="566"/>
                </a:cubicBezTo>
                <a:cubicBezTo>
                  <a:pt x="466" y="569"/>
                  <a:pt x="478" y="577"/>
                  <a:pt x="491" y="576"/>
                </a:cubicBezTo>
                <a:cubicBezTo>
                  <a:pt x="514" y="574"/>
                  <a:pt x="540" y="572"/>
                  <a:pt x="557" y="557"/>
                </a:cubicBezTo>
                <a:cubicBezTo>
                  <a:pt x="560" y="555"/>
                  <a:pt x="572" y="479"/>
                  <a:pt x="576" y="472"/>
                </a:cubicBezTo>
                <a:cubicBezTo>
                  <a:pt x="582" y="463"/>
                  <a:pt x="595" y="459"/>
                  <a:pt x="604" y="453"/>
                </a:cubicBezTo>
                <a:cubicBezTo>
                  <a:pt x="625" y="422"/>
                  <a:pt x="653" y="411"/>
                  <a:pt x="670" y="377"/>
                </a:cubicBezTo>
                <a:cubicBezTo>
                  <a:pt x="695" y="327"/>
                  <a:pt x="696" y="270"/>
                  <a:pt x="708" y="217"/>
                </a:cubicBezTo>
                <a:cubicBezTo>
                  <a:pt x="721" y="159"/>
                  <a:pt x="741" y="116"/>
                  <a:pt x="774" y="66"/>
                </a:cubicBezTo>
                <a:cubicBezTo>
                  <a:pt x="780" y="56"/>
                  <a:pt x="789" y="48"/>
                  <a:pt x="793" y="37"/>
                </a:cubicBezTo>
                <a:cubicBezTo>
                  <a:pt x="796" y="28"/>
                  <a:pt x="794" y="14"/>
                  <a:pt x="803" y="9"/>
                </a:cubicBezTo>
                <a:cubicBezTo>
                  <a:pt x="819" y="0"/>
                  <a:pt x="840" y="3"/>
                  <a:pt x="859" y="0"/>
                </a:cubicBezTo>
                <a:cubicBezTo>
                  <a:pt x="905" y="14"/>
                  <a:pt x="920" y="52"/>
                  <a:pt x="935" y="94"/>
                </a:cubicBezTo>
                <a:cubicBezTo>
                  <a:pt x="920" y="153"/>
                  <a:pt x="920" y="113"/>
                  <a:pt x="944" y="160"/>
                </a:cubicBezTo>
                <a:cubicBezTo>
                  <a:pt x="949" y="169"/>
                  <a:pt x="949" y="180"/>
                  <a:pt x="954" y="189"/>
                </a:cubicBezTo>
                <a:cubicBezTo>
                  <a:pt x="965" y="209"/>
                  <a:pt x="992" y="245"/>
                  <a:pt x="992" y="245"/>
                </a:cubicBezTo>
                <a:cubicBezTo>
                  <a:pt x="1005" y="285"/>
                  <a:pt x="1025" y="297"/>
                  <a:pt x="1048" y="330"/>
                </a:cubicBezTo>
                <a:cubicBezTo>
                  <a:pt x="1063" y="351"/>
                  <a:pt x="1072" y="375"/>
                  <a:pt x="1086" y="396"/>
                </a:cubicBezTo>
                <a:cubicBezTo>
                  <a:pt x="1106" y="461"/>
                  <a:pt x="1077" y="391"/>
                  <a:pt x="1124" y="443"/>
                </a:cubicBezTo>
                <a:cubicBezTo>
                  <a:pt x="1147" y="468"/>
                  <a:pt x="1156" y="504"/>
                  <a:pt x="1180" y="528"/>
                </a:cubicBezTo>
                <a:cubicBezTo>
                  <a:pt x="1211" y="559"/>
                  <a:pt x="1247" y="607"/>
                  <a:pt x="1284" y="632"/>
                </a:cubicBezTo>
                <a:cubicBezTo>
                  <a:pt x="1287" y="645"/>
                  <a:pt x="1288" y="658"/>
                  <a:pt x="1294" y="670"/>
                </a:cubicBezTo>
                <a:cubicBezTo>
                  <a:pt x="1329" y="741"/>
                  <a:pt x="1357" y="740"/>
                  <a:pt x="1426" y="765"/>
                </a:cubicBezTo>
                <a:cubicBezTo>
                  <a:pt x="1437" y="810"/>
                  <a:pt x="1428" y="825"/>
                  <a:pt x="1473" y="840"/>
                </a:cubicBezTo>
                <a:cubicBezTo>
                  <a:pt x="1534" y="881"/>
                  <a:pt x="1570" y="894"/>
                  <a:pt x="1643" y="906"/>
                </a:cubicBezTo>
                <a:cubicBezTo>
                  <a:pt x="1703" y="900"/>
                  <a:pt x="1765" y="904"/>
                  <a:pt x="1822" y="887"/>
                </a:cubicBezTo>
                <a:cubicBezTo>
                  <a:pt x="1835" y="883"/>
                  <a:pt x="1825" y="860"/>
                  <a:pt x="1832" y="849"/>
                </a:cubicBezTo>
                <a:cubicBezTo>
                  <a:pt x="1839" y="838"/>
                  <a:pt x="1850" y="829"/>
                  <a:pt x="1860" y="821"/>
                </a:cubicBezTo>
                <a:cubicBezTo>
                  <a:pt x="1878" y="807"/>
                  <a:pt x="1917" y="783"/>
                  <a:pt x="1917" y="783"/>
                </a:cubicBezTo>
                <a:cubicBezTo>
                  <a:pt x="1968" y="708"/>
                  <a:pt x="1901" y="799"/>
                  <a:pt x="1964" y="736"/>
                </a:cubicBezTo>
                <a:cubicBezTo>
                  <a:pt x="1996" y="704"/>
                  <a:pt x="1992" y="695"/>
                  <a:pt x="2040" y="680"/>
                </a:cubicBezTo>
                <a:cubicBezTo>
                  <a:pt x="2055" y="631"/>
                  <a:pt x="2076" y="610"/>
                  <a:pt x="2125" y="595"/>
                </a:cubicBezTo>
                <a:cubicBezTo>
                  <a:pt x="2166" y="567"/>
                  <a:pt x="2177" y="515"/>
                  <a:pt x="2219" y="491"/>
                </a:cubicBezTo>
                <a:cubicBezTo>
                  <a:pt x="2270" y="462"/>
                  <a:pt x="2416" y="443"/>
                  <a:pt x="2465" y="44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8600" y="586728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manda Ideal para una linea de pro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6019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anda típica producto de una Promo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41360" y="3962520"/>
            <a:ext cx="39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0" y="411480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73392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543800" y="53341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4T17:22:50Z</dcterms:created>
  <dc:creator>.</dc:creator>
  <dc:description/>
  <dc:language>en-US</dc:language>
  <cp:lastModifiedBy>.............</cp:lastModifiedBy>
  <dcterms:modified xsi:type="dcterms:W3CDTF">2005-11-17T02:14:01Z</dcterms:modified>
  <cp:revision>38</cp:revision>
  <dc:subject/>
  <dc:title>Objetivo</dc:title>
</cp:coreProperties>
</file>