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9C4-055E-4C53-B64B-94F437B6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783-1F3B-45AF-93F1-F9B8941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7BD-FE59-480C-B335-629E1AF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B7D-FE03-41D0-AB7C-0624A4D3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100-13E1-43D3-ACEA-E2B14A0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089-936F-4CEE-85F7-DB1B189B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82A-4572-443B-BCF9-9BFEEA3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D77-E2D3-4A88-8CCC-44FE71C9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384-A37A-480C-B9B8-668C8E1D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FAA-5111-4BAD-8EB8-4092CF3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02F-4D40-4055-9C3D-CCC67B8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DFA-2524-461B-805B-F0F66A2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C6A-E5E5-4CB9-B9B9-DDADBC49A5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ximo Bo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84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99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110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123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les: Caso Interme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álisis de 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403848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álisis de 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inea base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2666880"/>
            <a:ext cx="79250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blema de los FMG en baja Ro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1  2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1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El 0 es que la demanda fue 0 no estaba en la gónd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ótese que la LB se ve afectada según lo que asumimos para esa cifra. La LB puede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o 1,17, o 1,33 ( o más inclu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lculo del Ef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(de Corto Plaz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218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71600" y="2362320"/>
            <a:ext cx="6324480" cy="3581280"/>
            <a:chOff x="1371600" y="2362320"/>
            <a:chExt cx="6324480" cy="3581280"/>
          </a:xfrm>
        </p:grpSpPr>
        <p:sp>
          <p:nvSpPr>
            <p:cNvPr id="227" name=""/>
            <p:cNvSpPr/>
            <p:nvPr/>
          </p:nvSpPr>
          <p:spPr>
            <a:xfrm>
              <a:off x="137160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F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5320" y="426708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úmer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208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26708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ra Pro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548640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as de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36232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114800" y="327384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434340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352680" y="3733920"/>
              <a:ext cx="2361960" cy="533160"/>
              <a:chOff x="3352680" y="3733920"/>
              <a:chExt cx="2361960" cy="53316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37339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495320" y="3733920"/>
                <a:ext cx="1219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5680" y="40384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133720" y="2819520"/>
              <a:ext cx="2438280" cy="457200"/>
              <a:chOff x="2133720" y="2819520"/>
              <a:chExt cx="2438280" cy="457200"/>
            </a:xfrm>
          </p:grpSpPr>
          <p:sp>
            <p:nvSpPr>
              <p:cNvPr id="242" name=""/>
              <p:cNvSpPr/>
              <p:nvPr/>
            </p:nvSpPr>
            <p:spPr>
              <a:xfrm>
                <a:off x="2133720" y="28195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3276720" y="2819520"/>
                <a:ext cx="12952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76720" y="3124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572000" y="4724280"/>
              <a:ext cx="2361960" cy="762120"/>
              <a:chOff x="4572000" y="4724280"/>
              <a:chExt cx="2361960" cy="762120"/>
            </a:xfrm>
          </p:grpSpPr>
          <p:sp>
            <p:nvSpPr>
              <p:cNvPr id="246" name=""/>
              <p:cNvSpPr/>
              <p:nvPr/>
            </p:nvSpPr>
            <p:spPr>
              <a:xfrm>
                <a:off x="4572000" y="4724280"/>
                <a:ext cx="11430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714640" y="4724280"/>
                <a:ext cx="12193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15000" y="5029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2120" y="2362320"/>
            <a:ext cx="6933960" cy="4038480"/>
            <a:chOff x="762120" y="2362320"/>
            <a:chExt cx="6933960" cy="4038480"/>
          </a:xfrm>
        </p:grpSpPr>
        <p:sp>
          <p:nvSpPr>
            <p:cNvPr id="251" name=""/>
            <p:cNvSpPr/>
            <p:nvPr/>
          </p:nvSpPr>
          <p:spPr>
            <a:xfrm>
              <a:off x="1371600" y="2362320"/>
              <a:ext cx="1600200" cy="457200"/>
            </a:xfrm>
            <a:prstGeom prst="rect">
              <a:avLst/>
            </a:prstGeom>
            <a:solidFill>
              <a:srgbClr val="fa0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F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05320" y="426708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úmer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7208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426708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ra Pro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2320" y="327672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52880" y="548640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as de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236232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114800" y="327384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434340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352680" y="3733920"/>
              <a:ext cx="2361960" cy="533160"/>
              <a:chOff x="3352680" y="3733920"/>
              <a:chExt cx="2361960" cy="533160"/>
            </a:xfrm>
          </p:grpSpPr>
          <p:sp>
            <p:nvSpPr>
              <p:cNvPr id="262" name=""/>
              <p:cNvSpPr/>
              <p:nvPr/>
            </p:nvSpPr>
            <p:spPr>
              <a:xfrm>
                <a:off x="3352680" y="37339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495320" y="3733920"/>
                <a:ext cx="1219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95680" y="40384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133720" y="2819520"/>
              <a:ext cx="2438280" cy="457200"/>
              <a:chOff x="2133720" y="2819520"/>
              <a:chExt cx="2438280" cy="457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133720" y="28195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3276720" y="2819520"/>
                <a:ext cx="12952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76720" y="3124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572000" y="4724280"/>
              <a:ext cx="2361960" cy="762120"/>
              <a:chOff x="4572000" y="4724280"/>
              <a:chExt cx="2361960" cy="762120"/>
            </a:xfrm>
          </p:grpSpPr>
          <p:sp>
            <p:nvSpPr>
              <p:cNvPr id="270" name=""/>
              <p:cNvSpPr/>
              <p:nvPr/>
            </p:nvSpPr>
            <p:spPr>
              <a:xfrm>
                <a:off x="4572000" y="4724280"/>
                <a:ext cx="11430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714640" y="4724280"/>
                <a:ext cx="12193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15000" y="5029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62120" y="5943600"/>
              <a:ext cx="1523880" cy="457200"/>
            </a:xfrm>
            <a:prstGeom prst="rect">
              <a:avLst/>
            </a:prstGeom>
            <a:solidFill>
              <a:srgbClr val="fa0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d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449568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120" y="5181480"/>
              <a:ext cx="1523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lcul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666880"/>
            <a:ext cx="2362320" cy="396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mo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Ubic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2666880"/>
            <a:ext cx="2362320" cy="396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áfico en F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a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e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590920"/>
            <a:ext cx="236232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ía de la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828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1905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de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In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46483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464832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 Impor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28954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itamos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r los Efectos de nuestra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Rediseñ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 del PassOver (No en productos H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.............</cp:lastModifiedBy>
  <dcterms:modified xsi:type="dcterms:W3CDTF">2005-11-17T02:14:01Z</dcterms:modified>
  <cp:revision>38</cp:revision>
  <dc:subject/>
  <dc:title>Objetivo</dc:title>
</cp:coreProperties>
</file>