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7D6-029B-4114-BC2B-CA252B6B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62B-EF92-4858-9EF0-45F8AFA2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186-7012-4571-A156-C6222306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174-C5A6-46B6-981E-94106426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E5E0-50D3-4B22-AAE3-1C7434EA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4F24-A641-4294-954F-58BDDC58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002A-2D1A-4A13-BA10-F62B7696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6E0F-F146-4F59-B7BD-0FE6F7C3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830F-BCC3-4B0D-9A58-F2AF40C7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965C-95C6-4673-9795-3B5E5348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B8D7-CFE6-4803-98AA-0EE4802C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023-ABD5-46FE-A31B-FF195466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346A-772D-4AFF-B3C5-5908A884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508E-DCA5-413F-956A-C10B3B36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B0E6-5F61-41E2-8550-394A4110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AEFA-ABCA-4CF1-8755-1A903576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A4A8-8214-46E7-9D4E-E64A7108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FC4-1B37-4B7F-BFC3-2BB6FBF2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4DA-5835-4395-B1C3-42B64F1C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053-2020-46AC-9158-CB9FDBBE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ED4-368E-49FF-BFE5-99B1F89E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46D-D13F-4088-83A7-ED6111D2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B1F-79C9-44C5-AD72-E6937804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50F-E672-4EBC-8C94-73C07F3A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011C-21AF-40BB-B1BA-AAABB6A2BC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F2FB-02D5-4ED3-91D0-569F8E6EBA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Efecto promo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da primaria(categoría) o secundaria (marca/mode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: en la semana 3, AS 1000g incluyó un juguete…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su PM subió de 25% a 45%, pero 2 semanas después su PM bajó a 22%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sibl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r también efectos de las promociones de otras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200" y="237960"/>
            <a:ext cx="79250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2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3280" y="1196640"/>
            <a:ext cx="510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in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ultiplic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xpon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320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Consider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istencia lóg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M son no neg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M deben suma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puts de los mode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. MCI no admite dum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Justificar basado en los datos que tengo y lo que bu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. ¿Cómo incluyo el efecto de las promociones de otras marcas en los modelos? ¿Es necesario incluir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Estimación vent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ar modelos simples de series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dia móvil, suavización expon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considerar esta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s modelos sencillos generalmente dan buenos resultados a alta agregación (categorí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Ej. Suavización exponenci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aY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+ (1-a)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979640" y="2114640"/>
          <a:ext cx="5472000" cy="408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114640"/>
                    <a:ext cx="547200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43:46Z</dcterms:created>
  <dc:creator>Juan Pablo Castro Ansieta</dc:creator>
  <dc:description/>
  <dc:language>en-US</dc:language>
  <cp:lastModifiedBy>Juan Pablo Castro Ansieta</cp:lastModifiedBy>
  <dcterms:modified xsi:type="dcterms:W3CDTF">2005-10-20T16:44:11Z</dcterms:modified>
  <cp:revision>2</cp:revision>
  <dc:subject/>
  <dc:title>Efecto promociones</dc:title>
</cp:coreProperties>
</file>