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9336-08AF-4540-8DEA-81EBBD1B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739-1087-4730-A91D-E09D8013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90C-05ED-44F9-943B-F9355B68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7D3-C503-4330-80D9-E7BF5BC3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E7D0-0088-42CE-ACAC-301C372C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890D-48BD-4D89-B14F-9A20FB99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108F-B638-41B1-A91C-34EC7D26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213C-4F18-4C23-B0C0-EE2DC30C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3C9C-F09C-42E1-890D-C45693EE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781E-1928-49EC-8072-67D33FE9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DE67-BDD6-49DE-BB98-A85448EC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8D1-4002-4DFA-BCD7-F2BA64F1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836A-8612-4E0E-AA63-1366A8EA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5A65-D1E6-443C-B91A-87BD2073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8194-6101-4571-98FA-575870B9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BBA9-96A3-40F4-9AA9-05002FDA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C676-3318-42D1-A15F-D425B788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784-9DF5-4961-B32A-052C0B8C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83C0-BE5A-44D5-8D57-D8FE823B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ABC9-C3D6-4BA1-A73C-BF3A9F64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42C4-EF65-4D89-B935-E77DC935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1BA-6D54-4AF5-BFEF-FD36D10E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FBAF-9AB1-4E53-9BC3-F78B5E39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38A-39BA-4BD4-95D8-88DF5D25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F8E9-F890-44AC-B86D-3D0F40FF9D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FB65-1EB2-4C17-9070-93AAAC9978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Arial"/>
              </a:rPr>
              <a:t>Efecto promo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da primaria(categoría) o secundaria (marca/mode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: en la semana 3, AS 1000g incluyó un juguete…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su PM subió de 25% a 45%, pero 2 semanas después su PM bajó a 22%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sibl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r también efectos de las promociones de otras mar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1200" y="237960"/>
            <a:ext cx="79250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200" spc="-1" strike="noStrike">
                <a:solidFill>
                  <a:srgbClr val="ff0066"/>
                </a:solidFill>
                <a:latin typeface="Verdana"/>
              </a:rPr>
              <a:t>Modelos de P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03280" y="1196640"/>
            <a:ext cx="510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in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ultiplic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xpon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320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Arial"/>
              </a:rPr>
              <a:t>Considera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istencia lóg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PM son no neg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PM deben suma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puts de los mode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. MCI no admite dum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Justificar basado en los datos que tengo y lo que bus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. ¿Cómo incluyo el efecto de las promociones de otras marcas en los modelos? ¿Es necesario incluir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Arial"/>
              </a:rPr>
              <a:t>Estimación vent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sar modelos simples de series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dia móvil, suavización expon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considerar estacion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s modelos sencillos generalmente dan buenos resultados a alta agregación (categorí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Arial"/>
              </a:rPr>
              <a:t>Ej. Suavización exponenci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=aY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-1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+ (1-a)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979640" y="2114640"/>
          <a:ext cx="5472000" cy="408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114640"/>
                    <a:ext cx="547200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5:43:46Z</dcterms:created>
  <dc:creator>Juan Pablo Castro Ansieta</dc:creator>
  <dc:description/>
  <dc:language>en-US</dc:language>
  <cp:lastModifiedBy>Juan Pablo Castro Ansieta</cp:lastModifiedBy>
  <dcterms:modified xsi:type="dcterms:W3CDTF">2005-10-20T16:44:11Z</dcterms:modified>
  <cp:revision>2</cp:revision>
  <dc:subject/>
  <dc:title>Efecto promociones</dc:title>
</cp:coreProperties>
</file>