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79E-281F-4451-8298-FFE34CA1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EDB-836D-4BC5-ABEC-6A4B2E91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687-92A9-44E2-8A6D-E63CD70A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74E-28AF-48F7-B610-5FBC84FA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9A3-9945-4A8D-85A7-AB3BE768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6792-703E-430E-A9D1-8BBF8796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AE8-C21E-499E-AD2D-1F73ACBC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29C5-C7F4-4C78-A9BE-C01FCBA1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E0B8-F21E-490D-9367-5E0D5C81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ECBF-D28F-411B-9672-4E572C24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D7AB-19A5-4111-AF37-27E025A1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9A2-2FA0-4EA5-BFB0-FFB7FA7D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4EAA-74B2-4488-B674-2B437D80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50E6-0702-4EF5-990A-D58B55BB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E30E-51DB-4B62-95B4-6585D986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F0A6-53D3-4ABA-A149-ED62D47E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0EC9-AFE5-45AA-9949-8C79444B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FCC-0D08-4CE8-9C81-23F65C7F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02C-3632-4704-87F4-F585A004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11B-FE3F-4305-BA0E-A256F16E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866-9008-4202-9616-96526AD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9BF-7312-49CD-879F-52F91337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D46-AE96-4D5C-9FF7-0BE4E77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E8B-02C2-4294-A48D-FA9FF1A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A5BA-2416-4945-A063-93CDA82D9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51CA-5543-4416-B892-95C8C5464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fecto promo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da primaria(categoría) o secundaria (marca/mode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: en la semana 3, AS 1000g incluyó un juguete…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u PM subió de 25% a 45%, pero 2 semanas después su PM bajó a 22%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ibl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r también efectos de las promociones de otras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200" y="237960"/>
            <a:ext cx="79250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119664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plic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n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Consider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stencia lóg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M son no neg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M deben suma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puts de los mode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. MCI no admite dum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Justificar basado en los datos que tengo y lo que bu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. ¿Cómo incluyo el efecto de las promociones de otras marcas en los modelos? ¿Es necesario inclu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stimación vent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ar modelos simples de series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a móvil, suavización expon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considerar esta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modelos sencillos generalmente dan buenos resultados a alta agregación (categorí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j. Suavización exponenci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a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+ (1-a)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79640" y="2114640"/>
          <a:ext cx="5472000" cy="40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114640"/>
                    <a:ext cx="54720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43:46Z</dcterms:created>
  <dc:creator>Juan Pablo Castro Ansieta</dc:creator>
  <dc:description/>
  <dc:language>en-US</dc:language>
  <cp:lastModifiedBy>Juan Pablo Castro Ansieta</cp:lastModifiedBy>
  <dcterms:modified xsi:type="dcterms:W3CDTF">2005-10-20T16:44:11Z</dcterms:modified>
  <cp:revision>2</cp:revision>
  <dc:subject/>
  <dc:title>Efecto promociones</dc:title>
</cp:coreProperties>
</file>