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C20-B957-4663-837F-9A189F25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3B1-6316-4B8B-A086-1948ACFE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190-0335-428B-92DB-FBDB2A9B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5BD-7ADC-4CA3-9FEA-52560325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F02-EC62-493A-AF07-B2E82D58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D9B-1DEB-4753-8D17-E7E0AB21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B77-183D-424B-BC89-D30920B4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3BB-6F58-4DCA-9E9D-4F68D393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64F-DCA4-494C-A51E-477D6616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850-C62A-417F-BEE3-8B4BBD16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A3C-F10B-49DC-9F1F-E77EA46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CBF-7FC2-4B61-9A7C-02F28FBA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79AB-1042-440C-8401-B7F097D9B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2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RT: Software para la realización de análisis conju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para no inici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686040" cy="2067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5880" y="1981080"/>
            <a:ext cx="1440000" cy="609840"/>
          </a:xfrm>
          <a:prstGeom prst="borderCallout1">
            <a:avLst>
              <a:gd name="adj1" fmla="val 18750"/>
              <a:gd name="adj2" fmla="val -8333"/>
              <a:gd name="adj3" fmla="val 303907"/>
              <a:gd name="adj4" fmla="val -115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Opción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429000" y="2895480"/>
          <a:ext cx="25146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95480"/>
                    <a:ext cx="25146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1295280" y="4951440"/>
            <a:ext cx="1828800" cy="915840"/>
          </a:xfrm>
          <a:prstGeom prst="borderCallout1">
            <a:avLst>
              <a:gd name="adj1" fmla="val 18750"/>
              <a:gd name="adj2" fmla="val -8333"/>
              <a:gd name="adj3" fmla="val -178162"/>
              <a:gd name="adj4" fmla="val 1385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definir atributos y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248520" y="14479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66925"/>
              <a:gd name="adj4" fmla="val -882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eño de Cuest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6629400" y="50292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282550"/>
              <a:gd name="adj4" fmla="val -7089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r 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1219320" y="16765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16148"/>
              <a:gd name="adj4" fmla="val 21675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ámetros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0"/>
            <a:ext cx="182880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17620"/>
              <a:gd name="adj5" fmla="val 195601"/>
              <a:gd name="adj6" fmla="val 1700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672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34064"/>
              <a:gd name="adj5" fmla="val 326657"/>
              <a:gd name="adj6" fmla="val 1639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384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64703"/>
              <a:gd name="adj5" fmla="val 447263"/>
              <a:gd name="adj6" fmla="val 398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1628640"/>
            <a:ext cx="21445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03550"/>
              <a:gd name="adj5" fmla="val 303319"/>
              <a:gd name="adj6" fmla="val 18956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5962680" cy="430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114800"/>
            <a:ext cx="1807920" cy="91692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174189"/>
              <a:gd name="adj5" fmla="val -107805"/>
              <a:gd name="adj6" fmla="val 2444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ero Compa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421240"/>
            <a:ext cx="1807920" cy="1465560"/>
          </a:xfrm>
          <a:prstGeom prst="borderCallout2">
            <a:avLst>
              <a:gd name="adj1" fmla="val 18750"/>
              <a:gd name="adj2" fmla="val -8333"/>
              <a:gd name="adj3" fmla="val 9398"/>
              <a:gd name="adj4" fmla="val 147583"/>
              <a:gd name="adj5" fmla="val 8569"/>
              <a:gd name="adj6" fmla="val 19112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9800" cy="4172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38768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144777"/>
              <a:gd name="adj5" fmla="val -61314"/>
              <a:gd name="adj6" fmla="val 185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ado 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5771880" cy="410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1752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2407"/>
              <a:gd name="adj5" fmla="val 162092"/>
              <a:gd name="adj6" fmla="val -8076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2160" y="16002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967"/>
              <a:gd name="adj5" fmla="val 322393"/>
              <a:gd name="adj6" fmla="val -12597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do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895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1263"/>
              <a:gd name="adj5" fmla="val 39078"/>
              <a:gd name="adj6" fmla="val -78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ción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89600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3546"/>
              <a:gd name="adj5" fmla="val 190523"/>
              <a:gd name="adj6" fmla="val -8303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usando formas predefin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170496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manu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3943440" cy="248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981080"/>
            <a:ext cx="373356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Tipo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Interfa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MRT: Interfaz general que provee el proveedor de Software (Sawtooth). Sus funcionalidade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atributos y niv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uestio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lamada a los proces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77224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190512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ción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7224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evo listado de preguntas con el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2681280"/>
            <a:ext cx="2743200" cy="1495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713120"/>
            <a:ext cx="3733920" cy="146556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-16453"/>
              <a:gd name="adj5" fmla="val -77430"/>
              <a:gd name="adj6" fmla="val -3094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poder procesar los datos, estos deben ser guardados. No guarden hasta que estén conformes con el diseño d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pilando información distribuid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743200" y="3048120"/>
          <a:ext cx="3067200" cy="14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8120"/>
                    <a:ext cx="3067200" cy="14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421320" y="2033640"/>
            <a:ext cx="1808280" cy="916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6805"/>
              <a:gd name="adj5" fmla="val 170444"/>
              <a:gd name="adj6" fmla="val -111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Discos de Recop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743200"/>
            <a:ext cx="18082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861"/>
              <a:gd name="adj5" fmla="val 165884"/>
              <a:gd name="adj6" fmla="val -769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datos desde dis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038480"/>
            <a:ext cx="1808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0560"/>
              <a:gd name="adj5" fmla="val 14324"/>
              <a:gd name="adj6" fmla="val -7813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encuesta 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800600"/>
            <a:ext cx="182880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-50953"/>
              <a:gd name="adj5" fmla="val -32638"/>
              <a:gd name="adj6" fmla="val -9965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encuesta desde archivos de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r enc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229200" cy="4676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discos recopi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14800" y="2576520"/>
            <a:ext cx="2714400" cy="1704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sde dis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43200" y="2124000"/>
            <a:ext cx="5457600" cy="2610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076640" cy="2685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Mé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733920" y="3124080"/>
          <a:ext cx="15573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24080"/>
                    <a:ext cx="1557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8520" y="25020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84812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6476"/>
              <a:gd name="adj4" fmla="val -49958"/>
              <a:gd name="adj5" fmla="val -1611"/>
              <a:gd name="adj6" fmla="val -9761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ción de mercado y visualización de las funciones de utilidad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010280" y="25909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82439"/>
              <a:gd name="adj5" fmla="val -225472"/>
              <a:gd name="adj6" fmla="val -1636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62920" y="2438280"/>
            <a:ext cx="180792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444"/>
              <a:gd name="adj5" fmla="val 176648"/>
              <a:gd name="adj6" fmla="val -12693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29200" y="31240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8305"/>
              <a:gd name="adj5" fmla="val -281518"/>
              <a:gd name="adj6" fmla="val -13493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a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61920" y="77616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15000" y="23623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dades pa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tradicional. Las comparaciones se hacen en una escala gradual de preferencia. Al entrevistado se le pide que diga el grado de preferencia entre dos per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pide que elija cual es el perfil que prefiere forzando que se quede solo con un perfil por com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usando LOGIT (alternativamente, como veremos en clases podemos calibrar con un P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que vaya haciendo comparaciones parciales. Las comparaciones que deben hacerse se calculan dinámicamente en base a los requerimientos de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DII no tiene licencias para la aplicación de este métod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de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28880" y="3341520"/>
          <a:ext cx="3267000" cy="12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8880" y="3341520"/>
                    <a:ext cx="326700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71880" y="4865760"/>
            <a:ext cx="1803600" cy="368280"/>
          </a:xfrm>
          <a:prstGeom prst="borderCallout1">
            <a:avLst>
              <a:gd name="adj1" fmla="val 18750"/>
              <a:gd name="adj2" fmla="val -8333"/>
              <a:gd name="adj3" fmla="val -255467"/>
              <a:gd name="adj4" fmla="val -47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le→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932200"/>
            <a:ext cx="4572000" cy="3011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5680" y="22464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491407"/>
              <a:gd name="adj4" fmla="val -682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10:35:03Z</dcterms:created>
  <dc:creator>Marcel Goic F.</dc:creator>
  <dc:description/>
  <dc:language>en-US</dc:language>
  <cp:lastModifiedBy>Marcel Goic F.</cp:lastModifiedBy>
  <dcterms:modified xsi:type="dcterms:W3CDTF">2004-05-18T14:06:06Z</dcterms:modified>
  <cp:revision>6</cp:revision>
  <dc:subject/>
  <dc:title>SMRT: Software para la realización de análisis conjunto</dc:title>
</cp:coreProperties>
</file>