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41A-A134-461B-B550-BD7E462C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E41-C658-45D7-AA74-221238F3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5A7-9F31-46E5-B59A-10702310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D22-EC36-40A8-92CC-2A2F394E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0BF-2709-4618-8556-A129FED5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6BE-0D20-41AD-AAA0-1ED1A310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C6A-0C2C-4BE6-84DA-C79C1765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83D-148D-4427-A84C-F3D79EFA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38D-068C-4206-9BF7-F857D27F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96E1-1D45-4BFC-9CDF-07143A0E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1CF-7EA4-45B2-9B1C-6B002821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982-9279-491F-8041-B4FD1C34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6B25-1721-4DA1-A41B-2B433AA42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luster y Tre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J. Pablo Ca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16360" y="260280"/>
            <a:ext cx="2808000" cy="1224000"/>
          </a:xfrm>
          <a:prstGeom prst="wedgeRoundRectCallout">
            <a:avLst>
              <a:gd name="adj1" fmla="val -53449"/>
              <a:gd name="adj2" fmla="val 9578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abre el archivo tabulado de Excel (Guardar como texto tabul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917640"/>
            <a:ext cx="7921440" cy="594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2708280"/>
            <a:ext cx="1944720" cy="1440000"/>
          </a:xfrm>
          <a:prstGeom prst="wedgeRoundRectCallout">
            <a:avLst>
              <a:gd name="adj1" fmla="val -62490"/>
              <a:gd name="adj2" fmla="val 10225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e selecciona la forma de medir la distancia: Euclidiana o City-Block(Manhatt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4005360"/>
            <a:ext cx="720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508640"/>
            <a:ext cx="2736720" cy="1008000"/>
          </a:xfrm>
          <a:prstGeom prst="wedgeRoundRectCallout">
            <a:avLst>
              <a:gd name="adj1" fmla="val -114731"/>
              <a:gd name="adj2" fmla="val 45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criterio de cercanía entre grup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32520" y="20808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erárquico (Busco dendogra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900920" cy="5925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08720" y="3933720"/>
            <a:ext cx="1944720" cy="1440000"/>
          </a:xfrm>
          <a:prstGeom prst="wedgeRoundRectCallout">
            <a:avLst>
              <a:gd name="adj1" fmla="val -163143"/>
              <a:gd name="adj2" fmla="val 4537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e selecciona la forma de medir la distancia: Euclidiana o City-Block(Manhatt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3789360"/>
            <a:ext cx="93636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2565360"/>
            <a:ext cx="2737080" cy="1008000"/>
          </a:xfrm>
          <a:prstGeom prst="wedgeRoundRectCallout">
            <a:avLst>
              <a:gd name="adj1" fmla="val -140777"/>
              <a:gd name="adj2" fmla="val 107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el número de grup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31440" y="208080"/>
            <a:ext cx="30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Jerárquico (ej, K-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ierarchical genera un archivo de texto “nombre_proyecto.cdt”  Abrir con TreeView para la representación del dend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K-Means genera “nombre_proyecto_K_G3.kgg” y “nombre_proyecto_K_G3.cdt”.  Abrir este último con TreeView.  El .kgg se puede abrir con Notepad e indica la asignación de gru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nd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613640" cy="5712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11640" y="3500280"/>
            <a:ext cx="3673440" cy="2449800"/>
          </a:xfrm>
          <a:prstGeom prst="wedgeRoundRectCallout">
            <a:avLst>
              <a:gd name="adj1" fmla="val -109421"/>
              <a:gd name="adj2" fmla="val -72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 seleccionar una rama, se está señalando un grupo, cuyos integrantes se muestran en esta ventana. En este caso, aquí el grupo seleccionado, el 3, está formado por a y b. Con ese criterio, tendríamos 4 grupos (1,2,3 y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180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708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580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708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580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K-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664400" cy="574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51280" y="2708280"/>
            <a:ext cx="865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987640" y="3860280"/>
            <a:ext cx="1728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492360" y="4437000"/>
            <a:ext cx="1150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3357720"/>
            <a:ext cx="23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á se muestran los n (n=3 aquí) grupos predeterminados y sus integ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21:03:10Z</dcterms:created>
  <dc:creator>Juan Pablo Castro Ansieta</dc:creator>
  <dc:description/>
  <dc:language>en-US</dc:language>
  <cp:lastModifiedBy>Juan Pablo Castro Ansieta</cp:lastModifiedBy>
  <dcterms:modified xsi:type="dcterms:W3CDTF">2005-09-22T21:29:23Z</dcterms:modified>
  <cp:revision>2</cp:revision>
  <dc:subject/>
  <dc:title>Cluster y TreeView</dc:title>
</cp:coreProperties>
</file>