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6CD-684C-48A9-86CB-E3769085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0D1-35BA-42C5-B040-DD156110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7D1-A751-44F7-8D37-557118B2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7B8-8E2C-49C1-98B3-57338D52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FB0-6763-4C00-96AD-8595213E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E48-D985-4090-A45F-826C0A01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D56-37CD-4397-B342-718437CE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0F8-0FB6-4728-9CF2-F745C6E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DC4-0561-4924-893D-62E7980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980-3616-4D90-9F3E-69799C3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538-CB75-45A0-9101-CFB6C20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2F9-DB1C-475B-A75A-8504B78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A987-89C6-460C-A7D8-8707C7173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luster y Tre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. Pablo C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16360" y="260280"/>
            <a:ext cx="2808000" cy="1224000"/>
          </a:xfrm>
          <a:prstGeom prst="wedgeRoundRectCallout">
            <a:avLst>
              <a:gd name="adj1" fmla="val -53449"/>
              <a:gd name="adj2" fmla="val 95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bre el archivo tabulado de Excel (Guardar como texto tabul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917640"/>
            <a:ext cx="7921440" cy="594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2708280"/>
            <a:ext cx="1944720" cy="1440000"/>
          </a:xfrm>
          <a:prstGeom prst="wedgeRoundRectCallout">
            <a:avLst>
              <a:gd name="adj1" fmla="val -62490"/>
              <a:gd name="adj2" fmla="val 1022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elecciona la forma de medir la distancia: Euclidiana o City-Block(Manhatt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4005360"/>
            <a:ext cx="720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508640"/>
            <a:ext cx="2736720" cy="1008000"/>
          </a:xfrm>
          <a:prstGeom prst="wedgeRoundRectCallout">
            <a:avLst>
              <a:gd name="adj1" fmla="val -114731"/>
              <a:gd name="adj2" fmla="val 45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criterio de cercanía entre grup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2520" y="2080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erárquico (Busco dendogr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900920" cy="5925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3933720"/>
            <a:ext cx="1944720" cy="1440000"/>
          </a:xfrm>
          <a:prstGeom prst="wedgeRoundRectCallout">
            <a:avLst>
              <a:gd name="adj1" fmla="val -163143"/>
              <a:gd name="adj2" fmla="val 45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elecciona la forma de medir la distancia: Euclidiana o City-Block(Manhatt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3789360"/>
            <a:ext cx="936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2565360"/>
            <a:ext cx="2737080" cy="1008000"/>
          </a:xfrm>
          <a:prstGeom prst="wedgeRoundRectCallout">
            <a:avLst>
              <a:gd name="adj1" fmla="val -140777"/>
              <a:gd name="adj2" fmla="val 107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el número de grup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1440" y="20808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Jerárquico (ej, K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ierarchical genera un archivo de texto “nombre_proyecto.cdt”  Abrir con TreeView para la representación del dend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K-Means genera “nombre_proyecto_K_G3.kgg” y “nombre_proyecto_K_G3.cdt”.  Abrir este último con TreeView.  El .kgg se puede abrir con Notepad e indica la asignación de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nd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613640" cy="5712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1640" y="3500280"/>
            <a:ext cx="3673440" cy="2449800"/>
          </a:xfrm>
          <a:prstGeom prst="wedgeRoundRectCallout">
            <a:avLst>
              <a:gd name="adj1" fmla="val -109421"/>
              <a:gd name="adj2" fmla="val -7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seleccionar una rama, se está señalando un grupo, cuyos integrantes se muestran en esta ventana. En este caso, aquí el grupo seleccionado, el 3, está formado por a y b. Con ese criterio, tendríamos 4 grupos (1,2,3 y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180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08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580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708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580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64400" cy="574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2708280"/>
            <a:ext cx="865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87640" y="3860280"/>
            <a:ext cx="1728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92360" y="443700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35772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á se muestran los n (n=3 aquí) grupos predeterminados y sus integ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1:03:10Z</dcterms:created>
  <dc:creator>Juan Pablo Castro Ansieta</dc:creator>
  <dc:description/>
  <dc:language>en-US</dc:language>
  <cp:lastModifiedBy>Juan Pablo Castro Ansieta</cp:lastModifiedBy>
  <dcterms:modified xsi:type="dcterms:W3CDTF">2005-09-22T21:29:23Z</dcterms:modified>
  <cp:revision>2</cp:revision>
  <dc:subject/>
  <dc:title>Cluster y TreeView</dc:title>
</cp:coreProperties>
</file>