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6227-A46F-4996-A166-7B230A523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E947-3391-4884-83E0-7DD5C64E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3B5A-159F-4F32-A719-FD1E781B4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DB59-CD91-4560-B898-C27E7DD16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033E-02DC-4298-964A-297247BE9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BB62-E724-4BE7-8E21-05ECE97A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709E-F2CF-492D-B317-D0F4ED17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475B-6E58-44DD-9B3B-09819467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CED9-1622-47DF-8EC8-6649401F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370B-9886-45D1-8B59-D9F16C38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BD2A-779E-4F95-B763-96E71A99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F8FF-CE5A-4E49-82CA-7E4AD017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A596-1D14-4B09-8731-BDDAAEEB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71A5-7A87-4AB3-BD18-AE900279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9378-1240-49E3-BD64-D2142A1C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B7DA-0798-4A29-8EA3-28D522408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4415-B931-44E1-8CB7-F78895D95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CBBF-1726-4B72-AB8B-F349F1BC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3139-6234-4896-8C1D-A5E0C0CF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CC29-6111-476D-9670-35F19033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9A03-1D7D-480E-BA08-0D440F8F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AE3F-C023-4850-ACFC-B7C6DEA9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8428-618F-4350-8358-A73B5282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D42B-0170-48B9-AFBB-2E6B4DD3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7A39-9F92-46F9-9E05-59ED12188D1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8CC1-898F-4858-8E58-CD0BBB43A7B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nálisis Conjunt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Esta técnica permite conocer las preferencias de los consumidores frente a productos con múltiples atributos. </a:t>
            </a:r>
            <a:br>
              <a:rPr sz="2100"/>
            </a:b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Ventajas de análisis conjunt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Enfrentar al consumidor a alternativas competitivas con distintos atributos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Preguntas directas (ej: ¿cómo es tu auto ideal?) son poco realistas y pueden resultar forzada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Sin un contexto, los consumidores consideran que todos los atributos son important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No se requiere suponer a priori una forma funcional detallada para las funciones de utilidad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Se generan expresiones cerradas y de interpretación directa para cada función de utilidad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6666"/>
                </a:solidFill>
                <a:latin typeface="Arial"/>
              </a:rPr>
              <a:t>Esquemáticament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4360" y="1746360"/>
            <a:ext cx="626400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lección de Atributo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800244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Los atributos seleccionados deben ser sobresalientes en la influencia de las preferencias y la elección del consumido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Ej: {precio, kilometraje por litro, espacio interior} es un mejor conjunto que {color, aro ruedas, numero de parlantes}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Los atributos deben ser objetivos para poder tomar decisiones con los resultad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Ej: Atributos como “deportivo” o “conveniente” no debieran ser incluidos en un estudio de análisis conjunt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Uso de juicio experto e investigación cualitativa para la determinación del conjunto de atribut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6666"/>
                </a:solidFill>
                <a:latin typeface="Arial"/>
              </a:rPr>
              <a:t>Elección de Nivel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Si los niveles son discretos, se debiera incluir un nivel por tipo de característica relevante (Ej: Pelota de Cuero natural, cuero sintético, goma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Cuando se presume que las funciones de utilidad parcial para el atributo son lineales puede bastar con dos nivel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Cuando se presume que las funciones de utilidad parcial para elatributo NO son lineales puede requerir más de dos niveles.</a:t>
            </a:r>
            <a:br>
              <a:rPr sz="2100"/>
            </a:b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Ahora un ejemplo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6666"/>
                </a:solidFill>
                <a:latin typeface="Arial"/>
              </a:rPr>
              <a:t>Segmentació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lementos genera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ara poder agrupar objetos tenemos que definir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didas de asociación: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rresponde a una indicación de que tan cercanos son dos objetos dada sus característica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étodos de asignación: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rresponde a un esquema que indica como asignar los objetos a los grup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edidas de asociación continua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Consideremos dos objetos </a:t>
            </a:r>
            <a:r>
              <a:rPr b="0" i="1" lang="es-ES" sz="29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i="1" lang="es-ES" sz="2900" spc="-1" strike="noStrike">
                <a:solidFill>
                  <a:srgbClr val="000000"/>
                </a:solidFill>
                <a:latin typeface="Verdana"/>
              </a:rPr>
              <a:t>j 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caracterizados por vectores </a:t>
            </a:r>
            <a:r>
              <a:rPr b="0" i="1" lang="es-ES" sz="2900" spc="-1" strike="noStrike">
                <a:solidFill>
                  <a:srgbClr val="000000"/>
                </a:solidFill>
                <a:latin typeface="Verdana"/>
              </a:rPr>
              <a:t>xi 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i="1" lang="es-ES" sz="2900" spc="-1" strike="noStrike">
                <a:solidFill>
                  <a:srgbClr val="000000"/>
                </a:solidFill>
                <a:latin typeface="Verdana"/>
              </a:rPr>
              <a:t>xj 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0" i="1" lang="es-ES" sz="29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atributo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Medidas de distanci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843280" y="4005360"/>
            <a:ext cx="367344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étodos Jerárquicos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En cada iteración se determina un criterio de aglomeración (división) en cada iteración formando árboles o dendograma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Las estructuras de árbol nos indican explícitamente la naturaleza de las relaciones entre objet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Distinguimos dos tipo de métodos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Verdana"/>
              </a:rPr>
              <a:t>Aglomerativos: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Inicialmente cada objeto es un grupo y en cada iteración se juntan los grupos mas simililar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Divisivos: 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Inicialmente se tiene un único grupo y en cada división se divide un grup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40000" y="4738680"/>
            <a:ext cx="4537080" cy="21193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riterios de cercanías ente grupos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8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Single linkage clustering (vecino más cercano):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e juntan los grupos que verifican la mínima distancia entre obje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Complete linkage clustering (vecino más lejano):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e juntan los grupos que verifican la mínima distancia entre los objetos más distantes del grup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Average linkage clustering (vecino promedio):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e juntan los grupos que verifican la mínima distancia promedio entre grup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Ward method (mínima perdida de información):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os grupos se forman en base a los cambios en la suma de los errores cuadrados asociados con el agrupamiento de cualquier par de grupos. (en SPS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étodos no Jerárquicos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Algoritmos iterativos que en cada iteración ubican a los objetos en el grupo más cercano a él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El número de grupos está predefinido por lo que se recomienda probar para varios números de grupo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Al asignar todos los objetos en cada iteración, los algoritmos son mucho mas rápidos para problemas con muchos objeto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Veremos dos tipo de métodos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Verdana"/>
              </a:rPr>
              <a:t>K-Means: </a:t>
            </a: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Los objetos sólo pueden pertenecer a un único grupo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Verdana"/>
              </a:rPr>
              <a:t>Fuzzy-C-Means: </a:t>
            </a: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Inicialmente se tiene un único grupo y en cada división se divide un grupo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3194280" y="6021360"/>
            <a:ext cx="38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Veamos un ejemplo de K-Mean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5:12:11Z</dcterms:created>
  <dc:creator>Juan Pablo Castro Ansieta</dc:creator>
  <dc:description/>
  <dc:language>en-US</dc:language>
  <cp:lastModifiedBy>Juan Pablo Castro Ansieta</cp:lastModifiedBy>
  <dcterms:modified xsi:type="dcterms:W3CDTF">2005-09-22T21:29:28Z</dcterms:modified>
  <cp:revision>4</cp:revision>
  <dc:subject/>
  <dc:title>Diapositiva 1</dc:title>
</cp:coreProperties>
</file>