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14C-C1ED-4D78-BE7D-60D93783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9ED-8A6B-4A40-8209-E6FDF1F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E66-6A9D-437A-9AE8-D740D671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D81-8322-4546-BCEE-2285FE11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382-5738-41E9-9267-FF928052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032D-E1ED-415C-8327-FFF23AD3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2DAD-058E-4D4D-B871-C783FF3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605D-52B8-41B8-A387-00EA9C68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2811-6509-48F8-996D-FFCB4FBF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3F4E-6E14-4F71-A929-9BF6836F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4774-46E0-4B6D-AB8C-FD7C9DA8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7AA-B7EC-4245-9375-AACD8E3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480C-8806-4BAF-97CA-CF7DD0B1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6304-2CF6-46C1-A3A7-7CA08434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7049-8F78-494D-9E9B-09A5586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515A-1689-4AA1-9275-5E050112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08B2-8DF4-4822-BEB3-0E0BCF84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BD-4817-487C-ABF5-7CD995E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C3D-CDCE-408B-A867-A47BAFC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B0F-C0D7-42BE-B6DF-8EEB5F99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E54-A50B-4F0D-921A-EFBEFEB2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4EB-1A3B-4F6F-9D69-4B19933F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628-2B20-4FDB-8FCD-9032AFC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EB4-961C-4421-83A9-5F158B9B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592A-ED65-4288-AE38-45099DF2A0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7BB4-7D5A-4725-8C5D-85519B5A71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álisis Conju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a técnica permite conocer las preferencias de los consumidores frente a productos con múltiples atributos. </a:t>
            </a:r>
            <a:br>
              <a:rPr sz="2100"/>
            </a:b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Ventajas de análisis conjun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Enfrentar al consumidor a alternativas competitivas con distintos atributo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Preguntas directas (ej: ¿cómo es tu auto ideal?) son poco realistas y pueden resultar forzad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Sin un contexto, los consumidores consideran que todos los atributos son importa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No se requiere suponer a priori una forma funcional detallada para las funciones de utilida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Se generan expresiones cerradas y de interpretación directa para cada función de utilida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Esquemáticamen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746360"/>
            <a:ext cx="62640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ección de Atribut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0024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s atributos seleccionados deben ser sobresalientes en la influencia de las preferencias y la elección del consumid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: {precio, kilometraje por litro, espacio interior} es un mejor conjunto que {color, aro ruedas, numero de parlantes}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os atributos deben ser objetivos para poder tomar decisiones con los result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: Atributos como “deportivo” o “conveniente” no debieran ser incluidos en un estudio de análisis conjunt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so de juicio experto e investigación cualitativa para la determinación del conjunto de atribu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Elección de Nive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Si los niveles son discretos, se debiera incluir un nivel por tipo de característica relevante (Ej: Pelota de Cuero natural, cuero sintético, goma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uando se presume que las funciones de utilidad parcial para el atributo son lineales puede bastar con dos nive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uando se presume que las funciones de utilidad parcial para elatributo NO son lineales puede requerir más de dos niveles.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hora un ejemplo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Arial"/>
              </a:rPr>
              <a:t>Segment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ementos gener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poder agrupar objetos tenemos que definir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das de asociación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sponde a una indicación de que tan cercanos son dos objetos dada sus característic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étodos de asignación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rresponde a un esquema que indica como asignar los objetos a los grup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edidas de asociación continua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onsideremos dos objetos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caracterizados por vectores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xi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xj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s-ES" sz="2900" spc="-1" strike="noStrike">
                <a:solidFill>
                  <a:srgbClr val="000000"/>
                </a:solidFill>
                <a:latin typeface="Verdana"/>
              </a:rPr>
              <a:t>atribut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Medidas de distanci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43280" y="4005360"/>
            <a:ext cx="3673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étodos Jerárquico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 cada iteración se determina un criterio de aglomeración (división) en cada iteración formando árboles o dendogram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Las estructuras de árbol nos indican explícitamente la naturaleza de las relaciones entre obje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tinguimos dos tipo de métod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Aglomerativos: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lmente cada objeto es un grupo y en cada iteración se juntan los grupos mas similila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Divisivos: 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Inicialmente se tiene un único grupo y en cada división se divide un grup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738680"/>
            <a:ext cx="4537080" cy="2119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riterios de cercanías ente grupo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Single linkage clustering (vecino más cercano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juntan los grupos que verifican la mínima distancia entre obje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mplete linkage clustering (vecino más lejano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juntan los grupos que verifican la mínima distancia entre los objetos más distantes del grup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verage linkage clustering (vecino promedio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juntan los grupos que verifican la mínima distancia promedio entre grup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Ward method (mínima perdida de información):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s grupos se forman en base a los cambios en la suma de los errores cuadrados asociados con el agrupamiento de cualquier par de grupos. (en SPS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étodos no Jerárquico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lgoritmos iterativos que en cada iteración ubican a los objetos en el grupo más cercano a é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número de grupos está predefinido por lo que se recomienda probar para varios números de grup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Al asignar todos los objetos en cada iteración, los algoritmos son mucho mas rápidos para problemas con muchos objet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Veremos dos tipo de método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Verdana"/>
              </a:rPr>
              <a:t>K-Means: 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Los objetos sólo pueden pertenecer a un único grup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Verdana"/>
              </a:rPr>
              <a:t>Fuzzy-C-Means: 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icialmente se tiene un único grupo y en cada división se divide un grup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194280" y="6021360"/>
            <a:ext cx="38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eamos un ejemplo de K-Mea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5:12:11Z</dcterms:created>
  <dc:creator>Juan Pablo Castro Ansieta</dc:creator>
  <dc:description/>
  <dc:language>en-US</dc:language>
  <cp:lastModifiedBy>Juan Pablo Castro Ansieta</cp:lastModifiedBy>
  <dcterms:modified xsi:type="dcterms:W3CDTF">2005-09-22T21:29:28Z</dcterms:modified>
  <cp:revision>4</cp:revision>
  <dc:subject/>
  <dc:title>Diapositiva 1</dc:title>
</cp:coreProperties>
</file>