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9B94-EB84-45FD-8EB1-57B78FE0F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98D7-6D1F-430D-8B6D-DDB6034D6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28DF-00D3-41ED-89C1-FDC4B2FA0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E36A-26BC-455D-8963-B3BA7D252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9658-A54F-4B13-B292-004CCDEEC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611F-8424-4987-BC3C-CD9809925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6571-D1DB-4ED2-8547-D6B08F9B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F0F8-0ED0-431B-B6B8-047B8F6D8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16ED-2222-486D-ABEF-7F43B716F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9213-3B2D-4C80-98D3-8D1CEE24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BA42-3D6C-406B-B108-623DAE73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337A-1B0B-4A3F-813B-BD57BF97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9C152-7029-4BEA-B3D1-13B431562E0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33cc"/>
                </a:solidFill>
                <a:latin typeface="Times New Roman"/>
              </a:rPr>
              <a:t>PRICING</a:t>
            </a:r>
            <a:br>
              <a:rPr sz="4800"/>
            </a:br>
            <a:r>
              <a:rPr b="0" lang="es-ES_tradnl" sz="4000" spc="-1" strike="noStrike">
                <a:solidFill>
                  <a:srgbClr val="0033cc"/>
                </a:solidFill>
                <a:latin typeface="Times New Roman"/>
              </a:rPr>
              <a:t>Comportamiento, valor y decis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304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81916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PRECIOS ACTU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2209680"/>
            <a:ext cx="61722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n una línea de Productos siempre más vale tener 3 que dos ....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PRECIOS ACTU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2819160" cy="21178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495680" y="1981080"/>
            <a:ext cx="3568680" cy="26812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906200" y="120168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73640" y="1189080"/>
            <a:ext cx="55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65640" y="4923000"/>
            <a:ext cx="243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5 piés cúb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$ 109.9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11160" y="4881600"/>
            <a:ext cx="251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8 piés cúbi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$ 179.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PRECIOS ACTU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44440" y="137160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31920" y="1341360"/>
            <a:ext cx="55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76560" y="4876920"/>
            <a:ext cx="243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5 piés cúb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$ 109.99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971800" y="4876920"/>
            <a:ext cx="263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8 piés cúbi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$ 179.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04920" y="2397240"/>
            <a:ext cx="2361960" cy="17748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867280" y="2397240"/>
            <a:ext cx="2992680" cy="22478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2895480" y="2397240"/>
            <a:ext cx="2746440" cy="20635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935760" y="1341360"/>
            <a:ext cx="55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172200" y="48769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1.1 piés cúbicos  $199.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PRECIOS ACTUALES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131840" y="2438280"/>
          <a:ext cx="6878520" cy="243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1840" y="2438280"/>
                    <a:ext cx="6878520" cy="24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ELASTICIDADES ASIMÉTR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1465200"/>
            <a:ext cx="80769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hay tres productos en una linea                              (e.g pañales bebés 0-5 kgs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n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4.200     La elasticidad del B es asimét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3.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47242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el A baja de 5.000 a 4.800,   entonces muchos que compraban B comprarán A. Si baja el C a 3.000, casi nadie que compraba el B se cambiará al C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ELASTICIDADES ASIMÉTR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2133720"/>
            <a:ext cx="8077320" cy="30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o conviene hacer promociones de los precios más bajos, sí de los superiores e intermedios,...... salvo que queramos convertir no compradores en compradores.......o por generar imagen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EFECTOS DE ORDEN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167652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se presentan los precios en orden Ascendente o Descendente, la mayoría de las personas no reaccionan ig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3200400"/>
            <a:ext cx="73152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lusas en un Catálogo de una Tienda de Dep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3.500, 5.600, 9.900.,15.800, 21.3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21.350, 15.800, 9.900, 5.600, 3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ventas promedio serán mayores en el segundo ca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EFECTOS DE ORDEN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757520"/>
            <a:ext cx="7315200" cy="33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to lo usan no sólo los Catálogos, también los vendedores (siempre empiezan por un valor más alto que lo que creen el comprador puede comprar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los pasillos de un supermercado, una categoría debiera ordenarse de mayor precio a menor, en el sentido del flujo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ÚLTIMO PRECIO PAG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680" y="1600200"/>
            <a:ext cx="8001000" cy="45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mayoría de las veces los consumidores ”recordamos” el precio pagado por un artícu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próxima compra lo usamos de precio de referencia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 veces no es que lo recordemos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publicidad trata de hacer referencia al pasado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“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lía   4.100.000, ahora 3.800.000.... Aproveche!!!!!!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33cc"/>
                </a:solidFill>
                <a:latin typeface="Times New Roman"/>
              </a:rPr>
              <a:t>PRICING</a:t>
            </a:r>
            <a:br>
              <a:rPr sz="4800"/>
            </a:br>
            <a:r>
              <a:rPr b="0" lang="es-ES_tradnl" sz="4800" spc="-1" strike="noStrike">
                <a:solidFill>
                  <a:srgbClr val="0033cc"/>
                </a:solidFill>
                <a:latin typeface="Times New Roman"/>
              </a:rPr>
              <a:t>Visión Estratégic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304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81916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95280" y="2514600"/>
            <a:ext cx="6629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33cc"/>
                </a:solidFill>
                <a:latin typeface="Comic Sans MS"/>
              </a:rPr>
              <a:t>Comportamiento del Consumidor ante los Precio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920" y="304920"/>
            <a:ext cx="8839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800080"/>
                </a:solidFill>
                <a:latin typeface="Verdana"/>
              </a:rPr>
              <a:t>Las Bases de una Estrategia de Pre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1911240"/>
            <a:ext cx="2133360" cy="801360"/>
          </a:xfrm>
          <a:prstGeom prst="rect">
            <a:avLst/>
          </a:prstGeom>
          <a:solidFill>
            <a:srgbClr val="d1f9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Medi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 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3511440"/>
            <a:ext cx="213336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nális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inanci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102" idx="2"/>
            <a:endCxn id="103" idx="0"/>
          </p:cNvCxnSpPr>
          <p:nvPr/>
        </p:nvCxnSpPr>
        <p:spPr>
          <a:xfrm>
            <a:off x="2057040" y="2762280"/>
            <a:ext cx="1080" cy="730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3"/>
            <a:endCxn id="107" idx="1"/>
          </p:cNvCxnSpPr>
          <p:nvPr/>
        </p:nvCxnSpPr>
        <p:spPr>
          <a:xfrm>
            <a:off x="5854680" y="3920760"/>
            <a:ext cx="527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08" name=""/>
          <p:cNvSpPr/>
          <p:nvPr/>
        </p:nvSpPr>
        <p:spPr>
          <a:xfrm>
            <a:off x="3505320" y="1905120"/>
            <a:ext cx="243828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dent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l Cli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06840" y="3505320"/>
            <a:ext cx="222876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nálisi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eg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48040" y="5410080"/>
            <a:ext cx="175284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strate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8" idx="2"/>
            <a:endCxn id="106" idx="0"/>
          </p:cNvCxnSpPr>
          <p:nvPr/>
        </p:nvCxnSpPr>
        <p:spPr>
          <a:xfrm flipH="1">
            <a:off x="4721040" y="2755440"/>
            <a:ext cx="3600" cy="731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6" idx="2"/>
            <a:endCxn id="109" idx="0"/>
          </p:cNvCxnSpPr>
          <p:nvPr/>
        </p:nvCxnSpPr>
        <p:spPr>
          <a:xfrm>
            <a:off x="4721400" y="4355640"/>
            <a:ext cx="3600" cy="1035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12" name=""/>
          <p:cNvGrpSpPr/>
          <p:nvPr/>
        </p:nvGrpSpPr>
        <p:grpSpPr>
          <a:xfrm>
            <a:off x="6095880" y="1905120"/>
            <a:ext cx="2819520" cy="2401560"/>
            <a:chOff x="6095880" y="1905120"/>
            <a:chExt cx="2819520" cy="2401560"/>
          </a:xfrm>
        </p:grpSpPr>
        <p:sp>
          <p:nvSpPr>
            <p:cNvPr id="107" name=""/>
            <p:cNvSpPr/>
            <p:nvPr/>
          </p:nvSpPr>
          <p:spPr>
            <a:xfrm>
              <a:off x="6400800" y="3505320"/>
              <a:ext cx="2209680" cy="80136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nális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</a:t>
              </a:r>
              <a:r>
                <a:rPr b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Competitiv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3" name=""/>
            <p:cNvCxnSpPr>
              <a:stCxn id="114" idx="2"/>
              <a:endCxn id="107" idx="0"/>
            </p:cNvCxnSpPr>
            <p:nvPr/>
          </p:nvCxnSpPr>
          <p:spPr>
            <a:xfrm>
              <a:off x="7505280" y="2755440"/>
              <a:ext cx="1080" cy="731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4" name=""/>
            <p:cNvSpPr/>
            <p:nvPr/>
          </p:nvSpPr>
          <p:spPr>
            <a:xfrm>
              <a:off x="6095880" y="1905120"/>
              <a:ext cx="2819520" cy="80136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Identific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</a:t>
              </a:r>
              <a:r>
                <a:rPr b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de Competencia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15" name=""/>
          <p:cNvCxnSpPr>
            <a:stCxn id="103" idx="3"/>
            <a:endCxn id="106" idx="1"/>
          </p:cNvCxnSpPr>
          <p:nvPr/>
        </p:nvCxnSpPr>
        <p:spPr>
          <a:xfrm flipV="1">
            <a:off x="3142800" y="3920760"/>
            <a:ext cx="445320" cy="7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152280" y="312408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4800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1143000"/>
            <a:ext cx="457200" cy="54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800080"/>
                </a:solidFill>
                <a:latin typeface="Times New Roman"/>
              </a:rPr>
              <a:t>Medición de Cos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uáles son los costos incrementales, los evitables, involucrados en esta decisión de preci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uál es el costo de ventas variable incremental (no el prom) (incluido todo: fabricación, servicio y sopor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A qué niveles de ventas se requerirán gastos semifijos adicionales y cuántos será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Qué CF asociados a este producto se pueden evit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7010280" y="5029200"/>
            <a:ext cx="7632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04920" y="304920"/>
            <a:ext cx="8839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800080"/>
                </a:solidFill>
                <a:latin typeface="Verdana"/>
              </a:rPr>
              <a:t>Las Bases de una Estrategia de Pre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1911240"/>
            <a:ext cx="213336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Medi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 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90720" y="3511440"/>
            <a:ext cx="213336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nális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inanci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3" idx="2"/>
            <a:endCxn id="124" idx="0"/>
          </p:cNvCxnSpPr>
          <p:nvPr/>
        </p:nvCxnSpPr>
        <p:spPr>
          <a:xfrm>
            <a:off x="2057040" y="2762280"/>
            <a:ext cx="1080" cy="730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27" idx="3"/>
            <a:endCxn id="128" idx="1"/>
          </p:cNvCxnSpPr>
          <p:nvPr/>
        </p:nvCxnSpPr>
        <p:spPr>
          <a:xfrm>
            <a:off x="5854680" y="3920760"/>
            <a:ext cx="527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3505320" y="1905120"/>
            <a:ext cx="2438280" cy="801360"/>
          </a:xfrm>
          <a:prstGeom prst="rect">
            <a:avLst/>
          </a:prstGeom>
          <a:solidFill>
            <a:srgbClr val="d1f9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dent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l Cli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606840" y="3505320"/>
            <a:ext cx="222876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nálisi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eg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48040" y="5410080"/>
            <a:ext cx="175284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strate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29" idx="2"/>
            <a:endCxn id="127" idx="0"/>
          </p:cNvCxnSpPr>
          <p:nvPr/>
        </p:nvCxnSpPr>
        <p:spPr>
          <a:xfrm flipH="1">
            <a:off x="4721040" y="2755440"/>
            <a:ext cx="3600" cy="731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7" idx="2"/>
            <a:endCxn id="130" idx="0"/>
          </p:cNvCxnSpPr>
          <p:nvPr/>
        </p:nvCxnSpPr>
        <p:spPr>
          <a:xfrm>
            <a:off x="4721400" y="4355640"/>
            <a:ext cx="3600" cy="1035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33" name=""/>
          <p:cNvGrpSpPr/>
          <p:nvPr/>
        </p:nvGrpSpPr>
        <p:grpSpPr>
          <a:xfrm>
            <a:off x="6095880" y="1905120"/>
            <a:ext cx="2819520" cy="2401560"/>
            <a:chOff x="6095880" y="1905120"/>
            <a:chExt cx="2819520" cy="2401560"/>
          </a:xfrm>
        </p:grpSpPr>
        <p:sp>
          <p:nvSpPr>
            <p:cNvPr id="128" name=""/>
            <p:cNvSpPr/>
            <p:nvPr/>
          </p:nvSpPr>
          <p:spPr>
            <a:xfrm>
              <a:off x="6400800" y="3505320"/>
              <a:ext cx="2209680" cy="80136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nális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</a:t>
              </a:r>
              <a:r>
                <a:rPr b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Competitiv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4" name=""/>
            <p:cNvCxnSpPr>
              <a:stCxn id="135" idx="2"/>
              <a:endCxn id="128" idx="0"/>
            </p:cNvCxnSpPr>
            <p:nvPr/>
          </p:nvCxnSpPr>
          <p:spPr>
            <a:xfrm>
              <a:off x="7505280" y="2755440"/>
              <a:ext cx="1080" cy="731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5" name=""/>
            <p:cNvSpPr/>
            <p:nvPr/>
          </p:nvSpPr>
          <p:spPr>
            <a:xfrm>
              <a:off x="6095880" y="1905120"/>
              <a:ext cx="2819520" cy="80136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Identific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</a:t>
              </a:r>
              <a:r>
                <a:rPr b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de Competencia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36" name=""/>
          <p:cNvCxnSpPr>
            <a:stCxn id="124" idx="3"/>
            <a:endCxn id="127" idx="1"/>
          </p:cNvCxnSpPr>
          <p:nvPr/>
        </p:nvCxnSpPr>
        <p:spPr>
          <a:xfrm flipV="1">
            <a:off x="3142800" y="3920760"/>
            <a:ext cx="445320" cy="7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152280" y="312408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4800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1143000"/>
            <a:ext cx="457200" cy="54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800080"/>
                </a:solidFill>
                <a:latin typeface="Times New Roman"/>
              </a:rPr>
              <a:t>Identificación de Clien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uáles son los potenciales clientes y por qué comprarán este produc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uál es el Valor Económico de este producto para los consumidores o clien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Qué otros factores (prestigio, dificultad de encontrar alternativas, ppto, etc) limitan la sensibilidad del cliente al preci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En qué se diferencian los distintos clientes respecto a las dos preguntas anterior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ómo una estrategia de mktg puede alterar la voluntad a pagar de los consumidores respecto de este produc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7010280" y="5029200"/>
            <a:ext cx="7632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04920" y="304920"/>
            <a:ext cx="8839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800080"/>
                </a:solidFill>
                <a:latin typeface="Verdana"/>
              </a:rPr>
              <a:t>Las Bases de una Estrategia de Pre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90720" y="1911240"/>
            <a:ext cx="213336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Medi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 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90720" y="3511440"/>
            <a:ext cx="213336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nális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inanci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44" idx="2"/>
            <a:endCxn id="145" idx="0"/>
          </p:cNvCxnSpPr>
          <p:nvPr/>
        </p:nvCxnSpPr>
        <p:spPr>
          <a:xfrm>
            <a:off x="2057040" y="2762280"/>
            <a:ext cx="1080" cy="730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48" idx="3"/>
            <a:endCxn id="149" idx="1"/>
          </p:cNvCxnSpPr>
          <p:nvPr/>
        </p:nvCxnSpPr>
        <p:spPr>
          <a:xfrm>
            <a:off x="5854680" y="3920760"/>
            <a:ext cx="527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3505320" y="1905120"/>
            <a:ext cx="243828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dent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l Cli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606840" y="3505320"/>
            <a:ext cx="222876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nálisi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eg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48040" y="5410080"/>
            <a:ext cx="175284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strate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" name=""/>
          <p:cNvCxnSpPr>
            <a:stCxn id="150" idx="2"/>
            <a:endCxn id="148" idx="0"/>
          </p:cNvCxnSpPr>
          <p:nvPr/>
        </p:nvCxnSpPr>
        <p:spPr>
          <a:xfrm flipH="1">
            <a:off x="4721040" y="2755440"/>
            <a:ext cx="3600" cy="731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48" idx="2"/>
            <a:endCxn id="151" idx="0"/>
          </p:cNvCxnSpPr>
          <p:nvPr/>
        </p:nvCxnSpPr>
        <p:spPr>
          <a:xfrm>
            <a:off x="4721400" y="4355640"/>
            <a:ext cx="3600" cy="1035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6400800" y="3505320"/>
            <a:ext cx="220968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nál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mpeti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4" name=""/>
          <p:cNvCxnSpPr>
            <a:stCxn id="155" idx="2"/>
            <a:endCxn id="149" idx="0"/>
          </p:cNvCxnSpPr>
          <p:nvPr/>
        </p:nvCxnSpPr>
        <p:spPr>
          <a:xfrm>
            <a:off x="7505280" y="2755440"/>
            <a:ext cx="1080" cy="731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6095880" y="1905120"/>
            <a:ext cx="2819520" cy="801360"/>
          </a:xfrm>
          <a:prstGeom prst="rect">
            <a:avLst/>
          </a:prstGeom>
          <a:solidFill>
            <a:srgbClr val="d1f9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dent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 Competenc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" name=""/>
          <p:cNvCxnSpPr>
            <a:stCxn id="145" idx="3"/>
            <a:endCxn id="148" idx="1"/>
          </p:cNvCxnSpPr>
          <p:nvPr/>
        </p:nvCxnSpPr>
        <p:spPr>
          <a:xfrm flipV="1">
            <a:off x="3142800" y="3920760"/>
            <a:ext cx="445320" cy="7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7" name=""/>
          <p:cNvSpPr/>
          <p:nvPr/>
        </p:nvSpPr>
        <p:spPr>
          <a:xfrm>
            <a:off x="152280" y="312408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" y="4800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143000"/>
            <a:ext cx="457200" cy="54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800080"/>
                </a:solidFill>
                <a:latin typeface="Times New Roman"/>
              </a:rPr>
              <a:t>Identificación de Com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Quiénes son los actuales o futuros competidores que podrían afectar la rentabilidad de este merca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Quiénes son los competidores actuales y potencia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uáles son los P que realmente cobran los competidores actua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Podemos dar una hipótesis de cuales son las estrategias de precios de cada uno? Utilidad o Vent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uáles son las Fortalezas y Debilidades de ellos respecto a nosotr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7010280" y="5029200"/>
            <a:ext cx="7632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04920" y="304920"/>
            <a:ext cx="8839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800080"/>
                </a:solidFill>
                <a:latin typeface="Verdana"/>
              </a:rPr>
              <a:t>Las Bases de una Estrategia de Pre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1911240"/>
            <a:ext cx="213336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Medi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 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3511440"/>
            <a:ext cx="2133360" cy="801360"/>
          </a:xfrm>
          <a:prstGeom prst="rect">
            <a:avLst/>
          </a:prstGeom>
          <a:solidFill>
            <a:srgbClr val="b8fb75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nális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inanci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" name=""/>
          <p:cNvCxnSpPr>
            <a:stCxn id="164" idx="2"/>
            <a:endCxn id="165" idx="0"/>
          </p:cNvCxnSpPr>
          <p:nvPr/>
        </p:nvCxnSpPr>
        <p:spPr>
          <a:xfrm>
            <a:off x="2057040" y="2762280"/>
            <a:ext cx="1080" cy="730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8" idx="3"/>
            <a:endCxn id="169" idx="1"/>
          </p:cNvCxnSpPr>
          <p:nvPr/>
        </p:nvCxnSpPr>
        <p:spPr>
          <a:xfrm>
            <a:off x="5854680" y="3920760"/>
            <a:ext cx="527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505320" y="1905120"/>
            <a:ext cx="243828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dent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l Cli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06840" y="3505320"/>
            <a:ext cx="222876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nálisi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eg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48040" y="5410080"/>
            <a:ext cx="175284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strate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0" idx="2"/>
            <a:endCxn id="168" idx="0"/>
          </p:cNvCxnSpPr>
          <p:nvPr/>
        </p:nvCxnSpPr>
        <p:spPr>
          <a:xfrm flipH="1">
            <a:off x="4721040" y="2755440"/>
            <a:ext cx="3600" cy="731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68" idx="2"/>
            <a:endCxn id="171" idx="0"/>
          </p:cNvCxnSpPr>
          <p:nvPr/>
        </p:nvCxnSpPr>
        <p:spPr>
          <a:xfrm>
            <a:off x="4721400" y="4355640"/>
            <a:ext cx="3600" cy="1035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"/>
          <p:cNvSpPr/>
          <p:nvPr/>
        </p:nvSpPr>
        <p:spPr>
          <a:xfrm>
            <a:off x="6400800" y="3505320"/>
            <a:ext cx="220968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nál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mpeti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75" idx="2"/>
            <a:endCxn id="169" idx="0"/>
          </p:cNvCxnSpPr>
          <p:nvPr/>
        </p:nvCxnSpPr>
        <p:spPr>
          <a:xfrm>
            <a:off x="7505280" y="2755440"/>
            <a:ext cx="1080" cy="731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" name=""/>
          <p:cNvSpPr/>
          <p:nvPr/>
        </p:nvSpPr>
        <p:spPr>
          <a:xfrm>
            <a:off x="6095880" y="1905120"/>
            <a:ext cx="281952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dent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 Competenc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"/>
          <p:cNvCxnSpPr>
            <a:stCxn id="165" idx="3"/>
            <a:endCxn id="168" idx="1"/>
          </p:cNvCxnSpPr>
          <p:nvPr/>
        </p:nvCxnSpPr>
        <p:spPr>
          <a:xfrm flipV="1">
            <a:off x="3142800" y="3920760"/>
            <a:ext cx="445320" cy="7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152280" y="312408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4800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1143000"/>
            <a:ext cx="457200" cy="54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800080"/>
                </a:solidFill>
                <a:latin typeface="Times New Roman"/>
              </a:rPr>
              <a:t>Análisis Financie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Qué variaciones en las ventas se necesitan dar para distintos cambios en el producto, los precios, y la promoción? Para productos nuevos ¿Qué nivel de ventas se requiere para justificar el aumento del CF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uál es el margen de contribución del producto en el precio punto de equilibri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uánta venta adicional se reuqiere para que una disminución del precio signifique ganar má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uál es la máxima pérdida de ventas tolerable antes que una subida del precio surta efect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Qué volumen de ventas adicional se requiere para cubrir incrementos en los CF que el nuevo producto puede genera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7010280" y="5029200"/>
            <a:ext cx="7632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04920" y="304920"/>
            <a:ext cx="8839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800080"/>
                </a:solidFill>
                <a:latin typeface="Verdana"/>
              </a:rPr>
              <a:t>Las Bases de una Estrategia de Pre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90720" y="1911240"/>
            <a:ext cx="213336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Medi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 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90720" y="3511440"/>
            <a:ext cx="213336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nális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inanci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"/>
          <p:cNvCxnSpPr>
            <a:stCxn id="184" idx="2"/>
            <a:endCxn id="185" idx="0"/>
          </p:cNvCxnSpPr>
          <p:nvPr/>
        </p:nvCxnSpPr>
        <p:spPr>
          <a:xfrm>
            <a:off x="2057040" y="2762280"/>
            <a:ext cx="1080" cy="730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stCxn id="188" idx="3"/>
            <a:endCxn id="189" idx="1"/>
          </p:cNvCxnSpPr>
          <p:nvPr/>
        </p:nvCxnSpPr>
        <p:spPr>
          <a:xfrm>
            <a:off x="5854680" y="3920760"/>
            <a:ext cx="527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90" name=""/>
          <p:cNvSpPr/>
          <p:nvPr/>
        </p:nvSpPr>
        <p:spPr>
          <a:xfrm>
            <a:off x="3505320" y="1905120"/>
            <a:ext cx="243828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dent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l Cli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606840" y="3505320"/>
            <a:ext cx="2228760" cy="801360"/>
          </a:xfrm>
          <a:prstGeom prst="rect">
            <a:avLst/>
          </a:prstGeom>
          <a:solidFill>
            <a:srgbClr val="b8fb75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nálisi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eg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48040" y="5410080"/>
            <a:ext cx="175284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strate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"/>
          <p:cNvCxnSpPr>
            <a:stCxn id="190" idx="2"/>
            <a:endCxn id="188" idx="0"/>
          </p:cNvCxnSpPr>
          <p:nvPr/>
        </p:nvCxnSpPr>
        <p:spPr>
          <a:xfrm flipH="1">
            <a:off x="4721040" y="2755440"/>
            <a:ext cx="3600" cy="731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3" name=""/>
          <p:cNvCxnSpPr>
            <a:stCxn id="188" idx="2"/>
            <a:endCxn id="191" idx="0"/>
          </p:cNvCxnSpPr>
          <p:nvPr/>
        </p:nvCxnSpPr>
        <p:spPr>
          <a:xfrm>
            <a:off x="4721400" y="4355640"/>
            <a:ext cx="3600" cy="1035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9" name=""/>
          <p:cNvSpPr/>
          <p:nvPr/>
        </p:nvSpPr>
        <p:spPr>
          <a:xfrm>
            <a:off x="6400800" y="3505320"/>
            <a:ext cx="220968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nál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mpeti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" name=""/>
          <p:cNvCxnSpPr>
            <a:stCxn id="195" idx="2"/>
            <a:endCxn id="189" idx="0"/>
          </p:cNvCxnSpPr>
          <p:nvPr/>
        </p:nvCxnSpPr>
        <p:spPr>
          <a:xfrm>
            <a:off x="7505280" y="2755440"/>
            <a:ext cx="1080" cy="731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6095880" y="1905120"/>
            <a:ext cx="281952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dent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 Competenc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" name=""/>
          <p:cNvCxnSpPr>
            <a:stCxn id="185" idx="3"/>
            <a:endCxn id="188" idx="1"/>
          </p:cNvCxnSpPr>
          <p:nvPr/>
        </p:nvCxnSpPr>
        <p:spPr>
          <a:xfrm flipV="1">
            <a:off x="3142800" y="3920760"/>
            <a:ext cx="445320" cy="7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" name=""/>
          <p:cNvSpPr/>
          <p:nvPr/>
        </p:nvSpPr>
        <p:spPr>
          <a:xfrm>
            <a:off x="152280" y="312408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8600" y="4800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" y="1143000"/>
            <a:ext cx="457200" cy="54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800080"/>
                </a:solidFill>
                <a:latin typeface="Times New Roman"/>
              </a:rPr>
              <a:t>Análisis de Segment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ómo puede la empresa diferenciar el precio a distintos segmentos de modo de reflejar diferencias en sensibilidad de precio y el costo incremental de servirlos a el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ómo se pueden identificar miembros de segmentos distintos previo a la vent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ómo podemos construir “vallas” entre segmentos para evitar que las ventas de precio bajo no minen la rentabilidad de los sectores de precio alt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uáles son las restricciones legales que podrían afectar nuestra política de precios discriminant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7010280" y="5029200"/>
            <a:ext cx="7632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COMPORTAMIENTO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urante los años 70 se realizó mucha investigación referente al comportamiento de los consumidores frente al prec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mayoría de estas investigaciones fue del tipo “experimento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resultados de estas investigaciones han tenido impacto en Retailing , en la función de Ventas y en el Pricing de productos nue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304920" y="304920"/>
            <a:ext cx="8839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800080"/>
                </a:solidFill>
                <a:latin typeface="Verdana"/>
              </a:rPr>
              <a:t>Las Bases de una Estrategia de Pre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90720" y="1911240"/>
            <a:ext cx="213336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Medi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 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90720" y="3511440"/>
            <a:ext cx="213336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nális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inanci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4" idx="2"/>
            <a:endCxn id="205" idx="0"/>
          </p:cNvCxnSpPr>
          <p:nvPr/>
        </p:nvCxnSpPr>
        <p:spPr>
          <a:xfrm>
            <a:off x="2057040" y="2762280"/>
            <a:ext cx="1080" cy="730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"/>
          <p:cNvCxnSpPr>
            <a:stCxn id="208" idx="3"/>
            <a:endCxn id="209" idx="1"/>
          </p:cNvCxnSpPr>
          <p:nvPr/>
        </p:nvCxnSpPr>
        <p:spPr>
          <a:xfrm>
            <a:off x="5854680" y="3920760"/>
            <a:ext cx="527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10" name=""/>
          <p:cNvSpPr/>
          <p:nvPr/>
        </p:nvSpPr>
        <p:spPr>
          <a:xfrm>
            <a:off x="3505320" y="1905120"/>
            <a:ext cx="243828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dent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l Cli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606840" y="3505320"/>
            <a:ext cx="222876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nálisi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eg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48040" y="5410080"/>
            <a:ext cx="175284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strate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" name=""/>
          <p:cNvCxnSpPr>
            <a:stCxn id="210" idx="2"/>
            <a:endCxn id="208" idx="0"/>
          </p:cNvCxnSpPr>
          <p:nvPr/>
        </p:nvCxnSpPr>
        <p:spPr>
          <a:xfrm flipH="1">
            <a:off x="4721040" y="2755440"/>
            <a:ext cx="3600" cy="731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3" name=""/>
          <p:cNvCxnSpPr>
            <a:stCxn id="208" idx="2"/>
            <a:endCxn id="211" idx="0"/>
          </p:cNvCxnSpPr>
          <p:nvPr/>
        </p:nvCxnSpPr>
        <p:spPr>
          <a:xfrm>
            <a:off x="4721400" y="4355640"/>
            <a:ext cx="3600" cy="1035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9" name=""/>
          <p:cNvSpPr/>
          <p:nvPr/>
        </p:nvSpPr>
        <p:spPr>
          <a:xfrm>
            <a:off x="6400800" y="3505320"/>
            <a:ext cx="2209680" cy="801360"/>
          </a:xfrm>
          <a:prstGeom prst="rect">
            <a:avLst/>
          </a:prstGeom>
          <a:solidFill>
            <a:srgbClr val="b8fb75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nál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mpeti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"/>
          <p:cNvCxnSpPr>
            <a:stCxn id="215" idx="2"/>
            <a:endCxn id="209" idx="0"/>
          </p:cNvCxnSpPr>
          <p:nvPr/>
        </p:nvCxnSpPr>
        <p:spPr>
          <a:xfrm>
            <a:off x="7505280" y="2755440"/>
            <a:ext cx="1080" cy="731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5" name=""/>
          <p:cNvSpPr/>
          <p:nvPr/>
        </p:nvSpPr>
        <p:spPr>
          <a:xfrm>
            <a:off x="6095880" y="1905120"/>
            <a:ext cx="281952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dent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 Competenc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"/>
          <p:cNvCxnSpPr>
            <a:stCxn id="205" idx="3"/>
            <a:endCxn id="208" idx="1"/>
          </p:cNvCxnSpPr>
          <p:nvPr/>
        </p:nvCxnSpPr>
        <p:spPr>
          <a:xfrm flipV="1">
            <a:off x="3142800" y="3920760"/>
            <a:ext cx="445320" cy="7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7" name=""/>
          <p:cNvSpPr/>
          <p:nvPr/>
        </p:nvSpPr>
        <p:spPr>
          <a:xfrm>
            <a:off x="152280" y="312408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" y="4800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1143000"/>
            <a:ext cx="457200" cy="54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800080"/>
                </a:solidFill>
                <a:latin typeface="Times New Roman"/>
              </a:rPr>
              <a:t>Análisis Competiti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ómo creemos que reaccionarán los competidores ante distintas estrategias nuestras? ¿Cómo afecta eso nuestras decision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Qué metas realistas se pueden establecer dadas las capacidades e intenciones de los competidor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ómo podemos usar información para influenciar a los competidores de modo que nuestros objetivos sean más alcanzables y menos riesgoso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ómo podemos usar el targeting de nichos muy específicos para evitar confrontaciones y aumentar nuestra rentabilida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De qué mercados conviene “sacar” recuersos de modo de concentralos donde la rentabilidad sea mayo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7010280" y="5029200"/>
            <a:ext cx="7632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04920" y="304920"/>
            <a:ext cx="8839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800080"/>
                </a:solidFill>
                <a:latin typeface="Verdana"/>
              </a:rPr>
              <a:t>Las Bases de una Estrategia de Pre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90720" y="1911240"/>
            <a:ext cx="213336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Medi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 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90720" y="3511440"/>
            <a:ext cx="213336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nális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inanci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4" idx="2"/>
            <a:endCxn id="225" idx="0"/>
          </p:cNvCxnSpPr>
          <p:nvPr/>
        </p:nvCxnSpPr>
        <p:spPr>
          <a:xfrm>
            <a:off x="2057040" y="2762280"/>
            <a:ext cx="1080" cy="730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8" idx="3"/>
            <a:endCxn id="229" idx="1"/>
          </p:cNvCxnSpPr>
          <p:nvPr/>
        </p:nvCxnSpPr>
        <p:spPr>
          <a:xfrm>
            <a:off x="5854680" y="3920760"/>
            <a:ext cx="527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30" name=""/>
          <p:cNvSpPr/>
          <p:nvPr/>
        </p:nvSpPr>
        <p:spPr>
          <a:xfrm>
            <a:off x="3505320" y="1905120"/>
            <a:ext cx="243828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dent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l Cli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06840" y="3505320"/>
            <a:ext cx="222876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nálisi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eg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48040" y="5410080"/>
            <a:ext cx="1752840" cy="801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strate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0" idx="2"/>
            <a:endCxn id="228" idx="0"/>
          </p:cNvCxnSpPr>
          <p:nvPr/>
        </p:nvCxnSpPr>
        <p:spPr>
          <a:xfrm flipH="1">
            <a:off x="4721040" y="2755440"/>
            <a:ext cx="3600" cy="731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3" name=""/>
          <p:cNvCxnSpPr>
            <a:stCxn id="228" idx="2"/>
            <a:endCxn id="231" idx="0"/>
          </p:cNvCxnSpPr>
          <p:nvPr/>
        </p:nvCxnSpPr>
        <p:spPr>
          <a:xfrm>
            <a:off x="4721400" y="4355640"/>
            <a:ext cx="3600" cy="1035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6400800" y="3505320"/>
            <a:ext cx="220968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nál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mpeti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5" idx="2"/>
            <a:endCxn id="229" idx="0"/>
          </p:cNvCxnSpPr>
          <p:nvPr/>
        </p:nvCxnSpPr>
        <p:spPr>
          <a:xfrm>
            <a:off x="7505280" y="2755440"/>
            <a:ext cx="1080" cy="731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5" name=""/>
          <p:cNvSpPr/>
          <p:nvPr/>
        </p:nvSpPr>
        <p:spPr>
          <a:xfrm>
            <a:off x="6095880" y="1905120"/>
            <a:ext cx="281952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dent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 Competenc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25" idx="3"/>
            <a:endCxn id="228" idx="1"/>
          </p:cNvCxnSpPr>
          <p:nvPr/>
        </p:nvCxnSpPr>
        <p:spPr>
          <a:xfrm flipV="1">
            <a:off x="3142800" y="3920760"/>
            <a:ext cx="445320" cy="7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152280" y="312408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28600" y="4800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8600" y="1143000"/>
            <a:ext cx="457200" cy="54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800080"/>
                </a:solidFill>
                <a:latin typeface="Times New Roman"/>
              </a:rPr>
              <a:t>Estrategi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Descremar el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e en Precio Alto en la introducción que tiende a bajar con el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7010280" y="5029200"/>
            <a:ext cx="7632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" y="3657600"/>
            <a:ext cx="81532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Equilibrar Demanda con Capacidad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Crear Efecto Des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Ren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800080"/>
                </a:solidFill>
                <a:latin typeface="Times New Roman"/>
              </a:rPr>
              <a:t>Estrategi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Descremar el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v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7010280" y="5029200"/>
            <a:ext cx="7632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2895480"/>
            <a:ext cx="81536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trae rápidamente a los compet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Puede desposicionar a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Fuerte inversión en promo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800080"/>
                </a:solidFill>
                <a:latin typeface="Times New Roman"/>
              </a:rPr>
              <a:t>Estrategi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Penetración de Merca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e en Precio Bajo en la introducción que tiende a subir con el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7010280" y="5029200"/>
            <a:ext cx="7632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" y="3657600"/>
            <a:ext cx="81532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Desanima a la compe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fianza rápidamente una pos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Lograr una base de vetnas amplia para alcanzar economías de esca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800080"/>
                </a:solidFill>
                <a:latin typeface="Times New Roman"/>
              </a:rPr>
              <a:t>Estrategi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Penetración de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v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7010280" y="5029200"/>
            <a:ext cx="7632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480" y="2895480"/>
            <a:ext cx="81536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i nos equivocamos, podemos arruinar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No aconsejable en mercados de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Poco rentable, sobretodo si el ciclo de vida es cor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COMPORTAMIENTO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133720"/>
            <a:ext cx="7925040" cy="29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lgunos de los comportamientos cuestionan fuertemente lo que se ha llamado el supuesto  del “comportamiento racional” de los consumi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s principales investigadores han sido Kahneman y Tversky, los que han desarrollado una teoría que se llama “Teoría de Prospectos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COMPORT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447920"/>
            <a:ext cx="77724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lgunos de los comportamientos descritos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ercepciones sobre las diferencias de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s números imp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s precios de la línea como re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asticidades asimétr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fectos de O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último precio pagado como precio de re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glas para “enmarcar” prec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LOS NÚMEROS IMPARES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76240" y="1676520"/>
            <a:ext cx="73915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Por ejempl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os barras de chocolate se ofrecen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arra A  a:    $894          y   la barra B   a:   $  7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4114800"/>
            <a:ext cx="6934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hace un descuento y quedan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$888                              y           a         $7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ál tiene mayor descuento?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" dur="1" fill="hold"/>
                                  <p:tgtEl>
                                    <p:spTgt spid="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38080" y="144792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personas evalúan las diferencias de precios entre dos alternativas en forma porcentual. Esto es, en función del precio b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3429000"/>
            <a:ext cx="7238880" cy="29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a persona quiere comprar  azúcar en una tienda. Sabe que en otra tienda a 3 cuadras vale 450 el kg. En la tienda en que se encuentra la azúcar vale 550 por lo que  No la compr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n embargo, esa misma persona, en la misma tienda, compra una botella de aceite de oliva a $2,500 sabiendo que en la otra tienda está a $2,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9520" y="284940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Ejemp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PERCEPCIÓN DE DIFERENCIAS DE PREC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PERCEPCIÓN DE DIFERENCIAS DE PREC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1374840"/>
            <a:ext cx="792504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ambos casos la diferencia era $100, sin embargo pareciera que el valor de esos 100 pesos es RELATIVO al valor del bi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la azúcar es un 20% del precio, en el aceite es 4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lgo nos pasa como consumidores cuando el PORCENTAJE de diferencia es muy grande, aunque el valor sea po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1680" y="54100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Esto se llama la Ley de Weber-Fech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PRECIOS DE REFEREN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838080"/>
            <a:ext cx="73152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o consumidores siempre requerimos precios de REFERENCIA. Algo....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 caro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 barato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tá en su preci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specto a alguna REFERENCIA que tenemos en nuestras cabez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3809880"/>
            <a:ext cx="77724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isten tres tipos de Referenci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cios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CTUALES  (visibles)   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CORD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y dependientes del CONTEXTO en que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hace la comp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1T12:50:27Z</dcterms:created>
  <dc:creator>Máximo Bosch P.</dc:creator>
  <dc:description/>
  <dc:language>en-US</dc:language>
  <cp:lastModifiedBy>Williams Young</cp:lastModifiedBy>
  <dcterms:modified xsi:type="dcterms:W3CDTF">2005-11-10T16:51:01Z</dcterms:modified>
  <cp:revision>26</cp:revision>
  <dc:subject/>
  <dc:title>PRICING</dc:title>
</cp:coreProperties>
</file>