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781-65EB-40FA-A4E5-983D0AD9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D8E-BD41-4C74-B4E8-D2747E38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E61-4DA4-4138-9B9B-CD4FA2AD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26B-195C-495F-A588-4F2A6C47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D21-7550-45C5-8F80-95D2AB83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B79-7D4A-40E3-BB8D-83B0B2F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BBD-7658-4C6E-9C02-30CF76CF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235-BA0B-4D0A-8508-D9524777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00E-B161-400D-9373-3C6A6A25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C9E-87EB-430C-B8A7-D4158BC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4BF-5605-49BA-B8F4-7141F8F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BC9-C09A-4CFF-8B18-254EC0F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E36B-8B43-4253-8435-5B6EDF2159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000" spc="-1" strike="noStrike">
                <a:solidFill>
                  <a:srgbClr val="0033cc"/>
                </a:solidFill>
                <a:latin typeface="Times New Roman"/>
              </a:rPr>
              <a:t>Comportamiento, valor y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09680"/>
            <a:ext cx="6172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 una línea de Productos siempre más vale tener 3 que dos 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819160" cy="2117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568680" cy="2681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6200" y="12016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3640" y="11890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5640" y="492300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1160" y="4881600"/>
            <a:ext cx="251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PRECIOS ACT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13716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92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560" y="48769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 piés cúb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09.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87692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8 piés cúb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17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39724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2397240"/>
            <a:ext cx="2992680" cy="224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895480" y="2397240"/>
            <a:ext cx="2746440" cy="2063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935760" y="13413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876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.1 piés cúbicos  $199.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ACTUAL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31840" y="2438280"/>
          <a:ext cx="687852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438280"/>
                    <a:ext cx="68785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465200"/>
            <a:ext cx="80769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hay tres productos en una linea                              (e.g pañales bebés 0-5 kg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4.200     La elasticidad del B es as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l A baja de 5.000 a 4.800,   entonces muchos que compraban B comprarán A. Si baja el C a 3.000, casi nadie que compraba el B se cambiará al 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LASTICIDADES ASIMÉTR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133720"/>
            <a:ext cx="807732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conviene hacer promociones de los precios más bajos, sí de los superiores e intermedios,...... salvo que queramos convertir no compradores en compradores.......o por generar imagen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76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e presentan los precios en orden Ascendente o Descendente, la mayoría de las personas no reaccionan i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20040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lusas en un Catálogo de una Tienda de D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500, 5.600, 9.900.,15.800, 21.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1.350, 15.800, 9.900, 5.600, 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ventas promedio serán mayores en el segundo 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EFECTOS DE ORDEN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757520"/>
            <a:ext cx="73152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o lo usan no sólo los Catálogos, también los vendedores (siempre empiezan por un valor más alto que lo que creen el comprador puede comprar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os pasillos de un supermercado, una categoría debiera ordenarse de mayor precio a menor, en el sentido del fluj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ÚLTIMO PRECIO PA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1600200"/>
            <a:ext cx="8001000" cy="45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yoría de las veces los consumidores ”recordamos” el precio pagado por un artí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róxima compra lo usamos de precio de referenc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veces no es que lo recordemo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ublicidad trata de hacer referencia al pasado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lía   4.100.000, ahora 3.800.000.... Aproveche!!!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PRICING</a:t>
            </a:r>
            <a:br>
              <a:rPr sz="4800"/>
            </a:b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Visión Estratég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251460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Comic Sans MS"/>
              </a:rPr>
              <a:t>Comportamiento del Consumidor ante los Preci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3"/>
            <a:endCxn id="107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6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2"/>
            <a:endCxn id="109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2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07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4" idx="2"/>
              <a:endCxn id="107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5" name=""/>
          <p:cNvCxnSpPr>
            <a:stCxn id="103" idx="3"/>
            <a:endCxn id="106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Medición de Cos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costos incrementales, los evitables, involucrados en esta decisión de pre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costo de ventas variable incremental (no el prom) (incluido todo: fabricación, servicio y so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A qué niveles de ventas se requerirán gastos semifijos adicionales y cuántos será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CF asociados a este producto se pueden evit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3" idx="2"/>
            <a:endCxn id="124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7" idx="3"/>
            <a:endCxn id="128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27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7" idx="2"/>
            <a:endCxn id="130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6095880" y="1905120"/>
            <a:ext cx="2819520" cy="2401560"/>
            <a:chOff x="6095880" y="1905120"/>
            <a:chExt cx="2819520" cy="2401560"/>
          </a:xfrm>
        </p:grpSpPr>
        <p:sp>
          <p:nvSpPr>
            <p:cNvPr id="128" name=""/>
            <p:cNvSpPr/>
            <p:nvPr/>
          </p:nvSpPr>
          <p:spPr>
            <a:xfrm>
              <a:off x="6400800" y="3505320"/>
              <a:ext cx="220968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pet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5" idx="2"/>
              <a:endCxn id="128" idx="0"/>
            </p:cNvCxnSpPr>
            <p:nvPr/>
          </p:nvCxnSpPr>
          <p:spPr>
            <a:xfrm>
              <a:off x="7505280" y="2755440"/>
              <a:ext cx="1080" cy="73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6095880" y="1905120"/>
              <a:ext cx="2819520" cy="8013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Iden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de Competenci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" name=""/>
          <p:cNvCxnSpPr>
            <a:stCxn id="124" idx="3"/>
            <a:endCxn id="127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otenciales clientes y por qué comprarán este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Valor Económico de este producto para los consumidores o cl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otros factores (prestigio, dificultad de encontrar alternativas, ppto, etc) limitan la sensibilidad del cliente al pre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En qué se diferencian los distintos clientes respecto a las dos pregunt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una estrategia de mktg puede alterar la voluntad a pagar de los consumidores respecto de este produc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2"/>
            <a:endCxn id="14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8" idx="3"/>
            <a:endCxn id="14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2"/>
            <a:endCxn id="14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8" idx="2"/>
            <a:endCxn id="15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2"/>
            <a:endCxn id="14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d1f9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5" idx="3"/>
            <a:endCxn id="14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Identificación de Co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actuales o futuros competidores que podrían afectar la rentabilidad de este merca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iénes son los competidores actuales y poten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P que realmente cobran los competidores actu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Podemos dar una hipótesis de cuales son las estrategias de precios de cada uno? Utilidad o Vent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Fortalezas y Debilidades de ellos respecto a nos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2"/>
            <a:endCxn id="16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8" idx="3"/>
            <a:endCxn id="16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0" idx="2"/>
            <a:endCxn id="16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2"/>
            <a:endCxn id="17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5" idx="2"/>
            <a:endCxn id="16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65" idx="3"/>
            <a:endCxn id="16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ariaciones en las ventas se necesitan dar para distintos cambios en el producto, los precios, y la promoción? Para productos nuevos ¿Qué nivel de ventas se requiere para justificar el aumento del C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el margen de contribución del producto en el precio punto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nta venta adicional se reuqiere para que una disminución del precio signifique ganar m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 es la máxima pérdida de ventas tolerable antes que una subida del precio surta efe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volumen de ventas adicional se requiere para cubrir incrementos en los CF que el nuevo producto puede gener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8" idx="3"/>
            <a:endCxn id="18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0" idx="2"/>
            <a:endCxn id="18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8" idx="2"/>
            <a:endCxn id="19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5" idx="2"/>
            <a:endCxn id="18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5" idx="3"/>
            <a:endCxn id="18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de Segm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uede la empresa diferenciar el precio a distintos segmentos de modo de reflejar diferencias en sensibilidad de precio y el costo incremental de servirlos a e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se pueden identificar miembros de segmentos distintos previo a la ven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construir “vallas” entre segmentos para evitar que las ventas de precio bajo no minen la rentabilidad de los sectores de precio al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as restricciones legales que podrían afectar nuestra política de precios discrimina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urante los años 70 se realizó mucha investigación referente al comportamiento de los consumidores frente al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ayoría de estas investigaciones fue del tipo “experim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de estas investigaciones han tenido impacto en Retailing , en la función de Ventas y en el Pricing de productos nue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4" idx="2"/>
            <a:endCxn id="20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8" idx="3"/>
            <a:endCxn id="20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"/>
          <p:cNvCxnSpPr>
            <a:stCxn id="210" idx="2"/>
            <a:endCxn id="20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8" idx="2"/>
            <a:endCxn id="21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b8fb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0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5" idx="3"/>
            <a:endCxn id="20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Análisis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creemos que reaccionarán los competidores ante distintas estrategias nuestras? ¿Cómo afecta eso nuestras deci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metas realistas se pueden establecer dadas las capacidades e intenciones de los competido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información para influenciar a los competidores de modo que nuestros objetivos sean más alcanzables y menos riesgos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ómo podemos usar el targeting de nichos muy específicos para evitar confrontaciones y aumentar nuestra rentabilid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qué mercados conviene “sacar” recuersos de modo de concentralos donde la rentabilidad sea may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304920"/>
            <a:ext cx="883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80"/>
                </a:solidFill>
                <a:latin typeface="Verdana"/>
              </a:rPr>
              <a:t>Las Bases de un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9112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511440"/>
            <a:ext cx="21333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4" idx="2"/>
            <a:endCxn id="225" idx="0"/>
          </p:cNvCxnSpPr>
          <p:nvPr/>
        </p:nvCxnSpPr>
        <p:spPr>
          <a:xfrm>
            <a:off x="2057040" y="2762280"/>
            <a:ext cx="1080" cy="73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8" idx="3"/>
            <a:endCxn id="229" idx="1"/>
          </p:cNvCxnSpPr>
          <p:nvPr/>
        </p:nvCxnSpPr>
        <p:spPr>
          <a:xfrm>
            <a:off x="5854680" y="3920760"/>
            <a:ext cx="527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505320" y="1905120"/>
            <a:ext cx="24382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6840" y="3505320"/>
            <a:ext cx="222876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48040" y="5410080"/>
            <a:ext cx="1752840" cy="801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0" idx="2"/>
            <a:endCxn id="228" idx="0"/>
          </p:cNvCxnSpPr>
          <p:nvPr/>
        </p:nvCxnSpPr>
        <p:spPr>
          <a:xfrm flipH="1">
            <a:off x="4721040" y="2755440"/>
            <a:ext cx="360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8" idx="2"/>
            <a:endCxn id="231" idx="0"/>
          </p:cNvCxnSpPr>
          <p:nvPr/>
        </p:nvCxnSpPr>
        <p:spPr>
          <a:xfrm>
            <a:off x="4721400" y="4355640"/>
            <a:ext cx="3600" cy="10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6400800" y="3505320"/>
            <a:ext cx="220968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5" idx="2"/>
            <a:endCxn id="229" idx="0"/>
          </p:cNvCxnSpPr>
          <p:nvPr/>
        </p:nvCxnSpPr>
        <p:spPr>
          <a:xfrm>
            <a:off x="7505280" y="2755440"/>
            <a:ext cx="1080" cy="731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6095880" y="1905120"/>
            <a:ext cx="2819520" cy="80136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5" idx="3"/>
            <a:endCxn id="228" idx="1"/>
          </p:cNvCxnSpPr>
          <p:nvPr/>
        </p:nvCxnSpPr>
        <p:spPr>
          <a:xfrm flipV="1">
            <a:off x="3142800" y="3920760"/>
            <a:ext cx="4453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52280" y="312408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143000"/>
            <a:ext cx="457200" cy="54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Alto en la introducción que tiende a baja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quilibrar Demanda con Capacidad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r Efecto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escremar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trae rápidamente a los 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uede desposicionar a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uerte inversión en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Precio Bajo en la introducción que tiende a subir co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365760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sanima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anza rápidamente una 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grar una base de vetnas amplia para alcanzar economías de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800080"/>
                </a:solidFill>
                <a:latin typeface="Times New Roman"/>
              </a:rPr>
              <a:t>Estrateg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enetr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010280" y="5029200"/>
            <a:ext cx="763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895480"/>
            <a:ext cx="8153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 nos equivocamos, podemos arruina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 aconsejable en mercados d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oco rentable, sobretodo si el ciclo de vida es c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133720"/>
            <a:ext cx="792504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cuestionan fuertemente lo que se ha llamado el supuesto  del “comportamiento racional” de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incipales investigadores han sido Kahneman y Tversky, los que han desarrollado una teoría que se llama “Teoría de Prospecto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POR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44792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unos de los comportamientos descrit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cepciones sobre las diferencia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número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ecios de la línea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asimét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s de 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último precio pagado como precio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las para “enmarcar” pre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LOS NÚMEROS IMPA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240" y="1676520"/>
            <a:ext cx="7391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or ejempl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os barras de chocolate se ofrece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arra A  a:    $894          y   la barra B   a:   $  7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800"/>
            <a:ext cx="693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un descuento y queda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$888                              y           a         $7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tiene mayor descuento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479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personas evalúan las diferencias de precios entre dos alternativas en forma porcentual. Esto es, en función del precio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723888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persona quiere comprar  azúcar en una tienda. Sabe que en otra tienda a 3 cuadras vale 450 el kg. En la tienda en que se encuentra la azúcar vale 550 por lo que  No la com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n embargo, esa misma persona, en la misma tienda, compra una botella de aceite de oliva a $2,500 sabiendo que en la otra tienda está a $2,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2849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ERCEPCIÓN DE DIFERENCIAS DE 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37484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ambos casos la diferencia era $100, sin embargo pareciera que el valor de esos 100 pesos es RELATIVO al valor del b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la azúcar es un 20% del precio, en el aceite es 4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 nos pasa como consumidores cuando el PORCENTAJE de diferencia es muy grande, aunque el valor sea p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68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to se llama la Ley de Weber-Fech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RECIOS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83808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consumidores siempre requerimos precios de REFERENCIA. Algo...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car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bara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á en su pre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pecto a alguna REFERENCIA que tenemos en nuestras cabez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80988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tres tipos de Referen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TUALES  (visibles)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R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dependientes del CONTEXTO en qu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c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2:50:27Z</dcterms:created>
  <dc:creator>Máximo Bosch P.</dc:creator>
  <dc:description/>
  <dc:language>en-US</dc:language>
  <cp:lastModifiedBy>Williams Young</cp:lastModifiedBy>
  <dcterms:modified xsi:type="dcterms:W3CDTF">2005-11-10T16:51:01Z</dcterms:modified>
  <cp:revision>26</cp:revision>
  <dc:subject/>
  <dc:title>PRICING</dc:title>
</cp:coreProperties>
</file>