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DF393-E725-419C-A3C4-80F47F49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6F87D-AB21-4C4F-A88C-C944E676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D8720-C09C-44A0-9481-0D0AE4172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9F709-ACDE-4FD4-9707-5FD3E637F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08FB-E625-4F9B-983F-76AD0717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8A69E-DDDF-4C53-8A86-0FC7E63BD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33C00-C89C-4B4F-A1E7-B9E26176D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F02C-4A8C-48E9-A9BC-1C5A76D1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5B254-F617-4C4C-99B9-821D8293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7A1A-9515-49C0-A383-3749F968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636B-48E3-4385-B027-37DEB74A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B977-384E-40AF-AD4A-95A61B2F6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87FE-734C-4890-B55E-A9B4A6258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11-03T14:38:38Z</dcterms:modified>
  <cp:revision>40</cp:revision>
  <dc:subject/>
  <dc:title>Presentación de PowerPoint</dc:title>
</cp:coreProperties>
</file>