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9BA4D-B2C8-46B9-8A76-E065800E5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9D976-C29C-4B93-9B0B-B5BD390F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BC63C-65DC-4323-A683-3F806FE0C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F3E7B-F1F2-4E78-8D55-BBEF5F2F1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B4E5-6219-413D-BBDE-13D3B2386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6DAC-CB59-4402-88A8-B47C9476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95F33-CF6D-4284-95F6-A94A04884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C9A7-8199-4AF8-BB2A-23545395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34E50-D07B-49EE-B7A0-AE6ACC02D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FF8F-EA0F-41A8-AF47-4869186A3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2D80-9EB1-4B70-B69A-F0139DC6A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F37F-F882-4F28-9F00-DFAB97D0F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AED3-3B8C-49D6-A76B-29D53117E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11-03T14:38:38Z</dcterms:modified>
  <cp:revision>40</cp:revision>
  <dc:subject/>
  <dc:title>Presentación de PowerPoint</dc:title>
</cp:coreProperties>
</file>