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52200" y="403560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276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7392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9600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5220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7392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9600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609480"/>
            <a:ext cx="87631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276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DII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f011e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" name=""/>
          <p:cNvSpPr/>
          <p:nvPr/>
        </p:nvSpPr>
        <p:spPr>
          <a:xfrm>
            <a:off x="6480" y="6480"/>
            <a:ext cx="9118440" cy="683244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8458200" y="6172200"/>
          <a:ext cx="455760" cy="53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58200" y="6172200"/>
                    <a:ext cx="4557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914400"/>
            <a:ext cx="883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000000"/>
                </a:solidFill>
                <a:latin typeface="Times New Roman"/>
              </a:rPr>
              <a:t>CADENA DE ABASTECIMIENTO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838080" y="1981080"/>
            <a:ext cx="70866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 un comprador en la tienda no encuentra la marca que quiere pueden pasar las siguientes cos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mbiar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mbiar de tie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ferir la compra para otra oca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lvidarse del asunto y no compr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El Flujo de Dinero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62120" y="1371600"/>
            <a:ext cx="1295280" cy="45972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ta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19320" y="2514600"/>
            <a:ext cx="380880" cy="914400"/>
          </a:xfrm>
          <a:prstGeom prst="upArrow">
            <a:avLst>
              <a:gd name="adj1" fmla="val 50000"/>
              <a:gd name="adj2" fmla="val 60019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4267080"/>
            <a:ext cx="304920" cy="914400"/>
          </a:xfrm>
          <a:prstGeom prst="downArrow">
            <a:avLst>
              <a:gd name="adj1" fmla="val 50000"/>
              <a:gd name="adj2" fmla="val 7497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512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43434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4080" y="1447920"/>
            <a:ext cx="152424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abric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267080"/>
            <a:ext cx="380880" cy="914400"/>
          </a:xfrm>
          <a:prstGeom prst="upArrow">
            <a:avLst>
              <a:gd name="adj1" fmla="val 50000"/>
              <a:gd name="adj2" fmla="val 60019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2514600"/>
            <a:ext cx="304920" cy="914400"/>
          </a:xfrm>
          <a:prstGeom prst="downArrow">
            <a:avLst>
              <a:gd name="adj1" fmla="val 50000"/>
              <a:gd name="adj2" fmla="val 7497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El Flujo de Dinero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87631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El Flujo de Dinero</a:t>
            </a:r>
            <a:r>
              <a:rPr b="1" lang="es-ES" sz="4000" spc="-1" strike="noStrike">
                <a:solidFill>
                  <a:srgbClr val="af011e"/>
                </a:solidFill>
                <a:latin typeface="Comic Sans MS"/>
              </a:rPr>
              <a:t> :Acciones del Retailer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76" name=""/>
          <p:cNvSpPr/>
          <p:nvPr/>
        </p:nvSpPr>
        <p:spPr>
          <a:xfrm>
            <a:off x="838080" y="2057400"/>
            <a:ext cx="74678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umentar Costo de Cambiar Tie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ejorar los Serv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lubes de Lealt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rcas Prop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sminuir Costo de Cambiar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rca Prop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urtido Ampl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El Flujo de Dinero</a:t>
            </a:r>
            <a:r>
              <a:rPr b="1" lang="es-ES" sz="4000" spc="-1" strike="noStrike">
                <a:solidFill>
                  <a:srgbClr val="af011e"/>
                </a:solidFill>
                <a:latin typeface="Comic Sans MS"/>
              </a:rPr>
              <a:t> Acciones del Fabricante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2057400"/>
            <a:ext cx="74678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sminuir  Costo de Cambiar Tie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rabajar con todos los Retailers (Ayudar a los más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hic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umentar  Costo de Cambiar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versión en Desarrollo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ublicidad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Elementos Estratégicos para el Diseño de cadenas de Distribución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8160" y="1904760"/>
            <a:ext cx="232416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Aspectos de l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Ciclo de vida del Produc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Margen de Contribución*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305080" y="323820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marL="2113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Más de 2 años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                      3 meses a 1 añ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113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113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113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113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"/>
          <p:cNvSpPr/>
          <p:nvPr/>
        </p:nvSpPr>
        <p:spPr>
          <a:xfrm>
            <a:off x="2343240" y="533520"/>
            <a:ext cx="3124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ducto Fu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(Demanda Predeci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15000" y="53352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753160" y="533520"/>
            <a:ext cx="3505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ducto Innov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(Demanda Impredeci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33200" y="1752480"/>
            <a:ext cx="8724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0" y="114480"/>
            <a:ext cx="0" cy="5524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05080" y="44766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% a 20%                              20% a 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5867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* El margen de contribución es igual al precio menos el costo variable      dividido por el precio y se expresa como porcenta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8160" y="1904760"/>
            <a:ext cx="232416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Variedad del Product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Margen promedio de error en el pronóstico de demanda al momento de producció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0" y="365724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marL="2113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10%                                       40% a 100%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113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113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113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113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"/>
          <p:cNvSpPr/>
          <p:nvPr/>
        </p:nvSpPr>
        <p:spPr>
          <a:xfrm>
            <a:off x="2343240" y="533520"/>
            <a:ext cx="3124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ducto Fu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(Demanda Predeci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15000" y="53352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53160" y="533520"/>
            <a:ext cx="3505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ducto Innov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(Demanda Impredeci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3200" y="1752480"/>
            <a:ext cx="8724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114480"/>
            <a:ext cx="0" cy="655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05080" y="1905120"/>
            <a:ext cx="6381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2320" indent="-3532320">
              <a:spcBef>
                <a:spcPts val="15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aja (10 a 20 variantes         alta (a menudo millo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32320" indent="-3532320">
              <a:spcBef>
                <a:spcPts val="15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r categoría)                        nes de variantes por                                                             categorí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8160" y="1904760"/>
            <a:ext cx="232416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Tasa promedio de agotamiento de stock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Promedio de rebajas de precio por fin de temporad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Lead tim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0" y="352440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marL="2113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0%                                       10% a 25%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113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113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113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113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"/>
          <p:cNvSpPr/>
          <p:nvPr/>
        </p:nvSpPr>
        <p:spPr>
          <a:xfrm>
            <a:off x="2343240" y="533520"/>
            <a:ext cx="3124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ducto Fu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(Demanda Predeci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3352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53160" y="533520"/>
            <a:ext cx="3505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ducto Innov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(Demanda Impredeci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3200" y="1752480"/>
            <a:ext cx="8724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0" y="114480"/>
            <a:ext cx="0" cy="655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05080" y="1886040"/>
            <a:ext cx="638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2320" indent="-3532320">
              <a:spcBef>
                <a:spcPts val="15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% a 2%                               10% a 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38280" y="502920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6 meses a 1 año                    1 día a 2 sema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8160" y="1904760"/>
            <a:ext cx="232416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Propósito primar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Principal objetivo en la manufactur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"/>
          <p:cNvSpPr/>
          <p:nvPr/>
        </p:nvSpPr>
        <p:spPr>
          <a:xfrm>
            <a:off x="2343240" y="53352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dena Físicamente Efic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715000" y="53352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53160" y="53352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dena Sensible al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33200" y="1752480"/>
            <a:ext cx="8724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0" y="114480"/>
            <a:ext cx="0" cy="655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62320" y="188604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veer demanda predecible al costo más bajo po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15000" y="1886040"/>
            <a:ext cx="3429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sponder rápidamente a la demanda impredecible para minimizar agotamientos, caídas de precios obligadas, e inventario obso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43240" y="447660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ntener tasa de utilización a un nivel al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15000" y="447660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splegar capacidad buffer en ex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8160" y="1904760"/>
            <a:ext cx="232416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Estrategia de inventar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Foco de lead ti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Enfoque para elección de proveedor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"/>
          <p:cNvSpPr/>
          <p:nvPr/>
        </p:nvSpPr>
        <p:spPr>
          <a:xfrm>
            <a:off x="2343240" y="53352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dena Físicamente Efic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15000" y="53352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53160" y="53352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dena Sensible al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3200" y="1752480"/>
            <a:ext cx="8724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114480"/>
            <a:ext cx="0" cy="655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62320" y="188604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enerar alta rotación y minimizar inventario a través de la cade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188604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splegar importantes stocks de partes o productos termin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62320" y="358128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ortar el lead time mientras no aumente el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53160" y="360036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vertir agresivamente de modo de reducir el lea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2387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leccionar principalmente por costo y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695920" y="5219640"/>
            <a:ext cx="32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leccionar principalmente para rapidez, flexibilidad y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8160" y="1904760"/>
            <a:ext cx="232416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Estrategia de diseño de product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"/>
          <p:cNvSpPr/>
          <p:nvPr/>
        </p:nvSpPr>
        <p:spPr>
          <a:xfrm>
            <a:off x="2343240" y="53352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dena Físicamente Efic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15000" y="53352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53160" y="53352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dena Sensible al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3200" y="1752480"/>
            <a:ext cx="8724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0" y="114480"/>
            <a:ext cx="0" cy="655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62320" y="188604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ximizar el desempeño y minimizar el cos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15000" y="188604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ar diseño modular para posponer la diferenciación el mayor tiempo po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Relación entre Cadena y Producto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213372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62120" y="1600200"/>
          <a:ext cx="7238880" cy="480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00200"/>
                    <a:ext cx="7238880" cy="4800600"/>
                  </a:xfrm>
                  <a:prstGeom prst="rect">
                    <a:avLst/>
                  </a:prstGeom>
                  <a:ln w="9360">
                    <a:solidFill>
                      <a:srgbClr val="9933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El Flujo de Información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666880" y="1523880"/>
            <a:ext cx="3657240" cy="4343040"/>
            <a:chOff x="2666880" y="1523880"/>
            <a:chExt cx="3657240" cy="4343040"/>
          </a:xfrm>
        </p:grpSpPr>
        <p:pic>
          <p:nvPicPr>
            <p:cNvPr id="142" name="" descr=""/>
            <p:cNvPicPr/>
            <p:nvPr/>
          </p:nvPicPr>
          <p:blipFill>
            <a:blip r:embed="rId1"/>
            <a:stretch/>
          </p:blipFill>
          <p:spPr>
            <a:xfrm>
              <a:off x="2666880" y="1523880"/>
              <a:ext cx="3657240" cy="43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2913840" y="5031000"/>
              <a:ext cx="1071000" cy="611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533520" y="2286000"/>
            <a:ext cx="8001000" cy="35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fundador Ortega: las vestimentas  se convertirán en commodities perecibles como el pan o la fruta, piensen en vestuario como un producto para el consu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u socio (Castellano) era un especialista en 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ducando al Consumid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s-ES" sz="2000" spc="-1" strike="noStrike">
                <a:solidFill>
                  <a:srgbClr val="000000"/>
                </a:solidFill>
                <a:latin typeface="Times New Roman"/>
              </a:rPr>
              <a:t>Los clientes deben entender que si les gusta algo necesitan comprarlo ahora, porque no estará en la tienda la semana siguient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666880" y="533520"/>
            <a:ext cx="4038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ff"/>
                </a:solidFill>
                <a:latin typeface="Times New Roman"/>
              </a:rPr>
              <a:t>ZARA  Compite en Veloc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362320" y="6094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ff"/>
                </a:solidFill>
                <a:latin typeface="Times New Roman"/>
              </a:rPr>
              <a:t>Performance  de Za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1676520"/>
            <a:ext cx="6934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recimiento de ventas: 25% an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tilidad, 10% de vtas., y creciendo 30% por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sarrollo de Produc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l diseño a la tienda: 2 sema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2,000 diseños por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spachos a cada tienda: 2 por sem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España: ordenan sábado, despacho el Lu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33520" y="495360"/>
            <a:ext cx="80769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905120" y="5335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ff"/>
                </a:solidFill>
                <a:latin typeface="Times New Roman"/>
              </a:rPr>
              <a:t>La Cadena de Abastec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1447920"/>
            <a:ext cx="807696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rte y Cofección en Españ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stellano: Mayores costos de m.o. pero ráp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ábricas muy automatizadas tiñen y cortan la tela (instalaciones intensivas en capital son propi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fección por 300 subcontratistas en España y Portugal (instalaciones intensivas en m. de o. Subcontratadas, pero con apoyo informát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ransporte por camión a tiendas locales.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tienen altos inventarios de tel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ducciones por lotes muy pequeños. (flexibil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286000" y="6094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ff"/>
                </a:solidFill>
                <a:latin typeface="Times New Roman"/>
              </a:rPr>
              <a:t>Centro Logístico de Za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1828800"/>
            <a:ext cx="601956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amaño: 100.000 metros cuad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60.000 ítemes de ropa por ho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erca del Principal Centro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istas Bajo tierra (200 kms. de pist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os productos vienen en cajas para cada tienda , con etiquetas electró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s cajas son seleccionadas con sc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s cajas van a 443 buzones, 1 para cada tie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447920" y="304920"/>
            <a:ext cx="72388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ff"/>
                </a:solidFill>
                <a:latin typeface="Times New Roman"/>
              </a:rPr>
              <a:t>              </a:t>
            </a:r>
            <a:r>
              <a:rPr b="1" lang="es-ES" sz="2800" spc="-1" strike="noStrike">
                <a:solidFill>
                  <a:srgbClr val="cc00ff"/>
                </a:solidFill>
                <a:latin typeface="Times New Roman"/>
              </a:rPr>
              <a:t>Un Negocio centra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ff"/>
                </a:solidFill>
                <a:latin typeface="Times New Roman"/>
              </a:rPr>
              <a:t>    </a:t>
            </a:r>
            <a:r>
              <a:rPr b="1" lang="es-ES" sz="2800" spc="-1" strike="noStrike">
                <a:solidFill>
                  <a:srgbClr val="cc00ff"/>
                </a:solidFill>
                <a:latin typeface="Times New Roman"/>
              </a:rPr>
              <a:t>en la Inform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90720" y="1828800"/>
            <a:ext cx="7238880" cy="35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os gerentes de tienda usan computadores Casio, tipo palm, a través de los que mandan información 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endencias de 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mentarios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s órdenes de la tie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os Diseñado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acen los diseños, los  scanean al computador, se transmiten electrónicamente al comp. de la fábrica, el que ordena las instrucciones de corte a las máquinas cortadoras, entre otras cos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1158840" y="3106800"/>
            <a:ext cx="6819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EFINICION DE RETAILING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95280" y="1219320"/>
            <a:ext cx="6248520" cy="436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Definición de Reta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Un Retailer es un Negocio que vende Productos y/o Servicios a consumidores para su uso personal o de su famil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empre que existe un Consumidor existe un Retai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630360" y="2666880"/>
            <a:ext cx="81327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LASIFICACION 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E RETAILER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85800" y="18288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Retailers se pueden clasificar , en forma bastante amplia, segú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76520" y="3733920"/>
            <a:ext cx="5333760" cy="101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ipo de Mercade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ipo de Propi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838080" y="1143000"/>
            <a:ext cx="2057400" cy="60948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3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ercaderí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8080" y="1981080"/>
            <a:ext cx="2057400" cy="60984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4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mesti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304920"/>
            <a:ext cx="2057400" cy="60948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2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nstr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Herrami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3657600"/>
            <a:ext cx="205740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94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iendas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entas Miscelán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2819520"/>
            <a:ext cx="2057400" cy="60948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5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Gasoliner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tas. De A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3657600"/>
            <a:ext cx="2057400" cy="60948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6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op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y acceso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4495680"/>
            <a:ext cx="2057400" cy="60984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7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ue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5410080"/>
            <a:ext cx="2057400" cy="60984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8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staurantes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ugares comer/be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05320" y="2819520"/>
            <a:ext cx="205740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93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ercaderí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Us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05320" y="2057400"/>
            <a:ext cx="205740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92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Botillerí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05320" y="1219320"/>
            <a:ext cx="205740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91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Farmac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6248520"/>
            <a:ext cx="205740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9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isceláne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4495680"/>
            <a:ext cx="20574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96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inor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in Tie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00800" y="4572000"/>
            <a:ext cx="20574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963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enta Direc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324480" y="3657600"/>
            <a:ext cx="20574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962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áquin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Vend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324480" y="2819520"/>
            <a:ext cx="20574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961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atálog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"/>
          <p:cNvCxnSpPr>
            <a:stCxn id="171" idx="3"/>
            <a:endCxn id="177" idx="0"/>
          </p:cNvCxnSpPr>
          <p:nvPr/>
        </p:nvCxnSpPr>
        <p:spPr>
          <a:xfrm>
            <a:off x="2895120" y="655272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8" name=""/>
          <p:cNvSpPr/>
          <p:nvPr/>
        </p:nvSpPr>
        <p:spPr>
          <a:xfrm flipV="1">
            <a:off x="3124080" y="1447560"/>
            <a:ext cx="0" cy="510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2408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24080" y="23623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3124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24080" y="39625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638680" y="4800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5867280" y="30481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867280" y="3048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867280" y="3886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867280" y="4800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733920" y="5715000"/>
            <a:ext cx="4647960" cy="825480"/>
          </a:xfrm>
          <a:prstGeom prst="rect">
            <a:avLst/>
          </a:prstGeom>
          <a:noFill/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5050"/>
                </a:solidFill>
                <a:latin typeface="Times New Roman"/>
              </a:rPr>
              <a:t>CLASIFICACION SIC del Retai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81280" y="380880"/>
            <a:ext cx="525780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lasificación por Tipo de Mercade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209680" y="0"/>
            <a:ext cx="6934320" cy="6753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3300"/>
                </a:solidFill>
                <a:latin typeface="Times New Roman"/>
              </a:rPr>
              <a:t>INDEPENDIENT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Situación Difíc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iendas de Especialidades y Lo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3300"/>
                </a:solidFill>
                <a:latin typeface="Times New Roman"/>
              </a:rPr>
              <a:t>CORPORATIV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versiones May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endencia a la Internacion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ortante en Supermercados,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rma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3300"/>
                </a:solidFill>
                <a:latin typeface="Times New Roman"/>
              </a:rPr>
              <a:t>FRANQUICI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orma de Expandirse Ráp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ortancia de la Marca con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porte Distinti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ortante en Restaurantes y Vestu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457200"/>
            <a:ext cx="2133720" cy="546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Times New Roman"/>
              </a:rPr>
              <a:t>CLASIFI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Times New Roman"/>
              </a:rPr>
              <a:t>C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Times New Roman"/>
              </a:rPr>
              <a:t>P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Times New Roman"/>
              </a:rPr>
              <a:t>TI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Times New Roman"/>
              </a:rPr>
              <a:t>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Times New Roman"/>
              </a:rPr>
              <a:t>PROPI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143000" y="106668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pueden clasificar también  según CINCO características opera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590920" y="2438280"/>
            <a:ext cx="3276360" cy="324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RI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RT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IVEL DE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TRETEN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533520" y="685800"/>
            <a:ext cx="8229600" cy="40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VARIEDAD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Número de CATEGORIAS DIFERENTES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ue ofrece un RET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RIEDAD  =  ANCHO DE LA GAMA DE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Retailers con más Variedad son los HIPERMERCADOS y las TIENDAS POR DEPARTAM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533520" y="685800"/>
            <a:ext cx="8229600" cy="51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URTIDO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Número de  SKU (Store Keeping Units)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ue ofrece en una Categoría un RET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RTIDO  =  PROFUNDIDAD de Productos en la Catego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Retailers con más SURTIDO en una Categoría son los ESPECIALISTAS (Casa ROYAL, Tienda de Calcetin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Supermercado JUMBO tiene más SURTIDO que el Lí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2058840" y="762120"/>
            <a:ext cx="5179680" cy="5849640"/>
            <a:chOff x="2058840" y="762120"/>
            <a:chExt cx="5179680" cy="5849640"/>
          </a:xfrm>
        </p:grpSpPr>
        <p:sp>
          <p:nvSpPr>
            <p:cNvPr id="198" name=""/>
            <p:cNvSpPr/>
            <p:nvPr/>
          </p:nvSpPr>
          <p:spPr>
            <a:xfrm>
              <a:off x="3408840" y="6041880"/>
              <a:ext cx="300240" cy="2199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709440" y="6041880"/>
              <a:ext cx="300240" cy="2199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010040" y="6041880"/>
              <a:ext cx="299880" cy="2199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309920" y="6041880"/>
              <a:ext cx="300240" cy="2199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610520" y="6041880"/>
              <a:ext cx="300240" cy="2199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911120" y="6041880"/>
              <a:ext cx="299880" cy="2199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211000" y="6041880"/>
              <a:ext cx="300240" cy="2199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511600" y="6041880"/>
              <a:ext cx="300240" cy="2199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12200" y="6041880"/>
              <a:ext cx="299880" cy="2199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108600" y="6041880"/>
              <a:ext cx="299880" cy="2199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211000" y="5821920"/>
              <a:ext cx="300240" cy="2199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911120" y="5821920"/>
              <a:ext cx="299880" cy="2199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610520" y="5821920"/>
              <a:ext cx="300240" cy="2199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09920" y="5821920"/>
              <a:ext cx="300240" cy="2199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010040" y="5821920"/>
              <a:ext cx="299880" cy="2199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709440" y="5821920"/>
              <a:ext cx="300240" cy="2199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408840" y="5821920"/>
              <a:ext cx="300240" cy="2199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211000" y="5601960"/>
              <a:ext cx="300240" cy="2199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911120" y="5601960"/>
              <a:ext cx="299880" cy="2199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10520" y="5601960"/>
              <a:ext cx="300240" cy="2199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309920" y="5601960"/>
              <a:ext cx="300240" cy="2199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010040" y="5601960"/>
              <a:ext cx="299880" cy="2199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511600" y="5821920"/>
              <a:ext cx="300240" cy="2199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709440" y="5601960"/>
              <a:ext cx="300240" cy="2199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309920" y="5382000"/>
              <a:ext cx="300240" cy="2199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309920" y="1935360"/>
              <a:ext cx="300240" cy="2199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010040" y="1935360"/>
              <a:ext cx="299880" cy="2199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309920" y="2155320"/>
              <a:ext cx="300240" cy="2199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010040" y="2155320"/>
              <a:ext cx="299880" cy="2199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610520" y="2375280"/>
              <a:ext cx="300240" cy="2199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309920" y="2375280"/>
              <a:ext cx="300240" cy="2199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010040" y="2375280"/>
              <a:ext cx="299880" cy="2199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610520" y="2595240"/>
              <a:ext cx="300240" cy="2199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309920" y="2595240"/>
              <a:ext cx="300240" cy="2199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010040" y="2595240"/>
              <a:ext cx="299880" cy="2199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09440" y="2595240"/>
              <a:ext cx="300240" cy="2199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10520" y="2815560"/>
              <a:ext cx="300240" cy="2199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309920" y="2815560"/>
              <a:ext cx="300240" cy="2199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010040" y="2815560"/>
              <a:ext cx="299880" cy="2199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709440" y="2815560"/>
              <a:ext cx="300240" cy="2199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408840" y="2815560"/>
              <a:ext cx="300240" cy="2199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610520" y="3035520"/>
              <a:ext cx="300240" cy="2199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309920" y="3035520"/>
              <a:ext cx="300240" cy="2199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010040" y="3035520"/>
              <a:ext cx="299880" cy="2199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709440" y="3035520"/>
              <a:ext cx="300240" cy="2199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408840" y="3035520"/>
              <a:ext cx="300240" cy="2199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108600" y="3035520"/>
              <a:ext cx="299880" cy="2199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2733120" y="835560"/>
              <a:ext cx="0" cy="241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583000" y="3255480"/>
              <a:ext cx="465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058840" y="1202040"/>
              <a:ext cx="630360" cy="2764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Surti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191280" y="3328560"/>
              <a:ext cx="736920" cy="2764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Varied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2733120" y="3841920"/>
              <a:ext cx="0" cy="241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733120" y="6261840"/>
              <a:ext cx="443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058840" y="4061880"/>
              <a:ext cx="630360" cy="2764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Surti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191280" y="6335280"/>
              <a:ext cx="736920" cy="2764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Varied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08600" y="762120"/>
              <a:ext cx="0" cy="54997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2733120" y="5382000"/>
              <a:ext cx="1576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6112440" y="2888640"/>
              <a:ext cx="0" cy="33732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2733120" y="1715400"/>
              <a:ext cx="1576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709440" y="2375280"/>
              <a:ext cx="300240" cy="2199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10520" y="2155320"/>
              <a:ext cx="300240" cy="2199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309920" y="1715400"/>
              <a:ext cx="300240" cy="2199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1143000" y="3049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6600"/>
                </a:solidFill>
                <a:latin typeface="Times New Roman"/>
              </a:rPr>
              <a:t>Decisión Estratégica: ¿Surtido o Varieda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835280" y="1413000"/>
            <a:ext cx="676908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cc99"/>
                </a:solidFill>
                <a:latin typeface="Times New Roman"/>
              </a:rPr>
              <a:t>En el extrem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lang="es-CL" sz="4400" spc="-1" strike="noStrike">
                <a:solidFill>
                  <a:srgbClr val="00cc99"/>
                </a:solidFill>
                <a:latin typeface="Times New Roman"/>
              </a:rPr>
              <a:t>Especialist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cc99"/>
                </a:solidFill>
                <a:latin typeface="Times New Roman"/>
              </a:rPr>
              <a:t>                 </a:t>
            </a:r>
            <a:r>
              <a:rPr b="0" lang="es-CL" sz="4400" spc="-1" strike="noStrike">
                <a:solidFill>
                  <a:srgbClr val="00cc99"/>
                </a:solidFill>
                <a:latin typeface="Times New Roman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cc99"/>
                </a:solidFill>
                <a:latin typeface="Times New Roman"/>
              </a:rPr>
              <a:t>                        </a:t>
            </a:r>
            <a:r>
              <a:rPr b="0" lang="es-CL" sz="4400" spc="-1" strike="noStrike">
                <a:solidFill>
                  <a:srgbClr val="00cc99"/>
                </a:solidFill>
                <a:latin typeface="Times New Roman"/>
              </a:rPr>
              <a:t>Generalis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38080" y="1828800"/>
            <a:ext cx="723924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flujo de Productos                 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OGI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33526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ódulo de Cad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af011e"/>
                </a:solidFill>
                <a:latin typeface="Comic Sans MS"/>
              </a:rPr>
              <a:t>El Flujo de Productos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533520" y="685800"/>
            <a:ext cx="8229600" cy="49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ERVICIOS AL CL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tintos Retailers pueden ofrecer distintos NIVELES DE SERVICIO a sus Cli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Servicio que ofrece McDonald`s no es el mismo que ofrece Lomit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 estacionamiento puede hacer gran di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gunos servicios pueden entregar un SERVICIO DIFERENCIADO a sus cli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sos Aerolíneas, Banco Santiago, Falab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533520" y="685800"/>
            <a:ext cx="8229600" cy="57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gunos Retailers pueden ofrecer precios más baratos que su Competencia. Esto , en un mundo competitivo se puede deber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yor Eficiencia en Oper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sto es cada vez más difícil pues estas capacidades son cop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nores Serv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o más comú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nor Variedad o Menor Surt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sta es la diferencia entre Líder y Jum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ha definido una categoría como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oss Leade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af011e"/>
                </a:solidFill>
                <a:latin typeface="Comic Sans MS"/>
              </a:rPr>
              <a:t>Precio vs. Experiencia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65" name=""/>
          <p:cNvSpPr/>
          <p:nvPr/>
        </p:nvSpPr>
        <p:spPr>
          <a:xfrm>
            <a:off x="762120" y="32004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siguientes Fotos son de The Economist, Nov.20th, 200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0" y="453960"/>
            <a:ext cx="8991720" cy="60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981080" y="0"/>
            <a:ext cx="5457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0" y="492120"/>
            <a:ext cx="9144000" cy="587376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457200" y="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dificio de la tienda de deptos. Selfridge´s in Birmigham, 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af011e"/>
                </a:solidFill>
                <a:latin typeface="Comic Sans MS"/>
              </a:rPr>
              <a:t>Precio vs. Surtido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siguiente es una clasificación típica de la industria de los supermerc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4419720" y="1066680"/>
            <a:ext cx="0" cy="51055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33520" y="3733920"/>
            <a:ext cx="82296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124080" y="609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urt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696080" y="40384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10080" y="2514600"/>
            <a:ext cx="304920" cy="304920"/>
          </a:xfrm>
          <a:custGeom>
            <a:avLst/>
            <a:gdLst>
              <a:gd name="textAreaLeft" fmla="*/ 125640 w 304920"/>
              <a:gd name="textAreaRight" fmla="*/ 179280 w 30492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5181480"/>
            <a:ext cx="304920" cy="304920"/>
          </a:xfrm>
          <a:custGeom>
            <a:avLst/>
            <a:gdLst>
              <a:gd name="textAreaLeft" fmla="*/ 125640 w 304920"/>
              <a:gd name="textAreaRight" fmla="*/ 179280 w 30492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800600" y="990720"/>
            <a:ext cx="304920" cy="304560"/>
          </a:xfrm>
          <a:custGeom>
            <a:avLst/>
            <a:gdLst>
              <a:gd name="textAreaLeft" fmla="*/ 125640 w 304920"/>
              <a:gd name="textAreaRight" fmla="*/ 179280 w 304920"/>
              <a:gd name="textAreaTop" fmla="*/ 125280 h 304560"/>
              <a:gd name="textAreaBottom" fmla="*/ 1792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286000" y="5029200"/>
            <a:ext cx="304920" cy="304920"/>
          </a:xfrm>
          <a:custGeom>
            <a:avLst/>
            <a:gdLst>
              <a:gd name="textAreaLeft" fmla="*/ 125640 w 304920"/>
              <a:gd name="textAreaRight" fmla="*/ 179280 w 30492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666880" y="1523880"/>
            <a:ext cx="304920" cy="304920"/>
          </a:xfrm>
          <a:custGeom>
            <a:avLst/>
            <a:gdLst>
              <a:gd name="textAreaLeft" fmla="*/ 125640 w 304920"/>
              <a:gd name="textAreaRight" fmla="*/ 179280 w 30492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371600" y="18288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iper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705720" y="556272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ienda de Conven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800600" y="28954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permercado Trad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648320" y="12952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Jum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371600" y="54864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yor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685800" y="685800"/>
            <a:ext cx="75438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lasificación adicional de los Grandes Retailers, según los mercados que atienden 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ss Reta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rand Reta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762120" y="533520"/>
            <a:ext cx="784836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5050"/>
                </a:solidFill>
                <a:latin typeface="Times New Roman"/>
              </a:rPr>
              <a:t>BRAND RETAI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RIENTACION A SEGMENTO ESPECI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ortancia de la MAR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ALCANCE se logra con la expansión Ge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ortancia del Franchising como herramienta de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pan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cDonald´s, Gucci, Benetton, Laura Ash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af011e"/>
                </a:solidFill>
                <a:latin typeface="Comic Sans MS"/>
              </a:rPr>
              <a:t>El Flujo de Productos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2514600"/>
            <a:ext cx="784872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Estrategia tradicional de los fabricantes ha sido de tipo PUL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ublicidad orientada a promocionar la venta del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mpresa hace publicidad mas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sumidor va al Supermercado y “pide” 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supermercadista “pide” el producto al fabric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1066680"/>
            <a:ext cx="609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af011e"/>
                </a:solidFill>
                <a:latin typeface="Comic Sans MS"/>
              </a:rPr>
              <a:t>	</a:t>
            </a:r>
            <a:r>
              <a:rPr b="1" lang="es-ES" sz="4000" spc="-1" strike="noStrike">
                <a:solidFill>
                  <a:srgbClr val="af011e"/>
                </a:solidFill>
                <a:latin typeface="Comic Sans MS"/>
              </a:rPr>
              <a:t>Push vs Pu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066680" y="990720"/>
            <a:ext cx="6858000" cy="57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5050"/>
                </a:solidFill>
                <a:latin typeface="Times New Roman"/>
              </a:rPr>
              <a:t>BRAND RETA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) Principalmente  para Productos de Prestig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ucci, pero no olvidar Mr.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) Explosión del Brand Retailer. La Marca el principal Activo. Franchis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ene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) Las TI permiten la Integración VERTICAL. ¿Fin del Franchis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Z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533520" y="193680"/>
            <a:ext cx="83055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5050"/>
                </a:solidFill>
                <a:latin typeface="Times New Roman"/>
              </a:rPr>
              <a:t>MASS RETAI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RIENTACION A TODOS LOS SEG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ALCANCE se logra c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riedad de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am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ierta Imagen de Precio (nunca Al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MASS RETAILERS en el área de Supermercados están tratando de crear MAR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Podrán llegar a hacer Franchising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 difícil crear una MARCA SIGNIFICATIVA sin SEGMENT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sos Carrefour, Líder,  Home Depot, Falabella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2397240" y="2782800"/>
            <a:ext cx="43434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VOLUCION DEL 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ETAIL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066680" y="9907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5050"/>
                </a:solidFill>
                <a:latin typeface="Times New Roman"/>
              </a:rPr>
              <a:t>MASS RETA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438280"/>
            <a:ext cx="3505320" cy="83844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ienda de Descu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Discou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447920" y="3809880"/>
            <a:ext cx="3504960" cy="83844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rientación a la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23880" y="5410080"/>
            <a:ext cx="3505320" cy="83844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rientación al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867280" y="2286000"/>
            <a:ext cx="3048120" cy="990720"/>
          </a:xfrm>
          <a:prstGeom prst="ellipse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ocup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 Operación Prop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95880" y="3733920"/>
            <a:ext cx="3048120" cy="990360"/>
          </a:xfrm>
          <a:prstGeom prst="ellipse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sión en l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vee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mpetencia de Prec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095880" y="5334120"/>
            <a:ext cx="3048120" cy="990360"/>
          </a:xfrm>
          <a:prstGeom prst="ellipse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ideliz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4876560" y="281952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4952520" y="42670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5029200" y="586728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27672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200400" y="4648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1066680" y="762120"/>
            <a:ext cx="3505320" cy="83808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Tienda de Descu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(Discou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752480" y="2819520"/>
            <a:ext cx="632484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Tiendas Grandes aumentaron enormemente la efici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Proveedores estaban felices. Vendían más a men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competencia se daba entre las tiendas Grandes (Discounters) y las tiendas ch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1143000" y="762120"/>
            <a:ext cx="3505320" cy="83808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Orientación a la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752480" y="2057400"/>
            <a:ext cx="632484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Tiendas Grandes derrotaron totalmente a las ch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demanda por tiendas Grandes se satur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mpieza la guerra entre ell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Guerra es por Precio, o IMAGEN DE PRECIO, fundamental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Tiendas presionan a los Provee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Marca Propia es un elemento de esta nueva Gue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143000" y="762120"/>
            <a:ext cx="3505320" cy="83808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Orientación al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52480" y="2209680"/>
            <a:ext cx="632484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única forma de salirse de la Competencia por precios es FIDELIZ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ecesito elementos efectivos NO COPIABLES para fidelizar a mis cli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marcas Propias Juegan un Nuevo R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remos declinar la Administración por Categorías para pasar a la Administración de Clientes (o Negoci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7631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af011e"/>
                </a:solidFill>
                <a:latin typeface="Comic Sans MS"/>
              </a:rPr>
              <a:t>El Flujo de Productos</a:t>
            </a:r>
            <a:br>
              <a:rPr sz="4000"/>
            </a:br>
            <a:r>
              <a:rPr b="1" lang="es-ES" sz="4000" spc="-1" strike="noStrike">
                <a:solidFill>
                  <a:srgbClr val="af011e"/>
                </a:solidFill>
                <a:latin typeface="Comic Sans MS"/>
              </a:rPr>
              <a:t> Push  vs. Pull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2209680"/>
            <a:ext cx="784836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Estrategia actual de los fabricantes tiende a ser de tipo PUSH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60% del pto. de marketing va a promociones en el canal,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annondale Assoc,2001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mociones en la góndola de la Sala para competir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 las Restantes Mar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ublicidad menos ligada al producto y más énfasis en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914400" y="1143000"/>
            <a:ext cx="77724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Flujo de Informa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romisos Comerc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ocimient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l 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antes IM , hoy datos del POS y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arjetas de club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l comprador de productos al comprador de canasta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50292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Rol de las 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El Flujo de Información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90720" y="2057400"/>
            <a:ext cx="7238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Flujo de Diner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PO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so Nestle vs Lid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El Flujo de Dinero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1523880"/>
            <a:ext cx="701028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a forma de analizar el poder dentro del canal es comparar a nivel del consumidor 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STO DE CAMBIAR DE MARCA   (CC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 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STO DE CAMBIAR DE TIENDA    (C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El Flujo de Dinero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7:28:44Z</dcterms:created>
  <dc:creator>maximo bosch</dc:creator>
  <dc:description/>
  <dc:language>en-US</dc:language>
  <cp:lastModifiedBy>Williams Young</cp:lastModifiedBy>
  <dcterms:modified xsi:type="dcterms:W3CDTF">2005-11-10T16:36:30Z</dcterms:modified>
  <cp:revision>27</cp:revision>
  <dc:subject/>
  <dc:title>Sin título de diapositiva</dc:title>
</cp:coreProperties>
</file>