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9B31-33E3-43D5-8489-30363BEB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B21-FFDE-4559-92AB-4499850C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855-A07B-45B9-B635-A3051592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4B4-8FF3-430B-BE78-E5BAD520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FDC-D0A9-4A52-A491-51C65181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BA7-F08B-44AD-94BA-D85AAA38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DFCF-A3F9-450B-9CD8-FACBADC2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773-B88F-4D16-8EE0-F9D39D35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681-502A-4B81-872F-20D3D1A2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DFB-B0D2-4C6A-BB66-01A6BC99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1081-06F9-466C-86A8-9C30C52D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B6A4-B4CC-491C-B7CC-B9379D92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5E96-A273-49E5-9985-27E8B4699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s Young</cp:lastModifiedBy>
  <dcterms:modified xsi:type="dcterms:W3CDTF">2005-10-18T15:01:25Z</dcterms:modified>
  <cp:revision>46</cp:revision>
  <dc:subject/>
  <dc:title>Sin título de diapositiva</dc:title>
</cp:coreProperties>
</file>