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321-A792-4E5F-B725-80B1E146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576-C347-4805-AEDD-B27AAA7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F85-BA27-41B7-B88C-F817EAC5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EDD-9212-41B0-A68D-58B22FA8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D64-9623-44DB-AD81-F4E666D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7F0-0EB3-4C86-B0C4-F7EBB63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E08-ADBE-46B1-AF5A-E47D56E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39C-0A66-4DE3-AD75-FF7A698F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108-9800-4620-BFC6-2E5720B9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562-3DFC-4E4F-8783-54C6262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2DB-C6B4-44EC-8A38-46194D5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231-F8F7-42CD-8F40-2792133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BC89-E153-4FC2-8F08-39F50C1EA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18T15:01:25Z</dcterms:modified>
  <cp:revision>46</cp:revision>
  <dc:subject/>
  <dc:title>Sin título de diapositiva</dc:title>
</cp:coreProperties>
</file>