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A7F-CB6A-413C-B13A-CC29AD29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EDE-B2A5-4515-9C48-5BFAAF0F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8C4-A78E-4275-B461-741FAA78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A2D-8BFB-4ADB-AF74-68C700B7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ECE-8D63-4C45-BD03-4F75267E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806-B5E0-448A-87B2-36B6400A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B74-B770-4801-ABB0-017E88B8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DAA-3000-4820-B002-523BDC86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7A9-AE7B-4967-A45D-5BD10D10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217-252E-48D5-A838-B83907C7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808-DA67-4191-AB51-7024A998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E21-32DC-4A6B-A5DC-F3B09AA2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9E67-A40E-4C68-9320-B7352A80D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s Young</cp:lastModifiedBy>
  <dcterms:modified xsi:type="dcterms:W3CDTF">2005-10-18T15:01:25Z</dcterms:modified>
  <cp:revision>46</cp:revision>
  <dc:subject/>
  <dc:title>Sin título de diapositiva</dc:title>
</cp:coreProperties>
</file>