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698-1C0A-494D-971A-15A78140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057-1119-490B-AF4A-34BD8B8F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A4D-C6AA-4247-8F46-FCFCB71F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CA1-7470-4A02-8E59-252EAB1B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966-6C43-45F0-BAE9-87C1082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484-359E-4A6F-BE7A-92272029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78A-90CC-4B70-8E2E-5A4F1DB3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550-7980-4FC9-A8F0-579B79DB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BF4-4018-4F19-A256-345E045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93F-F8FE-4B63-B38D-6D404B9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055-25FE-4D6D-B9FB-06010433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8E6-4601-403B-B25C-0F5D08A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21B-EB0C-423B-A102-40C852E1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18T15:01:25Z</dcterms:modified>
  <cp:revision>46</cp:revision>
  <dc:subject/>
  <dc:title>Sin título de diapositiva</dc:title>
</cp:coreProperties>
</file>