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52200" y="403560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276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7392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9600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5220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7392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9600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609480"/>
            <a:ext cx="87631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276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DII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f011e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" name=""/>
          <p:cNvSpPr/>
          <p:nvPr/>
        </p:nvSpPr>
        <p:spPr>
          <a:xfrm>
            <a:off x="6480" y="6480"/>
            <a:ext cx="9118440" cy="683244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8458200" y="6172200"/>
          <a:ext cx="455760" cy="53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58200" y="6172200"/>
                    <a:ext cx="4557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MACRO SEGMENTACIÓN Y CICLO DE VIDA</a:t>
            </a:r>
            <a:endParaRPr b="1" lang="en-US" sz="44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oño 200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304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81916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VP: 1. FASE DE INTRODUCCIÓN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 la fase de incertidumbr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lta la información sobre el consumidor, los canales y la competenci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dialéctica principal se establece entre el producto innovador y los sustituto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 producto suele ser el principal protagonista de la fase.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¿Tendrá futuro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VP: 1. FASE DE INTRODUCCIÓN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6858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¿Cómo empieza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novación tecnológic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mbios en las motivaciones del consumid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mbios sociales  o económicos que favorecen nuevos usos del produc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uevos grupos de consumidores que se empiezan a incorporar al consumo del product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Tasa de fracasos muy elevada ¿Por qué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 público no acepta la innovaci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se consigue distribución (en los canales tradicionales o nuevo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 líderes (de los productos a sustituir) dominan el mer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parece otra tecnología que si es acept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VP: 1. FASE DE INTRODUCCIÓN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6854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Comic Sans MS"/>
              </a:rPr>
              <a:t>Factores crític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La puesta a punto del producto y la producció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La orientación del público innovado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Dar a conocer el producto y convencer al público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La colaboración de la distribución o la creación de nuevos canal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Momento (tiempo) y forma de entrada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Protección por patentes, barreras arancelaria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Competencia de los productos sustituto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Distinguir entre prueba y repetición en la compra del producto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Comic Sans MS"/>
              </a:rPr>
              <a:t>Result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Crecimiento lento, faltan consumidores/usuarios y distribució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Cash-flow negativo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Hay que soportar inversiones en  producción e I + D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VP: 2. FASE DE CRECIMIENTO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 algn="ctr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se explosiva en crecimiento, en la que aparecen las claves que determinarán la dinámica competitiva futura. En esta etapa se desarrolla el mercado de referencia y se cubren distintas posiciones P/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VP: 2. FASE DE CRECIMIENTO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¿Cómo empieza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l usuario acepta el producto (incorporación de los primeros adoptadores y de la primera mayoría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La distribución se amplía rápidament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l éxito atrae a muchos competidores que conjuntamente contribuyen a desarrollar el mercado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Los líderes de la industria entran en juego y marcan su hegemonía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La tasa de fracasos es baj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lgunas empresas tienen dificultades para financiar el crecimiento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Líderes futuros suelen crecer por encima  de la media del mercado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VP: 2. FASE DE CRECIMIENTO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7617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Factores crític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btener participación de Mercado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abajar en el desarrollo de la Imagen de marca (fidelidad futur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ajan los costos (efecto volumen y aprendizaj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fusión de la tecnologí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bertura de la distribució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ntamente comienza el aprendizaje por parte del mercad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epararse para bajadas de precios hacia el final de la fas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 perfila la definición de roles: líder, seguidor, retador, especialist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btención de recursos financiero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Resultado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s flujos de caja  son positivos y crecen rápidamen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mortización de la inversión inicia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VP: 3. FASE DE TURBULENCIA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 produce desaceleración del crecimiento  como consecuencia de la saturación del mercado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ele tomar  a los desprevenidos con ampliaciones de capacidad y endeudamiento financiero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s ventas totales crecen a tasas más bajas pero mayores aún que el promedio de la Economí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-3049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VP: 3. FASE DE TURBULENCIA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6854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2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¿Cómo empieza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78600" indent="-226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Hay una inflexión brusca en la tasa de crecimiento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78600" indent="-226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La distribución encaja con dificultades y traslada la crisis a los fabricant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78600" indent="-226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uerte caída de precio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78600" indent="-226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Ola de conservadurismo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82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bandon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78600" indent="-226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e produce un abandono masivo de los competidores más débiles que no consiguen aguantar el cambio de velocidad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78600" indent="-226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parecen los “nicheros” o especialistas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78600" indent="-226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Los fuertes se reestructuran y se preparan para afrontar la madurez del mercado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VP: 3. FASE DE TURBULENCIA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685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27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77200" indent="-27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Factores crític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4920" indent="-2214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acionalización de todos los procesos. Hay que bajar costo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64920" indent="-2214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gunos competidores aguantan por reputación, activos especializados, barreras de salida y ... Se incrementa la rivalidad competitiv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64920" indent="-2214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mpliar la línea de productos con diferentes tamaños, sabores y variantes. Buscar satisfacer a segmentos y necesidades “aledañas”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64920" indent="-2214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pansión geográfica e internacional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64920" indent="-2214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guantan los más fuertes (preparados en la etapa de crecimiento) y preparan la madurez (reestructuración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64920" indent="-2214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estión de la imagen versus promociones continuada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64920" indent="-2214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 no se puede hacer lo anterior, hay que buscar nicho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VP: 4. FASE DE MADUREZ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 algn="ctr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madurez se caracteriza por la estabilidad y por ser la más larga del ciclo y en la que se encuentran la mayoría de los mercado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2209680"/>
            <a:ext cx="8001000" cy="1572120"/>
          </a:xfrm>
          <a:prstGeom prst="rect">
            <a:avLst/>
          </a:prstGeom>
          <a:solidFill>
            <a:srgbClr val="99ff33"/>
          </a:solidFill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CROSEGMENTACION = DEFINICIÓN DEL NEGO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rk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VP: 4. FASE DE MADUREZ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Comic Sans MS"/>
              </a:rPr>
              <a:t>¿Cómo empieza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Los líderes de mercado empiezan a imponer su hegemonía y se instaura un relativo oligopolio que favorece mantener un “statuo quo” de hecho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Comic Sans MS"/>
              </a:rPr>
              <a:t>Concentración de mer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Ganar cuota es caro y se tiende a mantener las posicion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Se tiende a cumplir la llamada ley de Henderson (3*4). Tres competidores importantes con  un reparto de cuotas de 4 a 1 entre el primero y el último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VP: 4. FASE DE MADUREZ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280080" indent="-280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Comic Sans MS"/>
              </a:rPr>
              <a:t>Factores crític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71760" indent="-2239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tasa de penetración es máxima: el consumidor es experto (última mayoría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1760" indent="-2239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iversificar al máximo la línea de producto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1760" indent="-2239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ompras de reposición de bienes durabl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1760" indent="-2239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stabilización tecnológica y estandarización de producto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0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0080" indent="-280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Comic Sans MS"/>
              </a:rPr>
              <a:t>¿Cómo crecer en mercados maduro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71760" indent="-2239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Gaps de uso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más cantidad, más frecuente, nuevos uso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1760" indent="-2239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esarrollo de periféricos de servic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0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0080" indent="-280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Comic Sans MS"/>
              </a:rPr>
              <a:t>¿Cómo mantener la rentabilidad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71760" indent="-2239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elección de los segmentos rentabl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1760" indent="-2239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Gastar más en Fidelizar cliente que en Penetració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0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VP: 5. FASE DE DECLIVE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29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ase caracterizada  p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 descenso de la demand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certidumbre respecto la decadencia 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incertidumbre respecto a su duració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s una etapa que discrimina los competidor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 desinvierten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 cosechan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 se especializan en mercados residuale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ntables e invierten para segui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VP: 5. FASE DE DECLIVE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¿Cómo empieza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parecen productos sustitut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 consumidores (mayorías) cambian de hábitos y abandonan el produc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 que quedan rezagados y el entorno en general apuntan a la obsolescencia del produc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14400" y="1676520"/>
            <a:ext cx="7696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s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yon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eté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VP: 5. FASE DE DECLIVE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La tasa de abandon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Los competidores que abandonan el P/M son significativos. Algunos practican la obsolescencia planificada o buscan la expansión geográfica en mercados exteriores de otro nivel (Ciclo de Vida Internacional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Factores crític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Las barreras de salida y la calidad del mercado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olítica de precios (pueden subir) y fidelidad del cliente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istribución selectiva o marketing directo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entabilidad de nichos de mercado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ominio del mercado por un competidor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ERCADO POTENCIAL (ABSOLUTO)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47640" y="1523880"/>
            <a:ext cx="78487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0440" y="304560"/>
            <a:ext cx="87631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ERCADO POTENCIAL  (ACTUAL)</a:t>
            </a:r>
            <a:endParaRPr b="1" lang="en-US" sz="28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09480" y="1257480"/>
            <a:ext cx="7925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ERCADO POTENCIAL  (ACTUAL)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71680" y="1600200"/>
            <a:ext cx="8001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838080" y="1981080"/>
            <a:ext cx="7772400" cy="2303640"/>
          </a:xfrm>
          <a:prstGeom prst="rect">
            <a:avLst/>
          </a:prstGeom>
          <a:solidFill>
            <a:srgbClr val="99ff33"/>
          </a:solidFill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 interesará en general, sobretodo  respecto de la visión estratégica, buenas estimaciones del MERCADO POTENCIAL ABSOL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o llamaremos sólo Mercado Poten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2590920"/>
            <a:ext cx="8686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752480" y="2819520"/>
            <a:ext cx="57913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CASO    POUPARIÑA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781680" y="533520"/>
            <a:ext cx="13176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ERCADO POTENCIAL (ABSOLUTO)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2541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úmero de unidades de consumo potenciale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54160" indent="-2541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ualquier persona de 5 o más años es usuario potencial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54160" indent="-2541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so representa el 90% de la población total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54160" indent="-2541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a en Chile: 15 millones de habitant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54160" indent="-2541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 tiene pues: 90% de 15 millones = 13,5 millones de persona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541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úmero de ocasiones de uso por añ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54160" indent="-2541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s consumos semanales  por  usuario (cada uso equivale a 0,25  litros de coca cola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54160" indent="-2541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úmero de usos por año: 13,5 millones de usuarios * 2/semana*52 semanas =1.404  millones de ocasiones de uso por año o 351 litros de bebidas gaseosa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541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asa de consumo por  ocasión de us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54160" indent="-2541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a utilización normal implica 0.25 litros por  us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54160" indent="-2541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 mercado potencial absoluto es pues de: 1.404 millones de litros por añ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54160" indent="-2541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a botella promedio  contiene 1,5  litros; lo que hace: 936 millones de botellas/añ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541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omo alcanzamos el Potencial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09" name=""/>
          <p:cNvSpPr/>
          <p:nvPr/>
        </p:nvSpPr>
        <p:spPr>
          <a:xfrm>
            <a:off x="682560" y="19432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12800" y="1333440"/>
            <a:ext cx="1905120" cy="464832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12800" y="1104840"/>
            <a:ext cx="1905120" cy="121932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12800" y="1104840"/>
            <a:ext cx="1905120" cy="1219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12800" y="2324160"/>
            <a:ext cx="1905120" cy="1219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12800" y="3543480"/>
            <a:ext cx="1905120" cy="1218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12800" y="4762440"/>
            <a:ext cx="1905120" cy="1219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12800" y="552456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2560" y="72396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rcado Potencial Absolu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59520" y="1143000"/>
            <a:ext cx="20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suficiencia de 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du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53040" y="2362320"/>
            <a:ext cx="194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suficiencia de 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strib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59520" y="3581280"/>
            <a:ext cx="20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suficiencia en 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04680" y="47624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pet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95480" y="560088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mpre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60" y="4994280"/>
            <a:ext cx="1271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m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84200" y="4762440"/>
            <a:ext cx="723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75120" y="2324160"/>
            <a:ext cx="609480" cy="365760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41800" y="3543480"/>
            <a:ext cx="609840" cy="243828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108840" y="4762440"/>
            <a:ext cx="609480" cy="121932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099200" y="5524560"/>
            <a:ext cx="609840" cy="45720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60520" y="4762440"/>
            <a:ext cx="0" cy="1219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60520" y="598176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84400" y="1066680"/>
            <a:ext cx="20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plementar 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ama de produ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22840" y="110484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98800" y="1104840"/>
            <a:ext cx="0" cy="1219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89520" y="232416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965840" y="2324160"/>
            <a:ext cx="0" cy="1219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027760" y="2286000"/>
            <a:ext cx="136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mpliar 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strib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956200" y="35434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32520" y="3543480"/>
            <a:ext cx="0" cy="12189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080" y="3505320"/>
            <a:ext cx="11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stim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s u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946920" y="483876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023240" y="48387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08840" y="47242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tacar a 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peti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86440" y="5448240"/>
            <a:ext cx="135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fender s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si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INSUFICIENCIA DE USO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52200" y="211428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SUMIDORES POTENCIALES QUE NO SON USUARI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OCA FRECUENCIA DE U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AJA CANTIDA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INSUFICIENCIA DE DISTRIBUCIÓN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2190600"/>
            <a:ext cx="716292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BERTURA INSUFICI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TENSIDAD INSUFICI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XPOSICIÓN INSUFICI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INSUFICIENCIA DE PRODUCTO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52200" y="2190600"/>
            <a:ext cx="716292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AMAÑ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PCION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ALIDA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0440" y="304560"/>
            <a:ext cx="87631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PARTICIPACIÓN DE MERCADO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- DEFINICION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2438280" y="4267080"/>
            <a:ext cx="304920" cy="1600200"/>
          </a:xfrm>
          <a:custGeom>
            <a:avLst/>
            <a:gdLst>
              <a:gd name="textAreaLeft" fmla="*/ 194760 w 304920"/>
              <a:gd name="textAreaRight" fmla="*/ 305280 w 30492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781360" y="4191120"/>
            <a:ext cx="547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gt; 1 Precio promedio de X mayor 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compe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09520" y="548640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lt; 1  Me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8440" y="4648320"/>
            <a:ext cx="122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M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MV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50292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4476600" y="3219480"/>
                <a:ext cx="1908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371600" y="1828800"/>
                <a:ext cx="44578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ta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Marca 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ta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del Prod-Mdo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1371600" y="342900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95280" y="36576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371600" y="29257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n volumen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=  PMV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n valor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=  PM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PARTICIPACIÓN DE MERCADO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- OBSERVACION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.-  Cuidado con cual es el MP de referenci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-  A veces algunas marcas incluyen ventas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de otros M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0">
              <a:lnSpc>
                <a:spcPct val="11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mportante control de precio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.-  Análisis en el tiempo (mejor Promedios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Móviles para observar tendencia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0">
              <a:lnSpc>
                <a:spcPct val="11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/>
          <p:nvPr/>
        </p:nvSpPr>
        <p:spPr>
          <a:xfrm>
            <a:off x="595440" y="5222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PARTICIPACIÓN DE MERCADO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- DESCOMPOSICIÓN DE LA PARTICIPACIÓN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 MERCAD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595440" y="5222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120" y="3886200"/>
            <a:ext cx="8153280" cy="459720"/>
          </a:xfrm>
          <a:prstGeom prst="rect">
            <a:avLst/>
          </a:prstGeom>
          <a:solidFill>
            <a:srgbClr val="99ff33"/>
          </a:solidFill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PARTICIPACIÓ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Penetración * Lealtad * Inten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PARTICIPACIÓN DE MERCADO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9536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ALTAD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babilidad que tiene una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sona promedio de comprar la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rca X cuando va a comprar el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duct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NETRACIÓN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rcentaje del mercado Potencial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 consume alguna vez la marca 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NSIDAD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de uso) Número de veces en u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íodo de tiempo que el consumidor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medio compra (consume) el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ducto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>
            <a:off x="595440" y="5222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PARTICIPACIÓN DE MERCADO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73" name=""/>
          <p:cNvSpPr/>
          <p:nvPr/>
        </p:nvSpPr>
        <p:spPr>
          <a:xfrm>
            <a:off x="595440" y="5222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jemplo: Mercado de Café Soluble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ticipación de Nescafé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,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netración de Nescafé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,6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altad de Nescafé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,8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nsidad relativa de Nescafé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,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ticipación = Penetración * Lealtad * Intensida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,6      =       0,65      *   0,86   *     1,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67520" y="582480"/>
            <a:ext cx="7313040" cy="53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ERCADOS Y PRODU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ES DIMENSIONES PARA DEFINIR 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 FUNCION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¿QUÉ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 GRUPO DE COMPRADOR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¿QUIÉN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 TECNOLOGÍA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¿CÓMO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PARTICIPACIÓN DE MERCADO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FINAMO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pradores de Nescafé (Personas que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pran café, y algunas veces al menos,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escafé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pradores de café.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/>
          <p:nvPr/>
        </p:nvSpPr>
        <p:spPr>
          <a:xfrm>
            <a:off x="595440" y="5222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PARTICIPACIÓN DE MERCADO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FINAMO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ntidad de café comprado por los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pradores de café en un período de tiemp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x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ntidad de café (cualquier marca) comprada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or los compradores de Nescaf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xx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ntidad de Nescafé comprada por los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pradores de Nescafé.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/>
          <p:nvPr/>
        </p:nvSpPr>
        <p:spPr>
          <a:xfrm>
            <a:off x="595440" y="5222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0440" y="2286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PARTICIPACIÓN DE MERCADO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82" name=""/>
          <p:cNvSpPr/>
          <p:nvPr/>
        </p:nvSpPr>
        <p:spPr>
          <a:xfrm>
            <a:off x="595440" y="5222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95256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Qcc = 1.550.000 * 1,63225806  =  2.529.999,99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Qcx =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(700.000 * 1.8) + (200.000 * 1.7) + (50.000 *1.6) +    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(50.000 * 1.5)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=  1.755.00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Qxx =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(700.000 * 1.8) + (200.000 * 0.9) + (50.000 * 1.0) +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(50.000 * 0.5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= 1.515.00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x =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(700.000 + 200.000 + 50.000 + 50.000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= 1.000.00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c =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1.550.00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PARTICIPACIÓN DE MERCADO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TONC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595440" y="5222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66160" y="2712960"/>
            <a:ext cx="6040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09480" y="2860560"/>
            <a:ext cx="4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15920" y="2712960"/>
            <a:ext cx="5842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981080" y="3124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76520" y="286056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964600" y="2712960"/>
            <a:ext cx="10414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xx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x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971800" y="3124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84520" y="2712960"/>
            <a:ext cx="10339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x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124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13520" y="3855960"/>
            <a:ext cx="774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Nótese que matemáticamente esta es una igual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PARTICIPACIÓN DE MERCADO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TONC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xx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Q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ticipación en Volum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enetraci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xx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nsumo promedio de Nescafé de los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pradores de Nescaf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x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nsumo promedio de café de los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pradores de Nescaf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"/>
          <p:cNvSpPr/>
          <p:nvPr/>
        </p:nvSpPr>
        <p:spPr>
          <a:xfrm>
            <a:off x="595440" y="5222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0440" y="4572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PARTICIPACIÓN DE MERCADO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TONC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xx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Q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x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ealtad por el Nescafé de los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pradores de Nescaf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=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nsumo promedio de café de los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pradores de caf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x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"/>
          <p:cNvSpPr/>
          <p:nvPr/>
        </p:nvSpPr>
        <p:spPr>
          <a:xfrm>
            <a:off x="595440" y="5222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2120" y="5181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05120" y="4952880"/>
            <a:ext cx="35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26760" y="4800600"/>
            <a:ext cx="674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tensidad relativa de consumo de café de 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pradores de Nescaf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PARTICIPACIÓN DE MERCADO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228600" y="1600200"/>
          <a:ext cx="8686800" cy="388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86868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595440" y="5222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PARTICIPACIÓN DE MERCADO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13" name=""/>
          <p:cNvSpPr/>
          <p:nvPr/>
        </p:nvSpPr>
        <p:spPr>
          <a:xfrm>
            <a:off x="595440" y="5222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Qxx/Qcc =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0,5988142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Penetració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x/Nc =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0,64516129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ealta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Qxx/Qcx =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0,8632478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Intensidad relativ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(Qcx/Nx)/(Qcc/Nc)  =  1.0751976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DIMENSIONES DEL MERCADO DE REFERENCIA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24040" y="28440"/>
            <a:ext cx="7253280" cy="637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EL CICLO DE VIDA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Ciclo de Vid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 un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rco conceptua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teresa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aracteriza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tractivo y evolución de un mercado-product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sos: Mayonesa, Productos Dietétic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EL CICLO DE VIDA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Determinantes del Ciclo de Vida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cnología (productos sustitutivo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rcado (nuevos hábitos, variaciones de la población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fuerzo de Marketing de las empresas (no es neutro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Sobre la unidad de análisi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ducto/mercado   versus   marca o produc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-15228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ICLO DE VIDA PRODUCTO/MERCADO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Evolución de la demanda en el tiemp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"/>
          <p:cNvSpPr/>
          <p:nvPr/>
        </p:nvSpPr>
        <p:spPr>
          <a:xfrm>
            <a:off x="1294200" y="5791320"/>
            <a:ext cx="353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uente: Adaptado de Lambin (199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236232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219320" y="1600200"/>
          <a:ext cx="6933960" cy="419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00200"/>
                    <a:ext cx="693396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1571760" y="2671920"/>
            <a:ext cx="5667120" cy="2690640"/>
          </a:xfrm>
          <a:custGeom>
            <a:avLst/>
            <a:gdLst/>
            <a:ahLst/>
            <a:rect l="l" t="t" r="r" b="b"/>
            <a:pathLst>
              <a:path w="3570" h="1695">
                <a:moveTo>
                  <a:pt x="0" y="1692"/>
                </a:moveTo>
                <a:cubicBezTo>
                  <a:pt x="143" y="1677"/>
                  <a:pt x="637" y="1695"/>
                  <a:pt x="859" y="1591"/>
                </a:cubicBezTo>
                <a:cubicBezTo>
                  <a:pt x="1081" y="1487"/>
                  <a:pt x="1216" y="1221"/>
                  <a:pt x="1334" y="1066"/>
                </a:cubicBezTo>
                <a:cubicBezTo>
                  <a:pt x="1452" y="911"/>
                  <a:pt x="1474" y="799"/>
                  <a:pt x="1567" y="661"/>
                </a:cubicBezTo>
                <a:cubicBezTo>
                  <a:pt x="1660" y="523"/>
                  <a:pt x="1745" y="343"/>
                  <a:pt x="1890" y="237"/>
                </a:cubicBezTo>
                <a:cubicBezTo>
                  <a:pt x="2035" y="131"/>
                  <a:pt x="2222" y="50"/>
                  <a:pt x="2436" y="25"/>
                </a:cubicBezTo>
                <a:cubicBezTo>
                  <a:pt x="2650" y="0"/>
                  <a:pt x="2984" y="10"/>
                  <a:pt x="3173" y="85"/>
                </a:cubicBezTo>
                <a:cubicBezTo>
                  <a:pt x="3362" y="160"/>
                  <a:pt x="3487" y="395"/>
                  <a:pt x="3570" y="477"/>
                </a:cubicBezTo>
              </a:path>
            </a:pathLst>
          </a:custGeom>
          <a:noFill/>
          <a:ln w="4428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7T22:08:22Z</dcterms:created>
  <dc:creator>Dii</dc:creator>
  <dc:description/>
  <dc:language>en-US</dc:language>
  <cp:lastModifiedBy>Williams Young</cp:lastModifiedBy>
  <dcterms:modified xsi:type="dcterms:W3CDTF">2005-09-08T15:14:59Z</dcterms:modified>
  <cp:revision>120</cp:revision>
  <dc:subject/>
  <dc:title>Sin título de diapositiva</dc:title>
</cp:coreProperties>
</file>