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32936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Recordando el Proceso de Decisión de Compra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Evaluación Perceptual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br>
              <a:rPr sz="3600"/>
            </a:b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erfil Semántic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06360" y="1616040"/>
            <a:ext cx="67438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Evaluación Perceptual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br>
              <a:rPr sz="3600"/>
            </a:b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erfil Semántic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n fáciles de realiz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uestran toda la información recolect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ero tienen una gran desventaja: son de dificil interpretación porqu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oda la información se valora ig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ntre las variables existe mucha información redundante y eso no se detec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Evaluación Perceptual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Escalamiento Multidimensional (MDS)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a información sin atributos en base a similitu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¿cómo?...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edir al entrevistado que califiquen el grado de similitud de cada par de objetos a sin indicar criter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s decir: No requiere, y más aun, se evita indicar en qué aspectos se deben considerar la “distancia percibida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put: Matriz Cuadra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a celda representa una medida de similitu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atriz de Proximid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triz puede corresponder a un individuo o a un promedio de va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s celdas representan una medida de similitu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49600" y="4191120"/>
                <a:ext cx="5644800" cy="24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zproximidade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∂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∂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∂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∂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∂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∂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dealmente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sSub>
                          <m:e>
                            <m:r>
                              <m:t xml:space="preserve">∂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∂</m:t>
                        </m:r>
                      </m:e>
                      <m:e/>
                    </m:eqArr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Evaluación Perceptual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Escalamiento Multidimensional (MDS)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uando cada sujeto ha respondido sus preguntas se debe decidir si se realizará el mapa a: nivel individual, de segmento o de toda la pobl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Normalmente se prefiere un solo mapa, pues los mapas individuales no aseguran tener las mismas dimensiones para todos los sujet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Evaluación Perceptual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Escalamiento Multidimensional (M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Número de Dimens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ondad del  Ajuste (S) (regla del codo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l número de dimensiones a retener se determina en base al aporte de una dimensión en la reducción del valor del STRES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RESS no debe ser mayor de 0.10</a:t>
            </a:r>
            <a:r>
              <a:rPr b="0" lang="es-CL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Evaluación Perceptual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Escalamiento Multidimensional (M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1949400"/>
          <a:ext cx="9144000" cy="26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49400"/>
                    <a:ext cx="914400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066680" y="762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ISTANCIA ENTRE CIUDADES DE SUDAMERIC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5715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*MEDIDAS EN CMS. CON UNA REGLA EN UN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40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" name=""/>
            <p:cNvCxnSpPr>
              <a:stCxn id="40" idx="2"/>
              <a:endCxn id="41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" name=""/>
            <p:cNvCxnSpPr>
              <a:stCxn id="41" idx="2"/>
              <a:endCxn id="47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" name=""/>
            <p:cNvCxnSpPr>
              <a:stCxn id="42" idx="2"/>
              <a:endCxn id="43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" name=""/>
            <p:cNvCxnSpPr>
              <a:stCxn id="43" idx="2"/>
              <a:endCxn id="44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7" idx="2"/>
              <a:endCxn id="42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4" idx="1"/>
              <a:endCxn id="40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" name=""/>
            <p:cNvCxnSpPr>
              <a:stCxn id="41" idx="1"/>
              <a:endCxn id="40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2"/>
            <a:endCxn id="63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8" idx="2"/>
            <a:endCxn id="59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9" idx="2"/>
            <a:endCxn id="60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3" idx="2"/>
            <a:endCxn id="58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1"/>
            <a:endCxn id="56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7" idx="1"/>
            <a:endCxn id="56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1211400"/>
            <a:ext cx="464796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Puede surgir por un estímulo interno o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Estímulo interno: surge un impulso normal en una persona a cierto nivel (sed, hambre, sexo) y llega a ser una 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Estímulo externo:la necesidad es causada por un estímulo o mecanismo activador (publicidad, ver un producto en vitrina)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3" idx="2"/>
            <a:endCxn id="7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4" idx="2"/>
            <a:endCxn id="8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5" idx="2"/>
            <a:endCxn id="7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7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0" idx="2"/>
            <a:endCxn id="7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7" idx="1"/>
            <a:endCxn id="7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1"/>
            <a:endCxn id="7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04920"/>
            <a:ext cx="46483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n la mayoría de los casos, la necesidad surgida no se satisface en forma inmediata (tener un dulce a la mano si tengo hamb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gún la intensidad de la necesidad: atención exaltada o búsqueda de info 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Atención exaltada: individuo alerta a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Búsqueda de información activa: en condiciones de necesidad más intensa, el individuo busca activamente la info en diversas fuentes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0" idx="2"/>
            <a:endCxn id="91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1" idx="2"/>
            <a:endCxn id="97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2" idx="2"/>
            <a:endCxn id="93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3" idx="2"/>
            <a:endCxn id="94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7" idx="2"/>
            <a:endCxn id="92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1"/>
            <a:endCxn id="90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1" idx="1"/>
            <a:endCxn id="90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738360"/>
            <a:ext cx="464832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pesar de tener ordenadas las preferencias, existen otros factores que influyen en la intención de comp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Actitud de los de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Factores de situación no anticipados: ingreso esperado cambió, o el costo esperado es mayor, o difieren los benefici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Sans Unicode"/>
              </a:rPr>
              <a:t>Riesg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7" idx="2"/>
            <a:endCxn id="108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14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9" idx="2"/>
            <a:endCxn id="110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0" idx="2"/>
            <a:endCxn id="111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2"/>
            <a:endCxn id="109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1"/>
            <a:endCxn id="107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1"/>
            <a:endCxn id="107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738360"/>
            <a:ext cx="4648320" cy="61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atisfacción o insatisfacción con el producto o servicio provocado por las diferencias entre las expectativas y el  comportamiento percibido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Influye en las próximas decisione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a información a otros potenciales comp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Evaluación Perceptual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 Medición de Percepciones consiste en obtener una POSICION RELATIVA de productos competi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a Posición relativa se mide en varias variab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ada variable se puede representar como una Dimensión  en un MAP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ada Producto como un punto en ese Map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Evaluación Perceptual:</a:t>
            </a:r>
            <a:endParaRPr b="1" lang="en-US" sz="32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osicionar objetos en un espacio percep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tilidad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¿Con quién competimos 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¿Sobre qué dimensiones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¿Dónde queremos estar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Nichos, sustitutos, etc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os Problem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dentificar las dimensiones sobre las cuales perciben o evaluan objet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osicionar los objetos (marcas, organizaciones, etc.) sobre est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Evaluación Perceptual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isten distintas técnicas para generar mapas perceptu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ada una con ventajas y desventaj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más conocidas so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erfil Semántic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scalamiento Multidimensional (MDS: Multi Dimensional Scaling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Factores (AF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Multi Discriminan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8-23T14:41:41Z</dcterms:modified>
  <cp:revision>193</cp:revision>
  <dc:subject/>
  <dc:title>IN58B Ingeniería de Marketing</dc:title>
</cp:coreProperties>
</file>