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William Yo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47" idx="2"/>
            <a:endCxn id="48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2"/>
            <a:endCxn id="47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48" idx="2"/>
            <a:endCxn id="49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523880" y="2362320"/>
                <a:ext cx="793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00200" y="3429000"/>
                <a:ext cx="81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76520" y="4724280"/>
                <a:ext cx="838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895480" y="2286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ting del individuo i de la marca j en el atribu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3733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Loading, del atributo l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87692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SCORE, nueva posición de la marca j para la persona i en las dimensiones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1240" y="251460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MEDICIÓN DE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200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MEDICIÓN DE PREFERENCI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eferencia se modela como una función matemática multiatribu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 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...........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forma más usada es la llam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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,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 si el atributo j está presente al nivel k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producto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 en caso contrari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ortancia relativa del nivel k del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ibuto 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jemplos de Atributos y Nivel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0880" y="0"/>
            <a:ext cx="80773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100 w        500 w       1000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144792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ongamos que mi “utilidad” o “preferencia” por tener 500 w en lugar de 100 w e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supongamos que mi utilidad por tener 1000 w en lugar de 100 es 4 entonces mi función de utilidad parcial respecto a la potenci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819520" y="3505320"/>
          <a:ext cx="312408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505320"/>
                    <a:ext cx="3124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28600" y="990720"/>
          <a:ext cx="85345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45720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unción de Utilidad Parcial por el Atributo “Potenc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30400" y="768240"/>
            <a:ext cx="10696320" cy="3751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m. RAM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Veloc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Conf.Marca       Prec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so ent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572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380880"/>
            <a:ext cx="609480" cy="0"/>
          </a:xfrm>
          <a:prstGeom prst="line">
            <a:avLst/>
          </a:prstGeom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380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80880"/>
            <a:ext cx="6094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67480" y="22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ti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920" y="4648320"/>
            <a:ext cx="7772400" cy="157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ORTANCIA RELATIVA DE LOS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3.3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4114800"/>
            <a:ext cx="9144000" cy="212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CTITU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 1=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17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 2=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   COMP 3=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0" y="30492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30492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87631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sujeto recibe un conjunto de PERFILES que debe evaluar en alguna escala, muchas veces RAN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jemplo de Per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A       300 MHZ,  256 Mb RAM, $750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B       600 MHZ,  128 Mb RAM, $545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C        450 MHZ, 128 Mb RAM, $490.000, Marca 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D        700MHZ,  64 Mb RAM,   $510.000, 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752400" y="1676520"/>
            <a:ext cx="83916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BJETIV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Isapre cerrada ISPEN quería encontrar un nuevo plan de atención para sus usuarios ya que, con el actual,  se le producían excedentes y no usaba los aportes a que ENDESA estaba comprometía con sus trabaj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649440" y="1498680"/>
            <a:ext cx="83912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metodología  de este estudio, consistió en determinar la función de utilidad de los afiliados  a ISPEN por seg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te sentido se encontraron planes óptimos, dadas las funciones de ut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-2662200" y="323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-304920"/>
            <a:ext cx="833112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l caso  de ISPEN se  determinó que los atributos se referían a los porcentajes de bonificación en 6 grandes grupos de beneficios médicos 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ales que se ofrecían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 6 grupos de beneficios, o bien, los 6 atributos del plan fueron l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82760" y="209520"/>
            <a:ext cx="8254800" cy="539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1.- Atención Médica Ambulator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ámenes clínicos de laboratorio o radiológicos, realizados por un médico o bajo su responsabilida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ención médica en consulta o domicilio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fusión de sangre y otros tratamientos especializados realizados por médico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2.- Atención Quirúrgic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spitalizaci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bell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rvenciones quirúrgicas y procedimientos médico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ención de matronas, enfermeras y practicant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mbulancia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3.- Atención Den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d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rt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ara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boratorio dent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eratoria gener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4.- Medicame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5.- Anteojos-Audifonos-Prót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6.- Trasl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Definición de los niveles por atributo para el 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0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eno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1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2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á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042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DISEÑO EXPERIMENTO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DISEÑO DE PRODUCTOS HIPOTETICOS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15200" cy="485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UTILIDAD INDIVIDUAL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INDIVIDUO 336</a:t>
            </a:r>
            <a:endParaRPr b="1" lang="en-US" sz="2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182520" y="5811840"/>
            <a:ext cx="46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11480" y="5181480"/>
            <a:ext cx="39560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iveles del Atrib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1     </a:t>
            </a:r>
            <a:r>
              <a:rPr b="1" lang="en-US" sz="1800" spc="-1" strike="noStrike">
                <a:solidFill>
                  <a:srgbClr val="00dfca"/>
                </a:solidFill>
                <a:latin typeface="Comic Sans MS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2     </a:t>
            </a:r>
            <a:r>
              <a:rPr b="1" lang="en-US" sz="1800" spc="-1" strike="noStrike">
                <a:solidFill>
                  <a:srgbClr val="7fff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3    </a:t>
            </a: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4    </a:t>
            </a:r>
            <a:r>
              <a:rPr b="1" lang="en-US" sz="1800" spc="-1" strike="noStrike">
                <a:solidFill>
                  <a:srgbClr val="cf0e3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57200" y="990720"/>
          <a:ext cx="740736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40736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752400" y="1905120"/>
            <a:ext cx="83916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AD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encontraron dos planes que deberían cumplir los requisitos de la ISAPRE y dar más “preferencia” a los usu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Williams Young</cp:lastModifiedBy>
  <cp:lastPrinted>2000-09-11T22:03:08Z</cp:lastPrinted>
  <dcterms:modified xsi:type="dcterms:W3CDTF">2005-08-18T16:54:13Z</dcterms:modified>
  <cp:revision>184</cp:revision>
  <dc:subject/>
  <dc:title>Sin título de diapositiva</dc:title>
</cp:coreProperties>
</file>