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16F-CD2C-4AFE-A264-AAD14CCF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8CA-E65A-4C49-B93F-7263D26E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DDE-9D05-4AE7-AAD4-6AF6048B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CF7-559F-4CB6-A64F-657505AA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480-728A-4225-A483-F9943852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E36-8873-4F20-BD0C-4F11353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B34-470E-4FEA-9F24-BD6FF3AE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276-5587-4DCE-9F89-F269A11D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055-B255-4B1C-BF2D-388B9EFF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875-2E34-4367-929A-340A7AE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AC9-42D1-42F9-9B6F-9589D16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31A-B698-4416-B886-D37B257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D03C-3176-4BCF-9CB5-25B725B59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IN58A/calendario_tito.xls" TargetMode="External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652-CFA1-49D5-9E47-A8A1333843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51240" y="37162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885-B3EC-4CEE-A7D8-79117EA43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3BB-92D3-4472-B95C-C5159F9349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7DE-2AC2-4EE6-AAC7-6C32E632F6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1B5-C0B4-4729-8999-2E2D64E41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E93-9C2A-445E-9358-5CFA9C66FE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94040" y="2514600"/>
            <a:ext cx="565128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633-6568-4151-A942-A08042E028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0B5-FEED-45B3-BC7F-95403595BF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774-1375-42B2-BF7F-3B93BBB7C2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2A9-EFB8-429A-9B32-8EB48ED618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704-7476-4A7E-984E-EF47D5D053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4D6-4F01-4567-ACA5-74B4CC626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308-AE0E-450B-B4E5-557D6F3F04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76212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ABE-D138-4A99-8C5A-E4671F6FB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618-134C-4D0A-87CC-A944DF4A8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422-1161-4F65-92FD-BEF14F94F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D64-A029-483B-9CB9-F461402BAC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5640" y="3068640"/>
            <a:ext cx="3240000" cy="132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0: Jugada Bru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1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21B-ABC8-4FF2-BF2F-FF50BB2621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-0.01087 0 -0.037 -0.01111 -0.03607 C -0.02222 -0.03515 -0.07725 -0.02544 -0.06666 0.00624 C -0.05607 0.03791 0.00903 0.19144 0.05243 0.15422 C 0.09584 0.11699 0.17448 -0.15446 0.19375 -0.21781 C 0.21303 -0.28116 0.19566 -0.21735 0.16841 -0.22613 C 0.14115 -0.23492 0.08785 -0.27191 0.03021 -0.27052 C -0.02743 -0.26914 -0.13385 -0.25804 -0.17777 -0.21781 C -0.2217 -0.17758 -0.22829 -0.09827 -0.23333 -0.0296 C -0.23836 0.03907 -0.23142 0.13387 -0.20781 0.19445 C -0.1842 0.25502 -0.13888 0.31514 -0.09201 0.33387 C -0.04513 0.3526 0.03264 0.34312 0.07309 0.30659 C 0.11355 0.27005 0.14844 0.19144 0.15087 0.11422 C 0.1533 0.03699 0.12257 -0.11607 0.08733 -0.15654 C 0.05209 -0.197 -0.03333 -0.16255 -0.06024 -0.12902 C -0.08715 -0.0955 -0.08507 0.00786 -0.07447 0.04439 C -0.06388 0.08092 -0.01128 0.09341 0.0033 0.09086 C 0.01789 0.08832 0.01233 0.04393 0.01285 0.02959 C 0.01337 0.01526 0.004 0.01086 0 0 Z">
                                      <p:cBhvr>
                                        <p:cTn id="4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4221000"/>
            <a:ext cx="2952720" cy="255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CERA JUGADA SE HABI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DC0-5532-4486-BF77-717EAE34C3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73F-AD67-4BF5-9065-ADCB4A362E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C25-B8B0-40B2-AAA7-5A53D9BFAC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463-8720-41A4-80E4-6E6E151C84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4EB-F53C-4B38-9A92-9B34D2B2A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6B3-3C33-49B7-A02F-BD40E835C2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70028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B8D-1310-408E-AD93-EEDE04D33D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25A-5794-4EBB-9850-A915CC16F5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DCB-784F-4393-BB02-9A4F4C0621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74A-B9AF-44D2-8C0F-3A044F58E7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DAB-1440-4944-A4DA-C4CAD97524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29320" y="2590920"/>
            <a:ext cx="73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erde el nombre de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B53-340E-4CEF-A6BC-772EDA5BFC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12C-2DCD-413A-8738-2850E7B892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190008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3213000"/>
            <a:ext cx="182736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F42-4143-4E8D-9554-16687EC29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1374E-006 L 0.25 2.21374E-006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505E-006 L 0.43108 -0.01041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1432E-006 L 0.37621 -0.00741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8068E-006 L 0.80903 -4.48068E-006 E">
                                      <p:cBhvr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8776E-006 L 0.07083 -2.28776E-006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51F-95C8-4BE3-AB32-89C7E20EF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CA3-EE62-41E4-AEED-3A9C063B55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649-9C0E-4461-8370-4DE279CC4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6AC-D1A2-49D5-92FA-A299B0446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 </cp:lastModifiedBy>
  <cp:lastPrinted>1999-12-21T19:58:19Z</cp:lastPrinted>
  <dcterms:modified xsi:type="dcterms:W3CDTF">2005-04-20T14:39:17Z</dcterms:modified>
  <cp:revision>26</cp:revision>
  <dc:subject/>
  <dc:title>The Markstrat Challenge I</dc:title>
</cp:coreProperties>
</file>