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491-82F5-4ED7-9415-9BDFE2175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A86-549B-46E4-99A5-DF32451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BA9-2DAC-4A45-A364-116E8998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9B97-6151-4F63-B0CC-33346D1F7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8576-FB83-4DA7-B0A7-E050BC71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B8FF-42C3-44BE-AA52-40016E40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3C2-BA95-4F17-BCE5-B8AA2AE0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451-9058-4AAA-A1CB-9A84F66A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5F9-3DE9-420D-81E0-E277CBA9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59D-E2E1-434F-8E33-315DA5D2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9A3-7A68-4C2D-9EAB-537A465D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C511-3CC1-4343-A395-0397F193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A6A-4910-410A-A38A-B5C4FEB4D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IN58A/calendario_tito.xls" TargetMode="External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F9D-A4C1-492A-B304-3EA7F16DD0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51240" y="37162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DF2-0EC7-4C60-A6B4-85DB35C19A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BCC-7ECF-4EA9-8C30-FAEFDCA355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793-3588-4011-9D88-D87F4C7645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57F-F0FA-4394-A4DF-7C1A31D3B3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CC5-DE20-4F21-9CCD-8CFA84039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994040" y="2514600"/>
            <a:ext cx="565128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B820-C629-44DF-9065-41CA54B18E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1EE-505D-4ECF-97F2-BB4AED4B43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2C1-B2CF-4058-A6A7-B3E3D0A735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CF2-5B5A-467C-A8BB-4580C669F3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3F5-ED2C-4A11-9A41-016DA206BB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E71-5F2C-4A7D-A46D-2BF9BD86D9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0633-FBB6-4061-9FFB-0CAAB1848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3280" y="3860640"/>
            <a:ext cx="76212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226-5CE6-4601-9E89-60E1AF6937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466-C005-41B5-AEA1-C451DAB84D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E093-B251-43A5-9DB4-E1DFC9D7DE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F6B-1856-4C82-90CD-8CE2335B87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35640" y="3068640"/>
            <a:ext cx="3240000" cy="1326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0: Jugada Bru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tapa 1 </a:t>
            </a:r>
            <a:r>
              <a:rPr b="1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D236-7E19-41D5-A754-F3FB339C73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399 -0.01087 0 -0.037 -0.01111 -0.03607 C -0.02222 -0.03515 -0.07725 -0.02544 -0.06666 0.00624 C -0.05607 0.03791 0.00903 0.19144 0.05243 0.15422 C 0.09584 0.11699 0.17448 -0.15446 0.19375 -0.21781 C 0.21303 -0.28116 0.19566 -0.21735 0.16841 -0.22613 C 0.14115 -0.23492 0.08785 -0.27191 0.03021 -0.27052 C -0.02743 -0.26914 -0.13385 -0.25804 -0.17777 -0.21781 C -0.2217 -0.17758 -0.22829 -0.09827 -0.23333 -0.0296 C -0.23836 0.03907 -0.23142 0.13387 -0.20781 0.19445 C -0.1842 0.25502 -0.13888 0.31514 -0.09201 0.33387 C -0.04513 0.3526 0.03264 0.34312 0.07309 0.30659 C 0.11355 0.27005 0.14844 0.19144 0.15087 0.11422 C 0.1533 0.03699 0.12257 -0.11607 0.08733 -0.15654 C 0.05209 -0.197 -0.03333 -0.16255 -0.06024 -0.12902 C -0.08715 -0.0955 -0.08507 0.00786 -0.07447 0.04439 C -0.06388 0.08092 -0.01128 0.09341 0.0033 0.09086 C 0.01789 0.08832 0.01233 0.04393 0.01285 0.02959 C 0.01337 0.01526 0.004 0.01086 0 0 Z">
                                      <p:cBhvr>
                                        <p:cTn id="4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4221000"/>
            <a:ext cx="2952720" cy="2558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TERCERA JUGADA SE HABIL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5FA2-44FD-4E24-ABEF-282330F635B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841-FF53-49F5-95AE-FFAF798FBE5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FCA-6BCB-47D0-BA49-4BC0F44111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442-7BCA-4023-8904-626A5E75FAE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91C-FB96-487D-8319-AB3D3BAFE4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104C-50C6-4598-A00C-0114EAC463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6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70028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64F-85E4-4159-9934-DAD47480E2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16E-A5AB-4719-AC24-8F5BF07F95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188-ED6F-4549-A952-E6882DA63C1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B8BF-398C-4499-8EA8-536788E704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6112-A7E3-466A-BBD5-4880624643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29320" y="2590920"/>
            <a:ext cx="73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uerde el nombre de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68C-53D3-41BF-86C0-618FD74330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FA1-1B75-474B-A198-0A3A30E139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2637000"/>
            <a:ext cx="1900080" cy="2361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50920" y="386064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182736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8DB-0FB3-4CBA-96F6-ADF45B638C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21374E-006 L 0.25 2.21374E-006 E">
                                      <p:cBhvr>
                                        <p:cTn id="5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79505E-006 L 0.43108 -0.01041 E">
                                      <p:cBhvr>
                                        <p:cTn id="5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71432E-006 L 0.37621 -0.00741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48068E-006 L 0.80903 -4.48068E-006 E">
                                      <p:cBhvr>
                                        <p:cTn id="64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28776E-006 L 0.07083 -2.28776E-006 E">
                                      <p:cBhvr>
                                        <p:cTn id="6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111-A5D0-4882-926B-4EDAAE0E1D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966-4C43-4A3C-AA7A-5C0D757976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A2DF-A276-4642-AA73-B511172B1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7A76-E088-45C7-AB7B-EC1E1D911A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 </cp:lastModifiedBy>
  <cp:lastPrinted>1999-12-21T19:58:19Z</cp:lastPrinted>
  <dcterms:modified xsi:type="dcterms:W3CDTF">2005-04-20T14:39:17Z</dcterms:modified>
  <cp:revision>26</cp:revision>
  <dc:subject/>
  <dc:title>The Markstrat Challenge I</dc:title>
</cp:coreProperties>
</file>