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711-0DC4-4DC6-9237-941595F4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8B0-15F9-40A1-8510-D57C6EB9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92C-D2C2-446B-BF95-AFB30B1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E94-3783-44AE-B451-2D4BC75C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7CA-5422-438A-BE90-7DC35842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119-126D-4663-A43B-8470E803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A38-F061-4B08-BA9F-1A2EFE6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2E0-A3F7-47FA-9D24-1B32F0CC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3A2-836D-461F-A5C5-EEAACA3A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757-AF06-4BA3-9412-01D1C7D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3E0-A362-4719-908C-50325C6E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A01-B8C5-4349-BF13-7BC75A6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02D-CDA7-4AFA-BF5B-4A84BAF9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IN58A/calendario_tito.xls" TargetMode="External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F13-5AC6-4F50-85D7-FB675A7798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51240" y="3716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9C3-6838-4FBD-BFA4-5D48CE660B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BDA-F188-4169-A62F-47A1462D81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480-1D05-4E08-B326-D14A17B3E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C4B-6FC3-4426-9491-754F9CF11C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C42-CC78-4A1A-BC48-8D9292458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4040" y="2514600"/>
            <a:ext cx="565128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C74-DE2F-46FB-AFC9-DEA34FFA0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FD9-CDC7-4871-B99E-7A843F98DD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40F-EDB6-418B-BCED-53DAF6E7B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5A8-57CE-47CF-84BD-3DF890D193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B8E-7002-4792-9798-ED165C53E6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52B-6299-44E5-B864-2486779845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4DB-3208-4781-9E95-DCB9AB64B6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76212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736-63D5-4D30-9DFD-306D9E885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52F-B987-4278-9972-92083707E3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495-AD03-4E66-A546-B0DA00E6D6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241-E9B3-49A0-8A9E-E2904C4835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5640" y="3068640"/>
            <a:ext cx="3240000" cy="132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0: Jugada Bru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1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AF1-FC88-4010-BCF2-C7D89400E9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-0.01087 0 -0.037 -0.01111 -0.03607 C -0.02222 -0.03515 -0.07725 -0.02544 -0.06666 0.00624 C -0.05607 0.03791 0.00903 0.19144 0.05243 0.15422 C 0.09584 0.11699 0.17448 -0.15446 0.19375 -0.21781 C 0.21303 -0.28116 0.19566 -0.21735 0.16841 -0.22613 C 0.14115 -0.23492 0.08785 -0.27191 0.03021 -0.27052 C -0.02743 -0.26914 -0.13385 -0.25804 -0.17777 -0.21781 C -0.2217 -0.17758 -0.22829 -0.09827 -0.23333 -0.0296 C -0.23836 0.03907 -0.23142 0.13387 -0.20781 0.19445 C -0.1842 0.25502 -0.13888 0.31514 -0.09201 0.33387 C -0.04513 0.3526 0.03264 0.34312 0.07309 0.30659 C 0.11355 0.27005 0.14844 0.19144 0.15087 0.11422 C 0.1533 0.03699 0.12257 -0.11607 0.08733 -0.15654 C 0.05209 -0.197 -0.03333 -0.16255 -0.06024 -0.12902 C -0.08715 -0.0955 -0.08507 0.00786 -0.07447 0.04439 C -0.06388 0.08092 -0.01128 0.09341 0.0033 0.09086 C 0.01789 0.08832 0.01233 0.04393 0.01285 0.02959 C 0.01337 0.01526 0.004 0.01086 0 0 Z">
                                      <p:cBhvr>
                                        <p:cTn id="4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2952720" cy="25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CERA JUGADA SE H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39C-008A-4D58-B5E0-C5BD55AC56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265-80E6-4D62-8395-1A269A477A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C86-8F5E-44F9-8CE8-4595C0F73B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D76-AAFB-479F-A563-B6502D02E7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55F-2824-4640-8661-DCD2F24402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318-5A52-48FE-9402-034D7F443C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70028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B58-58BC-4747-B289-6DB71FB8FC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60E-FA59-4D4C-BEED-794EC8803E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368-4CBA-40BE-8B49-EE09F977E9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3F6-5DB8-4EEE-ADA1-8A6F5A2DF9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D54-4A95-4EE9-93EB-F2630D3ED8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29320" y="2590920"/>
            <a:ext cx="73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erde el nombre de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4E9-B0B5-42BD-A59B-9EADCFF05F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CEA-99C2-4E2A-B842-3FC039E42F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190008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182736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CAB-8191-4B0B-A41E-63E104528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1374E-006 L 0.25 2.21374E-006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505E-006 L 0.43108 -0.01041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1432E-006 L 0.37621 -0.00741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8068E-006 L 0.80903 -4.48068E-006 E">
                                      <p:cBhvr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8776E-006 L 0.07083 -2.28776E-006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3B5-181D-442F-974B-4AAF6EFD3F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DB5-F616-48BF-BE84-6E364BC04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0C5-7941-4911-850F-5A95938159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C15-6DF8-4434-A4AC-D1D4CAE95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 </cp:lastModifiedBy>
  <cp:lastPrinted>1999-12-21T19:58:19Z</cp:lastPrinted>
  <dcterms:modified xsi:type="dcterms:W3CDTF">2005-04-20T14:39:17Z</dcterms:modified>
  <cp:revision>26</cp:revision>
  <dc:subject/>
  <dc:title>The Markstrat Challenge I</dc:title>
</cp:coreProperties>
</file>