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080F-AC3D-4414-ABAE-25274F9D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BD2D-7F35-49C8-BADA-D27C8E50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1E2-A35B-4F22-8EFB-F5C9B199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9257-8093-4031-AB40-BCE23C2F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DDA-D7F3-4E8F-AB76-7A881C45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3BC-3F32-403B-955F-3B7DB72B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080-CFA4-4E87-9ADC-51B25C82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B392-7A53-44A6-854E-0DFC21D4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5142-BE9A-4BF6-AA1B-DA8CDC6A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86D-6241-4A01-87A5-40803A3E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BA5-0F16-4163-B9AD-56D45FD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0364-F9DE-40C1-9E47-E37AA243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C9E3-826F-4E5F-AFD7-12A1409BA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IN58A/calendario_tito.xls" TargetMode="External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13E-AA30-40DE-812D-8036D253F7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51240" y="3716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6BA-46BE-446B-B680-2164E1928B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5BE-4D89-443E-923C-DCB94B3680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06AD-C85C-42A2-B7F0-772EBE880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F21-4D45-486A-99A0-7C35FAE996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FB9-C543-4647-A77F-5F97B304CD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4040" y="2514600"/>
            <a:ext cx="565128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C49-A4BE-4972-B3A5-2E6BB8C05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A42-9796-4772-8C6B-FF86AECD10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BD1-1B9D-46FA-A705-6E84783C5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0C32-E034-4ECA-BD39-B1EA4CB0FE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356-0572-45E9-AB82-6F79DC492C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C526-AA11-4A2D-BAEA-69CD7395D5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1E0-D8EE-47B0-8E96-D3C0A70301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76212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A08-89F0-487A-A028-365E33D153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7BD-4A4F-4816-B71D-2B9F22E25C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EF7-2408-49FC-8D9D-8B826A3B8C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90F-55FF-4A1B-88AF-75163A572D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5640" y="3068640"/>
            <a:ext cx="3240000" cy="132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0: Jugada Bru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1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AD8-6645-4C69-A755-852B534DFB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-0.01087 0 -0.037 -0.01111 -0.03607 C -0.02222 -0.03515 -0.07725 -0.02544 -0.06666 0.00624 C -0.05607 0.03791 0.00903 0.19144 0.05243 0.15422 C 0.09584 0.11699 0.17448 -0.15446 0.19375 -0.21781 C 0.21303 -0.28116 0.19566 -0.21735 0.16841 -0.22613 C 0.14115 -0.23492 0.08785 -0.27191 0.03021 -0.27052 C -0.02743 -0.26914 -0.13385 -0.25804 -0.17777 -0.21781 C -0.2217 -0.17758 -0.22829 -0.09827 -0.23333 -0.0296 C -0.23836 0.03907 -0.23142 0.13387 -0.20781 0.19445 C -0.1842 0.25502 -0.13888 0.31514 -0.09201 0.33387 C -0.04513 0.3526 0.03264 0.34312 0.07309 0.30659 C 0.11355 0.27005 0.14844 0.19144 0.15087 0.11422 C 0.1533 0.03699 0.12257 -0.11607 0.08733 -0.15654 C 0.05209 -0.197 -0.03333 -0.16255 -0.06024 -0.12902 C -0.08715 -0.0955 -0.08507 0.00786 -0.07447 0.04439 C -0.06388 0.08092 -0.01128 0.09341 0.0033 0.09086 C 0.01789 0.08832 0.01233 0.04393 0.01285 0.02959 C 0.01337 0.01526 0.004 0.01086 0 0 Z">
                                      <p:cBhvr>
                                        <p:cTn id="4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2952720" cy="25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CERA JUGADA SE H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8DC-1CBD-4327-9DB2-B4DD238908D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A1B-873B-4C8F-AE73-1BA22ED8EC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FC9-1773-4CE0-8F99-2D5BA88337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3FB-07E2-4C39-AC41-BF44813567C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12C-E15D-45D5-84C7-7F33F9456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0D4-A145-4B8F-8603-8F4668A2C0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70028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6CB-6291-4F86-8203-D5C7C2B3A24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EFA-1F41-42A8-8B93-C52E4EB26E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ACA-01FF-4A1A-BCAC-79E0040C29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438-0699-4CA7-A67A-0E5815F34EB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74B7-ED00-45E1-A0F9-8ED4FC94213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29320" y="2590920"/>
            <a:ext cx="73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erde el nombre de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602-4A4F-4AAD-9726-E6D253247F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BBE8-07DA-441B-90C9-74937F075E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190008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182736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F1E-F045-4A25-BCB8-1DB2C69E9D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1374E-006 L 0.25 2.21374E-006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505E-006 L 0.43108 -0.01041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1432E-006 L 0.37621 -0.00741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8068E-006 L 0.80903 -4.48068E-006 E">
                                      <p:cBhvr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8776E-006 L 0.07083 -2.28776E-006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91F-719E-4196-A783-09248903E7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9C7-C3C7-44D2-B4C1-3FE043ECA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F07-8ACA-4612-B810-5559124B4A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841-A621-4A26-8779-063DCF2057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 </cp:lastModifiedBy>
  <cp:lastPrinted>1999-12-21T19:58:19Z</cp:lastPrinted>
  <dcterms:modified xsi:type="dcterms:W3CDTF">2005-04-20T14:39:17Z</dcterms:modified>
  <cp:revision>26</cp:revision>
  <dc:subject/>
  <dc:title>The Markstrat Challenge I</dc:title>
</cp:coreProperties>
</file>