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F636-D534-4395-92A8-ACEA7CAA15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2D5-9C83-46AC-B81A-35EFC4AE04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ACE4-03CB-46AD-A55C-74617BACAC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B938-3160-4706-9A6E-58FC325091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49B0-BFC7-4247-B1F8-5418354951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(1</a:t>
            </a:r>
            <a:r>
              <a:rPr b="1" lang="en-US" sz="4400" spc="-1" strike="noStrike" baseline="30000">
                <a:solidFill>
                  <a:srgbClr val="00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parte)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43080" y="838080"/>
            <a:ext cx="8800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4" idx="2"/>
            <a:endCxn id="65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2"/>
            <a:endCxn id="64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6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2"/>
            <a:endCxn id="66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0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3822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Búsqueda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car Segmentos de Mercados “Maltrat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vez alcanzado el éxito en estos segmentos “Avance al resto del Merc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s Pequeños/ motos/ equipos TV bajo precio/ fotocopiador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ce al resto del Mercado” significa aprender, para ampliar la línea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828800"/>
            <a:ext cx="800100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Oportunidades Creadas por Desarrollo Tecn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crear nuevos nichos, mediante nuev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desarrollo tecnológico es la herram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: Industria de relojes, los de cuar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828800"/>
            <a:ext cx="762012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rear Oportunidades a través de la Creatividad en 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os avances son “VERSIONES CREATIVAS DE PRODUCTOS CORR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walkm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600200"/>
            <a:ext cx="784872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Adaptarse a las Preferencias de los Consumidores y Cambi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specto fundamental del aprovechamiento de oportunidades es comprender lo que el consumidor desea y lo que está dispuesto a pagar por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no se han dejado seducir por “las preferencias reveladas”.”Las oportunidades yacen en las preferencias no atendid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229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Aprender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se han concentrado en comprender mejor a la compe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ómo hace sus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productos que 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estrategias que emp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aprender e identificar sus vulnerabil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0" idx="2"/>
            <a:endCxn id="131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1" name=""/>
          <p:cNvCxnSpPr>
            <a:stCxn id="129" idx="2"/>
            <a:endCxn id="130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2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1" idx="2"/>
            <a:endCxn id="132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457200"/>
            <a:ext cx="80773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762120"/>
            <a:ext cx="761976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0" idx="2"/>
            <a:endCxn id="151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149" idx="2"/>
            <a:endCxn id="150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2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51" idx="2"/>
            <a:endCxn id="152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6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04920"/>
            <a:ext cx="822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lación entre Preferencias y Decisión de Compra es afec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Situac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fluencia del 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 quien com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play/Merchand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azón d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upues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76520"/>
            <a:ext cx="80010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n distintos modelos para explicar Satisf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odelo preponderante hoy es el  DESCONFIRMACIÓN (lo veremos más adela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estado psicológico que se produce cuando la emoción que resulta de expectativas que no se cumplen (“desconfirman”) se juntan con los sentimientos a priori del cliente respecto del consumo del bien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304920"/>
            <a:ext cx="83818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un mercado maduro, la forma más eficiente de aumentar la venta por parte de los productores es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Lealtad está directamente ligada a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TISFACC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el grado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UTIVERI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logre el productor sobre e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os Servicios, Satisfacción se asocia  a un nuevo concept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362320"/>
            <a:ext cx="8001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3809880"/>
            <a:ext cx="16761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7339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600200"/>
            <a:ext cx="76960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 que queremos es intuir/predecir como se comportará un cliente ante un estímulo nuestro o de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3059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TEORIAS CON INFLUENCIA EN LA COMPRENSION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762120"/>
            <a:ext cx="7467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EORIAS DE INFLUEN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 DIFUSION DE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914400"/>
            <a:ext cx="66294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Williams Young</cp:lastModifiedBy>
  <cp:lastPrinted>2000-09-11T22:03:08Z</cp:lastPrinted>
  <dcterms:modified xsi:type="dcterms:W3CDTF">2005-08-09T17:34:56Z</dcterms:modified>
  <cp:revision>190</cp:revision>
  <dc:subject/>
  <dc:title>Sin título de diapositiva</dc:title>
</cp:coreProperties>
</file>