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657-37DD-41DF-AD64-4A36233A8B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C21E-2056-4DE6-A72A-D39E39A77F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58C-CC63-42CC-9EE2-17F323F76C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363-FF70-41C8-B779-FA93E2BA37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C0E-3DB0-425D-BBDE-873250E8DD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2"/>
            <a:endCxn id="65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2"/>
            <a:endCxn id="64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6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2"/>
            <a:endCxn id="66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0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0" idx="2"/>
            <a:endCxn id="13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29" idx="2"/>
            <a:endCxn id="13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3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762120"/>
            <a:ext cx="761976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0" idx="2"/>
            <a:endCxn id="15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149" idx="2"/>
            <a:endCxn id="15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1" idx="2"/>
            <a:endCxn id="15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09T17:34:56Z</dcterms:modified>
  <cp:revision>190</cp:revision>
  <dc:subject/>
  <dc:title>Sin título de diapositiva</dc:title>
</cp:coreProperties>
</file>