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E729-2C33-4C99-ADE2-49B099138D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1031-2D65-40FD-83FF-8FF6979765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D53A-C153-4937-9E5B-97ED6D7B7E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BE3B-FC10-4927-A773-293142F900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9888-F877-4C88-A259-FA0BD8485F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458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 (1</a:t>
            </a:r>
            <a:r>
              <a:rPr b="1" lang="en-US" sz="4400" spc="-1" strike="noStrike" baseline="30000">
                <a:solidFill>
                  <a:srgbClr val="00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 parte)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43080" y="838080"/>
            <a:ext cx="88009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4" idx="2"/>
            <a:endCxn id="65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2"/>
            <a:endCxn id="64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6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2"/>
            <a:endCxn id="66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0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57400" y="1523880"/>
            <a:ext cx="6629400" cy="4267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1523880"/>
            <a:ext cx="0" cy="426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73392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1960" y="99072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9907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720" y="1752480"/>
            <a:ext cx="207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0" y="4038480"/>
            <a:ext cx="21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152388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4960" y="152388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8600" y="373392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38098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4382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438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46483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4648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000" y="243828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3520" y="24796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304812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705720" y="2895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42680" y="31622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7680" y="32004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5280" y="47242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1055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10280" y="4952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188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760" y="4572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419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5181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4200" y="518148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Adaptación del Proceso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685800"/>
            <a:ext cx="701028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INVESTIGACIÓN DE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gentes con 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ses para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38224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Búsqueda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car Segmentos de Mercados “Maltrat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 vez alcanzado el éxito en estos segmentos “Avance al resto del Merc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s Pequeños/ motos/ equipos TV bajo precio/ fotocopiador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nce al resto del Mercado” significa aprender, para ampliar la línea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828800"/>
            <a:ext cx="800100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Oportunidades Creadas por Desarrollo Tecn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dea es crear nuevos nichos, mediante nuev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desarrollo tecnológico es la herrami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: Industria de relojes, los de cuar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133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828800"/>
            <a:ext cx="762012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rear Oportunidades a través de la Creatividad en 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chos avances son “VERSIONES CREATIVAS DE PRODUCTOS CORR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walkm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600200"/>
            <a:ext cx="784872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Adaptarse a las Preferencias de los Consumidores y Cambi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specto fundamental del aprovechamiento de oportunidades es comprender lo que el consumidor desea y lo que está dispuesto a pagar por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no se han dejado seducir por “las preferencias reveladas”.”Las oportunidades yacen en las preferencias no atendid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295280"/>
            <a:ext cx="8229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Aprender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se han concentrado en comprender mejor a la compe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ómo hace sus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productos que 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estrategias que emp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odo de aprender e identificar sus vulnerabil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0" idx="2"/>
            <a:endCxn id="131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41" name=""/>
          <p:cNvCxnSpPr>
            <a:stCxn id="129" idx="2"/>
            <a:endCxn id="130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2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1" idx="2"/>
            <a:endCxn id="132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46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457200"/>
            <a:ext cx="80773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MPORTAMIENTO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762120"/>
            <a:ext cx="761976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BUSQUEDA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0" idx="2"/>
            <a:endCxn id="151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1" name=""/>
          <p:cNvCxnSpPr>
            <a:stCxn id="149" idx="2"/>
            <a:endCxn id="150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2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51" idx="2"/>
            <a:endCxn id="152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6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304920"/>
            <a:ext cx="82296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relación entre Preferencias y Decisión de Compra es afect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Situaci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fluencia del 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 quien com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isplay/Merchand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azón de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a Reg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supues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676520"/>
            <a:ext cx="80010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isten distintos modelos para explicar Satisf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modelo preponderante hoy es el  DESCONFIRMACIÓN (lo veremos más adela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 un estado psicológico que se produce cuando la emoción que resulta de expectativas que no se cumplen (“desconfirman”) se juntan con los sentimientos a priori del cliente respecto del consumo del bien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304920"/>
            <a:ext cx="83818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un mercado maduro, la forma más eficiente de aumentar la venta por parte de los productores es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ALT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Lealtad está directamente ligada a 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TISFACC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 el grado d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UTIVERI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logre el productor sobre e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los Servicios, Satisfacción se asocia  a un nuevo concept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LIDAD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SATISFAC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362320"/>
            <a:ext cx="8001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isfac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3809880"/>
            <a:ext cx="167616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7339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600200"/>
            <a:ext cx="76960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o que queremos es intuir/predecir como se comportará un cliente ante un estímulo nuestro o de l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830592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TEORIAS CON INFLUENCIA EN LA COMPRENSION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762120"/>
            <a:ext cx="74674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EORIAS DE INFLUENCIA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RUPOS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 DIFUSION DE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1066680"/>
            <a:ext cx="8686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tas Perspectivas                 Distintas Teoría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n embargo, existen ciertos conceptos generalizados que se expresan en el proceso de decis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12193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762120"/>
            <a:ext cx="83055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38088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TU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enc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ra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ci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9320" y="914400"/>
            <a:ext cx="66294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Williams Young</cp:lastModifiedBy>
  <cp:lastPrinted>2000-09-11T22:03:08Z</cp:lastPrinted>
  <dcterms:modified xsi:type="dcterms:W3CDTF">2005-08-09T17:34:56Z</dcterms:modified>
  <cp:revision>190</cp:revision>
  <dc:subject/>
  <dc:title>Sin título de diapositiva</dc:title>
</cp:coreProperties>
</file>