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(1</a:t>
            </a:r>
            <a:r>
              <a:rPr b="1" lang="en-US" sz="4400" spc="-1" strike="noStrike" baseline="30000">
                <a:solidFill>
                  <a:srgbClr val="00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parte)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43080" y="838080"/>
            <a:ext cx="8800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457200"/>
            <a:ext cx="80773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600200"/>
            <a:ext cx="76960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 que queremos es intuir/predecir como se comportará un cliente ante un estímulo nuestro o de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3059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TEORIAS CON INFLUENCIA EN LA COMPRENSION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762120"/>
            <a:ext cx="7467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TEORIAS DE INFLUEN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DIFUSION DE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914400"/>
            <a:ext cx="66294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Williams Young</cp:lastModifiedBy>
  <cp:lastPrinted>2000-09-11T22:03:08Z</cp:lastPrinted>
  <dcterms:modified xsi:type="dcterms:W3CDTF">2005-08-04T19:23:36Z</dcterms:modified>
  <cp:revision>189</cp:revision>
  <dc:subject/>
  <dc:title>Sin título de diapositiva</dc:title>
</cp:coreProperties>
</file>