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6.png" ContentType="image/png"/>
  <Override PartName="/ppt/media/image20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8.wmf" ContentType="image/x-wmf"/>
  <Override PartName="/ppt/media/image5.jpeg" ContentType="image/jpeg"/>
  <Override PartName="/ppt/media/image14.png" ContentType="image/png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Click to move the slide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5840" y="8842320"/>
            <a:ext cx="2971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CB54-A8DE-4459-BF7E-F8CB90D3DBFC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Recordemos las condiciones de competencia perfec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uchos vende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Bienes homogene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uchos consumidores bien inform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o hay costos de búsqueda (ni de transpor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66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Times New Roman"/>
              </a:rPr>
              <a:t>Estrategia Corporativa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: Define el alcance de la firma en términos de las industrias y mercados en los cuales competir. Las decisiones de estrategia corporativa incluyen inversiones en diversificación, integración vertical, adquisiciones y nuevos proyectos; alocación de recursos entre los diferentes negocios y desiciones de “des-invers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Times New Roman"/>
              </a:rPr>
              <a:t>Estrategia de Negocio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o estrategia competitiva se refiere a como la firma compite en una determinada industria o merca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3F99F-D063-434E-83D3-216A9B19D9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2996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D97B3-BF08-45AB-AFF3-E87FBE9A0C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2996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2996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E3A3F-F9BE-4691-B2B6-78CD734F01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14300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14300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2996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2996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2996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D4739-7CA9-4CBE-91D6-A38BAB5B94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702F1-4BB1-4982-ADC5-6C30FF0DCF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63A32-0D21-4742-9D2F-42112EBBAD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63A56-D5C7-481F-A2AE-2B5EEFAC8D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CA758-3182-4FBE-A737-2EDB2015CA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85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22FC8-33C7-4DC8-92D6-E577CFBD08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2996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CCD6E-709F-4F4B-A493-4044D195D9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2996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A221E-31F9-4013-AEBD-462252904C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2996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E6C58-1307-46BE-8C9A-AB8839C429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700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74840" indent="-228600">
              <a:spcBef>
                <a:spcPts val="700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809720" indent="-320760">
              <a:spcBef>
                <a:spcPts val="700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266920" indent="-342720">
              <a:spcBef>
                <a:spcPts val="700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266920" indent="-3427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266920" indent="-3427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25AD-DDF8-4FC3-B4D4-87E489D15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1066680"/>
            <a:ext cx="8534160" cy="0"/>
          </a:xfrm>
          <a:prstGeom prst="line">
            <a:avLst/>
          </a:prstGeom>
          <a:ln w="9360">
            <a:solidFill>
              <a:srgbClr val="555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6248520"/>
            <a:ext cx="8534160" cy="0"/>
          </a:xfrm>
          <a:prstGeom prst="line">
            <a:avLst/>
          </a:prstGeom>
          <a:ln w="9360">
            <a:solidFill>
              <a:srgbClr val="555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218280"/>
            <a:ext cx="472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® Luis Felipe Troncoso 2002-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hyperlink" Target="file:///D:/../Diplomado%20e-business/Art%2592culos/09%20Interfaz/Banco%20de%20Chile/Banco%20de%20Chile%20-%20Home.htm" TargetMode="External"/><Relationship Id="rId2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file:///D:/../IN635/Ejemplos%20web/Buzzsaw/Autodesk%20Buzzsaw.htm" TargetMode="External"/><Relationship Id="rId2" Type="http://schemas.openxmlformats.org/officeDocument/2006/relationships/hyperlink" Target="file:///D:/../IN635/Ejemplos%20web/PlanOK/Demo1.htm" TargetMode="External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655344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1822cd"/>
                </a:solidFill>
                <a:latin typeface="Times New Roman"/>
              </a:rPr>
              <a:t>UNIVERSIDAD DE CHILE</a:t>
            </a:r>
            <a:br>
              <a:rPr sz="1300"/>
            </a:br>
            <a:r>
              <a:rPr b="1" lang="es-ES" sz="1300" spc="-1" strike="noStrike">
                <a:solidFill>
                  <a:srgbClr val="1822cd"/>
                </a:solidFill>
                <a:latin typeface="Times New Roman"/>
              </a:rPr>
              <a:t>FACULTAD DE CIENCIAS FÍSICAS Y MATEMÁTICAS</a:t>
            </a:r>
            <a:br>
              <a:rPr sz="1300"/>
            </a:br>
            <a:br>
              <a:rPr sz="1900"/>
            </a:br>
            <a:br>
              <a:rPr sz="1900"/>
            </a:br>
            <a:r>
              <a:rPr b="1" lang="es-ES" sz="2100" spc="-1" strike="noStrike">
                <a:solidFill>
                  <a:srgbClr val="32323d"/>
                </a:solidFill>
                <a:latin typeface="Verdana"/>
              </a:rPr>
              <a:t>Estrategias de Internet</a:t>
            </a:r>
            <a:br>
              <a:rPr sz="2100"/>
            </a:br>
            <a:r>
              <a:rPr b="1" lang="es-ES" sz="2100" spc="-1" strike="noStrike">
                <a:solidFill>
                  <a:srgbClr val="32323d"/>
                </a:solidFill>
                <a:latin typeface="Verdana"/>
              </a:rPr>
              <a:t>Comercio Electrónico y e-Business</a:t>
            </a:r>
            <a:endParaRPr b="0" lang="en-US" sz="2100" spc="-1" strike="noStrike">
              <a:solidFill>
                <a:srgbClr val="555555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578016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84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Se introduce el sistema de nombres de dominio (DNS); Hosts superan los 1.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5378400"/>
            <a:ext cx="80773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85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Symbolics.com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asign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el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15 de Marzo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siendo el primer dominio registrado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Otros primeros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: cmu.edu, purdue.edu, rice.edu, berkeley.edu, ucla.edu, rutgers.edu, bbn.com; mit.edu; think.com; css.gov; mitre.org, .uk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 (Juli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72932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88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Hosts superan los 10.000; Se conectan a NSFNET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Canada (CA),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Dinamarc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DK), Finland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FI), Franc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FR), Iceland (IS), Nor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ueg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NO),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Suec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S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4348080"/>
            <a:ext cx="80773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89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Hosts superan los 100.000; Se conectan a NSFNET: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Australia (AU),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leman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DE), Israel (IL), Ital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IT), Jap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ó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n (JP), M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é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xico (MX),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Holand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NL), N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uev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Zeland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NZ), Puerto Rico (PR), United Kingdom (U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3967200"/>
            <a:ext cx="80773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90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Desaparece ARPANET; Se conectan a NSFNET: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Argentina (AR), Austria (AT), Belgi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c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BE), Bra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il (BR), Chile (CL), Grec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GR), India (IN), Irland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IE),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orea (KR),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Españ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ES), S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uiz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CH)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511020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86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Se crea NSFNET, una red orientada a la investigación y también ara desarrollo comerc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3521160"/>
            <a:ext cx="80773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91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Se lanza World Wide Web (WWW); Se conectan a NFSNET: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Croa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ia (HR), Rep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ú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blic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 Chec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CZ), Hong Kong (HK), Hung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r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HU), Pol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on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PL), Portugal (PT), Singap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ur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SG), S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ud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frica (ZA), Taiwan (TW), Tun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TN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139920"/>
            <a:ext cx="80773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92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Banco Mundial en linea; Se conectan a NFSNET: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Antartica (AQ), Camer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n (CM), C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hipre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CY), Ecuador (EC), Estonia (EE), Kuwait (KW), Lati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vi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a (LV), Luxemburg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LU), Malasia (MY),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lova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qui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a (SK),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lovenia (SI), Tailand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TH), Venezuela (V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2606760"/>
            <a:ext cx="807732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93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Casa Blanca y Naciones Unidas online; Internet se empieza a conocer en los negocios y medios; Se conectan a NFSNET: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Bulgaria (BG), Costa Rica (CR), Eg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pt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EG), Fiji (FJ), Ghana (GH), Guam (GU), Indonesia (ID), Kazakhstan (KZ), Kenya (KE), Liechtenstein (LI), Peru (PE), R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um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ania (RO), Rus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RU), Tur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quí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TR), U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ran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UA), UAE (AE), US Virgin Islands (V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225520"/>
            <a:ext cx="80773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94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Congreso de USA y Primer Ministro japonés online; Shopping malls comienzan a utilizar Internet; se lanza el primer banco virtual; aparece el primer banner publicitario (zima, una bebida y AT&amp;T); se regulan los spams y emails publicitarios; se puede ordenar pizza online en Hut on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692360"/>
            <a:ext cx="807732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95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NFSNET se reconvierte en una red de investigación; el tráfico comercial en USA es enrutado a través de proveedores de redes interconectadas; RealAudio permite escuchar audio a través de la red en tiempo “casi” real; aparece la primera emisora comercial online; Primeras compañía de Internet se abren a la bol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Internet: Una historia de 4 década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BF351-40F0-447C-96A0-8929EC7282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Regla 3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s consumidores no se preocupan sólo del prec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10360" cy="375912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1741680" y="6037200"/>
            <a:ext cx="262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Verdana"/>
              </a:rPr>
              <a:t>Fuente: Reporte JP Morgan: eTailing and the five 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4AA60-A97B-49F2-B20D-95FE92593579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Elección de capacidades única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por qué la firma puede entregar el beneficio o el paquete de beneficios clave significativamente mejor que la competenci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nálisis interno y de las alianz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nombr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Core competenci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Fortaleza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Recursos únic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Capacidades única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terminar la capacidad de enlazar estas capacidades únicas con los beneficios elegi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4C7DF-497F-47C6-ADE7-AF97C36CAA9A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447920" y="2573280"/>
            <a:ext cx="167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casiones especiales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075120" y="1420920"/>
            <a:ext cx="1143000" cy="641520"/>
          </a:xfrm>
          <a:prstGeom prst="rect">
            <a:avLst/>
          </a:prstGeom>
          <a:solidFill>
            <a:srgbClr val="5fbee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cios crític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fre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934320" y="1627200"/>
            <a:ext cx="1981080" cy="276480"/>
          </a:xfrm>
          <a:prstGeom prst="rect">
            <a:avLst/>
          </a:prstGeom>
          <a:solidFill>
            <a:srgbClr val="5fbee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16200000">
            <a:off x="6324480" y="1587600"/>
            <a:ext cx="533520" cy="380880"/>
          </a:xfrm>
          <a:prstGeom prst="downArrow">
            <a:avLst>
              <a:gd name="adj1" fmla="val 49676"/>
              <a:gd name="adj2" fmla="val 54634"/>
            </a:avLst>
          </a:prstGeom>
          <a:solidFill>
            <a:srgbClr val="5fbee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622600" y="1565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368600" y="15811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599000" y="2311560"/>
            <a:ext cx="1828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Experiencia on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Amplia linea de productos complementar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14920" y="2425680"/>
            <a:ext cx="1005120" cy="459000"/>
          </a:xfrm>
          <a:prstGeom prst="rect">
            <a:avLst/>
          </a:prstGeom>
          <a:solidFill>
            <a:srgbClr val="5fbee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C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&amp; G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971800" y="2311560"/>
            <a:ext cx="1447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fres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galos complementar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jos pre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629400" y="2314440"/>
            <a:ext cx="2514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C Flowers &amp; Gift sirve el segmento de ocasiones especiales a través de la oferta de flores frescas y productos complementarios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65320" y="4460760"/>
            <a:ext cx="831600" cy="276480"/>
          </a:xfrm>
          <a:prstGeom prst="rect">
            <a:avLst/>
          </a:prstGeom>
          <a:solidFill>
            <a:srgbClr val="5fbee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FT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447920" y="44956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finas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572000" y="4232160"/>
            <a:ext cx="1828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Marca fu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Comunicación de merc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Red de proveedc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971800" y="438624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de fácil despac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629400" y="4221000"/>
            <a:ext cx="2514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TD.com provee flores finas con la forma más fácil de enviar flores gracias a su extensa red de provee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502640" y="1504800"/>
            <a:ext cx="1026720" cy="459000"/>
          </a:xfrm>
          <a:prstGeom prst="rect">
            <a:avLst/>
          </a:prstGeom>
          <a:solidFill>
            <a:srgbClr val="5fbee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gm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bje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827600" y="1504800"/>
            <a:ext cx="1447920" cy="459000"/>
          </a:xfrm>
          <a:prstGeom prst="rect">
            <a:avLst/>
          </a:prstGeom>
          <a:solidFill>
            <a:srgbClr val="5fbee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apacidades ún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80720" y="3521160"/>
            <a:ext cx="1005120" cy="276480"/>
          </a:xfrm>
          <a:prstGeom prst="rect">
            <a:avLst/>
          </a:prstGeom>
          <a:solidFill>
            <a:srgbClr val="5fbee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Pro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447920" y="35053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nsible al precio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572000" y="342900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Fuente ún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Convenio con Fed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971800" y="345924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más fres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recios competitiv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629400" y="3200400"/>
            <a:ext cx="2514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roflowers sirve el segmento sensible al precio con las flores más frescas a precios competitivos gracias a su fuente única y conevenio con FedEx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629400" y="4978440"/>
            <a:ext cx="2514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1-800-flowers sirve el mercado de flores finas con una amplia variedad de regalos, flores frescas, precios razonables y fácil acceso gracias a su fuerte marca, alianzas con medios y red de franquicias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brick-and-mortar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16280" y="5361120"/>
            <a:ext cx="1191240" cy="276480"/>
          </a:xfrm>
          <a:prstGeom prst="rect">
            <a:avLst/>
          </a:prstGeom>
          <a:solidFill>
            <a:srgbClr val="5fbee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1-800-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447920" y="544356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finas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895480" y="5208480"/>
            <a:ext cx="16765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ran variedad de rega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fres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recios razonab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ácil ac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572000" y="5235480"/>
            <a:ext cx="1828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Marca fu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Alianzas con med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Red de franquicias brick-and-mort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Propuesta de Valor: flores online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833C1-139A-46B2-AA00-BEF166796036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Paso 2: Definición de la Oferta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ición en 3 etap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Identificar el </a:t>
            </a:r>
            <a:r>
              <a:rPr b="0" lang="en-US" sz="2400" spc="-1" strike="noStrike">
                <a:solidFill>
                  <a:srgbClr val="ed181e"/>
                </a:solidFill>
                <a:latin typeface="Verdana"/>
              </a:rPr>
              <a:t>alcance</a:t>
            </a: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 de la ofert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Identificar el </a:t>
            </a:r>
            <a:r>
              <a:rPr b="0" lang="en-US" sz="2400" spc="-1" strike="noStrike">
                <a:solidFill>
                  <a:srgbClr val="ed181e"/>
                </a:solidFill>
                <a:latin typeface="Verdana"/>
              </a:rPr>
              <a:t>proceso de decisión del</a:t>
            </a: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 consumidor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Hacer un </a:t>
            </a:r>
            <a:r>
              <a:rPr b="0" lang="en-US" sz="2400" spc="-1" strike="noStrike">
                <a:solidFill>
                  <a:srgbClr val="ed181e"/>
                </a:solidFill>
                <a:latin typeface="Verdana"/>
              </a:rPr>
              <a:t>mapa</a:t>
            </a: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 de la oferta (productos, servicios e información) en relación al proceso de decisión del consumidor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0CF69-20D6-4382-ADDA-5492731FD053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Alcance de la Oferta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úmero de categorías de productos y servicios que se ofrec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Una sola categoría (category killer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Múltiples categoría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ipos de alcanc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Dominio “categoría específica”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Foco exclusivo en una categoría de productos (flores, chocolates, libros, CD, etc.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Dominio “Cross-category”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En la capacidad de mezclar categorías radica uno de los más interesantes desarrollos de Internet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Amazon es el ejemplo más claro. Otros son Cars.com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C2195-190B-473B-A9DF-94FE25FE1852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Alcance de la Oferta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68" name=""/>
          <p:cNvSpPr/>
          <p:nvPr/>
        </p:nvSpPr>
        <p:spPr>
          <a:xfrm>
            <a:off x="152280" y="3124080"/>
            <a:ext cx="365760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Verdana"/>
              </a:rPr>
              <a:t>Dominio de “categoría específic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Foco en una categoría de produ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Secondspin.com (CDs usad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PremiumOrchids.com (orquide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Peapod (supermercado onli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04920" y="2133720"/>
            <a:ext cx="8458200" cy="609480"/>
          </a:xfrm>
          <a:prstGeom prst="leftRightArrow">
            <a:avLst>
              <a:gd name="adj1" fmla="val 55204"/>
              <a:gd name="adj2" fmla="val 422499"/>
            </a:avLst>
          </a:prstGeom>
          <a:solidFill>
            <a:srgbClr val="fafea0"/>
          </a:solidFill>
          <a:ln w="9360">
            <a:solidFill>
              <a:srgbClr val="555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Verdana"/>
              </a:rPr>
              <a:t>Alcance es un continu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105520" y="3124080"/>
            <a:ext cx="4038480" cy="20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Verdana"/>
              </a:rPr>
              <a:t>Dominio “Cross-Category”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Focus on a large number of catego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Bestbuy.com (electrónicos, CD, DV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1-800-flowers (flo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Streamline* (supermetcado, lavado en seco, neumáticos,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657600" y="396252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657600" y="441972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657600" y="48006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0276B-E8A6-4B71-B512-520E62220C1C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Tipos de dominio Cross-Category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do de la deman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Atractivo desde el punto de vista del consumidor: BabyCenter.com, Chemdex.com, ToysRU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do de la ofer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Atractivo desde el punto de vista de la cadena de abastecimiento. Productos que se agrupan naturalmente desde el punto de vista logístico y de distribución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Amazon.com: bienes físicos, inventariables, enfocados en consumidores finales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14BF9-49B2-47CB-B9AF-049AC749C9B3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Metamercado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irmas que agrupan naturalmente distintas categorías de bienes y servici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nsumidores piensan en términos de actividad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irmas piensan en términos de produc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etamercados son grupos de mercados de acuerdo a como se ubican en la mente de los consumi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entretenimien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¿Son categorizados en Deportes favoritos / Clubs / Comida / Espectáculos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¿O más bien en cosas que hacer con la familia, donde ir cuando el tiempo está feo o bonito, etc.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o importante es que los consumidores categorizan de diferentes maneras y así, los negocios pueden categorizarse de diferentes maner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FC0B6-5083-4156-BD49-FA9B6F111FA1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Metamercado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/>
          <p:nvPr/>
        </p:nvSpPr>
        <p:spPr>
          <a:xfrm>
            <a:off x="2590920" y="1676520"/>
            <a:ext cx="533160" cy="304560"/>
          </a:xfrm>
          <a:prstGeom prst="ellipse">
            <a:avLst/>
          </a:prstGeom>
          <a:noFill/>
          <a:ln w="2844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90720" y="2209680"/>
            <a:ext cx="1981080" cy="1447920"/>
          </a:xfrm>
          <a:prstGeom prst="ellipse">
            <a:avLst/>
          </a:prstGeom>
          <a:noFill/>
          <a:ln w="2844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066680" y="4724280"/>
            <a:ext cx="1447920" cy="533520"/>
          </a:xfrm>
          <a:prstGeom prst="ellipse">
            <a:avLst/>
          </a:prstGeom>
          <a:noFill/>
          <a:ln w="2844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066680" y="3657600"/>
            <a:ext cx="1067040" cy="380880"/>
          </a:xfrm>
          <a:prstGeom prst="ellipse">
            <a:avLst/>
          </a:prstGeom>
          <a:noFill/>
          <a:ln w="2844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648320" y="2133720"/>
            <a:ext cx="1066680" cy="1752480"/>
          </a:xfrm>
          <a:prstGeom prst="ellipse">
            <a:avLst/>
          </a:prstGeom>
          <a:noFill/>
          <a:ln w="2844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057400" y="1676520"/>
            <a:ext cx="533520" cy="304560"/>
          </a:xfrm>
          <a:prstGeom prst="ellipse">
            <a:avLst/>
          </a:prstGeom>
          <a:noFill/>
          <a:ln w="2844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867280" y="236232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Comunidad de soporte y ayuda para pad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7" name=""/>
          <p:cNvCxnSpPr>
            <a:stCxn id="680" idx="6"/>
            <a:endCxn id="686" idx="1"/>
          </p:cNvCxnSpPr>
          <p:nvPr/>
        </p:nvCxnSpPr>
        <p:spPr>
          <a:xfrm>
            <a:off x="3138480" y="1828800"/>
            <a:ext cx="2729520" cy="658080"/>
          </a:xfrm>
          <a:prstGeom prst="straightConnector1">
            <a:avLst/>
          </a:prstGeom>
          <a:ln w="9360">
            <a:solidFill>
              <a:srgbClr val="ed181e"/>
            </a:solidFill>
            <a:miter/>
            <a:headEnd len="med" type="triangle" w="med"/>
          </a:ln>
        </p:spPr>
      </p:cxnSp>
      <p:sp>
        <p:nvSpPr>
          <p:cNvPr id="688" name=""/>
          <p:cNvSpPr/>
          <p:nvPr/>
        </p:nvSpPr>
        <p:spPr>
          <a:xfrm>
            <a:off x="6008400" y="2743200"/>
            <a:ext cx="302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Venta de productos para guaguas y matern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5" idx="5"/>
            <a:endCxn id="688" idx="1"/>
          </p:cNvCxnSpPr>
          <p:nvPr/>
        </p:nvCxnSpPr>
        <p:spPr>
          <a:xfrm>
            <a:off x="2513160" y="1951200"/>
            <a:ext cx="3388320" cy="916560"/>
          </a:xfrm>
          <a:prstGeom prst="straightConnector1">
            <a:avLst/>
          </a:prstGeom>
          <a:ln w="9360">
            <a:solidFill>
              <a:srgbClr val="ed181e"/>
            </a:solidFill>
            <a:miter/>
            <a:headEnd len="med" type="arrow" w="med"/>
          </a:ln>
        </p:spPr>
      </p:cxnSp>
      <p:cxnSp>
        <p:nvCxnSpPr>
          <p:cNvPr id="690" name=""/>
          <p:cNvCxnSpPr>
            <a:stCxn id="684" idx="6"/>
            <a:endCxn id="688" idx="1"/>
          </p:cNvCxnSpPr>
          <p:nvPr/>
        </p:nvCxnSpPr>
        <p:spPr>
          <a:xfrm flipV="1">
            <a:off x="5729400" y="2866320"/>
            <a:ext cx="172080" cy="143640"/>
          </a:xfrm>
          <a:prstGeom prst="straightConnector1">
            <a:avLst/>
          </a:prstGeom>
          <a:ln w="9360">
            <a:solidFill>
              <a:srgbClr val="ed181e"/>
            </a:solidFill>
            <a:miter/>
            <a:headEnd len="med" type="triangle" w="med"/>
          </a:ln>
        </p:spPr>
      </p:cxnSp>
      <p:sp>
        <p:nvSpPr>
          <p:cNvPr id="691" name=""/>
          <p:cNvSpPr/>
          <p:nvPr/>
        </p:nvSpPr>
        <p:spPr>
          <a:xfrm>
            <a:off x="5980320" y="3108240"/>
            <a:ext cx="235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Personalización de usuario y guagu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2" name=""/>
          <p:cNvCxnSpPr>
            <a:stCxn id="691" idx="1"/>
            <a:endCxn id="681" idx="6"/>
          </p:cNvCxnSpPr>
          <p:nvPr/>
        </p:nvCxnSpPr>
        <p:spPr>
          <a:xfrm flipH="1" flipV="1">
            <a:off x="2986200" y="2932920"/>
            <a:ext cx="2914920" cy="299160"/>
          </a:xfrm>
          <a:prstGeom prst="straightConnector1">
            <a:avLst/>
          </a:prstGeom>
          <a:ln w="9360">
            <a:solidFill>
              <a:srgbClr val="ed181e"/>
            </a:solidFill>
            <a:miter/>
            <a:tailEnd len="med" type="triangle" w="med"/>
          </a:ln>
        </p:spPr>
      </p:cxnSp>
      <p:sp>
        <p:nvSpPr>
          <p:cNvPr id="693" name=""/>
          <p:cNvSpPr/>
          <p:nvPr/>
        </p:nvSpPr>
        <p:spPr>
          <a:xfrm>
            <a:off x="5943600" y="387036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Soporte y ayuda por exper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93" idx="1"/>
            <a:endCxn id="682" idx="6"/>
          </p:cNvCxnSpPr>
          <p:nvPr/>
        </p:nvCxnSpPr>
        <p:spPr>
          <a:xfrm flipH="1">
            <a:off x="2528280" y="3993840"/>
            <a:ext cx="3415320" cy="997560"/>
          </a:xfrm>
          <a:prstGeom prst="straightConnector1">
            <a:avLst/>
          </a:prstGeom>
          <a:ln w="9360">
            <a:solidFill>
              <a:srgbClr val="ed181e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5943600" y="350532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Información / Conteni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95" idx="1"/>
            <a:endCxn id="683" idx="6"/>
          </p:cNvCxnSpPr>
          <p:nvPr/>
        </p:nvCxnSpPr>
        <p:spPr>
          <a:xfrm flipH="1">
            <a:off x="2147400" y="3629160"/>
            <a:ext cx="3796560" cy="219600"/>
          </a:xfrm>
          <a:prstGeom prst="straightConnector1">
            <a:avLst/>
          </a:prstGeom>
          <a:ln w="9360">
            <a:solidFill>
              <a:srgbClr val="ed181e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3ACB0-4B9A-460E-AA65-4DB4E9486B6E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Proceso de decisión del consumidor 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98" name=""/>
          <p:cNvSpPr/>
          <p:nvPr/>
        </p:nvSpPr>
        <p:spPr>
          <a:xfrm>
            <a:off x="1647720" y="5487480"/>
            <a:ext cx="284796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Retrib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071880" y="1692360"/>
            <a:ext cx="0" cy="584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071880" y="2332080"/>
            <a:ext cx="0" cy="5857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071880" y="2992320"/>
            <a:ext cx="0" cy="584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071880" y="3602160"/>
            <a:ext cx="0" cy="5839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071880" y="4214880"/>
            <a:ext cx="0" cy="5857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071880" y="4878360"/>
            <a:ext cx="0" cy="584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647720" y="4878000"/>
            <a:ext cx="284796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Lealt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647720" y="4192200"/>
            <a:ext cx="284796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Satisfa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647720" y="3577680"/>
            <a:ext cx="284796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Verdana"/>
              </a:rPr>
              <a:t>Decisión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647720" y="2972880"/>
            <a:ext cx="284796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Evaluación de Alternati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647720" y="2291760"/>
            <a:ext cx="284796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Búsqueda de Inform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647720" y="1595520"/>
            <a:ext cx="2847960" cy="52020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Reconocimiento de problema o neces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371600" y="160020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447920" y="335268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447920" y="4086360"/>
            <a:ext cx="152280" cy="1857240"/>
          </a:xfrm>
          <a:custGeom>
            <a:avLst/>
            <a:gdLst>
              <a:gd name="textAreaLeft" fmla="*/ 97200 w 152280"/>
              <a:gd name="textAreaRight" fmla="*/ 152640 w 152280"/>
              <a:gd name="textAreaTop" fmla="*/ 48240 h 1857240"/>
              <a:gd name="textAreaBottom" fmla="*/ 1809000 h 185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320" y="2299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Pre-comp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6320" y="35676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Comp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6320" y="479952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Post-comp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(postven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523880"/>
            <a:ext cx="3352680" cy="39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000000"/>
                </a:solidFill>
                <a:uFillTx/>
                <a:latin typeface="Verdana"/>
              </a:rPr>
              <a:t>Ejemplo de las Fl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Reconocimiento de necesidad, posiblemente gatillado por cercanía de fiesta, aniversario u ocasión espe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Búsqueda de Ideas y ofer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6488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Vitrineo” en tiendas online y off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6488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Ideas y recomend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6488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Consejo basado en perfil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Evaluación de alternativas bajo varias dimensiones o atributos: precio, disponibilidad, despacho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Decisión de comp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Selección de mensaje: medio y conteni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Soporte postv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6488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Trac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6488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Servicio al cl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Eduicación en flores y deco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Recomendaciones a amigos, nueva compra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6488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0A437-8D83-42E4-A3C3-661C895A7238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5555"/>
                </a:solidFill>
                <a:latin typeface="Verdana"/>
              </a:rPr>
              <a:t>Datos que todos conocen (o debieran conocer) acerca de Internet</a:t>
            </a:r>
            <a:endParaRPr b="0" lang="en-US" sz="26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pidez de penetración frente a otras tecnologí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47920" y="2438280"/>
            <a:ext cx="6553080" cy="3735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133720" y="4091040"/>
            <a:ext cx="5638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60280" y="3886200"/>
            <a:ext cx="20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 millones de usuarios (U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00600" y="35053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3657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65880" y="3886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4114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12040" y="3475080"/>
            <a:ext cx="54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a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97120" y="33066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9440" y="3809880"/>
            <a:ext cx="54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30800" y="385596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51181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75840" y="508788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: 38 añ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5216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77440" y="51865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V: 13 añ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2960" y="5151600"/>
            <a:ext cx="108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ble: 10 añ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31520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09680" y="515160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: 5 añ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3F2D7-49E6-4122-A511-BF61C4FEEBF7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apa de la oferta para 1-800-flower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719" name=""/>
          <p:cNvSpPr/>
          <p:nvPr/>
        </p:nvSpPr>
        <p:spPr>
          <a:xfrm>
            <a:off x="762120" y="1371600"/>
            <a:ext cx="7696080" cy="4842000"/>
          </a:xfrm>
          <a:prstGeom prst="ellipse">
            <a:avLst/>
          </a:prstGeom>
          <a:solidFill>
            <a:srgbClr val="fafe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2590920"/>
            <a:ext cx="3800520" cy="258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Proceso de deci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Flores / Regalos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038480" y="2590920"/>
            <a:ext cx="11750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Reconocimiento de neces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029200" y="3048120"/>
            <a:ext cx="1190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Búsqueda de ideas y ofer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724280" y="4648320"/>
            <a:ext cx="8398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ecisión de comp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429000" y="4648320"/>
            <a:ext cx="9144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Selección de mens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819520" y="4038480"/>
            <a:ext cx="13143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Soporte postventa y gratific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895480" y="2971800"/>
            <a:ext cx="1619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Educación en flores y decor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733920" y="1523880"/>
            <a:ext cx="2209680" cy="8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Servicio de recordato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Especiales de Fie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Sugerencias para celebraciones cotidia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Sugerencias para ocasiones es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705720" y="3100320"/>
            <a:ext cx="19810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Gur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avori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recuen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ana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Servicios corporativ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096960" y="1675800"/>
            <a:ext cx="136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 u="sng">
                <a:solidFill>
                  <a:srgbClr val="000000"/>
                </a:solidFill>
                <a:uFillTx/>
                <a:latin typeface="Arial"/>
              </a:rPr>
              <a:t>Ideas e Inform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8080" y="312336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 u="sng">
                <a:solidFill>
                  <a:srgbClr val="000000"/>
                </a:solidFill>
                <a:uFillTx/>
                <a:latin typeface="Arial"/>
              </a:rPr>
              <a:t>Soporte postven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400800" y="4191120"/>
            <a:ext cx="1981080" cy="8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o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escrip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Información de despac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isponibi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971800" y="5181480"/>
            <a:ext cx="19051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Tarjeta virtual anim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Tarjeta fís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914400" y="3292560"/>
            <a:ext cx="160020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Boleta por 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Online Customer Service (Q&amp;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A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Customer service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por teéfono o 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600200" y="425232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 u="sng">
                <a:solidFill>
                  <a:srgbClr val="000000"/>
                </a:solidFill>
                <a:uFillTx/>
                <a:latin typeface="Arial"/>
              </a:rPr>
              <a:t>Gratific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752480" y="4405320"/>
            <a:ext cx="1400400" cy="11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Millas ganadas por compra de fl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Rega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escuentos en AOL y BN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Membrecía espec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133720" y="1814400"/>
            <a:ext cx="1447560" cy="8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000" spc="-1" strike="noStrike">
                <a:solidFill>
                  <a:srgbClr val="000000"/>
                </a:solidFill>
                <a:latin typeface="Arial"/>
              </a:rPr>
              <a:t>Cuidado de fl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000" spc="-1" strike="noStrike">
                <a:solidFill>
                  <a:srgbClr val="000000"/>
                </a:solidFill>
                <a:latin typeface="Arial"/>
              </a:rPr>
              <a:t>Hágalo Ud. mis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invitación a seminarios y eventos espec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110280" y="1881360"/>
            <a:ext cx="196704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lor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Para el jard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Para el ho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Rega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Gourm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Ubicación de tien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Recomendaciones por ppt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Mejore ven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181480" y="4038480"/>
            <a:ext cx="1143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Evaluación de alternativ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706800" y="2894760"/>
            <a:ext cx="129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 u="sng">
                <a:solidFill>
                  <a:srgbClr val="000000"/>
                </a:solidFill>
                <a:uFillTx/>
                <a:latin typeface="Arial"/>
              </a:rPr>
              <a:t>Recomend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181480" y="5105520"/>
            <a:ext cx="1981440" cy="8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anasta de comp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Transacción e-commer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aracterísticas espec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3200" indent="-1731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espacho fuera de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3200" indent="-1731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1-800-lasfloras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990720" y="26614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8513A-7145-4F41-99FF-548C4EB44A9A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Elementos de un Modelo de Negoci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743" name=""/>
          <p:cNvSpPr/>
          <p:nvPr/>
        </p:nvSpPr>
        <p:spPr>
          <a:xfrm>
            <a:off x="3225960" y="171252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225960" y="277128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er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225960" y="380160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stema de recur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25960" y="488268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porte financi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rot="5400000">
            <a:off x="4289760" y="2292840"/>
            <a:ext cx="496800" cy="241560"/>
          </a:xfrm>
          <a:custGeom>
            <a:avLst/>
            <a:gdLst>
              <a:gd name="textAreaLeft" fmla="*/ 77400 w 496800"/>
              <a:gd name="textAreaRight" fmla="*/ 434880 w 496800"/>
              <a:gd name="textAreaTop" fmla="*/ 60480 h 241560"/>
              <a:gd name="textAreaBottom" fmla="*/ 181440 h 241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rot="5400000">
            <a:off x="4291560" y="3364560"/>
            <a:ext cx="497160" cy="241200"/>
          </a:xfrm>
          <a:custGeom>
            <a:avLst/>
            <a:gdLst>
              <a:gd name="textAreaLeft" fmla="*/ 77400 w 497160"/>
              <a:gd name="textAreaRight" fmla="*/ 435240 w 497160"/>
              <a:gd name="textAreaTop" fmla="*/ 60120 h 241200"/>
              <a:gd name="textAreaBottom" fmla="*/ 181080 h 241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rot="5400000">
            <a:off x="4291560" y="4394880"/>
            <a:ext cx="497160" cy="241200"/>
          </a:xfrm>
          <a:custGeom>
            <a:avLst/>
            <a:gdLst>
              <a:gd name="textAreaLeft" fmla="*/ 77400 w 497160"/>
              <a:gd name="textAreaRight" fmla="*/ 435240 w 497160"/>
              <a:gd name="textAreaTop" fmla="*/ 60120 h 241200"/>
              <a:gd name="textAreaBottom" fmla="*/ 181080 h 241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019920" y="2971800"/>
            <a:ext cx="4572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6019920" y="274284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019920" y="297180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019920" y="1905120"/>
            <a:ext cx="4572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6019920" y="167616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019920" y="190512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564960" y="1523880"/>
            <a:ext cx="2381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Segmento obje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Benef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¿Por que mejor que otro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468120" y="2593800"/>
            <a:ext cx="120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Produ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Serv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Inform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95000-A4F4-45A5-89A7-88D182C4D571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Paso 3: Sistema de Recurso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sistema de recursos determina cómo la compañía debe alinear sus sistemas internos y el de sus partners para entregar los beneficios de la propuesta de val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egado del mundo tradicional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Propuesta de valor por sí sola no es suficiente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Set de activos y acciones elegidos para entregar la propuesta determina compañías exitosas de las de pobre desempeño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Actividades únicas atadas a propuesta de valor genera ventaja competitiva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5A7A5-9989-4E67-B528-999ADB961790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¿Qué son los recursos?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recursos pueden tomar varias form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Activos físicos: bodegas, aviones, fábricas, etc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Activos intangibles: marcas, patent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Yahoo!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Pricelin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Amazon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Actividades, experiencia y Know-how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Idealab y su capacidad de lanzar nuevos negoci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F75B1-8641-4CFD-B24F-AF7E8EF40ECD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Sistema de Recurso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ara pasar del mundo físico al mundo virtual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Cambiar actividades y capacidades del mundo físico por una combinación físico-virtual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Cambiar foco desde el lado de la oferta (abastecimiento) hacia el lado de la demand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Cambiar actividades por capacidades: activos y talentos del más alto nivel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Cambiar enfoque uni-empresarial a multi-empresarial: asociaciones y partners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5F5FA-86DE-4E8B-9592-345BF4BD9752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Construcción del Sistema de Recurso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istar beneficios centrales o críticos identificados en la propuesta de val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dentificar capacidades relacionadas con cada benefici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sociar recursos necesarios para cada capacidad (activos y actividades clav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dentificar el nivel al cual la empresa puede entregar cada capacidad. Implica una mirada profunda al interior de la empresa y determinar si puede por sí sola o debe buscar aliados / invers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dentificar partners que pueden completar las capacida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798B4-1846-4EC8-AB82-47AC369E1F8F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2800440" y="20574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ran variedad de rega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800440" y="36576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rvicio al cli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540320" y="36576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isponibi-lidad, facilidad de ac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540320" y="20574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finas o de alta 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66" idx="6"/>
            <a:endCxn id="769" idx="2"/>
          </p:cNvCxnSpPr>
          <p:nvPr/>
        </p:nvCxnSpPr>
        <p:spPr>
          <a:xfrm>
            <a:off x="3975120" y="2628720"/>
            <a:ext cx="565920" cy="108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1" name=""/>
          <p:cNvCxnSpPr>
            <a:stCxn id="766" idx="4"/>
            <a:endCxn id="767" idx="0"/>
          </p:cNvCxnSpPr>
          <p:nvPr/>
        </p:nvCxnSpPr>
        <p:spPr>
          <a:xfrm>
            <a:off x="3387240" y="3200400"/>
            <a:ext cx="1080" cy="45792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2" name=""/>
          <p:cNvCxnSpPr>
            <a:stCxn id="769" idx="4"/>
            <a:endCxn id="768" idx="0"/>
          </p:cNvCxnSpPr>
          <p:nvPr/>
        </p:nvCxnSpPr>
        <p:spPr>
          <a:xfrm>
            <a:off x="5127120" y="3200400"/>
            <a:ext cx="1080" cy="45792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3" name=""/>
          <p:cNvCxnSpPr>
            <a:stCxn id="767" idx="6"/>
            <a:endCxn id="768" idx="2"/>
          </p:cNvCxnSpPr>
          <p:nvPr/>
        </p:nvCxnSpPr>
        <p:spPr>
          <a:xfrm>
            <a:off x="3975120" y="4228920"/>
            <a:ext cx="565920" cy="108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1-800-flowers</a:t>
            </a:r>
            <a:br>
              <a:rPr sz="3000"/>
            </a:b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1. Beneficios crítico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549360" y="5499000"/>
            <a:ext cx="108000" cy="108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09480" y="5409720"/>
            <a:ext cx="10828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Beneficios Cla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24134-8E77-4B5E-A51D-068253572E5B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1-800-flowers</a:t>
            </a:r>
            <a:br>
              <a:rPr sz="3000"/>
            </a:b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2. Identificación de capacidade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778" name=""/>
          <p:cNvSpPr/>
          <p:nvPr/>
        </p:nvSpPr>
        <p:spPr>
          <a:xfrm>
            <a:off x="6019920" y="47242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mplio alcance de consumi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477120" y="38862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últiples puntos de contac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19920" y="29718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opularidad del Sit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800600" y="5334120"/>
            <a:ext cx="1143000" cy="53316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arca fu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800440" y="20574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ran variedad de rega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800440" y="36576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rvicio al cli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540320" y="36576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isponibi-lidad, facilidad de ac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540320" y="20574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finas o de alta 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6" name=""/>
          <p:cNvCxnSpPr>
            <a:stCxn id="782" idx="6"/>
            <a:endCxn id="785" idx="2"/>
          </p:cNvCxnSpPr>
          <p:nvPr/>
        </p:nvCxnSpPr>
        <p:spPr>
          <a:xfrm>
            <a:off x="3975120" y="2628720"/>
            <a:ext cx="565920" cy="108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7" name=""/>
          <p:cNvCxnSpPr>
            <a:stCxn id="782" idx="4"/>
            <a:endCxn id="783" idx="0"/>
          </p:cNvCxnSpPr>
          <p:nvPr/>
        </p:nvCxnSpPr>
        <p:spPr>
          <a:xfrm>
            <a:off x="3387240" y="3200400"/>
            <a:ext cx="1080" cy="45792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8" name=""/>
          <p:cNvCxnSpPr>
            <a:stCxn id="785" idx="4"/>
            <a:endCxn id="784" idx="0"/>
          </p:cNvCxnSpPr>
          <p:nvPr/>
        </p:nvCxnSpPr>
        <p:spPr>
          <a:xfrm>
            <a:off x="5127120" y="3200400"/>
            <a:ext cx="1080" cy="45792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9" name=""/>
          <p:cNvCxnSpPr>
            <a:stCxn id="783" idx="6"/>
            <a:endCxn id="784" idx="2"/>
          </p:cNvCxnSpPr>
          <p:nvPr/>
        </p:nvCxnSpPr>
        <p:spPr>
          <a:xfrm>
            <a:off x="3975120" y="4228920"/>
            <a:ext cx="565920" cy="108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0" name=""/>
          <p:cNvCxnSpPr>
            <a:stCxn id="780" idx="2"/>
            <a:endCxn id="784" idx="6"/>
          </p:cNvCxnSpPr>
          <p:nvPr/>
        </p:nvCxnSpPr>
        <p:spPr>
          <a:xfrm flipH="1">
            <a:off x="5714640" y="3504960"/>
            <a:ext cx="876960" cy="724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1" name=""/>
          <p:cNvCxnSpPr>
            <a:stCxn id="779" idx="1"/>
            <a:endCxn id="784" idx="6"/>
          </p:cNvCxnSpPr>
          <p:nvPr/>
        </p:nvCxnSpPr>
        <p:spPr>
          <a:xfrm flipH="1">
            <a:off x="5714280" y="4152960"/>
            <a:ext cx="76284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"/>
          <p:cNvCxnSpPr>
            <a:stCxn id="778" idx="1"/>
            <a:endCxn id="784" idx="6"/>
          </p:cNvCxnSpPr>
          <p:nvPr/>
        </p:nvCxnSpPr>
        <p:spPr>
          <a:xfrm flipH="1" flipV="1">
            <a:off x="5714280" y="4228920"/>
            <a:ext cx="305640" cy="762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81" idx="0"/>
            <a:endCxn id="784" idx="5"/>
          </p:cNvCxnSpPr>
          <p:nvPr/>
        </p:nvCxnSpPr>
        <p:spPr>
          <a:xfrm flipV="1">
            <a:off x="5372280" y="4633200"/>
            <a:ext cx="172080" cy="700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4" name=""/>
          <p:cNvSpPr/>
          <p:nvPr/>
        </p:nvSpPr>
        <p:spPr>
          <a:xfrm>
            <a:off x="4876920" y="12952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d de distribución fu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5" name=""/>
          <p:cNvCxnSpPr>
            <a:stCxn id="794" idx="2"/>
            <a:endCxn id="785" idx="0"/>
          </p:cNvCxnSpPr>
          <p:nvPr/>
        </p:nvCxnSpPr>
        <p:spPr>
          <a:xfrm flipH="1">
            <a:off x="5126760" y="1828440"/>
            <a:ext cx="3214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94" idx="2"/>
            <a:endCxn id="782" idx="7"/>
          </p:cNvCxnSpPr>
          <p:nvPr/>
        </p:nvCxnSpPr>
        <p:spPr>
          <a:xfrm flipH="1">
            <a:off x="3803400" y="1828800"/>
            <a:ext cx="1645200" cy="396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7" name=""/>
          <p:cNvSpPr/>
          <p:nvPr/>
        </p:nvSpPr>
        <p:spPr>
          <a:xfrm>
            <a:off x="1600200" y="18288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entro de Regalos On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8" name=""/>
          <p:cNvCxnSpPr>
            <a:stCxn id="797" idx="3"/>
            <a:endCxn id="782" idx="1"/>
          </p:cNvCxnSpPr>
          <p:nvPr/>
        </p:nvCxnSpPr>
        <p:spPr>
          <a:xfrm>
            <a:off x="2742840" y="2095200"/>
            <a:ext cx="229320" cy="129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9" name=""/>
          <p:cNvSpPr/>
          <p:nvPr/>
        </p:nvSpPr>
        <p:spPr>
          <a:xfrm>
            <a:off x="1295280" y="28954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ertas de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Part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0" name=""/>
          <p:cNvCxnSpPr>
            <a:stCxn id="799" idx="3"/>
            <a:endCxn id="782" idx="3"/>
          </p:cNvCxnSpPr>
          <p:nvPr/>
        </p:nvCxnSpPr>
        <p:spPr>
          <a:xfrm flipV="1">
            <a:off x="2438280" y="3033000"/>
            <a:ext cx="534240" cy="129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1" name=""/>
          <p:cNvSpPr/>
          <p:nvPr/>
        </p:nvSpPr>
        <p:spPr>
          <a:xfrm>
            <a:off x="1143000" y="40384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2" name=""/>
          <p:cNvCxnSpPr>
            <a:stCxn id="801" idx="3"/>
            <a:endCxn id="783" idx="2"/>
          </p:cNvCxnSpPr>
          <p:nvPr/>
        </p:nvCxnSpPr>
        <p:spPr>
          <a:xfrm flipV="1">
            <a:off x="2285640" y="4228560"/>
            <a:ext cx="51516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3" name=""/>
          <p:cNvSpPr/>
          <p:nvPr/>
        </p:nvSpPr>
        <p:spPr>
          <a:xfrm flipH="1">
            <a:off x="549360" y="5499000"/>
            <a:ext cx="108000" cy="108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09480" y="5414040"/>
            <a:ext cx="10828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Beneficios Cla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Capacid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33520" y="5854680"/>
            <a:ext cx="126720" cy="763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362AE-60B3-42B9-990A-E3D535417A96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1-800-flowers</a:t>
            </a:r>
            <a:br>
              <a:rPr sz="3000"/>
            </a:b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3. Link Recursos-capacidade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807" name=""/>
          <p:cNvSpPr/>
          <p:nvPr/>
        </p:nvSpPr>
        <p:spPr>
          <a:xfrm>
            <a:off x="6019920" y="47242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mplio alcance de consumi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477120" y="38862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últiples puntos de contac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019920" y="29718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opularidad del Sit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800600" y="5334120"/>
            <a:ext cx="1143000" cy="53316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arca fu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800440" y="20574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ran variedad de rega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800440" y="36576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rvicio al cli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540320" y="36576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isponibi-lidad, facilidad de ac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540320" y="20574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finas o de alta 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5" name=""/>
          <p:cNvCxnSpPr>
            <a:stCxn id="811" idx="6"/>
            <a:endCxn id="814" idx="2"/>
          </p:cNvCxnSpPr>
          <p:nvPr/>
        </p:nvCxnSpPr>
        <p:spPr>
          <a:xfrm>
            <a:off x="3975120" y="2628720"/>
            <a:ext cx="565920" cy="108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6" name=""/>
          <p:cNvCxnSpPr>
            <a:stCxn id="811" idx="4"/>
            <a:endCxn id="812" idx="0"/>
          </p:cNvCxnSpPr>
          <p:nvPr/>
        </p:nvCxnSpPr>
        <p:spPr>
          <a:xfrm>
            <a:off x="3387240" y="3200400"/>
            <a:ext cx="1080" cy="45792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7" name=""/>
          <p:cNvCxnSpPr>
            <a:stCxn id="814" idx="4"/>
            <a:endCxn id="813" idx="0"/>
          </p:cNvCxnSpPr>
          <p:nvPr/>
        </p:nvCxnSpPr>
        <p:spPr>
          <a:xfrm>
            <a:off x="5127120" y="3200400"/>
            <a:ext cx="1080" cy="45792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8" name=""/>
          <p:cNvCxnSpPr>
            <a:stCxn id="812" idx="6"/>
            <a:endCxn id="813" idx="2"/>
          </p:cNvCxnSpPr>
          <p:nvPr/>
        </p:nvCxnSpPr>
        <p:spPr>
          <a:xfrm>
            <a:off x="3975120" y="4228920"/>
            <a:ext cx="565920" cy="108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9" name=""/>
          <p:cNvCxnSpPr>
            <a:stCxn id="809" idx="2"/>
            <a:endCxn id="813" idx="6"/>
          </p:cNvCxnSpPr>
          <p:nvPr/>
        </p:nvCxnSpPr>
        <p:spPr>
          <a:xfrm flipH="1">
            <a:off x="5714640" y="3504960"/>
            <a:ext cx="876960" cy="724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0" name=""/>
          <p:cNvCxnSpPr>
            <a:stCxn id="808" idx="1"/>
            <a:endCxn id="813" idx="6"/>
          </p:cNvCxnSpPr>
          <p:nvPr/>
        </p:nvCxnSpPr>
        <p:spPr>
          <a:xfrm flipH="1">
            <a:off x="5714280" y="4152960"/>
            <a:ext cx="76284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1" name=""/>
          <p:cNvCxnSpPr>
            <a:stCxn id="807" idx="1"/>
            <a:endCxn id="813" idx="6"/>
          </p:cNvCxnSpPr>
          <p:nvPr/>
        </p:nvCxnSpPr>
        <p:spPr>
          <a:xfrm flipH="1" flipV="1">
            <a:off x="5714280" y="4228920"/>
            <a:ext cx="305640" cy="762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2" name=""/>
          <p:cNvCxnSpPr>
            <a:stCxn id="810" idx="0"/>
            <a:endCxn id="813" idx="5"/>
          </p:cNvCxnSpPr>
          <p:nvPr/>
        </p:nvCxnSpPr>
        <p:spPr>
          <a:xfrm flipV="1">
            <a:off x="5372280" y="4633200"/>
            <a:ext cx="172080" cy="700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3" name=""/>
          <p:cNvSpPr/>
          <p:nvPr/>
        </p:nvSpPr>
        <p:spPr>
          <a:xfrm>
            <a:off x="4876920" y="12952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d de distribución fu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4" name=""/>
          <p:cNvCxnSpPr>
            <a:stCxn id="823" idx="2"/>
            <a:endCxn id="814" idx="0"/>
          </p:cNvCxnSpPr>
          <p:nvPr/>
        </p:nvCxnSpPr>
        <p:spPr>
          <a:xfrm flipH="1">
            <a:off x="5126760" y="1828440"/>
            <a:ext cx="3214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5" name=""/>
          <p:cNvCxnSpPr>
            <a:stCxn id="823" idx="2"/>
            <a:endCxn id="811" idx="7"/>
          </p:cNvCxnSpPr>
          <p:nvPr/>
        </p:nvCxnSpPr>
        <p:spPr>
          <a:xfrm flipH="1">
            <a:off x="3803400" y="1828800"/>
            <a:ext cx="1645200" cy="396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6" name=""/>
          <p:cNvSpPr/>
          <p:nvPr/>
        </p:nvSpPr>
        <p:spPr>
          <a:xfrm>
            <a:off x="1600200" y="18288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entro de Regalos On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7" name=""/>
          <p:cNvCxnSpPr>
            <a:stCxn id="826" idx="3"/>
            <a:endCxn id="811" idx="1"/>
          </p:cNvCxnSpPr>
          <p:nvPr/>
        </p:nvCxnSpPr>
        <p:spPr>
          <a:xfrm>
            <a:off x="2742840" y="2095200"/>
            <a:ext cx="229320" cy="129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8" name=""/>
          <p:cNvSpPr/>
          <p:nvPr/>
        </p:nvSpPr>
        <p:spPr>
          <a:xfrm>
            <a:off x="1295280" y="28954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ertas de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Part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9" name=""/>
          <p:cNvCxnSpPr>
            <a:stCxn id="828" idx="3"/>
            <a:endCxn id="811" idx="3"/>
          </p:cNvCxnSpPr>
          <p:nvPr/>
        </p:nvCxnSpPr>
        <p:spPr>
          <a:xfrm flipV="1">
            <a:off x="2438280" y="3033000"/>
            <a:ext cx="534240" cy="129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0" name=""/>
          <p:cNvSpPr/>
          <p:nvPr/>
        </p:nvSpPr>
        <p:spPr>
          <a:xfrm>
            <a:off x="1143000" y="40384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830" idx="3"/>
            <a:endCxn id="812" idx="2"/>
          </p:cNvCxnSpPr>
          <p:nvPr/>
        </p:nvCxnSpPr>
        <p:spPr>
          <a:xfrm flipV="1">
            <a:off x="2285640" y="4228560"/>
            <a:ext cx="51516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 flipH="1">
            <a:off x="549360" y="5499000"/>
            <a:ext cx="108000" cy="108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09480" y="5414040"/>
            <a:ext cx="10828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Beneficios Cla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Capacid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33520" y="5854680"/>
            <a:ext cx="126720" cy="763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7238880" y="3048120"/>
            <a:ext cx="1905120" cy="1673280"/>
            <a:chOff x="7238880" y="3048120"/>
            <a:chExt cx="1905120" cy="1673280"/>
          </a:xfrm>
        </p:grpSpPr>
        <p:sp>
          <p:nvSpPr>
            <p:cNvPr id="836" name=""/>
            <p:cNvSpPr/>
            <p:nvPr/>
          </p:nvSpPr>
          <p:spPr>
            <a:xfrm>
              <a:off x="8229600" y="3048120"/>
              <a:ext cx="822240" cy="3776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Teléfo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8450280" y="3481560"/>
              <a:ext cx="669960" cy="3776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Onlin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8077320" y="3886200"/>
              <a:ext cx="1066680" cy="45720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Franquici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620120" y="4343400"/>
              <a:ext cx="914400" cy="37800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Catalog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238880" y="3276720"/>
              <a:ext cx="838440" cy="4442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3,000 afiliad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41" name=""/>
            <p:cNvCxnSpPr>
              <a:stCxn id="836" idx="3"/>
            </p:cNvCxnSpPr>
            <p:nvPr/>
          </p:nvCxnSpPr>
          <p:spPr>
            <a:xfrm flipH="1">
              <a:off x="7619760" y="3370320"/>
              <a:ext cx="730800" cy="78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2" name=""/>
            <p:cNvCxnSpPr>
              <a:stCxn id="840" idx="4"/>
            </p:cNvCxnSpPr>
            <p:nvPr/>
          </p:nvCxnSpPr>
          <p:spPr>
            <a:xfrm flipH="1">
              <a:off x="7619760" y="3720960"/>
              <a:ext cx="38880" cy="43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3" name=""/>
            <p:cNvCxnSpPr>
              <a:stCxn id="838" idx="2"/>
            </p:cNvCxnSpPr>
            <p:nvPr/>
          </p:nvCxnSpPr>
          <p:spPr>
            <a:xfrm flipH="1">
              <a:off x="7619760" y="4114800"/>
              <a:ext cx="457920" cy="3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4" name=""/>
            <p:cNvCxnSpPr>
              <a:stCxn id="839" idx="1"/>
            </p:cNvCxnSpPr>
            <p:nvPr/>
          </p:nvCxnSpPr>
          <p:spPr>
            <a:xfrm flipH="1" flipV="1">
              <a:off x="7620120" y="4152240"/>
              <a:ext cx="133560" cy="246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5" name=""/>
            <p:cNvCxnSpPr>
              <a:stCxn id="837" idx="2"/>
            </p:cNvCxnSpPr>
            <p:nvPr/>
          </p:nvCxnSpPr>
          <p:spPr>
            <a:xfrm flipH="1">
              <a:off x="7619760" y="3669840"/>
              <a:ext cx="830880" cy="483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46" name=""/>
          <p:cNvGrpSpPr/>
          <p:nvPr/>
        </p:nvGrpSpPr>
        <p:grpSpPr>
          <a:xfrm>
            <a:off x="6172200" y="4800600"/>
            <a:ext cx="2482920" cy="1216080"/>
            <a:chOff x="6172200" y="4800600"/>
            <a:chExt cx="2482920" cy="1216080"/>
          </a:xfrm>
        </p:grpSpPr>
        <p:sp>
          <p:nvSpPr>
            <p:cNvPr id="847" name=""/>
            <p:cNvSpPr/>
            <p:nvPr/>
          </p:nvSpPr>
          <p:spPr>
            <a:xfrm>
              <a:off x="6172200" y="5638680"/>
              <a:ext cx="990720" cy="37800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StarMed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696080" y="4800600"/>
              <a:ext cx="669960" cy="37800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MS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848720" y="5181480"/>
              <a:ext cx="806400" cy="45720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A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191360" y="5486400"/>
              <a:ext cx="733320" cy="37800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Yahoo!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51" name=""/>
            <p:cNvCxnSpPr>
              <a:stCxn id="847" idx="0"/>
            </p:cNvCxnSpPr>
            <p:nvPr/>
          </p:nvCxnSpPr>
          <p:spPr>
            <a:xfrm flipH="1" flipV="1">
              <a:off x="6591240" y="5257440"/>
              <a:ext cx="7668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2" name=""/>
            <p:cNvCxnSpPr>
              <a:stCxn id="850" idx="0"/>
            </p:cNvCxnSpPr>
            <p:nvPr/>
          </p:nvCxnSpPr>
          <p:spPr>
            <a:xfrm flipH="1" flipV="1">
              <a:off x="6590880" y="5257080"/>
              <a:ext cx="9676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3" name=""/>
            <p:cNvCxnSpPr>
              <a:stCxn id="849" idx="2"/>
            </p:cNvCxnSpPr>
            <p:nvPr/>
          </p:nvCxnSpPr>
          <p:spPr>
            <a:xfrm flipH="1" flipV="1">
              <a:off x="7162200" y="499068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4" name=""/>
            <p:cNvCxnSpPr>
              <a:stCxn id="848" idx="2"/>
            </p:cNvCxnSpPr>
            <p:nvPr/>
          </p:nvCxnSpPr>
          <p:spPr>
            <a:xfrm flipH="1">
              <a:off x="7162200" y="4989600"/>
              <a:ext cx="5338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A6C26-20B0-4672-B6FD-0942AC0F6AB9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1-800-flowers</a:t>
            </a:r>
            <a:br>
              <a:rPr sz="3000"/>
            </a:b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3. Link Recursos-capacidade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856" name=""/>
          <p:cNvSpPr/>
          <p:nvPr/>
        </p:nvSpPr>
        <p:spPr>
          <a:xfrm>
            <a:off x="6019920" y="47242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mplio alcance de consumi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477120" y="38862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últiples puntos de contac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019920" y="29718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opularidad del Sit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800600" y="5334120"/>
            <a:ext cx="1143000" cy="53316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arca fu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800440" y="20574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ran variedad de rega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800440" y="36576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rvicio al cli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540320" y="36576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isponibi-lidad, facilidad de ac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540320" y="20574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finas o de alta 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860" idx="6"/>
            <a:endCxn id="863" idx="2"/>
          </p:cNvCxnSpPr>
          <p:nvPr/>
        </p:nvCxnSpPr>
        <p:spPr>
          <a:xfrm>
            <a:off x="3975120" y="2628720"/>
            <a:ext cx="565920" cy="108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5" name=""/>
          <p:cNvCxnSpPr>
            <a:stCxn id="860" idx="4"/>
            <a:endCxn id="861" idx="0"/>
          </p:cNvCxnSpPr>
          <p:nvPr/>
        </p:nvCxnSpPr>
        <p:spPr>
          <a:xfrm>
            <a:off x="3387240" y="3200400"/>
            <a:ext cx="1080" cy="45792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6" name=""/>
          <p:cNvCxnSpPr>
            <a:stCxn id="863" idx="4"/>
            <a:endCxn id="862" idx="0"/>
          </p:cNvCxnSpPr>
          <p:nvPr/>
        </p:nvCxnSpPr>
        <p:spPr>
          <a:xfrm>
            <a:off x="5127120" y="3200400"/>
            <a:ext cx="1080" cy="45792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7" name=""/>
          <p:cNvCxnSpPr>
            <a:stCxn id="861" idx="6"/>
            <a:endCxn id="862" idx="2"/>
          </p:cNvCxnSpPr>
          <p:nvPr/>
        </p:nvCxnSpPr>
        <p:spPr>
          <a:xfrm>
            <a:off x="3975120" y="4228920"/>
            <a:ext cx="565920" cy="108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8" name=""/>
          <p:cNvCxnSpPr>
            <a:stCxn id="858" idx="2"/>
            <a:endCxn id="862" idx="6"/>
          </p:cNvCxnSpPr>
          <p:nvPr/>
        </p:nvCxnSpPr>
        <p:spPr>
          <a:xfrm flipH="1">
            <a:off x="5714640" y="3504960"/>
            <a:ext cx="876960" cy="724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9" name=""/>
          <p:cNvCxnSpPr>
            <a:stCxn id="857" idx="1"/>
            <a:endCxn id="862" idx="6"/>
          </p:cNvCxnSpPr>
          <p:nvPr/>
        </p:nvCxnSpPr>
        <p:spPr>
          <a:xfrm flipH="1">
            <a:off x="5714280" y="4152960"/>
            <a:ext cx="76284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0" name=""/>
          <p:cNvCxnSpPr>
            <a:stCxn id="856" idx="1"/>
            <a:endCxn id="862" idx="6"/>
          </p:cNvCxnSpPr>
          <p:nvPr/>
        </p:nvCxnSpPr>
        <p:spPr>
          <a:xfrm flipH="1" flipV="1">
            <a:off x="5714280" y="4228920"/>
            <a:ext cx="305640" cy="762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1" name=""/>
          <p:cNvSpPr/>
          <p:nvPr/>
        </p:nvSpPr>
        <p:spPr>
          <a:xfrm>
            <a:off x="6172200" y="5638680"/>
            <a:ext cx="990720" cy="3780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tarMed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696080" y="4800600"/>
            <a:ext cx="669960" cy="3780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MS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848720" y="5181480"/>
            <a:ext cx="80640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A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191360" y="5486400"/>
            <a:ext cx="733320" cy="3780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Yahoo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5" name=""/>
          <p:cNvCxnSpPr>
            <a:stCxn id="871" idx="0"/>
            <a:endCxn id="856" idx="2"/>
          </p:cNvCxnSpPr>
          <p:nvPr/>
        </p:nvCxnSpPr>
        <p:spPr>
          <a:xfrm flipH="1" flipV="1">
            <a:off x="6591240" y="5257440"/>
            <a:ext cx="766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6" name=""/>
          <p:cNvCxnSpPr>
            <a:stCxn id="874" idx="0"/>
            <a:endCxn id="856" idx="2"/>
          </p:cNvCxnSpPr>
          <p:nvPr/>
        </p:nvCxnSpPr>
        <p:spPr>
          <a:xfrm flipH="1" flipV="1">
            <a:off x="6590880" y="5257080"/>
            <a:ext cx="9676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7" name=""/>
          <p:cNvCxnSpPr>
            <a:stCxn id="873" idx="2"/>
            <a:endCxn id="856" idx="3"/>
          </p:cNvCxnSpPr>
          <p:nvPr/>
        </p:nvCxnSpPr>
        <p:spPr>
          <a:xfrm flipH="1" flipV="1">
            <a:off x="7162200" y="4990680"/>
            <a:ext cx="68652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8" name=""/>
          <p:cNvCxnSpPr>
            <a:stCxn id="872" idx="2"/>
            <a:endCxn id="856" idx="3"/>
          </p:cNvCxnSpPr>
          <p:nvPr/>
        </p:nvCxnSpPr>
        <p:spPr>
          <a:xfrm flipH="1">
            <a:off x="7162200" y="4989600"/>
            <a:ext cx="5338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9" name=""/>
          <p:cNvCxnSpPr>
            <a:stCxn id="859" idx="0"/>
            <a:endCxn id="862" idx="5"/>
          </p:cNvCxnSpPr>
          <p:nvPr/>
        </p:nvCxnSpPr>
        <p:spPr>
          <a:xfrm flipV="1">
            <a:off x="5372280" y="4633200"/>
            <a:ext cx="172080" cy="700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0" name=""/>
          <p:cNvSpPr/>
          <p:nvPr/>
        </p:nvSpPr>
        <p:spPr>
          <a:xfrm>
            <a:off x="7162920" y="2514600"/>
            <a:ext cx="137160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apacidades de personaliz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705720" y="2057400"/>
            <a:ext cx="1143000" cy="4446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Riqueza de conteni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2" name=""/>
          <p:cNvCxnSpPr>
            <a:stCxn id="881" idx="3"/>
            <a:endCxn id="858" idx="0"/>
          </p:cNvCxnSpPr>
          <p:nvPr/>
        </p:nvCxnSpPr>
        <p:spPr>
          <a:xfrm flipH="1">
            <a:off x="6590520" y="2436840"/>
            <a:ext cx="28188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3" name=""/>
          <p:cNvCxnSpPr>
            <a:stCxn id="880" idx="2"/>
            <a:endCxn id="858" idx="0"/>
          </p:cNvCxnSpPr>
          <p:nvPr/>
        </p:nvCxnSpPr>
        <p:spPr>
          <a:xfrm flipH="1">
            <a:off x="6590880" y="2742840"/>
            <a:ext cx="5724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4" name=""/>
          <p:cNvSpPr/>
          <p:nvPr/>
        </p:nvSpPr>
        <p:spPr>
          <a:xfrm>
            <a:off x="4876920" y="12952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d de distribución fu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315200" y="1295280"/>
            <a:ext cx="1219320" cy="5032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ontratos con tercer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477120" y="1600200"/>
            <a:ext cx="76176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Tiend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7" name=""/>
          <p:cNvCxnSpPr>
            <a:stCxn id="886" idx="2"/>
            <a:endCxn id="884" idx="3"/>
          </p:cNvCxnSpPr>
          <p:nvPr/>
        </p:nvCxnSpPr>
        <p:spPr>
          <a:xfrm flipH="1" flipV="1">
            <a:off x="6019560" y="1561680"/>
            <a:ext cx="4579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8" name=""/>
          <p:cNvCxnSpPr>
            <a:stCxn id="885" idx="2"/>
            <a:endCxn id="884" idx="3"/>
          </p:cNvCxnSpPr>
          <p:nvPr/>
        </p:nvCxnSpPr>
        <p:spPr>
          <a:xfrm flipH="1">
            <a:off x="6019560" y="1547640"/>
            <a:ext cx="1296000" cy="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9" name=""/>
          <p:cNvCxnSpPr>
            <a:stCxn id="884" idx="2"/>
            <a:endCxn id="863" idx="0"/>
          </p:cNvCxnSpPr>
          <p:nvPr/>
        </p:nvCxnSpPr>
        <p:spPr>
          <a:xfrm flipH="1">
            <a:off x="5126760" y="1828440"/>
            <a:ext cx="3214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0" name=""/>
          <p:cNvCxnSpPr>
            <a:stCxn id="884" idx="2"/>
            <a:endCxn id="860" idx="7"/>
          </p:cNvCxnSpPr>
          <p:nvPr/>
        </p:nvCxnSpPr>
        <p:spPr>
          <a:xfrm flipH="1">
            <a:off x="3803400" y="1828800"/>
            <a:ext cx="1645200" cy="396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1" name=""/>
          <p:cNvSpPr/>
          <p:nvPr/>
        </p:nvSpPr>
        <p:spPr>
          <a:xfrm>
            <a:off x="3657600" y="1371600"/>
            <a:ext cx="990720" cy="5032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entro de ejecu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2" name=""/>
          <p:cNvCxnSpPr>
            <a:stCxn id="891" idx="6"/>
            <a:endCxn id="884" idx="1"/>
          </p:cNvCxnSpPr>
          <p:nvPr/>
        </p:nvCxnSpPr>
        <p:spPr>
          <a:xfrm flipV="1">
            <a:off x="4647960" y="1561680"/>
            <a:ext cx="229320" cy="6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3" name=""/>
          <p:cNvSpPr/>
          <p:nvPr/>
        </p:nvSpPr>
        <p:spPr>
          <a:xfrm>
            <a:off x="1600200" y="18288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entro de Regalos On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4" name=""/>
          <p:cNvCxnSpPr>
            <a:stCxn id="893" idx="3"/>
            <a:endCxn id="860" idx="1"/>
          </p:cNvCxnSpPr>
          <p:nvPr/>
        </p:nvCxnSpPr>
        <p:spPr>
          <a:xfrm>
            <a:off x="2742840" y="2095200"/>
            <a:ext cx="229320" cy="129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5" name=""/>
          <p:cNvSpPr/>
          <p:nvPr/>
        </p:nvSpPr>
        <p:spPr>
          <a:xfrm>
            <a:off x="457200" y="1905120"/>
            <a:ext cx="83808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Recordator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752480" y="1295280"/>
            <a:ext cx="114300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Libreta de direc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14240" y="1447920"/>
            <a:ext cx="733680" cy="3776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ugerenci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8" name=""/>
          <p:cNvCxnSpPr>
            <a:stCxn id="896" idx="4"/>
            <a:endCxn id="893" idx="0"/>
          </p:cNvCxnSpPr>
          <p:nvPr/>
        </p:nvCxnSpPr>
        <p:spPr>
          <a:xfrm flipH="1">
            <a:off x="2171160" y="1752480"/>
            <a:ext cx="1530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7" idx="5"/>
            <a:endCxn id="893" idx="1"/>
          </p:cNvCxnSpPr>
          <p:nvPr/>
        </p:nvCxnSpPr>
        <p:spPr>
          <a:xfrm>
            <a:off x="1339560" y="1770120"/>
            <a:ext cx="26100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5" idx="6"/>
            <a:endCxn id="893" idx="1"/>
          </p:cNvCxnSpPr>
          <p:nvPr/>
        </p:nvCxnSpPr>
        <p:spPr>
          <a:xfrm flipV="1">
            <a:off x="1294920" y="2095200"/>
            <a:ext cx="3056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1295280" y="28954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ertas de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Part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2" name=""/>
          <p:cNvCxnSpPr>
            <a:stCxn id="901" idx="3"/>
            <a:endCxn id="860" idx="3"/>
          </p:cNvCxnSpPr>
          <p:nvPr/>
        </p:nvCxnSpPr>
        <p:spPr>
          <a:xfrm flipV="1">
            <a:off x="2438280" y="3033000"/>
            <a:ext cx="534240" cy="129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3" name=""/>
          <p:cNvSpPr/>
          <p:nvPr/>
        </p:nvSpPr>
        <p:spPr>
          <a:xfrm>
            <a:off x="228600" y="3429000"/>
            <a:ext cx="99072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Jardinerí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90360" y="2819520"/>
            <a:ext cx="900360" cy="3776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Jarros y florer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5" name=""/>
          <p:cNvCxnSpPr>
            <a:stCxn id="903" idx="6"/>
            <a:endCxn id="901" idx="2"/>
          </p:cNvCxnSpPr>
          <p:nvPr/>
        </p:nvCxnSpPr>
        <p:spPr>
          <a:xfrm flipV="1">
            <a:off x="1218960" y="3428280"/>
            <a:ext cx="6483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6" name=""/>
          <p:cNvCxnSpPr>
            <a:stCxn id="904" idx="6"/>
            <a:endCxn id="901" idx="1"/>
          </p:cNvCxnSpPr>
          <p:nvPr/>
        </p:nvCxnSpPr>
        <p:spPr>
          <a:xfrm>
            <a:off x="990720" y="3008160"/>
            <a:ext cx="305280" cy="15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7" name=""/>
          <p:cNvSpPr/>
          <p:nvPr/>
        </p:nvSpPr>
        <p:spPr>
          <a:xfrm>
            <a:off x="1143000" y="40384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8" name=""/>
          <p:cNvCxnSpPr>
            <a:stCxn id="907" idx="3"/>
            <a:endCxn id="861" idx="2"/>
          </p:cNvCxnSpPr>
          <p:nvPr/>
        </p:nvCxnSpPr>
        <p:spPr>
          <a:xfrm flipV="1">
            <a:off x="2285640" y="4228560"/>
            <a:ext cx="51516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9" name=""/>
          <p:cNvSpPr/>
          <p:nvPr/>
        </p:nvSpPr>
        <p:spPr>
          <a:xfrm>
            <a:off x="1752480" y="4724280"/>
            <a:ext cx="99072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entro de serv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80880" y="4724280"/>
            <a:ext cx="1067040" cy="3780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Integración Offlin On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1" name=""/>
          <p:cNvCxnSpPr>
            <a:stCxn id="910" idx="7"/>
            <a:endCxn id="907" idx="2"/>
          </p:cNvCxnSpPr>
          <p:nvPr/>
        </p:nvCxnSpPr>
        <p:spPr>
          <a:xfrm flipV="1">
            <a:off x="1292040" y="4571640"/>
            <a:ext cx="42300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2" name=""/>
          <p:cNvCxnSpPr>
            <a:stCxn id="909" idx="0"/>
            <a:endCxn id="907" idx="2"/>
          </p:cNvCxnSpPr>
          <p:nvPr/>
        </p:nvCxnSpPr>
        <p:spPr>
          <a:xfrm flipH="1" flipV="1">
            <a:off x="1713960" y="4571280"/>
            <a:ext cx="5338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3" name=""/>
          <p:cNvSpPr/>
          <p:nvPr/>
        </p:nvSpPr>
        <p:spPr>
          <a:xfrm flipH="1">
            <a:off x="549360" y="5499000"/>
            <a:ext cx="108000" cy="108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20560" y="5689440"/>
            <a:ext cx="15264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07680" y="5414040"/>
            <a:ext cx="12232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Beneficios Cla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Actividades y activos_x001d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Capacid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33520" y="5854680"/>
            <a:ext cx="126720" cy="763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8229600" y="3048120"/>
            <a:ext cx="822240" cy="3776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Teléfo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8450280" y="3481560"/>
            <a:ext cx="669960" cy="3776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On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8077320" y="3886200"/>
            <a:ext cx="106668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Franquici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620120" y="4343400"/>
            <a:ext cx="914400" cy="3780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atalog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238880" y="3276720"/>
            <a:ext cx="838440" cy="4442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3,000 afili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2" name=""/>
          <p:cNvCxnSpPr>
            <a:stCxn id="917" idx="3"/>
            <a:endCxn id="857" idx="3"/>
          </p:cNvCxnSpPr>
          <p:nvPr/>
        </p:nvCxnSpPr>
        <p:spPr>
          <a:xfrm flipH="1">
            <a:off x="7619760" y="3370320"/>
            <a:ext cx="730800" cy="78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3" name=""/>
          <p:cNvCxnSpPr>
            <a:stCxn id="921" idx="4"/>
            <a:endCxn id="857" idx="3"/>
          </p:cNvCxnSpPr>
          <p:nvPr/>
        </p:nvCxnSpPr>
        <p:spPr>
          <a:xfrm flipH="1">
            <a:off x="7619760" y="3720960"/>
            <a:ext cx="388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4" name=""/>
          <p:cNvCxnSpPr>
            <a:stCxn id="919" idx="2"/>
            <a:endCxn id="857" idx="3"/>
          </p:cNvCxnSpPr>
          <p:nvPr/>
        </p:nvCxnSpPr>
        <p:spPr>
          <a:xfrm flipH="1">
            <a:off x="7619760" y="4114800"/>
            <a:ext cx="45792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5" name=""/>
          <p:cNvCxnSpPr>
            <a:stCxn id="920" idx="1"/>
            <a:endCxn id="857" idx="3"/>
          </p:cNvCxnSpPr>
          <p:nvPr/>
        </p:nvCxnSpPr>
        <p:spPr>
          <a:xfrm flipH="1" flipV="1">
            <a:off x="7620120" y="4152240"/>
            <a:ext cx="133560" cy="24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21" idx="1"/>
            <a:endCxn id="858" idx="3"/>
          </p:cNvCxnSpPr>
          <p:nvPr/>
        </p:nvCxnSpPr>
        <p:spPr>
          <a:xfrm flipH="1" flipV="1">
            <a:off x="7162200" y="3238200"/>
            <a:ext cx="199080" cy="10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18" idx="2"/>
            <a:endCxn id="857" idx="3"/>
          </p:cNvCxnSpPr>
          <p:nvPr/>
        </p:nvCxnSpPr>
        <p:spPr>
          <a:xfrm flipH="1">
            <a:off x="7619760" y="3669840"/>
            <a:ext cx="830880" cy="48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D20DD-3B03-4261-ADF7-FA1E4249DC26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¿Qué es Internet?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ecnología, Facilit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Application Service Providers (ASP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Microsoft (.net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edio (híbrido entre masivo y direct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Yahoo!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EMOL, El Mostrador, TVN.cl, WSJ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Coca Cola, Nike, Levi’s, PG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latafor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Amazon, eBay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Bazuca, Almacenesparis.com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Google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A7505-ED80-436D-94B9-E9981A9276DF}" type="slidenum">
              <a:t>12</a:t>
            </a:fld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/>
          <p:nvPr/>
        </p:nvSpPr>
        <p:spPr>
          <a:xfrm>
            <a:off x="380880" y="4737240"/>
            <a:ext cx="533520" cy="380880"/>
          </a:xfrm>
          <a:custGeom>
            <a:avLst/>
            <a:gdLst/>
            <a:ahLst/>
            <a:rect l="l" t="t" r="r" b="b"/>
            <a:pathLst>
              <a:path w="396" h="320">
                <a:moveTo>
                  <a:pt x="391" y="0"/>
                </a:moveTo>
                <a:lnTo>
                  <a:pt x="392" y="160"/>
                </a:lnTo>
                <a:lnTo>
                  <a:pt x="392" y="248"/>
                </a:lnTo>
                <a:cubicBezTo>
                  <a:pt x="392" y="269"/>
                  <a:pt x="393" y="275"/>
                  <a:pt x="392" y="284"/>
                </a:cubicBezTo>
                <a:cubicBezTo>
                  <a:pt x="391" y="293"/>
                  <a:pt x="387" y="298"/>
                  <a:pt x="388" y="304"/>
                </a:cubicBezTo>
                <a:lnTo>
                  <a:pt x="396" y="320"/>
                </a:lnTo>
                <a:lnTo>
                  <a:pt x="183" y="288"/>
                </a:lnTo>
                <a:lnTo>
                  <a:pt x="52" y="232"/>
                </a:lnTo>
                <a:lnTo>
                  <a:pt x="8" y="184"/>
                </a:lnTo>
                <a:lnTo>
                  <a:pt x="0" y="144"/>
                </a:lnTo>
                <a:lnTo>
                  <a:pt x="12" y="112"/>
                </a:lnTo>
                <a:lnTo>
                  <a:pt x="32" y="88"/>
                </a:lnTo>
                <a:lnTo>
                  <a:pt x="84" y="60"/>
                </a:lnTo>
                <a:lnTo>
                  <a:pt x="220" y="12"/>
                </a:lnTo>
                <a:lnTo>
                  <a:pt x="391" y="0"/>
                </a:lnTo>
                <a:close/>
              </a:path>
            </a:pathLst>
          </a:custGeom>
          <a:solidFill>
            <a:srgbClr val="cdc7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1-800-flowers</a:t>
            </a:r>
            <a:br>
              <a:rPr sz="3000"/>
            </a:b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Entrega del beneficio y partner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930" name=""/>
          <p:cNvSpPr/>
          <p:nvPr/>
        </p:nvSpPr>
        <p:spPr>
          <a:xfrm>
            <a:off x="6019920" y="47242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mplio alcance de consumi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477120" y="38862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últiples puntos de contac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019920" y="29718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opularidad del Sit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800600" y="5334120"/>
            <a:ext cx="1143000" cy="53316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arca fu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800440" y="20574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ran variedad de rega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800440" y="36576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rvicio al cli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540320" y="36576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isponibi-lidad, facilidad de ac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540320" y="20574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finas o de alta 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8" name=""/>
          <p:cNvCxnSpPr>
            <a:stCxn id="934" idx="6"/>
            <a:endCxn id="937" idx="2"/>
          </p:cNvCxnSpPr>
          <p:nvPr/>
        </p:nvCxnSpPr>
        <p:spPr>
          <a:xfrm>
            <a:off x="3975120" y="2628720"/>
            <a:ext cx="565920" cy="1080"/>
          </a:xfrm>
          <a:prstGeom prst="straightConnector1">
            <a:avLst/>
          </a:prstGeom>
          <a:ln w="38160">
            <a:solidFill>
              <a:srgbClr val="55555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39" name=""/>
          <p:cNvCxnSpPr>
            <a:stCxn id="934" idx="4"/>
            <a:endCxn id="935" idx="0"/>
          </p:cNvCxnSpPr>
          <p:nvPr/>
        </p:nvCxnSpPr>
        <p:spPr>
          <a:xfrm>
            <a:off x="3387240" y="3200400"/>
            <a:ext cx="1080" cy="457920"/>
          </a:xfrm>
          <a:prstGeom prst="straightConnector1">
            <a:avLst/>
          </a:prstGeom>
          <a:ln w="38160">
            <a:solidFill>
              <a:srgbClr val="55555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0" name=""/>
          <p:cNvCxnSpPr>
            <a:stCxn id="937" idx="4"/>
            <a:endCxn id="936" idx="0"/>
          </p:cNvCxnSpPr>
          <p:nvPr/>
        </p:nvCxnSpPr>
        <p:spPr>
          <a:xfrm>
            <a:off x="5127120" y="3200400"/>
            <a:ext cx="1080" cy="457920"/>
          </a:xfrm>
          <a:prstGeom prst="straightConnector1">
            <a:avLst/>
          </a:prstGeom>
          <a:ln w="38160">
            <a:solidFill>
              <a:srgbClr val="55555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1" name=""/>
          <p:cNvCxnSpPr>
            <a:stCxn id="935" idx="6"/>
            <a:endCxn id="936" idx="2"/>
          </p:cNvCxnSpPr>
          <p:nvPr/>
        </p:nvCxnSpPr>
        <p:spPr>
          <a:xfrm>
            <a:off x="3975120" y="4228920"/>
            <a:ext cx="565920" cy="1080"/>
          </a:xfrm>
          <a:prstGeom prst="straightConnector1">
            <a:avLst/>
          </a:prstGeom>
          <a:ln w="38160">
            <a:solidFill>
              <a:srgbClr val="55555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2" name=""/>
          <p:cNvCxnSpPr>
            <a:stCxn id="932" idx="2"/>
            <a:endCxn id="936" idx="6"/>
          </p:cNvCxnSpPr>
          <p:nvPr/>
        </p:nvCxnSpPr>
        <p:spPr>
          <a:xfrm flipH="1">
            <a:off x="5714640" y="3504960"/>
            <a:ext cx="876960" cy="724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3" name=""/>
          <p:cNvCxnSpPr>
            <a:stCxn id="931" idx="1"/>
            <a:endCxn id="936" idx="6"/>
          </p:cNvCxnSpPr>
          <p:nvPr/>
        </p:nvCxnSpPr>
        <p:spPr>
          <a:xfrm flipH="1">
            <a:off x="5714280" y="4152960"/>
            <a:ext cx="76284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4" name=""/>
          <p:cNvCxnSpPr>
            <a:stCxn id="930" idx="1"/>
            <a:endCxn id="936" idx="6"/>
          </p:cNvCxnSpPr>
          <p:nvPr/>
        </p:nvCxnSpPr>
        <p:spPr>
          <a:xfrm flipH="1" flipV="1">
            <a:off x="5714280" y="4228920"/>
            <a:ext cx="305640" cy="762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5" name=""/>
          <p:cNvSpPr/>
          <p:nvPr/>
        </p:nvSpPr>
        <p:spPr>
          <a:xfrm>
            <a:off x="6172200" y="5638680"/>
            <a:ext cx="990720" cy="378000"/>
          </a:xfrm>
          <a:prstGeom prst="ellipse">
            <a:avLst/>
          </a:prstGeom>
          <a:solidFill>
            <a:srgbClr val="f63f1b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tarMed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96080" y="4800600"/>
            <a:ext cx="669960" cy="378000"/>
          </a:xfrm>
          <a:prstGeom prst="ellipse">
            <a:avLst/>
          </a:prstGeom>
          <a:solidFill>
            <a:srgbClr val="f63f1b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MS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848720" y="5181480"/>
            <a:ext cx="806400" cy="457200"/>
          </a:xfrm>
          <a:prstGeom prst="ellipse">
            <a:avLst/>
          </a:prstGeom>
          <a:solidFill>
            <a:srgbClr val="f63f1b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A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191360" y="5486400"/>
            <a:ext cx="733320" cy="378000"/>
          </a:xfrm>
          <a:prstGeom prst="ellipse">
            <a:avLst/>
          </a:prstGeom>
          <a:solidFill>
            <a:srgbClr val="f63f1b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Yahoo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9" name=""/>
          <p:cNvCxnSpPr>
            <a:stCxn id="945" idx="0"/>
            <a:endCxn id="930" idx="2"/>
          </p:cNvCxnSpPr>
          <p:nvPr/>
        </p:nvCxnSpPr>
        <p:spPr>
          <a:xfrm flipH="1" flipV="1">
            <a:off x="6591240" y="5257440"/>
            <a:ext cx="766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0" name=""/>
          <p:cNvCxnSpPr>
            <a:stCxn id="948" idx="0"/>
            <a:endCxn id="930" idx="2"/>
          </p:cNvCxnSpPr>
          <p:nvPr/>
        </p:nvCxnSpPr>
        <p:spPr>
          <a:xfrm flipH="1" flipV="1">
            <a:off x="6590880" y="5257080"/>
            <a:ext cx="9676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1" name=""/>
          <p:cNvCxnSpPr>
            <a:stCxn id="947" idx="2"/>
            <a:endCxn id="930" idx="3"/>
          </p:cNvCxnSpPr>
          <p:nvPr/>
        </p:nvCxnSpPr>
        <p:spPr>
          <a:xfrm flipH="1" flipV="1">
            <a:off x="7162200" y="4990680"/>
            <a:ext cx="68652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2" name=""/>
          <p:cNvCxnSpPr>
            <a:stCxn id="946" idx="2"/>
            <a:endCxn id="930" idx="3"/>
          </p:cNvCxnSpPr>
          <p:nvPr/>
        </p:nvCxnSpPr>
        <p:spPr>
          <a:xfrm flipH="1">
            <a:off x="7162200" y="4989600"/>
            <a:ext cx="5338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3" name=""/>
          <p:cNvCxnSpPr>
            <a:stCxn id="933" idx="0"/>
            <a:endCxn id="936" idx="5"/>
          </p:cNvCxnSpPr>
          <p:nvPr/>
        </p:nvCxnSpPr>
        <p:spPr>
          <a:xfrm flipV="1">
            <a:off x="5372280" y="4633200"/>
            <a:ext cx="172080" cy="700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4" name=""/>
          <p:cNvSpPr/>
          <p:nvPr/>
        </p:nvSpPr>
        <p:spPr>
          <a:xfrm>
            <a:off x="7162920" y="2514600"/>
            <a:ext cx="137160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apacidades de personaliz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705720" y="2057400"/>
            <a:ext cx="1143000" cy="4446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Riqueza de conteni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55" idx="3"/>
            <a:endCxn id="932" idx="0"/>
          </p:cNvCxnSpPr>
          <p:nvPr/>
        </p:nvCxnSpPr>
        <p:spPr>
          <a:xfrm flipH="1">
            <a:off x="6590520" y="2436840"/>
            <a:ext cx="28188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54" idx="2"/>
            <a:endCxn id="932" idx="0"/>
          </p:cNvCxnSpPr>
          <p:nvPr/>
        </p:nvCxnSpPr>
        <p:spPr>
          <a:xfrm flipH="1">
            <a:off x="6590880" y="2742840"/>
            <a:ext cx="5724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8" name=""/>
          <p:cNvSpPr/>
          <p:nvPr/>
        </p:nvSpPr>
        <p:spPr>
          <a:xfrm>
            <a:off x="4876920" y="12952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d de distribución fu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315200" y="1295280"/>
            <a:ext cx="1219320" cy="503280"/>
          </a:xfrm>
          <a:prstGeom prst="ellipse">
            <a:avLst/>
          </a:prstGeom>
          <a:solidFill>
            <a:srgbClr val="cdc7c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ontratos con tercer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477120" y="1600200"/>
            <a:ext cx="761760" cy="457200"/>
          </a:xfrm>
          <a:prstGeom prst="ellipse">
            <a:avLst/>
          </a:prstGeom>
          <a:solidFill>
            <a:srgbClr val="cdc7c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Tiend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1" name=""/>
          <p:cNvCxnSpPr>
            <a:stCxn id="960" idx="2"/>
            <a:endCxn id="958" idx="3"/>
          </p:cNvCxnSpPr>
          <p:nvPr/>
        </p:nvCxnSpPr>
        <p:spPr>
          <a:xfrm flipH="1" flipV="1">
            <a:off x="6019560" y="1561680"/>
            <a:ext cx="4579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2" name=""/>
          <p:cNvCxnSpPr>
            <a:stCxn id="959" idx="2"/>
            <a:endCxn id="958" idx="3"/>
          </p:cNvCxnSpPr>
          <p:nvPr/>
        </p:nvCxnSpPr>
        <p:spPr>
          <a:xfrm flipH="1">
            <a:off x="6019560" y="1547640"/>
            <a:ext cx="1296000" cy="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3" name=""/>
          <p:cNvCxnSpPr>
            <a:stCxn id="958" idx="2"/>
            <a:endCxn id="937" idx="0"/>
          </p:cNvCxnSpPr>
          <p:nvPr/>
        </p:nvCxnSpPr>
        <p:spPr>
          <a:xfrm flipH="1">
            <a:off x="5126760" y="1828440"/>
            <a:ext cx="3214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4" name=""/>
          <p:cNvCxnSpPr>
            <a:stCxn id="958" idx="2"/>
            <a:endCxn id="934" idx="7"/>
          </p:cNvCxnSpPr>
          <p:nvPr/>
        </p:nvCxnSpPr>
        <p:spPr>
          <a:xfrm flipH="1">
            <a:off x="3803400" y="1828800"/>
            <a:ext cx="1645200" cy="396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5" name=""/>
          <p:cNvSpPr/>
          <p:nvPr/>
        </p:nvSpPr>
        <p:spPr>
          <a:xfrm>
            <a:off x="3657600" y="1371600"/>
            <a:ext cx="990720" cy="503280"/>
          </a:xfrm>
          <a:prstGeom prst="ellipse">
            <a:avLst/>
          </a:prstGeom>
          <a:solidFill>
            <a:srgbClr val="cdc7c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entro de ejecu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6" name=""/>
          <p:cNvCxnSpPr>
            <a:stCxn id="965" idx="6"/>
            <a:endCxn id="958" idx="1"/>
          </p:cNvCxnSpPr>
          <p:nvPr/>
        </p:nvCxnSpPr>
        <p:spPr>
          <a:xfrm flipV="1">
            <a:off x="4647960" y="1561680"/>
            <a:ext cx="229320" cy="6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7" name=""/>
          <p:cNvSpPr/>
          <p:nvPr/>
        </p:nvSpPr>
        <p:spPr>
          <a:xfrm>
            <a:off x="1600200" y="18288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entro de Regalos On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8" name=""/>
          <p:cNvCxnSpPr>
            <a:stCxn id="967" idx="3"/>
            <a:endCxn id="934" idx="1"/>
          </p:cNvCxnSpPr>
          <p:nvPr/>
        </p:nvCxnSpPr>
        <p:spPr>
          <a:xfrm>
            <a:off x="2742840" y="2095200"/>
            <a:ext cx="229320" cy="129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9" name=""/>
          <p:cNvSpPr/>
          <p:nvPr/>
        </p:nvSpPr>
        <p:spPr>
          <a:xfrm>
            <a:off x="457200" y="1905120"/>
            <a:ext cx="83808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Recordator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752480" y="1295280"/>
            <a:ext cx="114300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Libreta de direc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14240" y="1447920"/>
            <a:ext cx="733680" cy="3776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ugerenci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2" name=""/>
          <p:cNvCxnSpPr>
            <a:stCxn id="970" idx="4"/>
            <a:endCxn id="967" idx="0"/>
          </p:cNvCxnSpPr>
          <p:nvPr/>
        </p:nvCxnSpPr>
        <p:spPr>
          <a:xfrm flipH="1">
            <a:off x="2171160" y="1752480"/>
            <a:ext cx="1530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3" name=""/>
          <p:cNvCxnSpPr>
            <a:stCxn id="971" idx="5"/>
            <a:endCxn id="967" idx="1"/>
          </p:cNvCxnSpPr>
          <p:nvPr/>
        </p:nvCxnSpPr>
        <p:spPr>
          <a:xfrm>
            <a:off x="1339560" y="1770120"/>
            <a:ext cx="26100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4" name=""/>
          <p:cNvCxnSpPr>
            <a:stCxn id="969" idx="6"/>
            <a:endCxn id="967" idx="1"/>
          </p:cNvCxnSpPr>
          <p:nvPr/>
        </p:nvCxnSpPr>
        <p:spPr>
          <a:xfrm flipV="1">
            <a:off x="1294920" y="2095200"/>
            <a:ext cx="3056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5" name=""/>
          <p:cNvSpPr/>
          <p:nvPr/>
        </p:nvSpPr>
        <p:spPr>
          <a:xfrm>
            <a:off x="1295280" y="28954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ertas de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Part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6" name=""/>
          <p:cNvCxnSpPr>
            <a:stCxn id="975" idx="3"/>
            <a:endCxn id="934" idx="3"/>
          </p:cNvCxnSpPr>
          <p:nvPr/>
        </p:nvCxnSpPr>
        <p:spPr>
          <a:xfrm flipV="1">
            <a:off x="2438280" y="3033000"/>
            <a:ext cx="534240" cy="129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7" name=""/>
          <p:cNvSpPr/>
          <p:nvPr/>
        </p:nvSpPr>
        <p:spPr>
          <a:xfrm>
            <a:off x="228600" y="3429000"/>
            <a:ext cx="99072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Jardinerí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90360" y="2819520"/>
            <a:ext cx="900360" cy="3776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Jarros y florer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9" name=""/>
          <p:cNvCxnSpPr>
            <a:stCxn id="977" idx="6"/>
            <a:endCxn id="975" idx="2"/>
          </p:cNvCxnSpPr>
          <p:nvPr/>
        </p:nvCxnSpPr>
        <p:spPr>
          <a:xfrm flipV="1">
            <a:off x="1218960" y="3428280"/>
            <a:ext cx="6483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0" name=""/>
          <p:cNvCxnSpPr>
            <a:stCxn id="978" idx="6"/>
            <a:endCxn id="975" idx="1"/>
          </p:cNvCxnSpPr>
          <p:nvPr/>
        </p:nvCxnSpPr>
        <p:spPr>
          <a:xfrm>
            <a:off x="990720" y="3008160"/>
            <a:ext cx="305280" cy="15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1" name=""/>
          <p:cNvSpPr/>
          <p:nvPr/>
        </p:nvSpPr>
        <p:spPr>
          <a:xfrm>
            <a:off x="1143000" y="40384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2" name=""/>
          <p:cNvCxnSpPr>
            <a:stCxn id="981" idx="3"/>
            <a:endCxn id="935" idx="2"/>
          </p:cNvCxnSpPr>
          <p:nvPr/>
        </p:nvCxnSpPr>
        <p:spPr>
          <a:xfrm flipV="1">
            <a:off x="2285640" y="4228560"/>
            <a:ext cx="51516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3" name=""/>
          <p:cNvSpPr/>
          <p:nvPr/>
        </p:nvSpPr>
        <p:spPr>
          <a:xfrm>
            <a:off x="1752480" y="4724280"/>
            <a:ext cx="990720" cy="457200"/>
          </a:xfrm>
          <a:prstGeom prst="ellipse">
            <a:avLst/>
          </a:prstGeom>
          <a:solidFill>
            <a:srgbClr val="cdc7c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entro de serv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80880" y="4724280"/>
            <a:ext cx="1067040" cy="3780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Integración Offline On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5" name=""/>
          <p:cNvCxnSpPr>
            <a:stCxn id="984" idx="7"/>
            <a:endCxn id="981" idx="2"/>
          </p:cNvCxnSpPr>
          <p:nvPr/>
        </p:nvCxnSpPr>
        <p:spPr>
          <a:xfrm flipV="1">
            <a:off x="1292040" y="4571640"/>
            <a:ext cx="42300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6" name=""/>
          <p:cNvCxnSpPr>
            <a:stCxn id="983" idx="0"/>
            <a:endCxn id="981" idx="2"/>
          </p:cNvCxnSpPr>
          <p:nvPr/>
        </p:nvCxnSpPr>
        <p:spPr>
          <a:xfrm flipH="1" flipV="1">
            <a:off x="1713960" y="4571280"/>
            <a:ext cx="5338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7" name=""/>
          <p:cNvSpPr/>
          <p:nvPr/>
        </p:nvSpPr>
        <p:spPr>
          <a:xfrm flipH="1">
            <a:off x="625320" y="5410080"/>
            <a:ext cx="108000" cy="108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96880" y="5600880"/>
            <a:ext cx="15228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10640" y="5310360"/>
            <a:ext cx="152496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Beneficios Cla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Actividades y activos on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Actividades y activos off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Capacid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Partn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09480" y="5943600"/>
            <a:ext cx="127080" cy="763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8229600" y="3048120"/>
            <a:ext cx="822240" cy="377640"/>
          </a:xfrm>
          <a:prstGeom prst="ellipse">
            <a:avLst/>
          </a:prstGeom>
          <a:solidFill>
            <a:srgbClr val="cdc7c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Teléfo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8450280" y="3481560"/>
            <a:ext cx="669960" cy="3776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On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8077320" y="3886200"/>
            <a:ext cx="1066680" cy="457200"/>
          </a:xfrm>
          <a:prstGeom prst="ellipse">
            <a:avLst/>
          </a:prstGeom>
          <a:solidFill>
            <a:srgbClr val="cdc7c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Franquici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620120" y="4343400"/>
            <a:ext cx="914400" cy="378000"/>
          </a:xfrm>
          <a:prstGeom prst="ellipse">
            <a:avLst/>
          </a:prstGeom>
          <a:solidFill>
            <a:srgbClr val="cdc7c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atalog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7238880" y="3276720"/>
            <a:ext cx="838440" cy="4442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3,000 afili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6" name=""/>
          <p:cNvCxnSpPr>
            <a:stCxn id="991" idx="3"/>
            <a:endCxn id="931" idx="3"/>
          </p:cNvCxnSpPr>
          <p:nvPr/>
        </p:nvCxnSpPr>
        <p:spPr>
          <a:xfrm flipH="1">
            <a:off x="7619760" y="3370320"/>
            <a:ext cx="730800" cy="78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7" name=""/>
          <p:cNvCxnSpPr>
            <a:stCxn id="995" idx="4"/>
            <a:endCxn id="931" idx="3"/>
          </p:cNvCxnSpPr>
          <p:nvPr/>
        </p:nvCxnSpPr>
        <p:spPr>
          <a:xfrm flipH="1">
            <a:off x="7619760" y="3720960"/>
            <a:ext cx="388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8" name=""/>
          <p:cNvCxnSpPr>
            <a:stCxn id="993" idx="2"/>
            <a:endCxn id="931" idx="3"/>
          </p:cNvCxnSpPr>
          <p:nvPr/>
        </p:nvCxnSpPr>
        <p:spPr>
          <a:xfrm flipH="1">
            <a:off x="7619760" y="4114800"/>
            <a:ext cx="45792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9" name=""/>
          <p:cNvCxnSpPr>
            <a:stCxn id="994" idx="1"/>
            <a:endCxn id="931" idx="3"/>
          </p:cNvCxnSpPr>
          <p:nvPr/>
        </p:nvCxnSpPr>
        <p:spPr>
          <a:xfrm flipH="1" flipV="1">
            <a:off x="7620120" y="4152240"/>
            <a:ext cx="133560" cy="24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0" name=""/>
          <p:cNvCxnSpPr>
            <a:stCxn id="995" idx="1"/>
            <a:endCxn id="932" idx="3"/>
          </p:cNvCxnSpPr>
          <p:nvPr/>
        </p:nvCxnSpPr>
        <p:spPr>
          <a:xfrm flipH="1" flipV="1">
            <a:off x="7162200" y="3238200"/>
            <a:ext cx="199080" cy="10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1" name=""/>
          <p:cNvCxnSpPr>
            <a:stCxn id="992" idx="2"/>
            <a:endCxn id="931" idx="3"/>
          </p:cNvCxnSpPr>
          <p:nvPr/>
        </p:nvCxnSpPr>
        <p:spPr>
          <a:xfrm flipH="1">
            <a:off x="7619760" y="3669840"/>
            <a:ext cx="830880" cy="48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2" name=""/>
          <p:cNvSpPr/>
          <p:nvPr/>
        </p:nvSpPr>
        <p:spPr>
          <a:xfrm>
            <a:off x="596880" y="5765760"/>
            <a:ext cx="152280" cy="76320"/>
          </a:xfrm>
          <a:prstGeom prst="ellipse">
            <a:avLst/>
          </a:prstGeom>
          <a:solidFill>
            <a:srgbClr val="cdc7c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09480" y="6095880"/>
            <a:ext cx="152640" cy="76320"/>
          </a:xfrm>
          <a:prstGeom prst="ellipse">
            <a:avLst/>
          </a:prstGeom>
          <a:solidFill>
            <a:srgbClr val="f63f1b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60B3B-C8BE-40E8-81D9-90E7EBFEDFBB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Paso 4: Soporte Financier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005" name=""/>
          <p:cNvSpPr/>
          <p:nvPr/>
        </p:nvSpPr>
        <p:spPr>
          <a:xfrm>
            <a:off x="2209680" y="1371600"/>
            <a:ext cx="4800600" cy="4152960"/>
          </a:xfrm>
          <a:prstGeom prst="triangle">
            <a:avLst>
              <a:gd name="adj" fmla="val 50000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V="1">
            <a:off x="3429000" y="3479760"/>
            <a:ext cx="2400480" cy="2021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105800" y="3857760"/>
            <a:ext cx="1040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MODELO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NEGO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E-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819520" y="45435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822cd"/>
                </a:solidFill>
                <a:latin typeface="Verdana"/>
              </a:rPr>
              <a:t>COTEN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822cd"/>
                </a:solidFill>
                <a:latin typeface="Verdana"/>
              </a:rPr>
              <a:t>(qué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231160" y="4543560"/>
            <a:ext cx="115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822cd"/>
                </a:solidFill>
                <a:latin typeface="Verdana"/>
              </a:rPr>
              <a:t>USU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822cd"/>
                </a:solidFill>
                <a:latin typeface="Verdana"/>
              </a:rPr>
              <a:t>(quien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034160" y="2562120"/>
            <a:ext cx="114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822cd"/>
                </a:solidFill>
                <a:latin typeface="Verdana"/>
              </a:rPr>
              <a:t>INGR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019920" y="1330200"/>
            <a:ext cx="2819160" cy="641520"/>
          </a:xfr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1411d"/>
                </a:solidFill>
                <a:latin typeface="Verdana"/>
              </a:rPr>
              <a:t>Disposición a pagar p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buClr>
                <a:srgbClr val="f1411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1411d"/>
                </a:solidFill>
                <a:latin typeface="Verdana"/>
              </a:rPr>
              <a:t>Contenido (modelo direc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buClr>
                <a:srgbClr val="f1411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1411d"/>
                </a:solidFill>
                <a:latin typeface="Verdana"/>
              </a:rPr>
              <a:t>Usuarios (modelo indirec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A777A-2E5A-4747-9627-0AD7900FA40C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jemplo: Portal (EMOL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2133720" y="1523880"/>
            <a:ext cx="2209320" cy="1752480"/>
            <a:chOff x="2133720" y="1523880"/>
            <a:chExt cx="2209320" cy="1752480"/>
          </a:xfrm>
        </p:grpSpPr>
        <p:sp>
          <p:nvSpPr>
            <p:cNvPr id="1014" name=""/>
            <p:cNvSpPr/>
            <p:nvPr/>
          </p:nvSpPr>
          <p:spPr>
            <a:xfrm>
              <a:off x="2133720" y="1523880"/>
              <a:ext cx="1752480" cy="1295280"/>
            </a:xfrm>
            <a:prstGeom prst="rect">
              <a:avLst/>
            </a:prstGeom>
            <a:solidFill>
              <a:srgbClr val="faf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Verdana"/>
                </a:rPr>
                <a:t>CONTENI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666880" y="2666880"/>
              <a:ext cx="609120" cy="609480"/>
            </a:xfrm>
            <a:prstGeom prst="ellipse">
              <a:avLst/>
            </a:prstGeom>
            <a:solidFill>
              <a:srgbClr val="faf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733560" y="1828440"/>
              <a:ext cx="609480" cy="609840"/>
            </a:xfrm>
            <a:prstGeom prst="ellipse">
              <a:avLst/>
            </a:prstGeom>
            <a:solidFill>
              <a:srgbClr val="faf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4876920" y="1752480"/>
            <a:ext cx="1904760" cy="1447560"/>
            <a:chOff x="4876920" y="1752480"/>
            <a:chExt cx="1904760" cy="1447560"/>
          </a:xfrm>
        </p:grpSpPr>
        <p:sp>
          <p:nvSpPr>
            <p:cNvPr id="1018" name=""/>
            <p:cNvSpPr/>
            <p:nvPr/>
          </p:nvSpPr>
          <p:spPr>
            <a:xfrm>
              <a:off x="5029200" y="1752480"/>
              <a:ext cx="1752480" cy="1295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800" spc="-1" strike="noStrike">
                  <a:solidFill>
                    <a:srgbClr val="000000"/>
                  </a:solidFill>
                  <a:latin typeface="Verdana"/>
                </a:rPr>
                <a:t>$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638680" y="2590560"/>
              <a:ext cx="609840" cy="60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876920" y="2057040"/>
              <a:ext cx="609480" cy="60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2819520" y="3733920"/>
            <a:ext cx="3504960" cy="1447200"/>
            <a:chOff x="2819520" y="3733920"/>
            <a:chExt cx="3504960" cy="1447200"/>
          </a:xfrm>
        </p:grpSpPr>
        <p:sp>
          <p:nvSpPr>
            <p:cNvPr id="1022" name=""/>
            <p:cNvSpPr/>
            <p:nvPr/>
          </p:nvSpPr>
          <p:spPr>
            <a:xfrm>
              <a:off x="2819520" y="3886200"/>
              <a:ext cx="3504960" cy="129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Verdana"/>
                </a:rPr>
                <a:t>USUAR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200400" y="3733920"/>
              <a:ext cx="609120" cy="60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181480" y="3733920"/>
              <a:ext cx="609120" cy="60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25" name=""/>
          <p:cNvCxnSpPr>
            <a:stCxn id="1015" idx="5"/>
            <a:endCxn id="1023" idx="5"/>
          </p:cNvCxnSpPr>
          <p:nvPr/>
        </p:nvCxnSpPr>
        <p:spPr>
          <a:xfrm>
            <a:off x="3187440" y="3187440"/>
            <a:ext cx="533880" cy="1067400"/>
          </a:xfrm>
          <a:prstGeom prst="straightConnector1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6" name=""/>
          <p:cNvCxnSpPr>
            <a:stCxn id="1016" idx="6"/>
            <a:endCxn id="1020" idx="6"/>
          </p:cNvCxnSpPr>
          <p:nvPr/>
        </p:nvCxnSpPr>
        <p:spPr>
          <a:xfrm>
            <a:off x="4343040" y="2133360"/>
            <a:ext cx="1143720" cy="229320"/>
          </a:xfrm>
          <a:prstGeom prst="straightConnector1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27" name=""/>
          <p:cNvSpPr/>
          <p:nvPr/>
        </p:nvSpPr>
        <p:spPr>
          <a:xfrm>
            <a:off x="5791320" y="5384880"/>
            <a:ext cx="3352680" cy="609480"/>
          </a:xfr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Hombres y mujeres 25 – 40 añ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Prefesio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Principalmente en la ofic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52280" y="2971800"/>
            <a:ext cx="2133720" cy="1371600"/>
          </a:xfr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“</a:t>
            </a: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El Mercurio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Notic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Tiempo Li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Depor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Servic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Interactiv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E-comme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086600" y="1371600"/>
            <a:ext cx="1638360" cy="495360"/>
          </a:xfr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6876e7"/>
                </a:solidFill>
                <a:latin typeface="Verdana"/>
              </a:rPr>
              <a:t>Alt.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086600" y="2133720"/>
            <a:ext cx="1638360" cy="685800"/>
          </a:xfr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6876e7"/>
                </a:solidFill>
                <a:latin typeface="Verdana"/>
              </a:rPr>
              <a:t>Alt.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Suscripciones y mktg. Rel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086600" y="2971800"/>
            <a:ext cx="1638360" cy="609480"/>
          </a:xfr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6600"/>
                </a:solidFill>
                <a:latin typeface="Verdana"/>
              </a:rPr>
              <a:t>Alt.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cc6600"/>
                </a:solidFill>
                <a:latin typeface="Verdana"/>
              </a:rPr>
              <a:t>Acceso a 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rot="1431600">
            <a:off x="5517720" y="3276720"/>
            <a:ext cx="33192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3" name=""/>
          <p:cNvCxnSpPr>
            <a:stCxn id="1032" idx="0"/>
            <a:endCxn id="1019" idx="7"/>
          </p:cNvCxnSpPr>
          <p:nvPr/>
        </p:nvCxnSpPr>
        <p:spPr>
          <a:xfrm flipV="1">
            <a:off x="5775120" y="2679120"/>
            <a:ext cx="384840" cy="61668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034" name=""/>
          <p:cNvCxnSpPr>
            <a:stCxn id="1032" idx="4"/>
            <a:endCxn id="1024" idx="3"/>
          </p:cNvCxnSpPr>
          <p:nvPr/>
        </p:nvCxnSpPr>
        <p:spPr>
          <a:xfrm flipH="1">
            <a:off x="5269680" y="3713040"/>
            <a:ext cx="321480" cy="54216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979B2-E316-4EFA-A793-AB2DFEEB2E9E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odelos de Ingreso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Publicidad (modelo de ingreso indirect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Yahoo!, EMOL 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Venta de productos, servicios o información (modelo direct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Amazon, Chilevinos, Falabella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Intermediación de transac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Schwab, eBay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Suscrip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WSJ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arketing Relacional: híbrido entre suscripción y publicidad. El ingreso se puede generar online u off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NYTim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5322F-2F6F-4698-AF0F-FFD1496910E6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odelos de Valor para los accionista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odelo de ingresos ligado a generación de flujo pero no necesariamente de utilida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odelos de estrategia de LP para generar utilida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Modelo “Blockbuster” de Disney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ngresos: entradas al cine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Valor: explotación profunda de productos exitos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Modelo “Base y Continuación” de Gillett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ngresos: Máquinas de afeitar y repuest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Valor: lock-in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Modelo de “metamercados”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ngresos: comisiones, margenes de venta o publicidad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Valor: Apalancamient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19217-C69F-4EC7-B22D-6E226F6031EE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odelos de Valor para los accionista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Remat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Ingresos: comisiones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Valor: Efectos de red, base de usuarios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“</a:t>
            </a: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ategory-killer” (diferentes marcas de una misma categoría; ej. eToys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Ingresos: Margen de venta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Valor: Apalancamiento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Mejor información (WSJ, Bloomberg, etc.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Ingresos: Suscripción, publicidad, comisiones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Valor: Credibilidad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Más amplia variedad (CDNow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Ingresos: Margen de ventas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Valor: Precios premium por productos de difícil acceso.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F0956-6E6A-4029-B1E5-CE20AFEFBD96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odelos de Valor para los accionista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Más bajo precio (buy.com y Wal-Mart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ngresos: margen de venta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Valor: Volumen y eficienci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Red de usuarios líder (ICQ, Real Networks, Napster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ngresos: Margen de ventas, publicidad, comision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Valor: Posibilidad de cobrar precios premium después de crear un standard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Mejor experiencia (FAOSchwartz.com, Ashford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ngresos: margen de venta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Valor: Satisfacción del cliente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30EF4-FB5C-4B30-8C5F-8F02D14BD083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odelo de Crecimient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Fuentes de crecimien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Profundizar penetración en mercado actual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Desarrollo de nuevos productos (nuevos productos para mercados existentes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Desarrollo de mercados (productos existentes para mercados nuevos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Desarrollo de nuevos productos para nuevos mercados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F2804-F8D6-4BC1-8609-5BC4EEF8259A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Elementos de un Modelo de Negoci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046" name=""/>
          <p:cNvSpPr/>
          <p:nvPr/>
        </p:nvSpPr>
        <p:spPr>
          <a:xfrm>
            <a:off x="3225960" y="171252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225960" y="277128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er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225960" y="380160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stema de recur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225960" y="488268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porte financi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rot="5400000">
            <a:off x="4289760" y="2292840"/>
            <a:ext cx="496800" cy="241560"/>
          </a:xfrm>
          <a:custGeom>
            <a:avLst/>
            <a:gdLst>
              <a:gd name="textAreaLeft" fmla="*/ 77400 w 496800"/>
              <a:gd name="textAreaRight" fmla="*/ 434880 w 496800"/>
              <a:gd name="textAreaTop" fmla="*/ 60480 h 241560"/>
              <a:gd name="textAreaBottom" fmla="*/ 181440 h 241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rot="5400000">
            <a:off x="4291560" y="3364560"/>
            <a:ext cx="497160" cy="241200"/>
          </a:xfrm>
          <a:custGeom>
            <a:avLst/>
            <a:gdLst>
              <a:gd name="textAreaLeft" fmla="*/ 77400 w 497160"/>
              <a:gd name="textAreaRight" fmla="*/ 435240 w 497160"/>
              <a:gd name="textAreaTop" fmla="*/ 60120 h 241200"/>
              <a:gd name="textAreaBottom" fmla="*/ 181080 h 241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rot="5400000">
            <a:off x="4291560" y="4394880"/>
            <a:ext cx="497160" cy="241200"/>
          </a:xfrm>
          <a:custGeom>
            <a:avLst/>
            <a:gdLst>
              <a:gd name="textAreaLeft" fmla="*/ 77400 w 497160"/>
              <a:gd name="textAreaRight" fmla="*/ 435240 w 497160"/>
              <a:gd name="textAreaTop" fmla="*/ 60120 h 241200"/>
              <a:gd name="textAreaBottom" fmla="*/ 181080 h 241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19920" y="2971800"/>
            <a:ext cx="4572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V="1">
            <a:off x="6019920" y="274284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019920" y="297180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501600" y="2590920"/>
            <a:ext cx="120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Produ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Serv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Inform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019920" y="1905120"/>
            <a:ext cx="4572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6019920" y="167616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019920" y="190512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564960" y="1523880"/>
            <a:ext cx="2381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Segmento obje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Benef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¿Por que mejor que otro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019920" y="3962520"/>
            <a:ext cx="4572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6019920" y="373356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019920" y="396252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547320" y="3581280"/>
            <a:ext cx="2148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555555"/>
                </a:solidFill>
                <a:latin typeface="Verdana"/>
              </a:rPr>
              <a:t>Beneficios centr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555555"/>
                </a:solidFill>
                <a:latin typeface="Verdana"/>
              </a:rPr>
              <a:t>Capacid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555555"/>
                </a:solidFill>
                <a:latin typeface="Verdana"/>
              </a:rPr>
              <a:t>Link Recurso-capac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555555"/>
                </a:solidFill>
                <a:latin typeface="Verdana"/>
              </a:rPr>
              <a:t>Entrega y Partn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019920" y="3962520"/>
            <a:ext cx="380880" cy="3808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019920" y="5105520"/>
            <a:ext cx="457200" cy="6094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6019920" y="487656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019920" y="5105520"/>
            <a:ext cx="457200" cy="8380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477120" y="4724280"/>
            <a:ext cx="2438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Pilares:</a:t>
            </a: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contenido usu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ingr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Modelos de Ingr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Modelos de valor L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Modelos de crec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019920" y="5105520"/>
            <a:ext cx="457200" cy="3808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CAF16-B52B-4C8D-BFDB-8354EEE1C96C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Interfaz de Usuario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7Cs o elementos de diseño general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072" name=""/>
          <p:cNvSpPr/>
          <p:nvPr/>
        </p:nvSpPr>
        <p:spPr>
          <a:xfrm>
            <a:off x="228600" y="1641600"/>
            <a:ext cx="2209680" cy="11016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Contex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Diseño y distribución de elem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6629400" y="1600200"/>
            <a:ext cx="2209680" cy="11016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Conten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Texto, imágenes, sonidos y vide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629400" y="3200400"/>
            <a:ext cx="2209680" cy="11016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Comun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omo el sitio permite la comunicación entre usu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629400" y="4952880"/>
            <a:ext cx="2209680" cy="110196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Custom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apacidades de personalización del si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467160" y="4952880"/>
            <a:ext cx="2209680" cy="110196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Comun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ormas de comunicación sitio a usuario y usuario a si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28600" y="4952880"/>
            <a:ext cx="2209680" cy="110196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Conex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Links a y desde otros si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28600" y="3200400"/>
            <a:ext cx="2209680" cy="11016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Comer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apacidad para efectuar transac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9" name="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EC90B-26DE-44B6-823A-297BDA3A1004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¿Para qué sirve Internet?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unic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Herramienta de marketing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Sitios corporativ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eractu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email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Chat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Mensajeros instantáne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rans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e-commerce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e-procurement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D825F-E355-4F63-BF53-2E7822266D86}" type="slidenum">
              <a:t>13</a:t>
            </a:fld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aracterísticas del diseñ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Alineamento con el modelo: Capacidad de cada uno de los elementos para soportar el modelo de nego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Solidez de diseño: grado de consistencia entre los diferentes ele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"/>
          <p:cNvSpPr/>
          <p:nvPr/>
        </p:nvSpPr>
        <p:spPr>
          <a:xfrm>
            <a:off x="11430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on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13372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onteni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124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omun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1148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ustomi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10552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omunica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0958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onex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7086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omer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429000" y="3429000"/>
            <a:ext cx="2286000" cy="4572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odelo de nego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0" name=""/>
          <p:cNvCxnSpPr>
            <a:endCxn id="1082" idx="0"/>
          </p:cNvCxnSpPr>
          <p:nvPr/>
        </p:nvCxnSpPr>
        <p:spPr>
          <a:xfrm flipH="1">
            <a:off x="1599480" y="3733560"/>
            <a:ext cx="1600920" cy="99108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091" name=""/>
          <p:cNvCxnSpPr>
            <a:endCxn id="1083" idx="0"/>
          </p:cNvCxnSpPr>
          <p:nvPr/>
        </p:nvCxnSpPr>
        <p:spPr>
          <a:xfrm flipH="1">
            <a:off x="2590560" y="3886200"/>
            <a:ext cx="915120" cy="83880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092" name=""/>
          <p:cNvCxnSpPr>
            <a:endCxn id="1084" idx="0"/>
          </p:cNvCxnSpPr>
          <p:nvPr/>
        </p:nvCxnSpPr>
        <p:spPr>
          <a:xfrm flipH="1">
            <a:off x="3580560" y="3886200"/>
            <a:ext cx="305640" cy="83880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093" name=""/>
          <p:cNvCxnSpPr>
            <a:endCxn id="1085" idx="0"/>
          </p:cNvCxnSpPr>
          <p:nvPr/>
        </p:nvCxnSpPr>
        <p:spPr>
          <a:xfrm>
            <a:off x="4571640" y="3886200"/>
            <a:ext cx="1080" cy="83880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094" name=""/>
          <p:cNvCxnSpPr/>
          <p:nvPr/>
        </p:nvCxnSpPr>
        <p:spPr>
          <a:xfrm>
            <a:off x="5943240" y="3886200"/>
            <a:ext cx="1600920" cy="99144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095" name=""/>
          <p:cNvCxnSpPr/>
          <p:nvPr/>
        </p:nvCxnSpPr>
        <p:spPr>
          <a:xfrm>
            <a:off x="5638680" y="4038120"/>
            <a:ext cx="915120" cy="83916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096" name=""/>
          <p:cNvCxnSpPr/>
          <p:nvPr/>
        </p:nvCxnSpPr>
        <p:spPr>
          <a:xfrm>
            <a:off x="5257440" y="4038120"/>
            <a:ext cx="305640" cy="83916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097" name=""/>
          <p:cNvSpPr/>
          <p:nvPr/>
        </p:nvSpPr>
        <p:spPr>
          <a:xfrm>
            <a:off x="3505320" y="4114800"/>
            <a:ext cx="2133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Aline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8" name=""/>
          <p:cNvCxnSpPr>
            <a:stCxn id="1082" idx="2"/>
            <a:endCxn id="1083" idx="2"/>
          </p:cNvCxnSpPr>
          <p:nvPr/>
        </p:nvCxnSpPr>
        <p:spPr>
          <a:xfrm flipH="1" rot="16200000">
            <a:off x="2094480" y="5143680"/>
            <a:ext cx="2520" cy="991440"/>
          </a:xfrm>
          <a:prstGeom prst="curvedConnector5">
            <a:avLst>
              <a:gd name="adj1" fmla="val 14400000"/>
              <a:gd name="adj2" fmla="val 49981"/>
              <a:gd name="adj3" fmla="val 14400000"/>
            </a:avLst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99" name=""/>
          <p:cNvCxnSpPr>
            <a:stCxn id="1083" idx="2"/>
            <a:endCxn id="1084" idx="2"/>
          </p:cNvCxnSpPr>
          <p:nvPr/>
        </p:nvCxnSpPr>
        <p:spPr>
          <a:xfrm flipH="1" rot="16200000">
            <a:off x="3084120" y="5144040"/>
            <a:ext cx="2520" cy="99108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0" name=""/>
          <p:cNvCxnSpPr/>
          <p:nvPr/>
        </p:nvCxnSpPr>
        <p:spPr>
          <a:xfrm flipH="1" rot="16200000">
            <a:off x="2589120" y="4875840"/>
            <a:ext cx="2160" cy="1981800"/>
          </a:xfrm>
          <a:prstGeom prst="curvedConnector5">
            <a:avLst>
              <a:gd name="adj1" fmla="val 16880000"/>
              <a:gd name="adj2" fmla="val 50000"/>
              <a:gd name="adj3" fmla="val 16880000"/>
            </a:avLst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1" name=""/>
          <p:cNvCxnSpPr>
            <a:stCxn id="1084" idx="2"/>
            <a:endCxn id="1085" idx="2"/>
          </p:cNvCxnSpPr>
          <p:nvPr/>
        </p:nvCxnSpPr>
        <p:spPr>
          <a:xfrm flipH="1" rot="16200000">
            <a:off x="4075560" y="5143680"/>
            <a:ext cx="2520" cy="991440"/>
          </a:xfrm>
          <a:prstGeom prst="curvedConnector5">
            <a:avLst>
              <a:gd name="adj1" fmla="val 14400000"/>
              <a:gd name="adj2" fmla="val 49981"/>
              <a:gd name="adj3" fmla="val 14400000"/>
            </a:avLst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2" name=""/>
          <p:cNvCxnSpPr/>
          <p:nvPr/>
        </p:nvCxnSpPr>
        <p:spPr>
          <a:xfrm flipH="1" rot="16200000">
            <a:off x="6056280" y="4305960"/>
            <a:ext cx="2160" cy="2972520"/>
          </a:xfrm>
          <a:prstGeom prst="curvedConnector5">
            <a:avLst>
              <a:gd name="adj1" fmla="val 19680000"/>
              <a:gd name="adj2" fmla="val 50000"/>
              <a:gd name="adj3" fmla="val 19680000"/>
            </a:avLst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3" name=""/>
          <p:cNvCxnSpPr>
            <a:stCxn id="1086" idx="2"/>
            <a:endCxn id="1087" idx="2"/>
          </p:cNvCxnSpPr>
          <p:nvPr/>
        </p:nvCxnSpPr>
        <p:spPr>
          <a:xfrm flipH="1" rot="16200000">
            <a:off x="6055920" y="5144040"/>
            <a:ext cx="2520" cy="99108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04" name=""/>
          <p:cNvSpPr/>
          <p:nvPr/>
        </p:nvSpPr>
        <p:spPr>
          <a:xfrm>
            <a:off x="3505320" y="586728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Soli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DAA08-7349-4985-97E3-59389BCE96A9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ntext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os dimensiones de contex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Funcionalidad (Google, Yahoo!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stétic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structuración del sitio pa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Permitir el acceso a toda la información disponible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Facilidad de navegación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ementos a consider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Seccion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structura de link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Herramientas de navegación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Medición y evaluación del contex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Velocidad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onfiabilidad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ndependencia de plataforma (Sistemas operativos y browsers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29A21-1CEE-4D77-BE8F-09C7EF0AEC05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ntenid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4 dimens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Ofert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productos, servicios, información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Mensaje (appeal): foco comunicacional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Cognitivo: foco en aspectos funcional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Emocional: foco en humor, historias, etc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Mix multimedi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texto, imágenes, sonido y vide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Tipo de contenid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EF2E8-A0D6-46B4-B6AB-5DD80131CC6F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munidad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Comunicación entre usuari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Uno a un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Uno a much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Elementos de una comun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Cohesión: identidad de grupo y sentimiento individual de pertenenci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Efectividad: impacto del grupo en la vida de los miembr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Ayuda: percepción de poder dar y pedir ayud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Lenguaje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Autoregulación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CB7F7-F436-4F47-B6BD-821EC8380954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munidad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Tipos de comun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Amistad: Yahoogroup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ntusiastas: grupos que comparten un interés especial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Soporte: Alcoholicos anónim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Jueg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omerci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Grado de participación de los miemb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Pasiv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Activ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Motivador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ntermediari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DF405-B287-4140-9DB6-6B08CAA8EE36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ustomizació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os tipos de personalizació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Por el usuari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autodefinición de Perfil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Diseño de look-and-feel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Por el siti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Basado en uso anterior del mismo usuari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Basado en comportamiento de usuarios “similares”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AABD9-7B2A-4CAA-B29B-677EE2144A17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municació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ialogos iniciados por la organización, dentro del sit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Broadcast o unidireccio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mailing masiv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FAQ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-mail newsletter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Interact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Dialogo de e-commerce (intercambio de e-mails, confirmación de pedidos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ustomer Service (customer care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Híbri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1CCFE-164A-4FE4-B4D7-51062658E9AE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municació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Variables a consider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Cantidad de usuarios que ponen contenid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Un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Much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Cantidad de usuarios que reciben contenid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Un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Much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Posibilidad de respuest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Si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N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FEEE7-012E-41C4-9B9F-CAD0EBE726BC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nexió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Homo se conecta el sitio con otros negoci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Link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Home site en background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Outsourcing de contenid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Sitios compuestos (</a:t>
            </a:r>
            <a:r>
              <a:rPr b="0" lang="es-MX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banco de chile</a:t>
            </a: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Tipos de sit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6876e7"/>
                </a:solidFill>
                <a:uFillTx/>
                <a:latin typeface="Verdana"/>
              </a:rPr>
              <a:t>Sitios de destino</a:t>
            </a: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: exclusivamente contenido propi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6876e7"/>
                </a:solidFill>
                <a:uFillTx/>
                <a:latin typeface="Verdana"/>
              </a:rPr>
              <a:t>Hub</a:t>
            </a: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: Combinación de contenido propio y contenido seleccionado de otros sitios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6876e7"/>
                </a:solidFill>
                <a:uFillTx/>
                <a:latin typeface="Verdana"/>
              </a:rPr>
              <a:t>Portales</a:t>
            </a: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: Casi exclusivamente contenido de terceros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D13C9-6D5B-4C62-B49F-E9B689690A83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merci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Modelos de  comerc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Catálog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Remat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Remates al revé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Agregación de demand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Ofertas / contraofert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2A540-BED6-44D2-9867-29FCA3DFB808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Matriz de Posicionamiento Estratégic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7738920" cy="3938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6200000">
            <a:off x="-196560" y="396252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Qué Es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81840" y="144792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Para qué utilizar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4B6C4-35F7-4AE3-A80A-A212FA1D26CF}" type="slidenum">
              <a:t>14</a:t>
            </a:fld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merci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imensiones de la capacidad de comerc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Registr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Carro de compra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Seguridad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Método de pag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Preferencias (one-click-shopping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Configuración tecnológic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Seguimiento de orden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Opciones de despach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7634D-BD8B-4033-849F-8BB322D73EFA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odelo para definir una estrategia de Internet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26" name=""/>
          <p:cNvSpPr/>
          <p:nvPr/>
        </p:nvSpPr>
        <p:spPr>
          <a:xfrm>
            <a:off x="431640" y="3657600"/>
            <a:ext cx="6502680" cy="307080"/>
          </a:xfrm>
          <a:custGeom>
            <a:avLst/>
            <a:gdLst>
              <a:gd name="textAreaLeft" fmla="*/ 0 w 6502680"/>
              <a:gd name="textAreaRight" fmla="*/ 6503040 w 650268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14" y="0"/>
                </a:lnTo>
                <a:lnTo>
                  <a:pt x="21600" y="10800"/>
                </a:lnTo>
                <a:lnTo>
                  <a:pt x="206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 de 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31640" y="3976560"/>
            <a:ext cx="6502680" cy="307080"/>
          </a:xfrm>
          <a:custGeom>
            <a:avLst/>
            <a:gdLst>
              <a:gd name="textAreaLeft" fmla="*/ 0 w 6502680"/>
              <a:gd name="textAreaRight" fmla="*/ 6503040 w 650268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40" y="0"/>
                </a:lnTo>
                <a:lnTo>
                  <a:pt x="21600" y="10800"/>
                </a:lnTo>
                <a:lnTo>
                  <a:pt x="206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 de Me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31640" y="4295880"/>
            <a:ext cx="6502680" cy="307080"/>
          </a:xfrm>
          <a:custGeom>
            <a:avLst/>
            <a:gdLst>
              <a:gd name="textAreaLeft" fmla="*/ 0 w 6502680"/>
              <a:gd name="textAreaRight" fmla="*/ 6503040 w 650268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40" y="0"/>
                </a:lnTo>
                <a:lnTo>
                  <a:pt x="21600" y="10800"/>
                </a:lnTo>
                <a:lnTo>
                  <a:pt x="206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 política y púb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211880" y="2739960"/>
            <a:ext cx="103320" cy="917640"/>
          </a:xfrm>
          <a:custGeom>
            <a:avLst/>
            <a:gdLst>
              <a:gd name="textAreaLeft" fmla="*/ 0 w 103320"/>
              <a:gd name="textAreaRight" fmla="*/ 37440 w 103320"/>
              <a:gd name="textAreaTop" fmla="*/ 23760 h 917640"/>
              <a:gd name="textAreaBottom" fmla="*/ 893880 h 91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211880" y="3654360"/>
            <a:ext cx="103320" cy="993960"/>
          </a:xfrm>
          <a:custGeom>
            <a:avLst/>
            <a:gdLst>
              <a:gd name="textAreaLeft" fmla="*/ 0 w 103320"/>
              <a:gd name="textAreaRight" fmla="*/ 37440 w 103320"/>
              <a:gd name="textAreaTop" fmla="*/ 25920 h 993960"/>
              <a:gd name="textAreaBottom" fmla="*/ 968040 h 99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7328880" y="2895480"/>
            <a:ext cx="113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strate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7320960" y="3863880"/>
            <a:ext cx="145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 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870280" y="273672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Interfa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usu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905120" y="274320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Mod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nego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31640" y="2743200"/>
            <a:ext cx="1828800" cy="92088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00" y="0"/>
                </a:lnTo>
                <a:lnTo>
                  <a:pt x="21600" y="10800"/>
                </a:lnTo>
                <a:lnTo>
                  <a:pt x="17700" y="21600"/>
                </a:lnTo>
                <a:lnTo>
                  <a:pt x="0" y="21600"/>
                </a:lnTo>
                <a:lnTo>
                  <a:pt x="390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Oportun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784680" y="274320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omuni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699080" y="274320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Impl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menta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638680" y="2743200"/>
            <a:ext cx="1295640" cy="92088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Evalua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rot="16200000">
            <a:off x="1943280" y="876240"/>
            <a:ext cx="304560" cy="3276720"/>
          </a:xfrm>
          <a:custGeom>
            <a:avLst/>
            <a:gdLst>
              <a:gd name="textAreaLeft" fmla="*/ 0 w 304560"/>
              <a:gd name="textAreaRight" fmla="*/ 109800 w 30456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rot="16200000">
            <a:off x="5005440" y="1118880"/>
            <a:ext cx="276120" cy="2819160"/>
          </a:xfrm>
          <a:custGeom>
            <a:avLst/>
            <a:gdLst>
              <a:gd name="textAreaLeft" fmla="*/ 0 w 276120"/>
              <a:gd name="textAreaRight" fmla="*/ 99720 w 27612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235520" y="1949400"/>
            <a:ext cx="172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Etapa de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834000" y="1949400"/>
            <a:ext cx="26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Etapa de Imple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79280" y="2421000"/>
            <a:ext cx="4248360" cy="1439640"/>
          </a:xfrm>
          <a:prstGeom prst="ellipse">
            <a:avLst/>
          </a:prstGeom>
          <a:noFill/>
          <a:ln w="936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5A807-B840-412A-BD57-6071739060DE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655344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1822cd"/>
                </a:solidFill>
                <a:latin typeface="Times New Roman"/>
              </a:rPr>
              <a:t>UNIVERSIDAD DE CHILE</a:t>
            </a:r>
            <a:br>
              <a:rPr sz="1300"/>
            </a:br>
            <a:r>
              <a:rPr b="1" lang="es-ES" sz="1300" spc="-1" strike="noStrike">
                <a:solidFill>
                  <a:srgbClr val="1822cd"/>
                </a:solidFill>
                <a:latin typeface="Times New Roman"/>
              </a:rPr>
              <a:t>FACULTAD DE CIENCIAS FÍSICAS Y MATEMÁTICAS</a:t>
            </a:r>
            <a:br>
              <a:rPr sz="1300"/>
            </a:br>
            <a:br>
              <a:rPr sz="1900"/>
            </a:br>
            <a:br>
              <a:rPr sz="1900"/>
            </a:br>
            <a:r>
              <a:rPr b="1" lang="es-ES" sz="2100" spc="-1" strike="noStrike">
                <a:solidFill>
                  <a:srgbClr val="32323d"/>
                </a:solidFill>
                <a:latin typeface="Verdana"/>
              </a:rPr>
              <a:t>Estrategias de Internet</a:t>
            </a:r>
            <a:br>
              <a:rPr sz="2100"/>
            </a:br>
            <a:r>
              <a:rPr b="1" lang="es-ES" sz="2100" spc="-1" strike="noStrike">
                <a:solidFill>
                  <a:srgbClr val="32323d"/>
                </a:solidFill>
                <a:latin typeface="Verdana"/>
              </a:rPr>
              <a:t>Comercio Electrónico y e-Business</a:t>
            </a:r>
            <a:endParaRPr b="0" lang="en-US" sz="2100" spc="-1" strike="noStrike">
              <a:solidFill>
                <a:srgbClr val="555555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5555"/>
                </a:solidFill>
                <a:latin typeface="Verdana"/>
              </a:rPr>
              <a:t>Matriz de Posicionamiento Estratégico</a:t>
            </a:r>
            <a:br>
              <a:rPr sz="2600"/>
            </a:br>
            <a:r>
              <a:rPr b="0" lang="en-US" sz="2600" spc="-1" strike="noStrike">
                <a:solidFill>
                  <a:srgbClr val="555555"/>
                </a:solidFill>
                <a:latin typeface="Verdana"/>
              </a:rPr>
              <a:t>EJEMPLO</a:t>
            </a:r>
            <a:endParaRPr b="0" lang="en-US" sz="2600" spc="-1" strike="noStrike">
              <a:solidFill>
                <a:srgbClr val="555555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71640" y="1490760"/>
          <a:ext cx="7867440" cy="4087800"/>
        </p:xfrm>
        <a:graphic>
          <a:graphicData uri="http://schemas.openxmlformats.org/drawingml/2006/table">
            <a:tbl>
              <a:tblPr/>
              <a:tblGrid>
                <a:gridCol w="1842840"/>
                <a:gridCol w="2021040"/>
                <a:gridCol w="1897200"/>
                <a:gridCol w="210636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a qu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unic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actu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nolog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tafo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3038760" y="3724560"/>
            <a:ext cx="1462680" cy="6483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Verdana"/>
              </a:rPr>
              <a:t>B2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Verdana"/>
              </a:rPr>
              <a:t>Sitio Forus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10280" y="2299680"/>
            <a:ext cx="1511280" cy="10328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Verdana"/>
              </a:rPr>
              <a:t>B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Verdana"/>
              </a:rPr>
              <a:t>Integración con grandes cli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2450160"/>
            <a:ext cx="2305080" cy="774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Verdana"/>
              </a:rPr>
              <a:t>Intr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Verdana"/>
              </a:rPr>
              <a:t>Reportes online de gestión, RRHH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BD7A7-F1D0-4A66-A334-5F7BCFEBBA7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Diferentes formas de utilizar Internet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gún tipo de institució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Empresas y Corporacion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Productivas, Comercio minorista y mayorista, Distribuidores, Servicios, Intermediarios, Telecomunicacion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Medios de comunicación tradicional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Educación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Gobiern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gún Ár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RRHH (Intranet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Marketing, relación con client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Operacion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2433B-87D6-4D0D-AE0B-B691789BBF7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55555"/>
                </a:solidFill>
                <a:latin typeface="Verdana"/>
              </a:rPr>
              <a:t>Información y los Negocio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0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la mayoría de los negocios la información juega un rol crític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Compras, relación con proveedor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Ventas, relación con clientes, publicidad y márketing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Producción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Organización interna, relaciones entre emplead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información domina los procesos como también los product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información unifica la cadena de valor de cada negoci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Gestión = Inform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0BD73-CD92-4511-80BE-CD5DCCA257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odelo para definir una estrategia de Internet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431640" y="3657600"/>
            <a:ext cx="6502680" cy="307080"/>
          </a:xfrm>
          <a:custGeom>
            <a:avLst/>
            <a:gdLst>
              <a:gd name="textAreaLeft" fmla="*/ 0 w 6502680"/>
              <a:gd name="textAreaRight" fmla="*/ 6503040 w 650268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14" y="0"/>
                </a:lnTo>
                <a:lnTo>
                  <a:pt x="21600" y="10800"/>
                </a:lnTo>
                <a:lnTo>
                  <a:pt x="206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 de 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1640" y="3976560"/>
            <a:ext cx="6502680" cy="307080"/>
          </a:xfrm>
          <a:custGeom>
            <a:avLst/>
            <a:gdLst>
              <a:gd name="textAreaLeft" fmla="*/ 0 w 6502680"/>
              <a:gd name="textAreaRight" fmla="*/ 6503040 w 650268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40" y="0"/>
                </a:lnTo>
                <a:lnTo>
                  <a:pt x="21600" y="10800"/>
                </a:lnTo>
                <a:lnTo>
                  <a:pt x="206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 de Me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1640" y="4295880"/>
            <a:ext cx="6502680" cy="307080"/>
          </a:xfrm>
          <a:custGeom>
            <a:avLst/>
            <a:gdLst>
              <a:gd name="textAreaLeft" fmla="*/ 0 w 6502680"/>
              <a:gd name="textAreaRight" fmla="*/ 6503040 w 650268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40" y="0"/>
                </a:lnTo>
                <a:lnTo>
                  <a:pt x="21600" y="10800"/>
                </a:lnTo>
                <a:lnTo>
                  <a:pt x="206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 política y púb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11880" y="2739960"/>
            <a:ext cx="103320" cy="917640"/>
          </a:xfrm>
          <a:custGeom>
            <a:avLst/>
            <a:gdLst>
              <a:gd name="textAreaLeft" fmla="*/ 0 w 103320"/>
              <a:gd name="textAreaRight" fmla="*/ 37440 w 103320"/>
              <a:gd name="textAreaTop" fmla="*/ 23760 h 917640"/>
              <a:gd name="textAreaBottom" fmla="*/ 893880 h 91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211880" y="3654360"/>
            <a:ext cx="103320" cy="993960"/>
          </a:xfrm>
          <a:custGeom>
            <a:avLst/>
            <a:gdLst>
              <a:gd name="textAreaLeft" fmla="*/ 0 w 103320"/>
              <a:gd name="textAreaRight" fmla="*/ 37440 w 103320"/>
              <a:gd name="textAreaTop" fmla="*/ 25920 h 993960"/>
              <a:gd name="textAreaBottom" fmla="*/ 968040 h 99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28880" y="2895480"/>
            <a:ext cx="113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strate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20960" y="3863880"/>
            <a:ext cx="145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 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70280" y="273672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Interfa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usu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05120" y="274320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Mod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nego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1640" y="2743200"/>
            <a:ext cx="1828800" cy="92088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00" y="0"/>
                </a:lnTo>
                <a:lnTo>
                  <a:pt x="21600" y="10800"/>
                </a:lnTo>
                <a:lnTo>
                  <a:pt x="17700" y="21600"/>
                </a:lnTo>
                <a:lnTo>
                  <a:pt x="0" y="21600"/>
                </a:lnTo>
                <a:lnTo>
                  <a:pt x="39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Oportun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84680" y="274320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omuni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99080" y="274320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Impl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menta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2743200"/>
            <a:ext cx="1295640" cy="92088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Evalua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1943280" y="876240"/>
            <a:ext cx="304560" cy="3276720"/>
          </a:xfrm>
          <a:custGeom>
            <a:avLst/>
            <a:gdLst>
              <a:gd name="textAreaLeft" fmla="*/ 0 w 304560"/>
              <a:gd name="textAreaRight" fmla="*/ 109800 w 30456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5005440" y="1118880"/>
            <a:ext cx="276120" cy="2819160"/>
          </a:xfrm>
          <a:custGeom>
            <a:avLst/>
            <a:gdLst>
              <a:gd name="textAreaLeft" fmla="*/ 0 w 276120"/>
              <a:gd name="textAreaRight" fmla="*/ 99720 w 27612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35520" y="1949400"/>
            <a:ext cx="172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Etapa de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34000" y="1949400"/>
            <a:ext cx="26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Etapa de Imple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DBA89-5BED-47A4-AC84-3CD23E50E9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Internet: ¿Nueva Economía?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361960" y="1143000"/>
            <a:ext cx="6476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¿Por qué N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urva de demanda con pendiente positiv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Decisiones basadas en relación costo –beneficio (VP de los flujos sigue siendo “la” forma de evaluar proyectos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¿Por qué SI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conomía tradicional se sustenta en la escasez; la información ya no es precisamente un recurso escaso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La estructura económica pensada en la protección de derechos de propiedad no se ajusta a los requerimientos de la información digital (economías de información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nsenso: el término “Nueva Economía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85800" y="1600200"/>
            <a:ext cx="0" cy="14479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2895480"/>
            <a:ext cx="152424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28954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163044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981080"/>
            <a:ext cx="1143000" cy="914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5A60A-971B-4BD6-A0AC-6899591E5C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55555"/>
                </a:solidFill>
                <a:latin typeface="Verdana"/>
              </a:rPr>
              <a:t>Profesor: Luis Felipe Troncos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8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ntecedentes Académ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Ingeniero Civil Industrial, Universidad de Chile, 1995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MBA University of California at Berkeley, 2001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8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ntecedentes Profecion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822cd"/>
                </a:solidFill>
                <a:latin typeface="Verdana"/>
              </a:rPr>
              <a:t>2002 Forus S.A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876e7"/>
                </a:solidFill>
                <a:latin typeface="Verdana"/>
              </a:rPr>
              <a:t>Gerente de Planificación y Sistema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822cd"/>
                </a:solidFill>
                <a:latin typeface="Verdana"/>
              </a:rPr>
              <a:t>2001 – 2002 El Mercurio Onlin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876e7"/>
                </a:solidFill>
                <a:latin typeface="Verdana"/>
              </a:rPr>
              <a:t>Gerente Portal EMOL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822cd"/>
                </a:solidFill>
                <a:latin typeface="Verdana"/>
              </a:rPr>
              <a:t>1995 – 1999 Costanera S.A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876e7"/>
                </a:solidFill>
                <a:latin typeface="Verdana"/>
              </a:rPr>
              <a:t>Subgerente de Finanzas y Estudi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8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ntecedentes Doce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Universidad de Chil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876e7"/>
                </a:solidFill>
                <a:latin typeface="Verdana"/>
              </a:rPr>
              <a:t>1994 – 1997 Area Investigación de Operacion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876e7"/>
                </a:solidFill>
                <a:latin typeface="Verdana"/>
              </a:rPr>
              <a:t>2002 Area Marketing, Estrategia e Internet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Universidad Adolfo Ibañez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876e7"/>
                </a:solidFill>
                <a:latin typeface="Verdana"/>
              </a:rPr>
              <a:t>2002 Escuela de Negocios, MB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F604D-2EBD-42D5-B067-6EA56AE26E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Economía Tradic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Industrias dominadas por oligopoli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Basada en economías de escal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Economía de la Inform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Industrias dominadas por monopolios temporal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Basada en economías de red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Internet: ¿Nueva Economía?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26FC4-1DC7-4FA3-AEEA-7200607599C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Información (bienes de información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lquier cosa que puede ser digitalizada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Libros (textos), bases de datos, resultados deportivos, películas, música, cotizaciones de acciones, páginas web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or de la información está definido segú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Su uso (para que se va a usar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Valor de entretenimient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Valor de negoci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Valor de poder (estar informado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El rol del usuario (quien lo va a usar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Padre de famili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Ejecutiv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Negociador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DA8B9-F135-4D7C-8FB3-0B891C0AA4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Economías de Internet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conomías de Inform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Estructura de costos de bienes de información y fijación de preci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Bienes de experienci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Economías de ‘atención’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Propiedad intelectual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conomías de Re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Lock-in y costos de cambi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Externalidades de Red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Standard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F110D-4A6C-4E56-A71D-8A20B5AE81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Estructura de costo de la informació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ra de Produc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rata de reproduc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mer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Costo hundido, no se puede recuperar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gunda y demás copi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costo variable pequeño (despreciable);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No existen restricciones de capacidad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Microsoft tiene un 92% de margen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conomías de esca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Costo marginal &lt; costo promedi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Costo promedio decreciente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4690080" y="1235160"/>
            <a:ext cx="364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os costos fi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jos costos marg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91120" y="121932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687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B20D0-FC5D-4E07-B71A-252DB05D00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Estructura de costo de la informació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licancias en la fijación de precios de bienes de inform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No existe competencia perfecta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Sólo 2 posibles estructuras: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Monopoli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Productos diferenciad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Precios se basan en el valor de la información para los consumidores y no en los costos de producción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Se generan incentivos para diferenciar precios o discriminar (extraer el máximo excedente de los consumidores posible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Identificación de mercad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Crear diferentes versiones del mismo product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Bundling” o “combos”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A4E5B-D778-4FD0-A0AE-112DB3F6917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Información “Commodity”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xiste. Ante la sospecha, eliminar condi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uías de teléfono en CD-R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Nynex cobraba US$10.000 en 1986 por directorio de NY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US$3.50 diarios por trabajadores chin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10.000 registros/(trabajador-mes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US$350 ciudad de 1.000.000 habitant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Precio de CD-ROM partió en US$50 y terminó en US$3.0 en menos de 1 añ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Otros ejemplos: precio de acciones; resultados deportiv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rategia en negocio commodity: reducir costo promed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Líder en cost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Vender el mismo producto varias veces (Reuters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087A3-802B-4FD0-8221-C79749E36AC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Información “Diferenciable”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mayoría. Si no, producir la diferenci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Precios de acciones en tiempo real / desfas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Ventaja de ser el primero (first-mover advantag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sonal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Product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ocer al cliente (diferenciación a través de la experienci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Registro / suscripción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Seguimiento de su comportamiento (posible a través de la tecnología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1CE77-C905-4EFC-8B08-BCE9523C243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Bienes de ‘experiencia’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5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n aquellos en que el consumidor debe experimentarlos para valorizarl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5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si todo nuevo producto es un bien de experiencia, pero una vez que son probados, dejan de serl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5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 información es un bien de experiencia cada vez que es consum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76e7"/>
                </a:solidFill>
                <a:latin typeface="Verdana"/>
              </a:rPr>
              <a:t>Un libro leído cuando niño y luego de adulto puede tener distinto valor para el lector, pero sólo lo sabrá cuando lo vuelva a leer.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76e7"/>
                </a:solidFill>
                <a:latin typeface="Verdana"/>
              </a:rPr>
              <a:t>¿Cómo saber que El Mercurio de hoy ‘vale’ $300 antes de leerlo?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76e7"/>
                </a:solidFill>
                <a:latin typeface="Verdana"/>
              </a:rPr>
              <a:t>¿Cómo decidir que película ver en el teatro o la TV?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5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écnicas para persuadir a los clientes a pagar por informació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76e7"/>
                </a:solidFill>
                <a:latin typeface="Verdana"/>
              </a:rPr>
              <a:t>Muestras gratis: titulares del diario en los quioscos, sinopsis de películas, radios (como muestra del contenido de un CD);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76e7"/>
                </a:solidFill>
                <a:latin typeface="Verdana"/>
              </a:rPr>
              <a:t>Marcas: El Mercurio ‘garantiza’ cierto tipo y calidad de información.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A1254-BDA8-4324-8173-2B0311898D8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Las economías de ‘Atención’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riqueza de información crea pobreza de atención” – Herbert Simon (Premio Nobel de Economía 1978 por procesos de decisió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problema de hoy no es el acceso a la información, sino la sobrecarga de ella. Cualquiera puede crear un sitio web, pero no es fácil comunicarle su existencia al público masiv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mazón pagó US$19MM a AOL para acceder a sus 10 millones de clientes. Esto no es adquisición de clientes, sino adquisición de la ‘atención’ de los client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5B6C2-68F5-46B3-B63C-D5A2F8C2F0C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Gestión de Propiedad Intelectual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piedad intelectu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protección a cambio de hacer público un  invent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Promover el progreso de las ciencias y las artes útil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edidas de protección tradicionales no garantizan el control de la inform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Patentes, copyrights y trademarks buscan desincentivar la copia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fío consiste en buscar formas para maximizar el valor de la propiedad intelectual, no para maximizar la protección de la mism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Gestión de derechos sobre propiedad intelectual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77A5D-86A3-467A-A968-CB125BC2354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47920" y="749160"/>
            <a:ext cx="6433920" cy="60883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Silicon Valley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010280" y="762120"/>
            <a:ext cx="466920" cy="6984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2209680" y="1484280"/>
            <a:ext cx="3200400" cy="2527200"/>
            <a:chOff x="2209680" y="1484280"/>
            <a:chExt cx="3200400" cy="2527200"/>
          </a:xfrm>
        </p:grpSpPr>
        <p:sp>
          <p:nvSpPr>
            <p:cNvPr id="56" name=""/>
            <p:cNvSpPr/>
            <p:nvPr/>
          </p:nvSpPr>
          <p:spPr>
            <a:xfrm>
              <a:off x="2209680" y="1484280"/>
              <a:ext cx="762120" cy="382680"/>
            </a:xfrm>
            <a:prstGeom prst="ellipse">
              <a:avLst/>
            </a:prstGeom>
            <a:noFill/>
            <a:ln w="25560">
              <a:solidFill>
                <a:srgbClr val="f1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71800" y="1865160"/>
              <a:ext cx="762120" cy="382680"/>
            </a:xfrm>
            <a:prstGeom prst="ellipse">
              <a:avLst/>
            </a:prstGeom>
            <a:noFill/>
            <a:ln w="25560">
              <a:solidFill>
                <a:srgbClr val="f1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00560" y="3214800"/>
              <a:ext cx="761760" cy="382320"/>
            </a:xfrm>
            <a:prstGeom prst="ellipse">
              <a:avLst/>
            </a:prstGeom>
            <a:noFill/>
            <a:ln w="25560">
              <a:solidFill>
                <a:srgbClr val="f1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72000" y="3629160"/>
              <a:ext cx="762120" cy="382320"/>
            </a:xfrm>
            <a:prstGeom prst="ellipse">
              <a:avLst/>
            </a:prstGeom>
            <a:noFill/>
            <a:ln w="25560">
              <a:solidFill>
                <a:srgbClr val="f1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48320" y="2514600"/>
              <a:ext cx="761760" cy="382680"/>
            </a:xfrm>
            <a:prstGeom prst="ellipse">
              <a:avLst/>
            </a:prstGeom>
            <a:noFill/>
            <a:ln w="25560">
              <a:solidFill>
                <a:srgbClr val="f1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267080" y="1981080"/>
              <a:ext cx="762120" cy="382680"/>
            </a:xfrm>
            <a:prstGeom prst="ellipse">
              <a:avLst/>
            </a:prstGeom>
            <a:noFill/>
            <a:ln w="25560">
              <a:solidFill>
                <a:srgbClr val="f1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A7A34-DB53-4E38-A309-7BCEED3403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stos de producción y costos de distribu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82520" indent="-45720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La tecnología digital </a:t>
            </a:r>
            <a:r>
              <a:rPr b="0" lang="es-ES_tradnl" sz="1800" spc="-1" strike="noStrike" u="sng">
                <a:solidFill>
                  <a:srgbClr val="6876e7"/>
                </a:solidFill>
                <a:uFillTx/>
                <a:latin typeface="Verdana"/>
              </a:rPr>
              <a:t>cambia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 dos de los costos relevantes a la información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527120" indent="-380880">
              <a:spcBef>
                <a:spcPts val="400"/>
              </a:spcBef>
              <a:buClr>
                <a:srgbClr val="f06157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876e7"/>
                </a:solidFill>
                <a:latin typeface="Verdana"/>
              </a:rPr>
              <a:t>Reduce dramáticamente los costos de hacer perfectas reproducciones y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527120" indent="-380880">
              <a:spcBef>
                <a:spcPts val="400"/>
              </a:spcBef>
              <a:buClr>
                <a:srgbClr val="f06157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876e7"/>
                </a:solidFill>
                <a:latin typeface="Verdana"/>
              </a:rPr>
              <a:t>Permite distribuir dichas reproducciones rápida y fácilmente, a un costo despreciable.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Otros adelantos tecnológicos han logrado cambios significativos en uno de los dos, pero el hecho de que cambien ambos crea oportunidades únicas de negoci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527120" indent="-38088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876e7"/>
                </a:solidFill>
                <a:latin typeface="Verdana"/>
              </a:rPr>
              <a:t>Ejemplo: grabador de cassettes disminuye 1, pero no 2.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527120" indent="-38088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876e7"/>
                </a:solidFill>
                <a:latin typeface="Verdana"/>
              </a:rPr>
              <a:t>Una fotocopia de la mona lisa permite una distribución masiva de la obra, pero para apreciar toda su calidad es necesario visitar Paris (1 no, 2 si)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527120" indent="-38088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876e7"/>
                </a:solidFill>
                <a:latin typeface="Verdana"/>
              </a:rPr>
              <a:t>La radio AM permite una distribución barata de música, pero de baja calidad e impidiendo que el usuario controle la reproducción.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Gestión de Propiedad Intelectual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59588-340F-4E2D-B0A7-D5A4649FB35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omar ventaja de los bajos costos de distribución -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galar el contenido (alineado con característica de bienes de experiencia de la informació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Consumidores no saben a priori cual es el valor de la información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Muestras gratis son una vieja práctica que ha resultado muy útil para Internet, sobretodo porque se puede controlar el consumo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Ejemplos: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Offline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librerías en US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Online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AMAZON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Importancia de los formatos y costumbres: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527120" indent="-38088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876e7"/>
                </a:solidFill>
                <a:latin typeface="Verdana"/>
              </a:rPr>
              <a:t>EMOL no sustituye 100% al diario El Mercurio: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527120" indent="-38088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876e7"/>
                </a:solidFill>
                <a:latin typeface="Verdana"/>
              </a:rPr>
              <a:t>Disponibilidad de un libro online no necesariamente daña las ventas del mismo, sino que las incrementa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Gestión de Propiedad Intelectual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BE99B-7E1C-4097-8102-F511DD93916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4540320" y="4329000"/>
            <a:ext cx="2465280" cy="2071800"/>
            <a:chOff x="4540320" y="4329000"/>
            <a:chExt cx="2465280" cy="2071800"/>
          </a:xfrm>
        </p:grpSpPr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5715000" y="4641840"/>
              <a:ext cx="1290600" cy="175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2"/>
            <a:stretch/>
          </p:blipFill>
          <p:spPr>
            <a:xfrm>
              <a:off x="4540320" y="4329000"/>
              <a:ext cx="2165400" cy="20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"/>
          <p:cNvSpPr/>
          <p:nvPr/>
        </p:nvSpPr>
        <p:spPr>
          <a:xfrm>
            <a:off x="648360" y="1523880"/>
            <a:ext cx="7666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mar ventaja de los bajos costos de distribución -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Gestión de Propiedad Intelectual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manda por repeticiones (música, películas infantil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Radio es de hecho una publicidad del contenido que transmite, pero en un empaque más conveniente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CD es lo que en economía se denomina un “Option Value”: El propietario puede ejercer la opción de escuchar la canción que desee en el momento que desee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Los niños y el deseo de repetir: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527120" indent="-3808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Caso Barney vs. Disney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0C360-2987-4F3A-8520-F0BEC7E2402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omar ventaja de los bajos costos de distribución -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manda por bienes similares pero no idént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Revista Playboy: Los “lectores” se aburrirían rápido si siempre vinieran exactamente las mismas imágenes. Ello quieren variación… pero no tanto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Distribución digital de imágenes permite la incorporación de sellos de agua o incluso variaciones tecnológicas más relevantes (especie de encriptación gráfica, modificando brillo, contraste o colores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Distintas versiones del mismo softwar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Gestión de Propiedad Intelectual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EDB72-0D6C-42D6-870C-7783C911700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omar ventaja de los bajos costos de distribución -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ductos Complementar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Índices de contenido de reportes (consultoras, investment banks, etc.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Titulares y artículos básicos en diarios y revista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527120" indent="-3808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WSJ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527120" indent="-3808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Economist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Contenido completo pero en formato incómodo  no imprimible (muchos links, mucha publicidad mezclada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Gestión de Propiedad Intelectual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261F3-6017-45E4-90F8-EE4CA5B90D9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Lock-in y costos de cambi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Comp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GM vs Toyot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PC vs Mac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Lock-in (amarre, cautiva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Proovedores buscan amarrar a sus client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Consumidores evitan sentirse amarrad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1DD90-0D48-4336-94CB-CDA2322CD92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 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Lock-i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ompras durables (Centrales teléfono, Iomega Zi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Reemplazo de eqipos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Tiende a decrecer lock-in con el tiemp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También disminuye cuando la depreciación es muy rápida (continuas mejoras tecnológicas) o si existe un mercado secundario (usados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onocimiento o entrenamiento específico de mar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Aprendizaje de un nevo sistema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Incluye costos directos y pérdida de productividad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Tiende a aumentar con el tiemp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Ejemplo clásico: casi cualquier softwar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4A91F-3312-4CE2-B959-10EC9DB9547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Información y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HW y SW usado para almacenar información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onvertir data en un nuevo format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Tiende a aumentar con el tempo al crecer la dat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jemplos clásicos: Vinilo - CD; VHS - Laserdisc - DVD …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Books (adobe vs microsoft),  eMusic (Real vs microsoft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roveedores especializ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Búsqueda de nuevos proveedores que cumplan requerimientos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stos de búsque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mpromisos contractu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Multas o compensacion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rogramas de fidelidad y lealtad de mar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Lock-in artificial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osto: necesidad de construir confianza como usuario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 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Lock-i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ED857-2004-437E-A12F-65D6455823D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 </a:t>
            </a:r>
            <a:br>
              <a:rPr sz="3000"/>
            </a:b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El ciclo de Lock-i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3352680" y="2057400"/>
            <a:ext cx="2416320" cy="307080"/>
          </a:xfrm>
          <a:prstGeom prst="rect">
            <a:avLst/>
          </a:prstGeom>
          <a:solidFill>
            <a:srgbClr val="fafea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lección de Ma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52680" y="4572000"/>
            <a:ext cx="2416320" cy="307080"/>
          </a:xfrm>
          <a:prstGeom prst="rect">
            <a:avLst/>
          </a:prstGeom>
          <a:solidFill>
            <a:srgbClr val="fafea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Entrañ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95280" y="3348000"/>
            <a:ext cx="1882800" cy="307080"/>
          </a:xfrm>
          <a:prstGeom prst="rect">
            <a:avLst/>
          </a:prstGeom>
          <a:solidFill>
            <a:srgbClr val="fafea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Lock-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43600" y="3348000"/>
            <a:ext cx="1882800" cy="307080"/>
          </a:xfrm>
          <a:prstGeom prst="rect">
            <a:avLst/>
          </a:prstGeom>
          <a:solidFill>
            <a:srgbClr val="fafea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"/>
          <p:cNvCxnSpPr>
            <a:stCxn id="204" idx="3"/>
            <a:endCxn id="207" idx="0"/>
          </p:cNvCxnSpPr>
          <p:nvPr/>
        </p:nvCxnSpPr>
        <p:spPr>
          <a:xfrm>
            <a:off x="5769000" y="2212560"/>
            <a:ext cx="1116720" cy="113580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209" name=""/>
          <p:cNvCxnSpPr>
            <a:stCxn id="207" idx="2"/>
            <a:endCxn id="205" idx="3"/>
          </p:cNvCxnSpPr>
          <p:nvPr/>
        </p:nvCxnSpPr>
        <p:spPr>
          <a:xfrm rot="5400000">
            <a:off x="5791320" y="3634560"/>
            <a:ext cx="1070640" cy="111672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210" name=""/>
          <p:cNvCxnSpPr>
            <a:stCxn id="205" idx="1"/>
            <a:endCxn id="206" idx="2"/>
          </p:cNvCxnSpPr>
          <p:nvPr/>
        </p:nvCxnSpPr>
        <p:spPr>
          <a:xfrm rot="10800000">
            <a:off x="2235960" y="3656880"/>
            <a:ext cx="1116720" cy="107064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211" name=""/>
          <p:cNvCxnSpPr>
            <a:stCxn id="206" idx="0"/>
            <a:endCxn id="204" idx="1"/>
          </p:cNvCxnSpPr>
          <p:nvPr/>
        </p:nvCxnSpPr>
        <p:spPr>
          <a:xfrm flipH="1" flipV="1" rot="5400000">
            <a:off x="2226960" y="2221920"/>
            <a:ext cx="1135800" cy="111672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F97B2-3214-4B39-8040-1BACD9AC820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stos de Cambi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stos de búsqueda (searching cost): costos de transacción de buscar un nuevo proveed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sto de cambio = costo de búsqueda + costo de evaluación (para elegir) + costo de desechar proveedor act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jemplo: Reemplazo de VHS por DV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valuar razones por las que se desea / requiere el cambi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Aprender sobre DVD (características, ventajas, etc.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Aprender sobre los distintos proveedores de DVD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legir un proveedor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Posiblemente comprar un nuevo TV por la conexión coaxial del antigu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Dejar de ver algunas películas que sólo están disponibles en VHS (costo social de no poder opinar en alguna reunión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7680B-B50D-4BCE-9B05-88FA9D60798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Objetivo del Curs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2520"/>
            <a:ext cx="77724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tregar herramientas para el análisis formal de las diferentes opciones de uso de Internet en los negoci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Entender los cambios que Internet está causando en el mundo de los negocios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Permitir  la toma de decisiones de marketing estratégico en el uso de Internet en la empresa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A57EB-2E0F-4FE4-AB65-DE8793797165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jemplos de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Lock-in y Costos de Cambi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eBay, Half.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Sistema de reputación de usuarios (rating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eBay: 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Half.com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Amaz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Servicio al cliente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Uso de perfil de usuario y actividades pasadas para recomendacion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2F41A-EB3D-4CC2-9B87-75D256EEF78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Ley de Metcalfe*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“</a:t>
            </a: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el valor de una red es proporcional al cuadrado del número de usuarios”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6876e7"/>
                </a:solidFill>
                <a:latin typeface="Verdana"/>
              </a:rPr>
              <a:t>n</a:t>
            </a: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 usuari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6876e7"/>
                </a:solidFill>
                <a:latin typeface="Verdana"/>
              </a:rPr>
              <a:t>v</a:t>
            </a: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: valor que tiene para un usuario cualquiera que haya otro usuario en la red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6876e7"/>
                </a:solidFill>
                <a:latin typeface="Verdana"/>
              </a:rPr>
              <a:t>V</a:t>
            </a: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: Valor total de la red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V = (# usuarios)*(valor por usuario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Valor por usuario = (n – 1)v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Valor de la red = n(n-1) v = (n</a:t>
            </a:r>
            <a:r>
              <a:rPr b="0" lang="es-MX" sz="2000" spc="-1" strike="noStrike" baseline="30000">
                <a:solidFill>
                  <a:srgbClr val="6876e7"/>
                </a:solidFill>
                <a:latin typeface="Verdana"/>
              </a:rPr>
              <a:t>2</a:t>
            </a: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 – n)v ~ n</a:t>
            </a:r>
            <a:r>
              <a:rPr b="0" lang="es-MX" sz="2000" spc="-1" strike="noStrike" baseline="30000">
                <a:solidFill>
                  <a:srgbClr val="6876e7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>
            <a:off x="438120" y="5867280"/>
            <a:ext cx="695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* F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undador de 3com e inventor del protocolo de comunicación de redes Eth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DF924-25C1-4E65-9EBD-5A32CE8C6BE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04560" y="1143000"/>
            <a:ext cx="4190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V = número de comunicaciones que se pueden realizar en un re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n: número de usuarios de la r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5333400" y="2576520"/>
            <a:ext cx="562680" cy="4338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609480" y="2590920"/>
          <a:ext cx="1524240" cy="259056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7694640" y="4253040"/>
            <a:ext cx="563400" cy="4338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#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942160" y="4176720"/>
            <a:ext cx="563400" cy="4338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#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237440" y="2347920"/>
            <a:ext cx="563400" cy="4338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1" idx="7"/>
            <a:endCxn id="225" idx="1"/>
          </p:cNvCxnSpPr>
          <p:nvPr/>
        </p:nvCxnSpPr>
        <p:spPr>
          <a:xfrm flipV="1">
            <a:off x="5811840" y="2418480"/>
            <a:ext cx="1510560" cy="22932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3"/>
            <a:endCxn id="221" idx="5"/>
          </p:cNvCxnSpPr>
          <p:nvPr/>
        </p:nvCxnSpPr>
        <p:spPr>
          <a:xfrm flipH="1">
            <a:off x="5811480" y="2709360"/>
            <a:ext cx="1510560" cy="22932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1" idx="3"/>
            <a:endCxn id="224" idx="2"/>
          </p:cNvCxnSpPr>
          <p:nvPr/>
        </p:nvCxnSpPr>
        <p:spPr>
          <a:xfrm>
            <a:off x="5416560" y="2938320"/>
            <a:ext cx="527760" cy="145656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24" idx="1"/>
            <a:endCxn id="221" idx="4"/>
          </p:cNvCxnSpPr>
          <p:nvPr/>
        </p:nvCxnSpPr>
        <p:spPr>
          <a:xfrm flipH="1" flipV="1">
            <a:off x="5614560" y="2998440"/>
            <a:ext cx="411840" cy="124992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24" idx="7"/>
            <a:endCxn id="223" idx="1"/>
          </p:cNvCxnSpPr>
          <p:nvPr/>
        </p:nvCxnSpPr>
        <p:spPr>
          <a:xfrm>
            <a:off x="6420960" y="4248000"/>
            <a:ext cx="1358280" cy="7668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3" idx="3"/>
            <a:endCxn id="224" idx="5"/>
          </p:cNvCxnSpPr>
          <p:nvPr/>
        </p:nvCxnSpPr>
        <p:spPr>
          <a:xfrm flipH="1" flipV="1">
            <a:off x="6420600" y="4538520"/>
            <a:ext cx="1358280" cy="7668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5" idx="5"/>
            <a:endCxn id="223" idx="0"/>
          </p:cNvCxnSpPr>
          <p:nvPr/>
        </p:nvCxnSpPr>
        <p:spPr>
          <a:xfrm>
            <a:off x="7716600" y="2709720"/>
            <a:ext cx="261000" cy="155520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23" idx="7"/>
            <a:endCxn id="225" idx="6"/>
          </p:cNvCxnSpPr>
          <p:nvPr/>
        </p:nvCxnSpPr>
        <p:spPr>
          <a:xfrm flipH="1" flipV="1">
            <a:off x="7798680" y="2565000"/>
            <a:ext cx="375480" cy="175968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34" name=""/>
          <p:cNvCxnSpPr>
            <a:stCxn id="221" idx="5"/>
            <a:endCxn id="223" idx="1"/>
          </p:cNvCxnSpPr>
          <p:nvPr/>
        </p:nvCxnSpPr>
        <p:spPr>
          <a:xfrm>
            <a:off x="5811840" y="2938320"/>
            <a:ext cx="1967760" cy="138672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23" idx="0"/>
            <a:endCxn id="221" idx="6"/>
          </p:cNvCxnSpPr>
          <p:nvPr/>
        </p:nvCxnSpPr>
        <p:spPr>
          <a:xfrm flipH="1" flipV="1">
            <a:off x="5893920" y="2793600"/>
            <a:ext cx="2083680" cy="147096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25" idx="3"/>
            <a:endCxn id="224" idx="0"/>
          </p:cNvCxnSpPr>
          <p:nvPr/>
        </p:nvCxnSpPr>
        <p:spPr>
          <a:xfrm flipH="1">
            <a:off x="6224040" y="2709720"/>
            <a:ext cx="1097640" cy="147888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24" idx="7"/>
            <a:endCxn id="225" idx="4"/>
          </p:cNvCxnSpPr>
          <p:nvPr/>
        </p:nvCxnSpPr>
        <p:spPr>
          <a:xfrm flipV="1">
            <a:off x="6421320" y="2769480"/>
            <a:ext cx="1099440" cy="147852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38" name=""/>
          <p:cNvSpPr/>
          <p:nvPr/>
        </p:nvSpPr>
        <p:spPr>
          <a:xfrm>
            <a:off x="1607040" y="345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07040" y="3886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41160" y="43290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29200" y="474336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MX" sz="14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-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>
            <a:hlinkClick r:id="" action="ppaction://hlinkshowjump?jump=previousslide"/>
          </p:cNvPr>
          <p:cNvSpPr/>
          <p:nvPr/>
        </p:nvSpPr>
        <p:spPr>
          <a:xfrm>
            <a:off x="8077320" y="601992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0977" y="10800"/>
                </a:moveTo>
                <a:lnTo>
                  <a:pt x="24990" y="3794"/>
                </a:lnTo>
                <a:lnTo>
                  <a:pt x="24990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" action="ppaction://hlinkshowjump?jump=nextslide"/>
          </p:cNvPr>
          <p:cNvSpPr/>
          <p:nvPr/>
        </p:nvSpPr>
        <p:spPr>
          <a:xfrm>
            <a:off x="8534520" y="60199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ED37E-8C9B-468B-964D-7B9762F44A5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Costo de adquisición de cli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“</a:t>
            </a: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Por qué pagar por adquirir un cliente”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Red de n-1 usuari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Valor de la red para usuarios n: (n-1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Valor que aporta a la red el usuario n: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2n - 1 &gt; n – 1, entonc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l valor que agrega a la red la incorporación de un usuario es mayor que el valor que entrega la red a ese usuari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2971800" y="3352680"/>
                <a:ext cx="29718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d>
                      </m:num>
                      <m:den>
                        <m:r>
                          <m:t xml:space="preserve">∂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BE196-BFB4-4527-98B4-C203CC3BA9B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Ley de disrupció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“</a:t>
            </a: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Mientras no se alcance una masa crítica de usuarios, un cambio tecnológico sólo afecta la tecnología; cuando esa masa crítica se logra, se producen cambios en los sistemas económicos, políticos y sociales”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C7928-D8B3-48BA-9731-11E5A505E42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Teléfon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1 o 2 usuarios son de dudosa utilidad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Durante mucho tiempo se mejoró la tecnología sobretodo para lograr la comunicación a través de los tableros de conexión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Sólo en 1931 se incorpora un discador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Internet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1961 – 1993: desarrollo de tecnología y aplicacion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1993: 2.5 millones de hosts conectados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A1B21-B93E-47B2-B090-A9347F620A3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ey de Metcalfe en rever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Impedir el crecimiento de la red para generar lock-in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Ejempl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AOL IM: evitar que usuarios de MS y Yahoo! Se comuniquen con clientes AOL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Universal Studios: prohibe que sitios de películas hagan links a sus sinópsis y contenid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Iniciativas de construir murallas alrededor debieran fracasar debido a la ley de Metcalf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Según esta ley, las redes grandes siempre ganarán a las pequeñas, aun cuando las pequeñas tengan una ventaja inicial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Internet, al ser la más grande de las redes, debiera ganar sobre cualquier otra red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3C039-75AD-46E3-943F-650BF739022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Uso de la ley en reversa para determinar el efecto de particionar re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Valor de la red: V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Red se divide en N partes igual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w = Valor de cada mini-red: 1/N</a:t>
            </a:r>
            <a:r>
              <a:rPr b="0" lang="es-MX" sz="2400" spc="-1" strike="noStrike" baseline="30000">
                <a:solidFill>
                  <a:srgbClr val="6876e7"/>
                </a:solidFill>
                <a:latin typeface="Verdana"/>
              </a:rPr>
              <a:t>2 </a:t>
            </a: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veces V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Hay N mini-redes de igual valor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Valor total de las N mini-redes sumada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d181e"/>
                </a:solidFill>
                <a:latin typeface="Verdana"/>
              </a:rPr>
              <a:t>N*(1/N</a:t>
            </a:r>
            <a:r>
              <a:rPr b="0" lang="es-MX" sz="2800" spc="-1" strike="noStrike" baseline="30000">
                <a:solidFill>
                  <a:srgbClr val="ed181e"/>
                </a:solidFill>
                <a:latin typeface="Verdana"/>
              </a:rPr>
              <a:t>2</a:t>
            </a:r>
            <a:r>
              <a:rPr b="0" lang="es-MX" sz="2800" spc="-1" strike="noStrike">
                <a:solidFill>
                  <a:srgbClr val="ed181e"/>
                </a:solidFill>
                <a:latin typeface="Verdana"/>
              </a:rPr>
              <a:t>)*V = (1/N) * V</a:t>
            </a:r>
            <a:endParaRPr b="0" lang="en-US" sz="2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B40F9-306C-4666-A24F-4A56D86E545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jemplo: Mensajeros Instantáne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1 sólo provee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600.000 usu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horro en teléfono:  $5 por cada mensaje eviado a otro usuar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ada usuario envía mensaje sólo a 20 otros usu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V</a:t>
            </a:r>
            <a:r>
              <a:rPr b="0" lang="es-MX" sz="1800" spc="-1" strike="noStrike" baseline="-25000">
                <a:solidFill>
                  <a:srgbClr val="6876e7"/>
                </a:solidFill>
                <a:latin typeface="Verdana"/>
              </a:rPr>
              <a:t>1 sólo</a:t>
            </a: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 = 600.000 X 5 X 20 = $60.000.000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i existen 5 proveedores no compatibles con 120.000 usuarios cada uno, con 1/5 de sus conocidos compartiendo la red )sólo puede enviar mesnaje a 4 de sus conocid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w</a:t>
            </a:r>
            <a:r>
              <a:rPr b="0" lang="es-MX" sz="1800" spc="-1" strike="noStrike" baseline="-25000">
                <a:solidFill>
                  <a:srgbClr val="6876e7"/>
                </a:solidFill>
                <a:latin typeface="Verdana"/>
              </a:rPr>
              <a:t>cada una</a:t>
            </a: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 = 120.000 X 5 X 4 = 2.400.000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V</a:t>
            </a:r>
            <a:r>
              <a:rPr b="0" lang="es-MX" sz="1800" spc="-1" strike="noStrike" baseline="-25000">
                <a:solidFill>
                  <a:srgbClr val="6876e7"/>
                </a:solidFill>
                <a:latin typeface="Verdana"/>
              </a:rPr>
              <a:t>de las 5 </a:t>
            </a: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= 5 x 2.400.000 = $12.000.000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Pérdida social: $48.000.000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D2D6D-2D71-4466-A054-CE480850A46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Generalmente 2 sub-re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Usuarios, clientes o demandant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Proveedor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jemp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Radiotaxi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Compraventa de autos o propiedad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eMarketplac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safí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Capacidad de generar las 2 sub-redes simultáneamente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Escalabilidad y masa crítica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8FBF6-3624-4781-B165-A601D77B68B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Preguntas que se podrán contestar al finalizar el curs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Como evaluar con rigurosidad y método los modelos de negocio de una compañía Interne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Por qué y dónde fallaron los modelos de muchas compañías de Interne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Qué formas de comunicación son más apropiadas para Interne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Cómo fijar precios de bienes digitales y de informació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Cómo diferenciarse en Interne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Cómo lograr ventajas competitivas sustentables en Interne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Qué tipos de conflictos pueden surgir con la implementación de modelos de Internet y cómo resolverlo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3B54B-99E3-491D-ADA3-04A794795557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Externalidades de redes y modelos de nego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aso Zoomera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Producto: servicio para realizar encuestas con herramientas de análisis onlin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Empresas: Acceso a poblaciones muestrales con alto grado de perfilamient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Usuarios: Posibilidad de realizar encuestas sencillas a cambio de perfiles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aso ZipRealty y Habita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Oferentes: sistema de Back-office y administración de propiedades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Demandantes: información útil para decidir sobre propiedades, asesoría inmobiliaria, servicio de visita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5FC9F-C2D3-4708-A1D2-19536CC2026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Otros ejemplo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51"/>
              </a:spcBef>
              <a:spcAft>
                <a:spcPts val="451"/>
              </a:spcAft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Potencial de negocio de los eMarketpla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spcAft>
                <a:spcPts val="400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6876e7"/>
                </a:solidFill>
                <a:latin typeface="Verdana"/>
              </a:rPr>
              <a:t>Iconstruye.com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spcAft>
                <a:spcPts val="400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6876e7"/>
                </a:solidFill>
                <a:latin typeface="Verdana"/>
              </a:rPr>
              <a:t>Secontruye.com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spcAft>
                <a:spcPts val="400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6876e7"/>
                </a:solidFill>
                <a:latin typeface="Verdana"/>
              </a:rPr>
              <a:t>Senegocia.com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spcAft>
                <a:spcPts val="400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6876e7"/>
                </a:solidFill>
                <a:latin typeface="Verdana"/>
              </a:rPr>
              <a:t>Artikos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spcAft>
                <a:spcPts val="400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6876e7"/>
                </a:solidFill>
                <a:latin typeface="Verdana"/>
              </a:rPr>
              <a:t>Merconet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spcAft>
                <a:spcPts val="400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6876e7"/>
                </a:solidFill>
                <a:latin typeface="Verdana"/>
              </a:rPr>
              <a:t>Laborum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spcAft>
                <a:spcPts val="400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6876e7"/>
                </a:solidFill>
                <a:latin typeface="Verdana"/>
              </a:rPr>
              <a:t>Farox, AyL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6F658-B6DA-413C-855A-B8E0609C853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Redes y feedback positiv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regunt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6000" indent="-33300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Cómo aprovechar las externalidades de redes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846000" indent="-33300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Cómo comenzar el feedback positivo? 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846000" indent="-33300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Como romper la inercia de los consumidores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846000" indent="-33300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Como crear una buena razón para cambiar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0384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52880" y="57913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10080" y="5791320"/>
            <a:ext cx="177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Valor Agregado total a la Indust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29000" y="4343400"/>
            <a:ext cx="304776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16200000">
            <a:off x="3807360" y="4613760"/>
            <a:ext cx="183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Participación del Valor de la Indust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67640" y="4044960"/>
            <a:ext cx="8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480720" y="549288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Ap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00200" y="40384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57913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44280" y="579132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Desempeñ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680" y="4343400"/>
            <a:ext cx="304704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16200000">
            <a:off x="795960" y="448272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6876e7"/>
                </a:solidFill>
                <a:latin typeface="Verdana"/>
              </a:rPr>
              <a:t>Compatibil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25760" y="404496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Evol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35960" y="5492880"/>
            <a:ext cx="109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Revol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0840" y="4502160"/>
            <a:ext cx="8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Opt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52880" y="4800600"/>
            <a:ext cx="1143000" cy="99072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62760" y="476712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A3189-0C8D-4214-9976-7E9D8CBACAA5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Desempeño (performance) versus compati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Estrategia de Revolución asociada al desempeñ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Revolución ofrece mejoras en el desempeño / calidad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Estrategia de Evolución asociada a la compatibilidad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Evolución ofrece una ruta de migración.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Aertura versus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PC: IBM, Intel Pentium, Microsoft D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Beta versus VH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Recordar que el objetivo es maximizar el valor de la nueva tecnología y no el control sobre ella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Redes y feedback positiv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F85B8-490F-4AEA-88BC-A884DDA7307C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Redes y feedback positiv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304920" y="2666880"/>
          <a:ext cx="8534160" cy="2424240"/>
        </p:xfrm>
        <a:graphic>
          <a:graphicData uri="http://schemas.openxmlformats.org/drawingml/2006/table">
            <a:tbl>
              <a:tblPr/>
              <a:tblGrid>
                <a:gridCol w="2590560"/>
                <a:gridCol w="3265560"/>
                <a:gridCol w="2678040"/>
              </a:tblGrid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er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7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ati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gración control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ed181e"/>
                          </a:solidFill>
                          <a:latin typeface="Verdana"/>
                        </a:rPr>
                        <a:t>(Windows 98, Intel Pentium I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gración abie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ed181e"/>
                          </a:solidFill>
                          <a:latin typeface="Verdana"/>
                        </a:rPr>
                        <a:t>(modem y fa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empe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performanc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uesta al Perform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ed181e"/>
                          </a:solidFill>
                          <a:latin typeface="Verdana"/>
                        </a:rPr>
                        <a:t>(Nintendo, Palm Pilot, Iomega ZI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ontinu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ed181e"/>
                          </a:solidFill>
                          <a:latin typeface="Verdana"/>
                        </a:rPr>
                        <a:t>(CD, DV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DCD99-DA3E-4DC1-883D-79E02DD80FB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Hacia la creación de un standard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os tácticas básic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Anticipar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Aprovecar feedback positiv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Aprender por experiencia (curva de aprendizaje) reduce cost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Externalidades de redes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Administración de expectativa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Claves cuando la decisión de compra depende de lo que los clientes esperan que suceda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Comunicacíon predatoria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Lanzar a tiemp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B92E5-71C5-46C7-8761-65F676BFBC3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1447920" y="2666880"/>
          <a:ext cx="7162560" cy="2665440"/>
        </p:xfrm>
        <a:graphic>
          <a:graphicData uri="http://schemas.openxmlformats.org/drawingml/2006/table">
            <a:tbl>
              <a:tblPr/>
              <a:tblGrid>
                <a:gridCol w="2209680"/>
                <a:gridCol w="2705040"/>
                <a:gridCol w="22478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at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pat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9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at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volución Ri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volución versus revolu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pat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volución versus Evolu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volución Ri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</a:tr>
            </a:tbl>
          </a:graphicData>
        </a:graphic>
      </p:graphicFrame>
      <p:sp>
        <p:nvSpPr>
          <p:cNvPr id="289" name=""/>
          <p:cNvSpPr/>
          <p:nvPr/>
        </p:nvSpPr>
        <p:spPr>
          <a:xfrm>
            <a:off x="3657600" y="2181240"/>
            <a:ext cx="493704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Tecnología R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rot="16200000">
            <a:off x="20520" y="3925440"/>
            <a:ext cx="1981080" cy="8254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Tecnología Pro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Hacia la creación de un standard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8850C-62C6-438A-8AA1-88F337170E2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odelo para definir una estrategia de Internet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>
            <a:off x="431640" y="3657600"/>
            <a:ext cx="6502680" cy="307080"/>
          </a:xfrm>
          <a:custGeom>
            <a:avLst/>
            <a:gdLst>
              <a:gd name="textAreaLeft" fmla="*/ 0 w 6502680"/>
              <a:gd name="textAreaRight" fmla="*/ 6503040 w 650268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14" y="0"/>
                </a:lnTo>
                <a:lnTo>
                  <a:pt x="21600" y="10800"/>
                </a:lnTo>
                <a:lnTo>
                  <a:pt x="206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 de 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1640" y="3976560"/>
            <a:ext cx="6502680" cy="307080"/>
          </a:xfrm>
          <a:custGeom>
            <a:avLst/>
            <a:gdLst>
              <a:gd name="textAreaLeft" fmla="*/ 0 w 6502680"/>
              <a:gd name="textAreaRight" fmla="*/ 6503040 w 650268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40" y="0"/>
                </a:lnTo>
                <a:lnTo>
                  <a:pt x="21600" y="10800"/>
                </a:lnTo>
                <a:lnTo>
                  <a:pt x="206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 de Me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1640" y="4295880"/>
            <a:ext cx="6502680" cy="307080"/>
          </a:xfrm>
          <a:custGeom>
            <a:avLst/>
            <a:gdLst>
              <a:gd name="textAreaLeft" fmla="*/ 0 w 6502680"/>
              <a:gd name="textAreaRight" fmla="*/ 6503040 w 650268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40" y="0"/>
                </a:lnTo>
                <a:lnTo>
                  <a:pt x="21600" y="10800"/>
                </a:lnTo>
                <a:lnTo>
                  <a:pt x="206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 política y púb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211880" y="2739960"/>
            <a:ext cx="103320" cy="917640"/>
          </a:xfrm>
          <a:custGeom>
            <a:avLst/>
            <a:gdLst>
              <a:gd name="textAreaLeft" fmla="*/ 0 w 103320"/>
              <a:gd name="textAreaRight" fmla="*/ 37440 w 103320"/>
              <a:gd name="textAreaTop" fmla="*/ 23760 h 917640"/>
              <a:gd name="textAreaBottom" fmla="*/ 893880 h 91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211880" y="3654360"/>
            <a:ext cx="103320" cy="993960"/>
          </a:xfrm>
          <a:custGeom>
            <a:avLst/>
            <a:gdLst>
              <a:gd name="textAreaLeft" fmla="*/ 0 w 103320"/>
              <a:gd name="textAreaRight" fmla="*/ 37440 w 103320"/>
              <a:gd name="textAreaTop" fmla="*/ 25920 h 993960"/>
              <a:gd name="textAreaBottom" fmla="*/ 968040 h 99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328880" y="2895480"/>
            <a:ext cx="113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strate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320960" y="3863880"/>
            <a:ext cx="145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 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70280" y="273672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Interfa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usu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05120" y="274320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Mod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nego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31640" y="2743200"/>
            <a:ext cx="1828800" cy="92088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00" y="0"/>
                </a:lnTo>
                <a:lnTo>
                  <a:pt x="21600" y="10800"/>
                </a:lnTo>
                <a:lnTo>
                  <a:pt x="17700" y="21600"/>
                </a:lnTo>
                <a:lnTo>
                  <a:pt x="0" y="21600"/>
                </a:lnTo>
                <a:lnTo>
                  <a:pt x="39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Oportun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784680" y="274320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omuni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699080" y="274320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Impl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menta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638680" y="2743200"/>
            <a:ext cx="1295640" cy="92088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Evalua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16200000">
            <a:off x="1943280" y="876240"/>
            <a:ext cx="304560" cy="3276720"/>
          </a:xfrm>
          <a:custGeom>
            <a:avLst/>
            <a:gdLst>
              <a:gd name="textAreaLeft" fmla="*/ 0 w 304560"/>
              <a:gd name="textAreaRight" fmla="*/ 109800 w 30456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6200000">
            <a:off x="5005440" y="1118880"/>
            <a:ext cx="276120" cy="2819160"/>
          </a:xfrm>
          <a:custGeom>
            <a:avLst/>
            <a:gdLst>
              <a:gd name="textAreaLeft" fmla="*/ 0 w 276120"/>
              <a:gd name="textAreaRight" fmla="*/ 99720 w 27612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35520" y="1949400"/>
            <a:ext cx="172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Etapa de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34000" y="1949400"/>
            <a:ext cx="26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Etapa de Imple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9280" y="2421000"/>
            <a:ext cx="4248360" cy="1439640"/>
          </a:xfrm>
          <a:prstGeom prst="ellipse">
            <a:avLst/>
          </a:prstGeom>
          <a:noFill/>
          <a:ln w="936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2C077-F342-4709-A25D-E3EC351F238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odelo 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para una estrategia de Internet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1763640" y="2276640"/>
            <a:ext cx="4500720" cy="1981080"/>
          </a:xfrm>
          <a:custGeom>
            <a:avLst/>
            <a:gdLst>
              <a:gd name="textAreaLeft" fmla="*/ 0 w 4500720"/>
              <a:gd name="textAreaRight" fmla="*/ 4501080 w 4500720"/>
              <a:gd name="textAreaTop" fmla="*/ 0 h 1981080"/>
              <a:gd name="textAreaBottom" fmla="*/ 198144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00" y="0"/>
                </a:lnTo>
                <a:lnTo>
                  <a:pt x="21600" y="10800"/>
                </a:lnTo>
                <a:lnTo>
                  <a:pt x="17700" y="21600"/>
                </a:lnTo>
                <a:lnTo>
                  <a:pt x="0" y="21600"/>
                </a:lnTo>
                <a:lnTo>
                  <a:pt x="39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port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(de mercado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de mejor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de cambio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de integra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2A584-9523-4176-93D7-4EAF2157814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55555"/>
                </a:solidFill>
                <a:latin typeface="Verdana"/>
              </a:rPr>
              <a:t>Análisis a “2 bandas”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3285360" y="1486080"/>
            <a:ext cx="2539800" cy="5806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PROPUESTA DE NEGO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PRELIMIN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4000" y="1413000"/>
            <a:ext cx="1944360" cy="211752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Verdana"/>
              </a:rPr>
              <a:t>Set de beneficios para sub-red de ofer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77080" y="1413000"/>
            <a:ext cx="1944720" cy="211752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Verdana"/>
              </a:rPr>
              <a:t>Set de beneficios para sub-red de demanda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9000000">
            <a:off x="2267640" y="1844280"/>
            <a:ext cx="790920" cy="360360"/>
          </a:xfrm>
          <a:custGeom>
            <a:avLst/>
            <a:gdLst>
              <a:gd name="textAreaLeft" fmla="*/ 98640 w 790920"/>
              <a:gd name="textAreaRight" fmla="*/ 692280 w 790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2400" y="3573360"/>
            <a:ext cx="140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Verdana"/>
              </a:rPr>
              <a:t>Análisis 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Verdana"/>
              </a:rPr>
              <a:t>Lado de la ofer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052400" y="3573360"/>
            <a:ext cx="163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Verdana"/>
              </a:rPr>
              <a:t>Análisis 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Verdana"/>
              </a:rPr>
              <a:t>Lado de la dema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 rot="12600000">
            <a:off x="6084000" y="1917360"/>
            <a:ext cx="791280" cy="360360"/>
          </a:xfrm>
          <a:custGeom>
            <a:avLst/>
            <a:gdLst>
              <a:gd name="textAreaLeft" fmla="*/ 98640 w 791280"/>
              <a:gd name="textAreaRight" fmla="*/ 692640 w 791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77960" y="3502080"/>
            <a:ext cx="2187720" cy="5806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MODELO DE NEGO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(Propuesta de Val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rot="16200000">
            <a:off x="3957120" y="2096280"/>
            <a:ext cx="1213560" cy="1365120"/>
          </a:xfrm>
          <a:custGeom>
            <a:avLst/>
            <a:gdLst>
              <a:gd name="textAreaLeft" fmla="*/ 151560 w 1213560"/>
              <a:gd name="textAreaRight" fmla="*/ 1062000 w 1213560"/>
              <a:gd name="textAreaTop" fmla="*/ 341280 h 1365120"/>
              <a:gd name="textAreaBottom" fmla="*/ 1023840 h 1365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Verdana"/>
              </a:rPr>
              <a:t>Análisis de oportun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flipV="1" rot="10800000">
            <a:off x="2267280" y="3643920"/>
            <a:ext cx="790920" cy="360360"/>
          </a:xfrm>
          <a:custGeom>
            <a:avLst/>
            <a:gdLst>
              <a:gd name="textAreaLeft" fmla="*/ 98640 w 790920"/>
              <a:gd name="textAreaRight" fmla="*/ 692280 w 790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 rot="10711800">
            <a:off x="6086520" y="3643920"/>
            <a:ext cx="790560" cy="360360"/>
          </a:xfrm>
          <a:custGeom>
            <a:avLst/>
            <a:gdLst>
              <a:gd name="textAreaLeft" fmla="*/ 98640 w 790560"/>
              <a:gd name="textAreaRight" fmla="*/ 691920 w 7905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74920" y="5540400"/>
            <a:ext cx="2592360" cy="48096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Oferta efec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rot="16200000">
            <a:off x="3995640" y="3429000"/>
            <a:ext cx="1152720" cy="2736720"/>
          </a:xfrm>
          <a:custGeom>
            <a:avLst/>
            <a:gdLst>
              <a:gd name="textAreaLeft" fmla="*/ 144000 w 1152720"/>
              <a:gd name="textAreaRight" fmla="*/ 1008720 w 1152720"/>
              <a:gd name="textAreaTop" fmla="*/ 684000 h 2736720"/>
              <a:gd name="textAreaBottom" fmla="*/ 2052720 h 2736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Verdana"/>
              </a:rPr>
              <a:t>Implemen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E5CFF-A07E-4E89-87B5-B2F358375BF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Preguntas que NO se podrán contestar con este curs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Como diseñar páginas web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Qué significa web, http, www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Qué es o como se programa en html, java, flash, javascrip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Qué diferencia hay entre Explorer o Netscap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Cómo decidir entre Microsoft, SUN, Oracle, Sybas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uchas otras de corte tecnológic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BCF6A-A466-48EC-88EE-51A16C004032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Pregunta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¿Qué modelo utilizar para el análisis de oportunidades (de mercado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¿Es el análisis diferente en la economía de la informació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¿Cómo identificamos necesidades no cubiertas o sub-satisfech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e donde provienen los recursos para entregar los beneficios de la oferta propuest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mo determinamos el atractivo de la oportunida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44F56-ECA6-4795-9737-6DD165AF47B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odelo para diagnosticar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Oportunidades de Mercad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1630440" y="1523520"/>
            <a:ext cx="576108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Identificar oportunidad en sistema de valor existente o nue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39800" y="2136960"/>
            <a:ext cx="5765760" cy="52020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Descubrir nucleo de la oportunidad: necesidades no cubiertas o sub-satisfec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639800" y="2976120"/>
            <a:ext cx="576576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Identificar segmento objetivo (targ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39800" y="3584880"/>
            <a:ext cx="5765760" cy="52020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Identificar los recursos de la compañía necesarios para tomar una posición ventajo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633680" y="4422960"/>
            <a:ext cx="5765760" cy="52020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Determinar atractivo competitivo, tecnológico y financiero de la oportun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639800" y="5262120"/>
            <a:ext cx="576576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Tomar decisión de IR / NO 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30" idx="2"/>
            <a:endCxn id="331" idx="0"/>
          </p:cNvCxnSpPr>
          <p:nvPr/>
        </p:nvCxnSpPr>
        <p:spPr>
          <a:xfrm>
            <a:off x="4511160" y="1836360"/>
            <a:ext cx="11880" cy="29268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337" name=""/>
          <p:cNvCxnSpPr>
            <a:stCxn id="331" idx="2"/>
            <a:endCxn id="332" idx="0"/>
          </p:cNvCxnSpPr>
          <p:nvPr/>
        </p:nvCxnSpPr>
        <p:spPr>
          <a:xfrm>
            <a:off x="4522320" y="2665080"/>
            <a:ext cx="1080" cy="30564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338" name=""/>
          <p:cNvCxnSpPr>
            <a:stCxn id="332" idx="2"/>
            <a:endCxn id="333" idx="0"/>
          </p:cNvCxnSpPr>
          <p:nvPr/>
        </p:nvCxnSpPr>
        <p:spPr>
          <a:xfrm>
            <a:off x="4522320" y="3289320"/>
            <a:ext cx="1080" cy="28800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339" name=""/>
          <p:cNvCxnSpPr>
            <a:stCxn id="333" idx="2"/>
            <a:endCxn id="334" idx="0"/>
          </p:cNvCxnSpPr>
          <p:nvPr/>
        </p:nvCxnSpPr>
        <p:spPr>
          <a:xfrm flipH="1">
            <a:off x="4515840" y="4113000"/>
            <a:ext cx="6840" cy="30204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4" idx="2"/>
            <a:endCxn id="335" idx="0"/>
          </p:cNvCxnSpPr>
          <p:nvPr/>
        </p:nvCxnSpPr>
        <p:spPr>
          <a:xfrm>
            <a:off x="4516200" y="4951080"/>
            <a:ext cx="6840" cy="30564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7289F-1AFA-482E-8E17-59DD7D47F1BB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1. </a:t>
            </a: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Identifica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ión de</a:t>
            </a: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 oportunidad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Sistema de valor es el campo de jueg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Cadena completa de proveedores, distribuidores, competidores, compradores e intermediarios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Identificar oferta existente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Generalmente el punto de partida es la creencia o convencimiento de que algo puede ser reinventado o transformado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Actividades económicas pueden ser redireccionadas o creada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66257-1F2C-4011-B3BD-1563E2DA7E0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2. Descubrir núcleo de la oportunidad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Aumentar satisfacción de los clie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Crear una nueva experie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¿Como sabe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¿qué hacen los consumidores que les produce frustración?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¿qué dejan de hacer?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¿qué puede ser mejorado, aun cuando no sea percibido por los usuarios?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escubri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Necesidades no cubiertas o insatisfecha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Necesidades pobremente servida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211AD-E45D-4735-BF9F-152DBBDEF2CE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3. Segmento objetiv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Identificación y elección de clientes prioritari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Entendimiento preliminar del atractivo de la oportun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¿Quienes son? ¿qué los hace atractivos? ¿qué experiencias están buscando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¿qué se les puede ofrece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¿qué cambios requeriría la organizació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5DE50-DF3A-4823-A7D1-018FE167CB83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4. Recursos de la compañía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Examinar las capacidades y actividades que la organización puede utilizar para lograr la oferta en una posición ventajos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¿Por qué se puede gana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iferenciar los recursos críticos de aquellos menos releva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4B4EE-DC50-4A6B-B117-5EDE72A71834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5. Determinar atractiv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Análisis de ambiente financiero, tecnológico y competitivo del mercad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Atractivo económico de la oportun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18B47-07E4-4B62-B3A3-08676E7CDAE1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Diferencias del análisis respecto a lo tradicional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65120" indent="-465120">
              <a:lnSpc>
                <a:spcPct val="8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ompetencia puede ocurrir a través de los límites de diferentes industri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38880" indent="-36972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Ejemplo: cars.com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93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Antes</a:t>
            </a: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Ahora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93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Comparación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Revista especializada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cars.com</a:t>
            </a:r>
            <a:endParaRPr b="0" lang="en-US" sz="1400" spc="-1" strike="noStrike">
              <a:solidFill>
                <a:srgbClr val="6876e7"/>
              </a:solidFill>
              <a:latin typeface="Verdana"/>
            </a:endParaRPr>
          </a:p>
          <a:p>
            <a:pPr lvl="1" marL="93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Búsqueda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Clasificados de El Mercurio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cars.com</a:t>
            </a:r>
            <a:endParaRPr b="0" lang="en-US" sz="1400" spc="-1" strike="noStrike">
              <a:solidFill>
                <a:srgbClr val="6876e7"/>
              </a:solidFill>
              <a:latin typeface="Verdana"/>
            </a:endParaRPr>
          </a:p>
          <a:p>
            <a:pPr lvl="1" marL="93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Compra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Representante o automotora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cars.com</a:t>
            </a:r>
            <a:endParaRPr b="0" lang="en-US" sz="1400" spc="-1" strike="noStrike">
              <a:solidFill>
                <a:srgbClr val="6876e7"/>
              </a:solidFill>
              <a:latin typeface="Verdana"/>
            </a:endParaRPr>
          </a:p>
          <a:p>
            <a:pPr lvl="1" marL="93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Financiamiento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Banco, financiera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cars.com</a:t>
            </a:r>
            <a:endParaRPr b="0" lang="en-US" sz="1400" spc="-1" strike="noStrike">
              <a:solidFill>
                <a:srgbClr val="6876e7"/>
              </a:solidFill>
              <a:latin typeface="Verdana"/>
            </a:endParaRPr>
          </a:p>
          <a:p>
            <a:pPr lvl="1" marL="93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Seguro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Compañía de seguro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cars.com</a:t>
            </a:r>
            <a:endParaRPr b="0" lang="en-US" sz="1400" spc="-1" strike="noStrike">
              <a:solidFill>
                <a:srgbClr val="6876e7"/>
              </a:solidFill>
              <a:latin typeface="Verdana"/>
            </a:endParaRPr>
          </a:p>
          <a:p>
            <a:pPr lvl="1" marL="93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Repuestos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Representante, taller, 10 de Julio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cars.com</a:t>
            </a:r>
            <a:endParaRPr b="0" lang="en-US" sz="1400" spc="-1" strike="noStrike">
              <a:solidFill>
                <a:srgbClr val="6876e7"/>
              </a:solidFill>
              <a:latin typeface="Verdana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ompetencia a gran rapide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38880" indent="-36972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Mejoras constantes y lanzamientos inmediat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938880" indent="-36972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Rapidez de copia de buenas prácticas obliga a ser más innovadores y creativ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Éxito ligado a alianzas y colabor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38880" indent="-36972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Cars.com no es capaz de hacer todo lo que ofrece sol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40124-3701-416F-AB5F-7B14D54BE12D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Diferencias del análisis respecto a lo tradicional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nsumidores aún están en las primeras etapas de adop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trade-off entre facilidad de influenciarlos y resistencia al cambi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istemas de valor de las industrias se reconfiguran rápidam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Senegocia.com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isco, DELL, Wal-Mart y su uso de Internet B2B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Infomediación: 2 análisis en vez de un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6876e7"/>
                </a:solidFill>
                <a:latin typeface="Verdana"/>
              </a:rPr>
              <a:t>lado de la ofert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6876e7"/>
                </a:solidFill>
                <a:latin typeface="Verdana"/>
              </a:rPr>
              <a:t>lado de la demand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93BFD-5A1C-4C23-9356-A5B6F31CAE5D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Objetivo del análisis de mercad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Identificar fuentes de creación de valor o modificación (mejoramiento) de valor exist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76e7"/>
                </a:solidFill>
                <a:latin typeface="Verdana"/>
              </a:rPr>
              <a:t>Crear valor: “valor nuevo” en el mund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76e7"/>
                </a:solidFill>
                <a:latin typeface="Verdana"/>
              </a:rPr>
              <a:t>Agregar valor: “valor atrapado”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EBDB4-60A3-48C6-82EA-38F2CEF32D8E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Acerca del Curs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rso 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Interne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y 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strateg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tilizaremos algunos conceptos de “estrategia corporativa” y “estrategias de negocios” para definir, evaluar e implementar “estrategias de Internet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 foco estará en los aspectos comerciales  y de marketing y no tecnológic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remos la distinción entre estrategia y planifica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4A68D-D202-49A5-8586-7ED7AA76773F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Sistemas de Valor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5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os negocios consisten en un conjunto discreto y finito de individuos y organizaciones que realizan actividades con el objeto de entregar algún beneficio a los consumidores a través de productos o servicios y así lucrar o no lucrar de ell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5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stas actividades integradas constituyen una “cadena de valor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5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as cadenas de valor que están ligadas a una industria se denomina “sistema de valor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ed181e"/>
                </a:solidFill>
                <a:latin typeface="Verdana"/>
              </a:rPr>
              <a:t>“</a:t>
            </a:r>
            <a:r>
              <a:rPr b="0" lang="es-MX" sz="2000" spc="-1" strike="noStrike">
                <a:solidFill>
                  <a:srgbClr val="ed181e"/>
                </a:solidFill>
                <a:latin typeface="Verdana"/>
              </a:rPr>
              <a:t>Sistema de Valor”: Interconexión de procesos y actividades dentro y a través de firmas que crean beneficios para intermediarios y consumidores fin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464EB-8E1B-4D4F-8B45-AC03243B1125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La firma y los sistemas de valor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1760" indent="-406440">
              <a:spcBef>
                <a:spcPts val="601"/>
              </a:spcBef>
              <a:buClr>
                <a:srgbClr val="333399"/>
              </a:buClr>
              <a:buFont typeface="Verdana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Serie de actividades, funciones y procedimientos que resultan en la creación de un producto o servicio final </a:t>
            </a:r>
            <a:r>
              <a:rPr b="0" lang="es-MX" sz="2400" spc="-1" strike="noStrike">
                <a:solidFill>
                  <a:srgbClr val="b2b2b2"/>
                </a:solidFill>
                <a:latin typeface="Verdana"/>
              </a:rPr>
              <a:t>(compra de materiales, producción, marketing, ventas, etc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333399"/>
              </a:buClr>
              <a:buFont typeface="Verdana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Actividades de soporte o complementarias para asegurar viavilidad y sustentabilidad </a:t>
            </a:r>
            <a:r>
              <a:rPr b="0" lang="es-MX" sz="2400" spc="-1" strike="noStrike">
                <a:solidFill>
                  <a:srgbClr val="b2b2b2"/>
                </a:solidFill>
                <a:latin typeface="Verdana"/>
              </a:rPr>
              <a:t>(planificación financiera, control de gestión reclutamiento, investigación y desarrollo, etc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901"/>
              </a:spcBef>
              <a:buClr>
                <a:srgbClr val="000000"/>
              </a:buClr>
              <a:buFont typeface="Verdana"/>
              <a:buChar char="=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ed181e"/>
                </a:solidFill>
                <a:latin typeface="Verdana"/>
              </a:rPr>
              <a:t>Firma</a:t>
            </a:r>
            <a:endParaRPr b="0" lang="en-US" sz="36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72FFE-CF0E-4566-BE0C-23B2211201DD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La firma y los sistemas de valor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l objetivo de la firma 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700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876e7"/>
                </a:solidFill>
                <a:latin typeface="Verdana"/>
              </a:rPr>
              <a:t>Reconfigurar cadenas de valor existentes para liberar Valor “Atrapado”</a:t>
            </a:r>
            <a:endParaRPr b="0" lang="en-US" sz="2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700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876e7"/>
                </a:solidFill>
                <a:latin typeface="Verdana"/>
              </a:rPr>
              <a:t>Crear beneficios inexistentes al introducir Valor “nuevo en el mundo”</a:t>
            </a:r>
            <a:endParaRPr b="0" lang="en-US" sz="2800" spc="-1" strike="noStrike">
              <a:solidFill>
                <a:srgbClr val="6876e7"/>
              </a:solidFill>
              <a:latin typeface="Verdana"/>
            </a:endParaRPr>
          </a:p>
          <a:p>
            <a:pPr marL="511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7A5DD-BFEB-4926-B725-A99F82B528E7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Valor “Atrapado”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xistente en esencia, pero cerrado, atrapado por tradición, inercia, cultura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Tiene que ver con “Agregar valor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4 tip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reación de mercados más eficient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disminuyendo costos de búsqueda y transacción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b2b2b2"/>
                </a:solidFill>
                <a:latin typeface="Verdana"/>
              </a:rPr>
              <a:t>senegocia.com, Habitante, Autodia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reación de sistemas de valor más eficient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Disminución o eliminación de pasos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b2b2b2"/>
                </a:solidFill>
                <a:latin typeface="Verdana"/>
              </a:rPr>
              <a:t>GTNexus, FedEx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Facilitar acces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b2b2b2"/>
                </a:solidFill>
                <a:latin typeface="Verdana"/>
              </a:rPr>
              <a:t>Laborum.com, Guru.com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Romper relaciones de poder de precios vigente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Cambio de manos de los excedentes o márgenes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b2b2b2"/>
                </a:solidFill>
                <a:latin typeface="Verdana"/>
              </a:rPr>
              <a:t>Mysimon.com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BCD41-9ED2-4583-A169-875A4D65D781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Valor “Nuevo en el mundo”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Tiene que ver con “Crear Valor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5 tip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Oferta personalizada (customizada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b2b2b2"/>
                </a:solidFill>
                <a:latin typeface="Verdana"/>
              </a:rPr>
              <a:t>mi.XXX.com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Riqueza y alcance radicalmente extendid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onstrucción de comunidades (marketing viral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b2b2b2"/>
                </a:solidFill>
                <a:latin typeface="Verdana"/>
              </a:rPr>
              <a:t>Chat rooms, virtualia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Permitir colaboración remot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Buzzsaw.com</a:t>
            </a:r>
            <a:r>
              <a:rPr b="0" lang="es-MX" sz="1600" spc="-1" strike="noStrike">
                <a:solidFill>
                  <a:srgbClr val="b2b2b2"/>
                </a:solidFill>
                <a:latin typeface="Verdana"/>
              </a:rPr>
              <a:t>, </a:t>
            </a:r>
            <a:r>
              <a:rPr b="0" lang="es-MX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lanOK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ntroducir nuevas funcionalidades o “experiencial”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Compartir fotografías o incluso películas familiares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46ED5-FE81-4A6C-9DAE-A6CD0A728BAD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Identificación de necesidades no cubiertas o sub-satisfecha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rimero: examinar proceso de decisión del 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Pasos que realiza hasta decidir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Quién está involucrado y en que rol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Diferentes patrones seguidos por diferentes consumidores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Donde tiene lugar el proceso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Tiempo total del proceso? ¿Tiempo de cada pado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Diferentes categorías y competidores considerados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Alternativas descartadas a priori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Que consumidoresno participan? ¿Por que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n algunos casos, dos o más sets de consumidores: usuarios y clientes (EMOL, CNN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E1188-0AD5-4EAF-AD60-DFA1220372C9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Revelando necesidades no cubiertas o sub-satisfecha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Basado en el proceso de decisió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Cómo sería la experiencia ideal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Cuánto difiere (y cómo) la realidad de lo ideal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Cuáles son los aspectos críticos de frustración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qué comportamientos compensatorios identificamos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qué necesidades están siendo cubiertas pero pobremente (aunque el cliente no se de cuenta)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Existen grupos que por motivos de entorno experimenten diferentes grados de satisfacción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Como puede ayudar Internet a disminuir la brecha entre la experiencia real y la ideal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9BF6E-9B2F-4EB6-A684-D3EEE6595DA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55555"/>
                </a:solidFill>
                <a:latin typeface="Verdana"/>
              </a:rPr>
              <a:t>Análisis de Consumidores y Segmentació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¿Por que hacerlo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76e7"/>
                </a:solidFill>
                <a:latin typeface="Verdana"/>
              </a:rPr>
              <a:t>Fundamental para desarrollar ventajas competitivas sustentabl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Diferenciación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Bajos cost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Foco estratégic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76e7"/>
                </a:solidFill>
                <a:latin typeface="Verdana"/>
              </a:rPr>
              <a:t>Permite determinar los beneficios a ofrecer (modelo de negocio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76e7"/>
                </a:solidFill>
                <a:latin typeface="Verdana"/>
              </a:rPr>
              <a:t>Ayuda a lograr una comunicación más eficiente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Lenguaj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Medi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Frecuencia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B58D1-9826-4E54-A0DD-F2E40426ACC0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55555"/>
                </a:solidFill>
                <a:latin typeface="Verdana"/>
              </a:rPr>
              <a:t>Análisis de Consumidores y Segmentació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¿Cómo hacerlo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76e7"/>
                </a:solidFill>
                <a:latin typeface="Verdana"/>
              </a:rPr>
              <a:t>El sentido común no siempre ayud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76e7"/>
                </a:solidFill>
                <a:latin typeface="Verdana"/>
              </a:rPr>
              <a:t>Identificar tantas variables de segmentación como sea posible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76e7"/>
                </a:solidFill>
                <a:latin typeface="Verdana"/>
              </a:rPr>
              <a:t>Descartar razonablemente las menos significativa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76e7"/>
                </a:solidFill>
                <a:latin typeface="Verdana"/>
              </a:rPr>
              <a:t>Realizar estudios cuantitativ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B8014-6EE2-45C2-AE4E-42E53350654E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Segmentación y Targeting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Diferenciación de consumidores respecto de variables determinad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25320" y="1825560"/>
          <a:ext cx="7985160" cy="449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825560"/>
                    <a:ext cx="798516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72CE3-49DB-42C9-B522-FF0B9AFF5C0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ntenidos del Curs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Economías de Intern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Análisis de Internet como plataforma de negoci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Oportunidades de merca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Modelos de Negoc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EC015-B9B9-4D8B-A4A2-7F59B7DA8B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Requerimientos para una segmentación efectiva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>
            <a:off x="314280" y="1503360"/>
            <a:ext cx="1590840" cy="596880"/>
          </a:xfrm>
          <a:prstGeom prst="rect">
            <a:avLst/>
          </a:prstGeom>
          <a:solidFill>
            <a:srgbClr val="f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ignific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814400" y="137124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Consumidores deben demostrar necesidades, aspiraciones o patrones de comportamiento que sean similares dentro de un mismo segmento y diferentes entre segment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6876e7"/>
                </a:solidFill>
                <a:latin typeface="Verdana"/>
              </a:rPr>
              <a:t>Una distinción de segmentros entre sensibilidad al precio y buscador de calidad es significativa, pues ambos segmentos muestran un set de necesidades distinguibles</a:t>
            </a:r>
            <a:endParaRPr b="0" lang="en-US" sz="12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Una compañía debe ser capaz de alcanzar consumidores dentro de cada segmento a través de un plan de márketing efectivo y focalizad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6876e7"/>
                </a:solidFill>
                <a:latin typeface="Verdana"/>
              </a:rPr>
              <a:t>Una segementación consistente en consumidores con ojos café no es accionable, pues es difícil identificar y alcanzar sólo esos consumidores</a:t>
            </a:r>
            <a:endParaRPr b="0" lang="en-US" sz="12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Segmentos deben ser suficientemente grandes y rentables para justificar las inversiones necesarias en servirl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6876e7"/>
                </a:solidFill>
                <a:latin typeface="Verdana"/>
              </a:rPr>
              <a:t>Un sitio llamado myCFO.com está orientado a individuos con altos ingresos o riqueza, para manejar sus portafolios de inversión. Aún cuando el número de esos individuos no es muy grande, el tamaño en $ es considerable, constituyendo un segmento sustancial</a:t>
            </a:r>
            <a:endParaRPr b="0" lang="en-US" sz="12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Características básicas de los segmentos (tamaño, patrón de gasto, etc.) deben ser fáciles de me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"/>
          <p:cNvSpPr/>
          <p:nvPr/>
        </p:nvSpPr>
        <p:spPr>
          <a:xfrm>
            <a:off x="314280" y="2847960"/>
            <a:ext cx="1590840" cy="596880"/>
          </a:xfrm>
          <a:prstGeom prst="rect">
            <a:avLst/>
          </a:prstGeom>
          <a:solidFill>
            <a:srgbClr val="f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ccio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8960" y="4038480"/>
            <a:ext cx="1590840" cy="596880"/>
          </a:xfrm>
          <a:prstGeom prst="rect">
            <a:avLst/>
          </a:prstGeom>
          <a:solidFill>
            <a:srgbClr val="f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ustan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4920" y="5362560"/>
            <a:ext cx="1590480" cy="596880"/>
          </a:xfrm>
          <a:prstGeom prst="rect">
            <a:avLst/>
          </a:prstGeom>
          <a:solidFill>
            <a:srgbClr val="f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Med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AB0A7-C2AA-4DE9-B014-EE42F071D18E}" type="slidenum">
              <a:t>80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Segmentación basada en necesidade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onsumidores y negocios compran bienes y servicios porque satisfacen sus necesidad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l mismo producto puede satisfacer diferentes necesidades; una persona podría comprar pastillas de menta para refrescar su aliento, porque disfruta su sabor o porque le ayuda a dejar de fum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La segmentación basada en necesidades busca entender por qué una compra es realizada (es decir, que necesidad está siendo satisfecha) y para dividir el mercado en grupos de compradores cuyas necesidades son homogéne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La segmentación basada en necesidades es particularmente útil para compañías de tecnología porque previene el desarrollo de nuevos productos o capacidades tecnológicas sólo porque es posible o porque son “cool”, pero posiblemente innecesari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95508-E123-44A3-BDE6-BC9489EBD92B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Determinación del atractivo competitiv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Intensidad competiti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antidad de competidor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Fortalezas y debilidades en la entrega de benefici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inamicas de clien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Nivel de insatisfacción de necesidad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Magnitud de las oportunidad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Nivel de interacción entre segmentos principal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Tasa de crecimiento esperad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Vulnerabilidad tecnológ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mpacto de penetración de tecnologías necesarias para la entrega de los beneficios de la ofert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mpacto de nuevas tecnologías en la propuesta de valor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spectos microeconóm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Tamaño y volumen del mercad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Nivel de rentabilidad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1BDEE-3165-41AD-AAF1-A5512EC22360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Segmentación para el negocio de Viaje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884160" y="1782720"/>
          <a:ext cx="7959960" cy="46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4160" y="1782720"/>
                    <a:ext cx="795996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"/>
          <p:cNvSpPr/>
          <p:nvPr/>
        </p:nvSpPr>
        <p:spPr>
          <a:xfrm>
            <a:off x="3216240" y="1804320"/>
            <a:ext cx="429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520040" y="1984320"/>
            <a:ext cx="107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Nego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101600" y="5572080"/>
            <a:ext cx="2100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Group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093680" y="3532320"/>
            <a:ext cx="89856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ngresos medio-bajos, No viajeros frecu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93680" y="4535640"/>
            <a:ext cx="89856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ngresos medio-alto / Viajeros Frecu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96840" y="1817640"/>
            <a:ext cx="210816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89000" y="2585880"/>
            <a:ext cx="21319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Estudia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89000" y="3075120"/>
            <a:ext cx="21319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Jubi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711440" y="1798560"/>
            <a:ext cx="14493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ropósito del Vi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86000" y="2133720"/>
            <a:ext cx="8985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Flexibi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095480" y="2271600"/>
            <a:ext cx="900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Qui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39920" y="3132000"/>
            <a:ext cx="2097360" cy="4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Jubi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380360" y="2604960"/>
            <a:ext cx="100152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ajes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Nego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130560" y="2627280"/>
            <a:ext cx="1023840" cy="4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acaciones de vera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30560" y="5670720"/>
            <a:ext cx="4184640" cy="42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ajes en gru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324480" y="2619360"/>
            <a:ext cx="1020960" cy="29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Todos los ot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aj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130560" y="3638520"/>
            <a:ext cx="1020600" cy="4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ac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11640" y="2629080"/>
            <a:ext cx="1020600" cy="42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sita a papá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30560" y="4129200"/>
            <a:ext cx="1020600" cy="42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Otros viaj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130560" y="4626000"/>
            <a:ext cx="1020600" cy="4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ac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11640" y="3635280"/>
            <a:ext cx="1020600" cy="92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Escapada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romoción u ofer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265720" y="2619360"/>
            <a:ext cx="982800" cy="29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Ultimo Minu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(fiesta sorpresa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muerte famili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41720" y="4627440"/>
            <a:ext cx="2097000" cy="933480"/>
          </a:xfrm>
          <a:custGeom>
            <a:avLst/>
            <a:gdLst/>
            <a:ahLst/>
            <a:rect l="l" t="t" r="r" b="b"/>
            <a:pathLst>
              <a:path w="1437" h="661">
                <a:moveTo>
                  <a:pt x="738" y="308"/>
                </a:moveTo>
                <a:lnTo>
                  <a:pt x="738" y="0"/>
                </a:lnTo>
                <a:lnTo>
                  <a:pt x="1437" y="0"/>
                </a:lnTo>
                <a:lnTo>
                  <a:pt x="1437" y="661"/>
                </a:lnTo>
                <a:lnTo>
                  <a:pt x="0" y="661"/>
                </a:lnTo>
                <a:lnTo>
                  <a:pt x="0" y="341"/>
                </a:lnTo>
                <a:lnTo>
                  <a:pt x="738" y="341"/>
                </a:lnTo>
                <a:lnTo>
                  <a:pt x="738" y="3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85800" y="2577960"/>
            <a:ext cx="228600" cy="3594240"/>
          </a:xfrm>
          <a:custGeom>
            <a:avLst/>
            <a:gdLst/>
            <a:ahLst/>
            <a:rect l="l" t="t" r="r" b="b"/>
            <a:pathLst>
              <a:path w="143" h="1026">
                <a:moveTo>
                  <a:pt x="37" y="511"/>
                </a:moveTo>
                <a:lnTo>
                  <a:pt x="48" y="511"/>
                </a:lnTo>
                <a:lnTo>
                  <a:pt x="55" y="507"/>
                </a:lnTo>
                <a:lnTo>
                  <a:pt x="61" y="500"/>
                </a:lnTo>
                <a:lnTo>
                  <a:pt x="65" y="491"/>
                </a:lnTo>
                <a:lnTo>
                  <a:pt x="69" y="477"/>
                </a:lnTo>
                <a:lnTo>
                  <a:pt x="71" y="458"/>
                </a:lnTo>
                <a:lnTo>
                  <a:pt x="71" y="404"/>
                </a:lnTo>
                <a:lnTo>
                  <a:pt x="70" y="303"/>
                </a:lnTo>
                <a:lnTo>
                  <a:pt x="71" y="237"/>
                </a:lnTo>
                <a:lnTo>
                  <a:pt x="72" y="168"/>
                </a:lnTo>
                <a:lnTo>
                  <a:pt x="80" y="103"/>
                </a:lnTo>
                <a:lnTo>
                  <a:pt x="93" y="50"/>
                </a:lnTo>
                <a:lnTo>
                  <a:pt x="102" y="28"/>
                </a:lnTo>
                <a:lnTo>
                  <a:pt x="113" y="13"/>
                </a:lnTo>
                <a:lnTo>
                  <a:pt x="127" y="2"/>
                </a:lnTo>
                <a:lnTo>
                  <a:pt x="142" y="0"/>
                </a:lnTo>
                <a:lnTo>
                  <a:pt x="123" y="1"/>
                </a:lnTo>
                <a:lnTo>
                  <a:pt x="107" y="6"/>
                </a:lnTo>
                <a:lnTo>
                  <a:pt x="93" y="17"/>
                </a:lnTo>
                <a:lnTo>
                  <a:pt x="82" y="30"/>
                </a:lnTo>
                <a:lnTo>
                  <a:pt x="71" y="47"/>
                </a:lnTo>
                <a:lnTo>
                  <a:pt x="64" y="67"/>
                </a:lnTo>
                <a:lnTo>
                  <a:pt x="54" y="115"/>
                </a:lnTo>
                <a:lnTo>
                  <a:pt x="49" y="175"/>
                </a:lnTo>
                <a:lnTo>
                  <a:pt x="47" y="245"/>
                </a:lnTo>
                <a:lnTo>
                  <a:pt x="47" y="404"/>
                </a:lnTo>
                <a:lnTo>
                  <a:pt x="46" y="433"/>
                </a:lnTo>
                <a:lnTo>
                  <a:pt x="43" y="458"/>
                </a:lnTo>
                <a:lnTo>
                  <a:pt x="38" y="477"/>
                </a:lnTo>
                <a:lnTo>
                  <a:pt x="33" y="491"/>
                </a:lnTo>
                <a:lnTo>
                  <a:pt x="26" y="500"/>
                </a:lnTo>
                <a:lnTo>
                  <a:pt x="18" y="507"/>
                </a:lnTo>
                <a:lnTo>
                  <a:pt x="9" y="511"/>
                </a:lnTo>
                <a:lnTo>
                  <a:pt x="0" y="511"/>
                </a:lnTo>
                <a:lnTo>
                  <a:pt x="9" y="513"/>
                </a:lnTo>
                <a:lnTo>
                  <a:pt x="18" y="516"/>
                </a:lnTo>
                <a:lnTo>
                  <a:pt x="26" y="522"/>
                </a:lnTo>
                <a:lnTo>
                  <a:pt x="33" y="533"/>
                </a:lnTo>
                <a:lnTo>
                  <a:pt x="38" y="547"/>
                </a:lnTo>
                <a:lnTo>
                  <a:pt x="43" y="566"/>
                </a:lnTo>
                <a:lnTo>
                  <a:pt x="46" y="590"/>
                </a:lnTo>
                <a:lnTo>
                  <a:pt x="47" y="619"/>
                </a:lnTo>
                <a:lnTo>
                  <a:pt x="47" y="779"/>
                </a:lnTo>
                <a:lnTo>
                  <a:pt x="49" y="848"/>
                </a:lnTo>
                <a:lnTo>
                  <a:pt x="54" y="908"/>
                </a:lnTo>
                <a:lnTo>
                  <a:pt x="64" y="957"/>
                </a:lnTo>
                <a:lnTo>
                  <a:pt x="71" y="977"/>
                </a:lnTo>
                <a:lnTo>
                  <a:pt x="82" y="994"/>
                </a:lnTo>
                <a:lnTo>
                  <a:pt x="93" y="1007"/>
                </a:lnTo>
                <a:lnTo>
                  <a:pt x="107" y="1017"/>
                </a:lnTo>
                <a:lnTo>
                  <a:pt x="123" y="1023"/>
                </a:lnTo>
                <a:lnTo>
                  <a:pt x="142" y="1025"/>
                </a:lnTo>
                <a:lnTo>
                  <a:pt x="133" y="1024"/>
                </a:lnTo>
                <a:lnTo>
                  <a:pt x="127" y="1021"/>
                </a:lnTo>
                <a:lnTo>
                  <a:pt x="119" y="1017"/>
                </a:lnTo>
                <a:lnTo>
                  <a:pt x="113" y="1012"/>
                </a:lnTo>
                <a:lnTo>
                  <a:pt x="102" y="995"/>
                </a:lnTo>
                <a:lnTo>
                  <a:pt x="93" y="974"/>
                </a:lnTo>
                <a:lnTo>
                  <a:pt x="86" y="949"/>
                </a:lnTo>
                <a:lnTo>
                  <a:pt x="80" y="920"/>
                </a:lnTo>
                <a:lnTo>
                  <a:pt x="72" y="856"/>
                </a:lnTo>
                <a:lnTo>
                  <a:pt x="71" y="787"/>
                </a:lnTo>
                <a:lnTo>
                  <a:pt x="70" y="721"/>
                </a:lnTo>
                <a:lnTo>
                  <a:pt x="71" y="619"/>
                </a:lnTo>
                <a:lnTo>
                  <a:pt x="71" y="566"/>
                </a:lnTo>
                <a:lnTo>
                  <a:pt x="65" y="533"/>
                </a:lnTo>
                <a:lnTo>
                  <a:pt x="61" y="522"/>
                </a:lnTo>
                <a:lnTo>
                  <a:pt x="55" y="516"/>
                </a:lnTo>
                <a:lnTo>
                  <a:pt x="48" y="513"/>
                </a:lnTo>
                <a:lnTo>
                  <a:pt x="37" y="51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rot="16200000">
            <a:off x="-1098360" y="4244760"/>
            <a:ext cx="318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egmentación demográfica y conduct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5400000">
            <a:off x="5592240" y="-1017360"/>
            <a:ext cx="180720" cy="5397480"/>
          </a:xfrm>
          <a:custGeom>
            <a:avLst/>
            <a:gdLst/>
            <a:ahLst/>
            <a:rect l="l" t="t" r="r" b="b"/>
            <a:pathLst>
              <a:path w="143" h="1026">
                <a:moveTo>
                  <a:pt x="37" y="511"/>
                </a:moveTo>
                <a:lnTo>
                  <a:pt x="48" y="511"/>
                </a:lnTo>
                <a:lnTo>
                  <a:pt x="55" y="507"/>
                </a:lnTo>
                <a:lnTo>
                  <a:pt x="61" y="500"/>
                </a:lnTo>
                <a:lnTo>
                  <a:pt x="65" y="491"/>
                </a:lnTo>
                <a:lnTo>
                  <a:pt x="69" y="477"/>
                </a:lnTo>
                <a:lnTo>
                  <a:pt x="71" y="458"/>
                </a:lnTo>
                <a:lnTo>
                  <a:pt x="71" y="404"/>
                </a:lnTo>
                <a:lnTo>
                  <a:pt x="70" y="303"/>
                </a:lnTo>
                <a:lnTo>
                  <a:pt x="71" y="237"/>
                </a:lnTo>
                <a:lnTo>
                  <a:pt x="72" y="168"/>
                </a:lnTo>
                <a:lnTo>
                  <a:pt x="80" y="103"/>
                </a:lnTo>
                <a:lnTo>
                  <a:pt x="93" y="50"/>
                </a:lnTo>
                <a:lnTo>
                  <a:pt x="102" y="28"/>
                </a:lnTo>
                <a:lnTo>
                  <a:pt x="113" y="13"/>
                </a:lnTo>
                <a:lnTo>
                  <a:pt x="127" y="2"/>
                </a:lnTo>
                <a:lnTo>
                  <a:pt x="142" y="0"/>
                </a:lnTo>
                <a:lnTo>
                  <a:pt x="123" y="1"/>
                </a:lnTo>
                <a:lnTo>
                  <a:pt x="107" y="6"/>
                </a:lnTo>
                <a:lnTo>
                  <a:pt x="93" y="17"/>
                </a:lnTo>
                <a:lnTo>
                  <a:pt x="82" y="30"/>
                </a:lnTo>
                <a:lnTo>
                  <a:pt x="71" y="47"/>
                </a:lnTo>
                <a:lnTo>
                  <a:pt x="64" y="67"/>
                </a:lnTo>
                <a:lnTo>
                  <a:pt x="54" y="115"/>
                </a:lnTo>
                <a:lnTo>
                  <a:pt x="49" y="175"/>
                </a:lnTo>
                <a:lnTo>
                  <a:pt x="47" y="245"/>
                </a:lnTo>
                <a:lnTo>
                  <a:pt x="47" y="404"/>
                </a:lnTo>
                <a:lnTo>
                  <a:pt x="46" y="433"/>
                </a:lnTo>
                <a:lnTo>
                  <a:pt x="43" y="458"/>
                </a:lnTo>
                <a:lnTo>
                  <a:pt x="38" y="477"/>
                </a:lnTo>
                <a:lnTo>
                  <a:pt x="33" y="491"/>
                </a:lnTo>
                <a:lnTo>
                  <a:pt x="26" y="500"/>
                </a:lnTo>
                <a:lnTo>
                  <a:pt x="18" y="507"/>
                </a:lnTo>
                <a:lnTo>
                  <a:pt x="9" y="511"/>
                </a:lnTo>
                <a:lnTo>
                  <a:pt x="0" y="511"/>
                </a:lnTo>
                <a:lnTo>
                  <a:pt x="9" y="513"/>
                </a:lnTo>
                <a:lnTo>
                  <a:pt x="18" y="516"/>
                </a:lnTo>
                <a:lnTo>
                  <a:pt x="26" y="522"/>
                </a:lnTo>
                <a:lnTo>
                  <a:pt x="33" y="533"/>
                </a:lnTo>
                <a:lnTo>
                  <a:pt x="38" y="547"/>
                </a:lnTo>
                <a:lnTo>
                  <a:pt x="43" y="566"/>
                </a:lnTo>
                <a:lnTo>
                  <a:pt x="46" y="590"/>
                </a:lnTo>
                <a:lnTo>
                  <a:pt x="47" y="619"/>
                </a:lnTo>
                <a:lnTo>
                  <a:pt x="47" y="779"/>
                </a:lnTo>
                <a:lnTo>
                  <a:pt x="49" y="848"/>
                </a:lnTo>
                <a:lnTo>
                  <a:pt x="54" y="908"/>
                </a:lnTo>
                <a:lnTo>
                  <a:pt x="64" y="957"/>
                </a:lnTo>
                <a:lnTo>
                  <a:pt x="71" y="977"/>
                </a:lnTo>
                <a:lnTo>
                  <a:pt x="82" y="994"/>
                </a:lnTo>
                <a:lnTo>
                  <a:pt x="93" y="1007"/>
                </a:lnTo>
                <a:lnTo>
                  <a:pt x="107" y="1017"/>
                </a:lnTo>
                <a:lnTo>
                  <a:pt x="123" y="1023"/>
                </a:lnTo>
                <a:lnTo>
                  <a:pt x="142" y="1025"/>
                </a:lnTo>
                <a:lnTo>
                  <a:pt x="133" y="1024"/>
                </a:lnTo>
                <a:lnTo>
                  <a:pt x="127" y="1021"/>
                </a:lnTo>
                <a:lnTo>
                  <a:pt x="119" y="1017"/>
                </a:lnTo>
                <a:lnTo>
                  <a:pt x="113" y="1012"/>
                </a:lnTo>
                <a:lnTo>
                  <a:pt x="102" y="995"/>
                </a:lnTo>
                <a:lnTo>
                  <a:pt x="93" y="974"/>
                </a:lnTo>
                <a:lnTo>
                  <a:pt x="86" y="949"/>
                </a:lnTo>
                <a:lnTo>
                  <a:pt x="80" y="920"/>
                </a:lnTo>
                <a:lnTo>
                  <a:pt x="72" y="856"/>
                </a:lnTo>
                <a:lnTo>
                  <a:pt x="71" y="787"/>
                </a:lnTo>
                <a:lnTo>
                  <a:pt x="70" y="721"/>
                </a:lnTo>
                <a:lnTo>
                  <a:pt x="71" y="619"/>
                </a:lnTo>
                <a:lnTo>
                  <a:pt x="71" y="566"/>
                </a:lnTo>
                <a:lnTo>
                  <a:pt x="65" y="533"/>
                </a:lnTo>
                <a:lnTo>
                  <a:pt x="61" y="522"/>
                </a:lnTo>
                <a:lnTo>
                  <a:pt x="55" y="516"/>
                </a:lnTo>
                <a:lnTo>
                  <a:pt x="48" y="513"/>
                </a:lnTo>
                <a:lnTo>
                  <a:pt x="37" y="51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62520" y="1370880"/>
            <a:ext cx="35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Oca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568320" y="5144400"/>
            <a:ext cx="1366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ajes no familia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(fin de semana larg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9274C-8669-4CAA-8911-D37C4FA156D0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apa Número de Viajes / Segment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884160" y="1782720"/>
          <a:ext cx="7959960" cy="46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4160" y="1782720"/>
                    <a:ext cx="795996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>
            <a:off x="3216240" y="1804320"/>
            <a:ext cx="429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520040" y="1984320"/>
            <a:ext cx="107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Nego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101600" y="5572080"/>
            <a:ext cx="2100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Group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093680" y="3532320"/>
            <a:ext cx="89856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ngresos medio-bajos, No viajeros frecu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093680" y="4535640"/>
            <a:ext cx="89856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ngresos medio-alto / Viajeros Frecu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96840" y="1817640"/>
            <a:ext cx="210816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089000" y="2585880"/>
            <a:ext cx="21319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Estudia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089000" y="3075120"/>
            <a:ext cx="21319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Jubi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711440" y="1798560"/>
            <a:ext cx="14493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ropósito del Vi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86000" y="2133720"/>
            <a:ext cx="8985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Flexibi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095480" y="2271600"/>
            <a:ext cx="900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Qui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139920" y="3132000"/>
            <a:ext cx="2041560" cy="425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Jubi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80360" y="2604960"/>
            <a:ext cx="1001520" cy="343224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Viajes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Nego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30560" y="2627280"/>
            <a:ext cx="1023840" cy="4255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Estudiantes en </a:t>
            </a: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Vac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30560" y="5670720"/>
            <a:ext cx="4184640" cy="42516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Viajes en gru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324480" y="2619360"/>
            <a:ext cx="1020960" cy="2936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Todos los ot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viaj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130560" y="3638520"/>
            <a:ext cx="1020600" cy="425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acaciones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 ingres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Med / 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91120" y="2629080"/>
            <a:ext cx="990360" cy="42516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Visita a papá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30560" y="4129200"/>
            <a:ext cx="1020600" cy="42516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Vacaciones</a:t>
            </a: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 ingresos ot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ed / 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30560" y="4626000"/>
            <a:ext cx="1020600" cy="4255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Vac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ed / 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211640" y="3635280"/>
            <a:ext cx="969840" cy="92556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Escapada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Promoción u ofer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265720" y="2619360"/>
            <a:ext cx="982800" cy="2936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Ultimo Minu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(fiesta sorpresa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uerte famili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141720" y="4627440"/>
            <a:ext cx="2097000" cy="933480"/>
          </a:xfrm>
          <a:custGeom>
            <a:avLst/>
            <a:gdLst/>
            <a:ahLst/>
            <a:rect l="l" t="t" r="r" b="b"/>
            <a:pathLst>
              <a:path w="1437" h="661">
                <a:moveTo>
                  <a:pt x="738" y="308"/>
                </a:moveTo>
                <a:lnTo>
                  <a:pt x="738" y="0"/>
                </a:lnTo>
                <a:lnTo>
                  <a:pt x="1437" y="0"/>
                </a:lnTo>
                <a:lnTo>
                  <a:pt x="1437" y="661"/>
                </a:lnTo>
                <a:lnTo>
                  <a:pt x="0" y="661"/>
                </a:lnTo>
                <a:lnTo>
                  <a:pt x="0" y="341"/>
                </a:lnTo>
                <a:lnTo>
                  <a:pt x="738" y="341"/>
                </a:lnTo>
                <a:lnTo>
                  <a:pt x="738" y="308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5800" y="2577960"/>
            <a:ext cx="228600" cy="3594240"/>
          </a:xfrm>
          <a:custGeom>
            <a:avLst/>
            <a:gdLst/>
            <a:ahLst/>
            <a:rect l="l" t="t" r="r" b="b"/>
            <a:pathLst>
              <a:path w="143" h="1026">
                <a:moveTo>
                  <a:pt x="37" y="511"/>
                </a:moveTo>
                <a:lnTo>
                  <a:pt x="48" y="511"/>
                </a:lnTo>
                <a:lnTo>
                  <a:pt x="55" y="507"/>
                </a:lnTo>
                <a:lnTo>
                  <a:pt x="61" y="500"/>
                </a:lnTo>
                <a:lnTo>
                  <a:pt x="65" y="491"/>
                </a:lnTo>
                <a:lnTo>
                  <a:pt x="69" y="477"/>
                </a:lnTo>
                <a:lnTo>
                  <a:pt x="71" y="458"/>
                </a:lnTo>
                <a:lnTo>
                  <a:pt x="71" y="404"/>
                </a:lnTo>
                <a:lnTo>
                  <a:pt x="70" y="303"/>
                </a:lnTo>
                <a:lnTo>
                  <a:pt x="71" y="237"/>
                </a:lnTo>
                <a:lnTo>
                  <a:pt x="72" y="168"/>
                </a:lnTo>
                <a:lnTo>
                  <a:pt x="80" y="103"/>
                </a:lnTo>
                <a:lnTo>
                  <a:pt x="93" y="50"/>
                </a:lnTo>
                <a:lnTo>
                  <a:pt x="102" y="28"/>
                </a:lnTo>
                <a:lnTo>
                  <a:pt x="113" y="13"/>
                </a:lnTo>
                <a:lnTo>
                  <a:pt x="127" y="2"/>
                </a:lnTo>
                <a:lnTo>
                  <a:pt x="142" y="0"/>
                </a:lnTo>
                <a:lnTo>
                  <a:pt x="123" y="1"/>
                </a:lnTo>
                <a:lnTo>
                  <a:pt x="107" y="6"/>
                </a:lnTo>
                <a:lnTo>
                  <a:pt x="93" y="17"/>
                </a:lnTo>
                <a:lnTo>
                  <a:pt x="82" y="30"/>
                </a:lnTo>
                <a:lnTo>
                  <a:pt x="71" y="47"/>
                </a:lnTo>
                <a:lnTo>
                  <a:pt x="64" y="67"/>
                </a:lnTo>
                <a:lnTo>
                  <a:pt x="54" y="115"/>
                </a:lnTo>
                <a:lnTo>
                  <a:pt x="49" y="175"/>
                </a:lnTo>
                <a:lnTo>
                  <a:pt x="47" y="245"/>
                </a:lnTo>
                <a:lnTo>
                  <a:pt x="47" y="404"/>
                </a:lnTo>
                <a:lnTo>
                  <a:pt x="46" y="433"/>
                </a:lnTo>
                <a:lnTo>
                  <a:pt x="43" y="458"/>
                </a:lnTo>
                <a:lnTo>
                  <a:pt x="38" y="477"/>
                </a:lnTo>
                <a:lnTo>
                  <a:pt x="33" y="491"/>
                </a:lnTo>
                <a:lnTo>
                  <a:pt x="26" y="500"/>
                </a:lnTo>
                <a:lnTo>
                  <a:pt x="18" y="507"/>
                </a:lnTo>
                <a:lnTo>
                  <a:pt x="9" y="511"/>
                </a:lnTo>
                <a:lnTo>
                  <a:pt x="0" y="511"/>
                </a:lnTo>
                <a:lnTo>
                  <a:pt x="9" y="513"/>
                </a:lnTo>
                <a:lnTo>
                  <a:pt x="18" y="516"/>
                </a:lnTo>
                <a:lnTo>
                  <a:pt x="26" y="522"/>
                </a:lnTo>
                <a:lnTo>
                  <a:pt x="33" y="533"/>
                </a:lnTo>
                <a:lnTo>
                  <a:pt x="38" y="547"/>
                </a:lnTo>
                <a:lnTo>
                  <a:pt x="43" y="566"/>
                </a:lnTo>
                <a:lnTo>
                  <a:pt x="46" y="590"/>
                </a:lnTo>
                <a:lnTo>
                  <a:pt x="47" y="619"/>
                </a:lnTo>
                <a:lnTo>
                  <a:pt x="47" y="779"/>
                </a:lnTo>
                <a:lnTo>
                  <a:pt x="49" y="848"/>
                </a:lnTo>
                <a:lnTo>
                  <a:pt x="54" y="908"/>
                </a:lnTo>
                <a:lnTo>
                  <a:pt x="64" y="957"/>
                </a:lnTo>
                <a:lnTo>
                  <a:pt x="71" y="977"/>
                </a:lnTo>
                <a:lnTo>
                  <a:pt x="82" y="994"/>
                </a:lnTo>
                <a:lnTo>
                  <a:pt x="93" y="1007"/>
                </a:lnTo>
                <a:lnTo>
                  <a:pt x="107" y="1017"/>
                </a:lnTo>
                <a:lnTo>
                  <a:pt x="123" y="1023"/>
                </a:lnTo>
                <a:lnTo>
                  <a:pt x="142" y="1025"/>
                </a:lnTo>
                <a:lnTo>
                  <a:pt x="133" y="1024"/>
                </a:lnTo>
                <a:lnTo>
                  <a:pt x="127" y="1021"/>
                </a:lnTo>
                <a:lnTo>
                  <a:pt x="119" y="1017"/>
                </a:lnTo>
                <a:lnTo>
                  <a:pt x="113" y="1012"/>
                </a:lnTo>
                <a:lnTo>
                  <a:pt x="102" y="995"/>
                </a:lnTo>
                <a:lnTo>
                  <a:pt x="93" y="974"/>
                </a:lnTo>
                <a:lnTo>
                  <a:pt x="86" y="949"/>
                </a:lnTo>
                <a:lnTo>
                  <a:pt x="80" y="920"/>
                </a:lnTo>
                <a:lnTo>
                  <a:pt x="72" y="856"/>
                </a:lnTo>
                <a:lnTo>
                  <a:pt x="71" y="787"/>
                </a:lnTo>
                <a:lnTo>
                  <a:pt x="70" y="721"/>
                </a:lnTo>
                <a:lnTo>
                  <a:pt x="71" y="619"/>
                </a:lnTo>
                <a:lnTo>
                  <a:pt x="71" y="566"/>
                </a:lnTo>
                <a:lnTo>
                  <a:pt x="65" y="533"/>
                </a:lnTo>
                <a:lnTo>
                  <a:pt x="61" y="522"/>
                </a:lnTo>
                <a:lnTo>
                  <a:pt x="55" y="516"/>
                </a:lnTo>
                <a:lnTo>
                  <a:pt x="48" y="513"/>
                </a:lnTo>
                <a:lnTo>
                  <a:pt x="37" y="51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rot="16200000">
            <a:off x="-1098360" y="4244760"/>
            <a:ext cx="318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egmentación demográfica y conduct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rot="5400000">
            <a:off x="5592240" y="-1017360"/>
            <a:ext cx="180720" cy="5397480"/>
          </a:xfrm>
          <a:custGeom>
            <a:avLst/>
            <a:gdLst/>
            <a:ahLst/>
            <a:rect l="l" t="t" r="r" b="b"/>
            <a:pathLst>
              <a:path w="143" h="1026">
                <a:moveTo>
                  <a:pt x="37" y="511"/>
                </a:moveTo>
                <a:lnTo>
                  <a:pt x="48" y="511"/>
                </a:lnTo>
                <a:lnTo>
                  <a:pt x="55" y="507"/>
                </a:lnTo>
                <a:lnTo>
                  <a:pt x="61" y="500"/>
                </a:lnTo>
                <a:lnTo>
                  <a:pt x="65" y="491"/>
                </a:lnTo>
                <a:lnTo>
                  <a:pt x="69" y="477"/>
                </a:lnTo>
                <a:lnTo>
                  <a:pt x="71" y="458"/>
                </a:lnTo>
                <a:lnTo>
                  <a:pt x="71" y="404"/>
                </a:lnTo>
                <a:lnTo>
                  <a:pt x="70" y="303"/>
                </a:lnTo>
                <a:lnTo>
                  <a:pt x="71" y="237"/>
                </a:lnTo>
                <a:lnTo>
                  <a:pt x="72" y="168"/>
                </a:lnTo>
                <a:lnTo>
                  <a:pt x="80" y="103"/>
                </a:lnTo>
                <a:lnTo>
                  <a:pt x="93" y="50"/>
                </a:lnTo>
                <a:lnTo>
                  <a:pt x="102" y="28"/>
                </a:lnTo>
                <a:lnTo>
                  <a:pt x="113" y="13"/>
                </a:lnTo>
                <a:lnTo>
                  <a:pt x="127" y="2"/>
                </a:lnTo>
                <a:lnTo>
                  <a:pt x="142" y="0"/>
                </a:lnTo>
                <a:lnTo>
                  <a:pt x="123" y="1"/>
                </a:lnTo>
                <a:lnTo>
                  <a:pt x="107" y="6"/>
                </a:lnTo>
                <a:lnTo>
                  <a:pt x="93" y="17"/>
                </a:lnTo>
                <a:lnTo>
                  <a:pt x="82" y="30"/>
                </a:lnTo>
                <a:lnTo>
                  <a:pt x="71" y="47"/>
                </a:lnTo>
                <a:lnTo>
                  <a:pt x="64" y="67"/>
                </a:lnTo>
                <a:lnTo>
                  <a:pt x="54" y="115"/>
                </a:lnTo>
                <a:lnTo>
                  <a:pt x="49" y="175"/>
                </a:lnTo>
                <a:lnTo>
                  <a:pt x="47" y="245"/>
                </a:lnTo>
                <a:lnTo>
                  <a:pt x="47" y="404"/>
                </a:lnTo>
                <a:lnTo>
                  <a:pt x="46" y="433"/>
                </a:lnTo>
                <a:lnTo>
                  <a:pt x="43" y="458"/>
                </a:lnTo>
                <a:lnTo>
                  <a:pt x="38" y="477"/>
                </a:lnTo>
                <a:lnTo>
                  <a:pt x="33" y="491"/>
                </a:lnTo>
                <a:lnTo>
                  <a:pt x="26" y="500"/>
                </a:lnTo>
                <a:lnTo>
                  <a:pt x="18" y="507"/>
                </a:lnTo>
                <a:lnTo>
                  <a:pt x="9" y="511"/>
                </a:lnTo>
                <a:lnTo>
                  <a:pt x="0" y="511"/>
                </a:lnTo>
                <a:lnTo>
                  <a:pt x="9" y="513"/>
                </a:lnTo>
                <a:lnTo>
                  <a:pt x="18" y="516"/>
                </a:lnTo>
                <a:lnTo>
                  <a:pt x="26" y="522"/>
                </a:lnTo>
                <a:lnTo>
                  <a:pt x="33" y="533"/>
                </a:lnTo>
                <a:lnTo>
                  <a:pt x="38" y="547"/>
                </a:lnTo>
                <a:lnTo>
                  <a:pt x="43" y="566"/>
                </a:lnTo>
                <a:lnTo>
                  <a:pt x="46" y="590"/>
                </a:lnTo>
                <a:lnTo>
                  <a:pt x="47" y="619"/>
                </a:lnTo>
                <a:lnTo>
                  <a:pt x="47" y="779"/>
                </a:lnTo>
                <a:lnTo>
                  <a:pt x="49" y="848"/>
                </a:lnTo>
                <a:lnTo>
                  <a:pt x="54" y="908"/>
                </a:lnTo>
                <a:lnTo>
                  <a:pt x="64" y="957"/>
                </a:lnTo>
                <a:lnTo>
                  <a:pt x="71" y="977"/>
                </a:lnTo>
                <a:lnTo>
                  <a:pt x="82" y="994"/>
                </a:lnTo>
                <a:lnTo>
                  <a:pt x="93" y="1007"/>
                </a:lnTo>
                <a:lnTo>
                  <a:pt x="107" y="1017"/>
                </a:lnTo>
                <a:lnTo>
                  <a:pt x="123" y="1023"/>
                </a:lnTo>
                <a:lnTo>
                  <a:pt x="142" y="1025"/>
                </a:lnTo>
                <a:lnTo>
                  <a:pt x="133" y="1024"/>
                </a:lnTo>
                <a:lnTo>
                  <a:pt x="127" y="1021"/>
                </a:lnTo>
                <a:lnTo>
                  <a:pt x="119" y="1017"/>
                </a:lnTo>
                <a:lnTo>
                  <a:pt x="113" y="1012"/>
                </a:lnTo>
                <a:lnTo>
                  <a:pt x="102" y="995"/>
                </a:lnTo>
                <a:lnTo>
                  <a:pt x="93" y="974"/>
                </a:lnTo>
                <a:lnTo>
                  <a:pt x="86" y="949"/>
                </a:lnTo>
                <a:lnTo>
                  <a:pt x="80" y="920"/>
                </a:lnTo>
                <a:lnTo>
                  <a:pt x="72" y="856"/>
                </a:lnTo>
                <a:lnTo>
                  <a:pt x="71" y="787"/>
                </a:lnTo>
                <a:lnTo>
                  <a:pt x="70" y="721"/>
                </a:lnTo>
                <a:lnTo>
                  <a:pt x="71" y="619"/>
                </a:lnTo>
                <a:lnTo>
                  <a:pt x="71" y="566"/>
                </a:lnTo>
                <a:lnTo>
                  <a:pt x="65" y="533"/>
                </a:lnTo>
                <a:lnTo>
                  <a:pt x="61" y="522"/>
                </a:lnTo>
                <a:lnTo>
                  <a:pt x="55" y="516"/>
                </a:lnTo>
                <a:lnTo>
                  <a:pt x="48" y="513"/>
                </a:lnTo>
                <a:lnTo>
                  <a:pt x="37" y="51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962520" y="1370880"/>
            <a:ext cx="35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Oca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68320" y="5144400"/>
            <a:ext cx="1366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ajes no familia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(fin de semana larg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648320" y="6324480"/>
            <a:ext cx="228600" cy="152640"/>
          </a:xfrm>
          <a:prstGeom prst="rect">
            <a:avLst/>
          </a:prstGeom>
          <a:solidFill>
            <a:srgbClr val="0066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648320" y="6505560"/>
            <a:ext cx="228600" cy="152280"/>
          </a:xfrm>
          <a:prstGeom prst="rect">
            <a:avLst/>
          </a:prstGeom>
          <a:solidFill>
            <a:srgbClr val="ffcc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648320" y="6686640"/>
            <a:ext cx="228600" cy="152280"/>
          </a:xfrm>
          <a:prstGeom prst="rect">
            <a:avLst/>
          </a:prstGeom>
          <a:solidFill>
            <a:srgbClr val="99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876920" y="624780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%±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35160" y="642852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0%±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35160" y="66096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0%±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350DA-A7D1-40C8-AFF2-8CDF15D07F04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Priorización de segmentos de Priceline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targeting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884160" y="1782720"/>
          <a:ext cx="7959960" cy="46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4160" y="1782720"/>
                    <a:ext cx="795996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"/>
          <p:cNvSpPr/>
          <p:nvPr/>
        </p:nvSpPr>
        <p:spPr>
          <a:xfrm>
            <a:off x="3216240" y="1804320"/>
            <a:ext cx="429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520040" y="1984320"/>
            <a:ext cx="107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Nego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101600" y="5572080"/>
            <a:ext cx="2100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Group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093680" y="3532320"/>
            <a:ext cx="89856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ngresos medio-bajos, No viajeros frecu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093680" y="4535640"/>
            <a:ext cx="89856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ngresos medio-alto / Viajeros Frecu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96840" y="1817640"/>
            <a:ext cx="210816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089000" y="2585880"/>
            <a:ext cx="21319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Estudia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089000" y="3075120"/>
            <a:ext cx="21319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Jubi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711440" y="1798560"/>
            <a:ext cx="14493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ropósito del Vi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86000" y="2133720"/>
            <a:ext cx="8985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Flexibi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095480" y="2271600"/>
            <a:ext cx="900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Qui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139920" y="3132000"/>
            <a:ext cx="2041560" cy="425520"/>
          </a:xfrm>
          <a:prstGeom prst="rect">
            <a:avLst/>
          </a:prstGeom>
          <a:solidFill>
            <a:srgbClr val="6876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Jubi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380360" y="2604960"/>
            <a:ext cx="1001520" cy="343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ajes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Nego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30560" y="2627280"/>
            <a:ext cx="1023840" cy="425520"/>
          </a:xfrm>
          <a:prstGeom prst="rect">
            <a:avLst/>
          </a:prstGeom>
          <a:solidFill>
            <a:srgbClr val="6876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Estudiantes en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ac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130560" y="5670720"/>
            <a:ext cx="4184640" cy="42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ajes en gru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324480" y="2619360"/>
            <a:ext cx="1020960" cy="293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Todos los ot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aj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130560" y="3638520"/>
            <a:ext cx="1020600" cy="425520"/>
          </a:xfrm>
          <a:prstGeom prst="rect">
            <a:avLst/>
          </a:prstGeom>
          <a:solidFill>
            <a:srgbClr val="6876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acaciones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 ingres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Med / 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191120" y="2629080"/>
            <a:ext cx="990360" cy="425160"/>
          </a:xfrm>
          <a:prstGeom prst="rect">
            <a:avLst/>
          </a:prstGeom>
          <a:solidFill>
            <a:srgbClr val="6876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sita a papá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130560" y="4129200"/>
            <a:ext cx="1020600" cy="425160"/>
          </a:xfrm>
          <a:prstGeom prst="rect">
            <a:avLst/>
          </a:prstGeom>
          <a:solidFill>
            <a:srgbClr val="6876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acaciones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 ingresos ot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Med / 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130560" y="4626000"/>
            <a:ext cx="1020600" cy="42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ac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Med / 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211640" y="3635280"/>
            <a:ext cx="969840" cy="925560"/>
          </a:xfrm>
          <a:prstGeom prst="rect">
            <a:avLst/>
          </a:prstGeom>
          <a:solidFill>
            <a:srgbClr val="6876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Escapada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romoción u ofer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265720" y="2619360"/>
            <a:ext cx="982800" cy="2936880"/>
          </a:xfrm>
          <a:prstGeom prst="rect">
            <a:avLst/>
          </a:prstGeom>
          <a:solidFill>
            <a:srgbClr val="6876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Ultimo Minu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(fiesta sorpresa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muerte famili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41720" y="4627440"/>
            <a:ext cx="2097000" cy="933480"/>
          </a:xfrm>
          <a:custGeom>
            <a:avLst/>
            <a:gdLst/>
            <a:ahLst/>
            <a:rect l="l" t="t" r="r" b="b"/>
            <a:pathLst>
              <a:path w="1437" h="661">
                <a:moveTo>
                  <a:pt x="738" y="308"/>
                </a:moveTo>
                <a:lnTo>
                  <a:pt x="738" y="0"/>
                </a:lnTo>
                <a:lnTo>
                  <a:pt x="1437" y="0"/>
                </a:lnTo>
                <a:lnTo>
                  <a:pt x="1437" y="661"/>
                </a:lnTo>
                <a:lnTo>
                  <a:pt x="0" y="661"/>
                </a:lnTo>
                <a:lnTo>
                  <a:pt x="0" y="341"/>
                </a:lnTo>
                <a:lnTo>
                  <a:pt x="738" y="341"/>
                </a:lnTo>
                <a:lnTo>
                  <a:pt x="738" y="30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85800" y="2577960"/>
            <a:ext cx="228600" cy="3594240"/>
          </a:xfrm>
          <a:custGeom>
            <a:avLst/>
            <a:gdLst/>
            <a:ahLst/>
            <a:rect l="l" t="t" r="r" b="b"/>
            <a:pathLst>
              <a:path w="143" h="1026">
                <a:moveTo>
                  <a:pt x="37" y="511"/>
                </a:moveTo>
                <a:lnTo>
                  <a:pt x="48" y="511"/>
                </a:lnTo>
                <a:lnTo>
                  <a:pt x="55" y="507"/>
                </a:lnTo>
                <a:lnTo>
                  <a:pt x="61" y="500"/>
                </a:lnTo>
                <a:lnTo>
                  <a:pt x="65" y="491"/>
                </a:lnTo>
                <a:lnTo>
                  <a:pt x="69" y="477"/>
                </a:lnTo>
                <a:lnTo>
                  <a:pt x="71" y="458"/>
                </a:lnTo>
                <a:lnTo>
                  <a:pt x="71" y="404"/>
                </a:lnTo>
                <a:lnTo>
                  <a:pt x="70" y="303"/>
                </a:lnTo>
                <a:lnTo>
                  <a:pt x="71" y="237"/>
                </a:lnTo>
                <a:lnTo>
                  <a:pt x="72" y="168"/>
                </a:lnTo>
                <a:lnTo>
                  <a:pt x="80" y="103"/>
                </a:lnTo>
                <a:lnTo>
                  <a:pt x="93" y="50"/>
                </a:lnTo>
                <a:lnTo>
                  <a:pt x="102" y="28"/>
                </a:lnTo>
                <a:lnTo>
                  <a:pt x="113" y="13"/>
                </a:lnTo>
                <a:lnTo>
                  <a:pt x="127" y="2"/>
                </a:lnTo>
                <a:lnTo>
                  <a:pt x="142" y="0"/>
                </a:lnTo>
                <a:lnTo>
                  <a:pt x="123" y="1"/>
                </a:lnTo>
                <a:lnTo>
                  <a:pt x="107" y="6"/>
                </a:lnTo>
                <a:lnTo>
                  <a:pt x="93" y="17"/>
                </a:lnTo>
                <a:lnTo>
                  <a:pt x="82" y="30"/>
                </a:lnTo>
                <a:lnTo>
                  <a:pt x="71" y="47"/>
                </a:lnTo>
                <a:lnTo>
                  <a:pt x="64" y="67"/>
                </a:lnTo>
                <a:lnTo>
                  <a:pt x="54" y="115"/>
                </a:lnTo>
                <a:lnTo>
                  <a:pt x="49" y="175"/>
                </a:lnTo>
                <a:lnTo>
                  <a:pt x="47" y="245"/>
                </a:lnTo>
                <a:lnTo>
                  <a:pt x="47" y="404"/>
                </a:lnTo>
                <a:lnTo>
                  <a:pt x="46" y="433"/>
                </a:lnTo>
                <a:lnTo>
                  <a:pt x="43" y="458"/>
                </a:lnTo>
                <a:lnTo>
                  <a:pt x="38" y="477"/>
                </a:lnTo>
                <a:lnTo>
                  <a:pt x="33" y="491"/>
                </a:lnTo>
                <a:lnTo>
                  <a:pt x="26" y="500"/>
                </a:lnTo>
                <a:lnTo>
                  <a:pt x="18" y="507"/>
                </a:lnTo>
                <a:lnTo>
                  <a:pt x="9" y="511"/>
                </a:lnTo>
                <a:lnTo>
                  <a:pt x="0" y="511"/>
                </a:lnTo>
                <a:lnTo>
                  <a:pt x="9" y="513"/>
                </a:lnTo>
                <a:lnTo>
                  <a:pt x="18" y="516"/>
                </a:lnTo>
                <a:lnTo>
                  <a:pt x="26" y="522"/>
                </a:lnTo>
                <a:lnTo>
                  <a:pt x="33" y="533"/>
                </a:lnTo>
                <a:lnTo>
                  <a:pt x="38" y="547"/>
                </a:lnTo>
                <a:lnTo>
                  <a:pt x="43" y="566"/>
                </a:lnTo>
                <a:lnTo>
                  <a:pt x="46" y="590"/>
                </a:lnTo>
                <a:lnTo>
                  <a:pt x="47" y="619"/>
                </a:lnTo>
                <a:lnTo>
                  <a:pt x="47" y="779"/>
                </a:lnTo>
                <a:lnTo>
                  <a:pt x="49" y="848"/>
                </a:lnTo>
                <a:lnTo>
                  <a:pt x="54" y="908"/>
                </a:lnTo>
                <a:lnTo>
                  <a:pt x="64" y="957"/>
                </a:lnTo>
                <a:lnTo>
                  <a:pt x="71" y="977"/>
                </a:lnTo>
                <a:lnTo>
                  <a:pt x="82" y="994"/>
                </a:lnTo>
                <a:lnTo>
                  <a:pt x="93" y="1007"/>
                </a:lnTo>
                <a:lnTo>
                  <a:pt x="107" y="1017"/>
                </a:lnTo>
                <a:lnTo>
                  <a:pt x="123" y="1023"/>
                </a:lnTo>
                <a:lnTo>
                  <a:pt x="142" y="1025"/>
                </a:lnTo>
                <a:lnTo>
                  <a:pt x="133" y="1024"/>
                </a:lnTo>
                <a:lnTo>
                  <a:pt x="127" y="1021"/>
                </a:lnTo>
                <a:lnTo>
                  <a:pt x="119" y="1017"/>
                </a:lnTo>
                <a:lnTo>
                  <a:pt x="113" y="1012"/>
                </a:lnTo>
                <a:lnTo>
                  <a:pt x="102" y="995"/>
                </a:lnTo>
                <a:lnTo>
                  <a:pt x="93" y="974"/>
                </a:lnTo>
                <a:lnTo>
                  <a:pt x="86" y="949"/>
                </a:lnTo>
                <a:lnTo>
                  <a:pt x="80" y="920"/>
                </a:lnTo>
                <a:lnTo>
                  <a:pt x="72" y="856"/>
                </a:lnTo>
                <a:lnTo>
                  <a:pt x="71" y="787"/>
                </a:lnTo>
                <a:lnTo>
                  <a:pt x="70" y="721"/>
                </a:lnTo>
                <a:lnTo>
                  <a:pt x="71" y="619"/>
                </a:lnTo>
                <a:lnTo>
                  <a:pt x="71" y="566"/>
                </a:lnTo>
                <a:lnTo>
                  <a:pt x="65" y="533"/>
                </a:lnTo>
                <a:lnTo>
                  <a:pt x="61" y="522"/>
                </a:lnTo>
                <a:lnTo>
                  <a:pt x="55" y="516"/>
                </a:lnTo>
                <a:lnTo>
                  <a:pt x="48" y="513"/>
                </a:lnTo>
                <a:lnTo>
                  <a:pt x="37" y="51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rot="16200000">
            <a:off x="-1098360" y="4244760"/>
            <a:ext cx="318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egmentación demográfica y conduct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5400000">
            <a:off x="5592240" y="-1017360"/>
            <a:ext cx="180720" cy="5397480"/>
          </a:xfrm>
          <a:custGeom>
            <a:avLst/>
            <a:gdLst/>
            <a:ahLst/>
            <a:rect l="l" t="t" r="r" b="b"/>
            <a:pathLst>
              <a:path w="143" h="1026">
                <a:moveTo>
                  <a:pt x="37" y="511"/>
                </a:moveTo>
                <a:lnTo>
                  <a:pt x="48" y="511"/>
                </a:lnTo>
                <a:lnTo>
                  <a:pt x="55" y="507"/>
                </a:lnTo>
                <a:lnTo>
                  <a:pt x="61" y="500"/>
                </a:lnTo>
                <a:lnTo>
                  <a:pt x="65" y="491"/>
                </a:lnTo>
                <a:lnTo>
                  <a:pt x="69" y="477"/>
                </a:lnTo>
                <a:lnTo>
                  <a:pt x="71" y="458"/>
                </a:lnTo>
                <a:lnTo>
                  <a:pt x="71" y="404"/>
                </a:lnTo>
                <a:lnTo>
                  <a:pt x="70" y="303"/>
                </a:lnTo>
                <a:lnTo>
                  <a:pt x="71" y="237"/>
                </a:lnTo>
                <a:lnTo>
                  <a:pt x="72" y="168"/>
                </a:lnTo>
                <a:lnTo>
                  <a:pt x="80" y="103"/>
                </a:lnTo>
                <a:lnTo>
                  <a:pt x="93" y="50"/>
                </a:lnTo>
                <a:lnTo>
                  <a:pt x="102" y="28"/>
                </a:lnTo>
                <a:lnTo>
                  <a:pt x="113" y="13"/>
                </a:lnTo>
                <a:lnTo>
                  <a:pt x="127" y="2"/>
                </a:lnTo>
                <a:lnTo>
                  <a:pt x="142" y="0"/>
                </a:lnTo>
                <a:lnTo>
                  <a:pt x="123" y="1"/>
                </a:lnTo>
                <a:lnTo>
                  <a:pt x="107" y="6"/>
                </a:lnTo>
                <a:lnTo>
                  <a:pt x="93" y="17"/>
                </a:lnTo>
                <a:lnTo>
                  <a:pt x="82" y="30"/>
                </a:lnTo>
                <a:lnTo>
                  <a:pt x="71" y="47"/>
                </a:lnTo>
                <a:lnTo>
                  <a:pt x="64" y="67"/>
                </a:lnTo>
                <a:lnTo>
                  <a:pt x="54" y="115"/>
                </a:lnTo>
                <a:lnTo>
                  <a:pt x="49" y="175"/>
                </a:lnTo>
                <a:lnTo>
                  <a:pt x="47" y="245"/>
                </a:lnTo>
                <a:lnTo>
                  <a:pt x="47" y="404"/>
                </a:lnTo>
                <a:lnTo>
                  <a:pt x="46" y="433"/>
                </a:lnTo>
                <a:lnTo>
                  <a:pt x="43" y="458"/>
                </a:lnTo>
                <a:lnTo>
                  <a:pt x="38" y="477"/>
                </a:lnTo>
                <a:lnTo>
                  <a:pt x="33" y="491"/>
                </a:lnTo>
                <a:lnTo>
                  <a:pt x="26" y="500"/>
                </a:lnTo>
                <a:lnTo>
                  <a:pt x="18" y="507"/>
                </a:lnTo>
                <a:lnTo>
                  <a:pt x="9" y="511"/>
                </a:lnTo>
                <a:lnTo>
                  <a:pt x="0" y="511"/>
                </a:lnTo>
                <a:lnTo>
                  <a:pt x="9" y="513"/>
                </a:lnTo>
                <a:lnTo>
                  <a:pt x="18" y="516"/>
                </a:lnTo>
                <a:lnTo>
                  <a:pt x="26" y="522"/>
                </a:lnTo>
                <a:lnTo>
                  <a:pt x="33" y="533"/>
                </a:lnTo>
                <a:lnTo>
                  <a:pt x="38" y="547"/>
                </a:lnTo>
                <a:lnTo>
                  <a:pt x="43" y="566"/>
                </a:lnTo>
                <a:lnTo>
                  <a:pt x="46" y="590"/>
                </a:lnTo>
                <a:lnTo>
                  <a:pt x="47" y="619"/>
                </a:lnTo>
                <a:lnTo>
                  <a:pt x="47" y="779"/>
                </a:lnTo>
                <a:lnTo>
                  <a:pt x="49" y="848"/>
                </a:lnTo>
                <a:lnTo>
                  <a:pt x="54" y="908"/>
                </a:lnTo>
                <a:lnTo>
                  <a:pt x="64" y="957"/>
                </a:lnTo>
                <a:lnTo>
                  <a:pt x="71" y="977"/>
                </a:lnTo>
                <a:lnTo>
                  <a:pt x="82" y="994"/>
                </a:lnTo>
                <a:lnTo>
                  <a:pt x="93" y="1007"/>
                </a:lnTo>
                <a:lnTo>
                  <a:pt x="107" y="1017"/>
                </a:lnTo>
                <a:lnTo>
                  <a:pt x="123" y="1023"/>
                </a:lnTo>
                <a:lnTo>
                  <a:pt x="142" y="1025"/>
                </a:lnTo>
                <a:lnTo>
                  <a:pt x="133" y="1024"/>
                </a:lnTo>
                <a:lnTo>
                  <a:pt x="127" y="1021"/>
                </a:lnTo>
                <a:lnTo>
                  <a:pt x="119" y="1017"/>
                </a:lnTo>
                <a:lnTo>
                  <a:pt x="113" y="1012"/>
                </a:lnTo>
                <a:lnTo>
                  <a:pt x="102" y="995"/>
                </a:lnTo>
                <a:lnTo>
                  <a:pt x="93" y="974"/>
                </a:lnTo>
                <a:lnTo>
                  <a:pt x="86" y="949"/>
                </a:lnTo>
                <a:lnTo>
                  <a:pt x="80" y="920"/>
                </a:lnTo>
                <a:lnTo>
                  <a:pt x="72" y="856"/>
                </a:lnTo>
                <a:lnTo>
                  <a:pt x="71" y="787"/>
                </a:lnTo>
                <a:lnTo>
                  <a:pt x="70" y="721"/>
                </a:lnTo>
                <a:lnTo>
                  <a:pt x="71" y="619"/>
                </a:lnTo>
                <a:lnTo>
                  <a:pt x="71" y="566"/>
                </a:lnTo>
                <a:lnTo>
                  <a:pt x="65" y="533"/>
                </a:lnTo>
                <a:lnTo>
                  <a:pt x="61" y="522"/>
                </a:lnTo>
                <a:lnTo>
                  <a:pt x="55" y="516"/>
                </a:lnTo>
                <a:lnTo>
                  <a:pt x="48" y="513"/>
                </a:lnTo>
                <a:lnTo>
                  <a:pt x="37" y="51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962520" y="1370880"/>
            <a:ext cx="35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Oca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68320" y="5144400"/>
            <a:ext cx="1366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ajes no familia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(fin de semana larg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48320" y="6324480"/>
            <a:ext cx="228600" cy="152640"/>
          </a:xfrm>
          <a:prstGeom prst="rect">
            <a:avLst/>
          </a:prstGeom>
          <a:solidFill>
            <a:srgbClr val="6876e7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648320" y="6505560"/>
            <a:ext cx="228600" cy="152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848120" y="6247800"/>
            <a:ext cx="13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Target Prim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48480" y="6430320"/>
            <a:ext cx="242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prox. 45% - 55% del mer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068E7-905F-402A-9C13-C117D68A07F0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apa de perfil competitivo de Priceline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762120" y="1371600"/>
            <a:ext cx="7440480" cy="4694400"/>
          </a:xfrm>
          <a:prstGeom prst="ellipse">
            <a:avLst/>
          </a:prstGeom>
          <a:solidFill>
            <a:srgbClr val="fee1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704960" y="1968480"/>
            <a:ext cx="5556240" cy="3500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27280" y="2492280"/>
            <a:ext cx="3711600" cy="245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ce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05520" y="1981080"/>
            <a:ext cx="6904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ped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562720" y="2438280"/>
            <a:ext cx="672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veloc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019920" y="2590920"/>
            <a:ext cx="7077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t W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800600" y="2286000"/>
            <a:ext cx="9763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gencias Off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419720" y="2057400"/>
            <a:ext cx="7077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bit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248520" y="2971800"/>
            <a:ext cx="939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305400" y="3568680"/>
            <a:ext cx="1028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ompetencia Direc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174080" y="4038480"/>
            <a:ext cx="10461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ompetencia Indirec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705720" y="2362320"/>
            <a:ext cx="9763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A, Uni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934320" y="2590920"/>
            <a:ext cx="9763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th W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324480" y="3200400"/>
            <a:ext cx="9763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rt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316560" y="2147760"/>
            <a:ext cx="978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ras líneas aere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581280" y="5562720"/>
            <a:ext cx="97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gencias especializad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316560" y="2147760"/>
            <a:ext cx="978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ras líneas aere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4191120" y="2590920"/>
            <a:ext cx="685800" cy="47916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5029200" y="2743200"/>
            <a:ext cx="685800" cy="47952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3"/>
          <a:stretch/>
        </p:blipFill>
        <p:spPr>
          <a:xfrm>
            <a:off x="5572080" y="3276720"/>
            <a:ext cx="685800" cy="47916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4"/>
          <a:stretch/>
        </p:blipFill>
        <p:spPr>
          <a:xfrm>
            <a:off x="3581280" y="4191120"/>
            <a:ext cx="685800" cy="47916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5"/>
          <a:stretch/>
        </p:blipFill>
        <p:spPr>
          <a:xfrm>
            <a:off x="5257800" y="3962520"/>
            <a:ext cx="685800" cy="47916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6"/>
          <a:stretch/>
        </p:blipFill>
        <p:spPr>
          <a:xfrm>
            <a:off x="2819520" y="3581280"/>
            <a:ext cx="685800" cy="47952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7"/>
          <a:stretch/>
        </p:blipFill>
        <p:spPr>
          <a:xfrm>
            <a:off x="3352680" y="2819520"/>
            <a:ext cx="685800" cy="4791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8"/>
          <a:stretch/>
        </p:blipFill>
        <p:spPr>
          <a:xfrm>
            <a:off x="4495680" y="4267080"/>
            <a:ext cx="685800" cy="47952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 rot="8069400">
            <a:off x="5676480" y="3847680"/>
            <a:ext cx="304920" cy="228600"/>
          </a:xfrm>
          <a:custGeom>
            <a:avLst/>
            <a:gdLst>
              <a:gd name="textAreaLeft" fmla="*/ 38160 w 304920"/>
              <a:gd name="textAreaRight" fmla="*/ 267120 w 3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rot="18956400">
            <a:off x="3124080" y="3352320"/>
            <a:ext cx="304920" cy="228600"/>
          </a:xfrm>
          <a:custGeom>
            <a:avLst/>
            <a:gdLst>
              <a:gd name="textAreaLeft" fmla="*/ 38160 w 304920"/>
              <a:gd name="textAreaRight" fmla="*/ 267120 w 3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2785200">
            <a:off x="5676480" y="3085920"/>
            <a:ext cx="304560" cy="228600"/>
          </a:xfrm>
          <a:custGeom>
            <a:avLst/>
            <a:gdLst>
              <a:gd name="textAreaLeft" fmla="*/ 37800 w 304560"/>
              <a:gd name="textAreaRight" fmla="*/ 266760 w 30456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rot="1230600">
            <a:off x="4800240" y="2666880"/>
            <a:ext cx="304920" cy="228600"/>
          </a:xfrm>
          <a:custGeom>
            <a:avLst/>
            <a:gdLst>
              <a:gd name="textAreaLeft" fmla="*/ 38160 w 304920"/>
              <a:gd name="textAreaRight" fmla="*/ 267120 w 3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rot="20377800">
            <a:off x="3886200" y="2666520"/>
            <a:ext cx="304920" cy="228600"/>
          </a:xfrm>
          <a:custGeom>
            <a:avLst/>
            <a:gdLst>
              <a:gd name="textAreaLeft" fmla="*/ 38160 w 304920"/>
              <a:gd name="textAreaRight" fmla="*/ 267120 w 3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rot="13919400">
            <a:off x="3238200" y="4152240"/>
            <a:ext cx="304920" cy="228600"/>
          </a:xfrm>
          <a:custGeom>
            <a:avLst/>
            <a:gdLst>
              <a:gd name="textAreaLeft" fmla="*/ 38160 w 304920"/>
              <a:gd name="textAreaRight" fmla="*/ 267120 w 3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rot="11610000">
            <a:off x="4190760" y="4419360"/>
            <a:ext cx="304560" cy="228600"/>
          </a:xfrm>
          <a:custGeom>
            <a:avLst/>
            <a:gdLst>
              <a:gd name="textAreaLeft" fmla="*/ 37800 w 304560"/>
              <a:gd name="textAreaRight" fmla="*/ 266760 w 30456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rot="10069200">
            <a:off x="5028480" y="4343040"/>
            <a:ext cx="304920" cy="228600"/>
          </a:xfrm>
          <a:custGeom>
            <a:avLst/>
            <a:gdLst>
              <a:gd name="textAreaLeft" fmla="*/ 38160 w 304920"/>
              <a:gd name="textAreaRight" fmla="*/ 267120 w 3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217680" y="3048120"/>
            <a:ext cx="9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Financiami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de propied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828520" y="388620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u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Nuev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516480" y="4495680"/>
            <a:ext cx="61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Crucer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227840" y="29052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tick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ere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037480" y="32004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Hote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570640" y="3581280"/>
            <a:ext cx="60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rrien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u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437360" y="4648320"/>
            <a:ext cx="71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Vaca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271480" y="4343400"/>
            <a:ext cx="60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Larg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dista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963040" y="4419720"/>
            <a:ext cx="75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Net2Ph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76000" y="4724280"/>
            <a:ext cx="4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T&amp;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267080" y="4876920"/>
            <a:ext cx="6908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ped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572000" y="5181480"/>
            <a:ext cx="6732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veloc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429000" y="5029200"/>
            <a:ext cx="9763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gencias Off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851480" y="3733920"/>
            <a:ext cx="65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cars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005200" y="3962520"/>
            <a:ext cx="68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utobyt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379960" y="1828800"/>
            <a:ext cx="56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Ban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34040" y="2209680"/>
            <a:ext cx="103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Otras financier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933480" y="3824280"/>
            <a:ext cx="58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Deal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5CFE4-832A-46DC-ABF6-59B8A80B476E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apa de desempeño competitivo por segmento para Priceline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468360" y="1341360"/>
            <a:ext cx="8292960" cy="4914720"/>
            <a:chOff x="468360" y="1341360"/>
            <a:chExt cx="8292960" cy="4914720"/>
          </a:xfrm>
        </p:grpSpPr>
        <p:graphicFrame>
          <p:nvGraphicFramePr>
            <p:cNvPr id="546" name=""/>
            <p:cNvGraphicFramePr/>
            <p:nvPr/>
          </p:nvGraphicFramePr>
          <p:xfrm>
            <a:off x="468360" y="1341360"/>
            <a:ext cx="8292960" cy="49147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5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1341360"/>
                      <a:ext cx="8292960" cy="491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48" name=""/>
            <p:cNvGrpSpPr/>
            <p:nvPr/>
          </p:nvGrpSpPr>
          <p:grpSpPr>
            <a:xfrm>
              <a:off x="542880" y="6019560"/>
              <a:ext cx="2116080" cy="179280"/>
              <a:chOff x="542880" y="6019560"/>
              <a:chExt cx="2116080" cy="179280"/>
            </a:xfrm>
          </p:grpSpPr>
          <p:sp>
            <p:nvSpPr>
              <p:cNvPr id="549" name=""/>
              <p:cNvSpPr/>
              <p:nvPr/>
            </p:nvSpPr>
            <p:spPr>
              <a:xfrm>
                <a:off x="542880" y="6022440"/>
                <a:ext cx="172800" cy="172800"/>
              </a:xfrm>
              <a:prstGeom prst="ellipse">
                <a:avLst/>
              </a:pr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923760" y="6019560"/>
                <a:ext cx="1735200" cy="17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ivel alto de desempeñ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>
              <a:off x="3754440" y="3576600"/>
              <a:ext cx="320760" cy="320400"/>
            </a:xfrm>
            <a:prstGeom prst="ellipse">
              <a:avLst/>
            </a:prstGeom>
            <a:solidFill>
              <a:srgbClr val="000000"/>
            </a:soli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2170080" y="2300040"/>
              <a:ext cx="320760" cy="320760"/>
              <a:chOff x="2170080" y="2300040"/>
              <a:chExt cx="320760" cy="320760"/>
            </a:xfrm>
          </p:grpSpPr>
          <p:sp>
            <p:nvSpPr>
              <p:cNvPr id="553" name=""/>
              <p:cNvSpPr/>
              <p:nvPr/>
            </p:nvSpPr>
            <p:spPr>
              <a:xfrm>
                <a:off x="2170080" y="2300040"/>
                <a:ext cx="320760" cy="320760"/>
              </a:xfrm>
              <a:prstGeom prst="ellipse">
                <a:avLst/>
              </a:pr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170440" y="2300040"/>
                <a:ext cx="319680" cy="32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3484440" y="6019560"/>
              <a:ext cx="2116080" cy="179280"/>
              <a:chOff x="3484440" y="6019560"/>
              <a:chExt cx="2116080" cy="17928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3484440" y="6024240"/>
                <a:ext cx="172800" cy="173160"/>
                <a:chOff x="3484440" y="6024240"/>
                <a:chExt cx="172800" cy="17316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3484440" y="6024240"/>
                  <a:ext cx="172800" cy="173160"/>
                </a:xfrm>
                <a:prstGeom prst="ellipse">
                  <a:avLst/>
                </a:prstGeom>
                <a:solidFill>
                  <a:srgbClr val="ffffff"/>
                </a:solidFill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484800" y="6024240"/>
                  <a:ext cx="172080" cy="172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864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86471"/>
                    </a:path>
                  </a:pathLst>
                </a:custGeom>
                <a:solidFill>
                  <a:srgbClr val="000000"/>
                </a:solidFill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9" name=""/>
              <p:cNvSpPr/>
              <p:nvPr/>
            </p:nvSpPr>
            <p:spPr>
              <a:xfrm>
                <a:off x="3865320" y="6019560"/>
                <a:ext cx="1735200" cy="17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ivel medio de desempeñ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6426000" y="6019560"/>
              <a:ext cx="2116080" cy="179280"/>
              <a:chOff x="6426000" y="6019560"/>
              <a:chExt cx="2116080" cy="179280"/>
            </a:xfrm>
          </p:grpSpPr>
          <p:sp>
            <p:nvSpPr>
              <p:cNvPr id="561" name=""/>
              <p:cNvSpPr/>
              <p:nvPr/>
            </p:nvSpPr>
            <p:spPr>
              <a:xfrm>
                <a:off x="6426000" y="6022440"/>
                <a:ext cx="172800" cy="173160"/>
              </a:xfrm>
              <a:prstGeom prst="ellipse">
                <a:avLst/>
              </a:pr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06880" y="6019560"/>
                <a:ext cx="1735200" cy="17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ivel bajo de desempeñ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3754440" y="2300040"/>
              <a:ext cx="320760" cy="320760"/>
              <a:chOff x="3754440" y="2300040"/>
              <a:chExt cx="320760" cy="320760"/>
            </a:xfrm>
          </p:grpSpPr>
          <p:sp>
            <p:nvSpPr>
              <p:cNvPr id="564" name=""/>
              <p:cNvSpPr/>
              <p:nvPr/>
            </p:nvSpPr>
            <p:spPr>
              <a:xfrm>
                <a:off x="3754440" y="2300040"/>
                <a:ext cx="320760" cy="320760"/>
              </a:xfrm>
              <a:prstGeom prst="ellipse">
                <a:avLst/>
              </a:pr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754800" y="2300040"/>
                <a:ext cx="319680" cy="32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5348160" y="2300040"/>
              <a:ext cx="320760" cy="320760"/>
              <a:chOff x="5348160" y="2300040"/>
              <a:chExt cx="320760" cy="320760"/>
            </a:xfrm>
          </p:grpSpPr>
          <p:sp>
            <p:nvSpPr>
              <p:cNvPr id="567" name=""/>
              <p:cNvSpPr/>
              <p:nvPr/>
            </p:nvSpPr>
            <p:spPr>
              <a:xfrm>
                <a:off x="5348160" y="2300040"/>
                <a:ext cx="320760" cy="320760"/>
              </a:xfrm>
              <a:prstGeom prst="ellipse">
                <a:avLst/>
              </a:pr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348520" y="2300040"/>
                <a:ext cx="319680" cy="32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6937200" y="2300040"/>
              <a:ext cx="320400" cy="320400"/>
              <a:chOff x="6937200" y="2300040"/>
              <a:chExt cx="320400" cy="320400"/>
            </a:xfrm>
          </p:grpSpPr>
          <p:sp>
            <p:nvSpPr>
              <p:cNvPr id="570" name=""/>
              <p:cNvSpPr/>
              <p:nvPr/>
            </p:nvSpPr>
            <p:spPr>
              <a:xfrm>
                <a:off x="6937200" y="2300040"/>
                <a:ext cx="320400" cy="320400"/>
              </a:xfrm>
              <a:prstGeom prst="ellipse">
                <a:avLst/>
              </a:pr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937560" y="2300040"/>
                <a:ext cx="319680" cy="320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8647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86471"/>
                  </a:path>
                </a:pathLst>
              </a:cu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2170080" y="3576600"/>
              <a:ext cx="320400" cy="320040"/>
              <a:chOff x="2170080" y="3576600"/>
              <a:chExt cx="320400" cy="320040"/>
            </a:xfrm>
          </p:grpSpPr>
          <p:sp>
            <p:nvSpPr>
              <p:cNvPr id="573" name=""/>
              <p:cNvSpPr/>
              <p:nvPr/>
            </p:nvSpPr>
            <p:spPr>
              <a:xfrm>
                <a:off x="2170080" y="3576600"/>
                <a:ext cx="320400" cy="320040"/>
              </a:xfrm>
              <a:prstGeom prst="ellipse">
                <a:avLst/>
              </a:pr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170440" y="3576600"/>
                <a:ext cx="319680" cy="31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8647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86471"/>
                  </a:path>
                </a:pathLst>
              </a:cu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5348160" y="3576600"/>
              <a:ext cx="320400" cy="320040"/>
              <a:chOff x="5348160" y="3576600"/>
              <a:chExt cx="320400" cy="320040"/>
            </a:xfrm>
          </p:grpSpPr>
          <p:sp>
            <p:nvSpPr>
              <p:cNvPr id="576" name=""/>
              <p:cNvSpPr/>
              <p:nvPr/>
            </p:nvSpPr>
            <p:spPr>
              <a:xfrm>
                <a:off x="5348160" y="3576600"/>
                <a:ext cx="320400" cy="320040"/>
              </a:xfrm>
              <a:prstGeom prst="ellipse">
                <a:avLst/>
              </a:pr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348520" y="3576600"/>
                <a:ext cx="319680" cy="31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8647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86471"/>
                  </a:path>
                </a:pathLst>
              </a:cu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5348160" y="4913280"/>
              <a:ext cx="320400" cy="320040"/>
              <a:chOff x="5348160" y="4913280"/>
              <a:chExt cx="320400" cy="320040"/>
            </a:xfrm>
          </p:grpSpPr>
          <p:sp>
            <p:nvSpPr>
              <p:cNvPr id="579" name=""/>
              <p:cNvSpPr/>
              <p:nvPr/>
            </p:nvSpPr>
            <p:spPr>
              <a:xfrm>
                <a:off x="5348160" y="4913280"/>
                <a:ext cx="320400" cy="320040"/>
              </a:xfrm>
              <a:prstGeom prst="ellipse">
                <a:avLst/>
              </a:pr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348520" y="4913280"/>
                <a:ext cx="319680" cy="31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8647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86471"/>
                  </a:path>
                </a:pathLst>
              </a:cu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3754440" y="4913280"/>
              <a:ext cx="320760" cy="320400"/>
              <a:chOff x="3754440" y="4913280"/>
              <a:chExt cx="320760" cy="320400"/>
            </a:xfrm>
          </p:grpSpPr>
          <p:sp>
            <p:nvSpPr>
              <p:cNvPr id="582" name=""/>
              <p:cNvSpPr/>
              <p:nvPr/>
            </p:nvSpPr>
            <p:spPr>
              <a:xfrm>
                <a:off x="3754440" y="4913280"/>
                <a:ext cx="320760" cy="320400"/>
              </a:xfrm>
              <a:prstGeom prst="ellipse">
                <a:avLst/>
              </a:pr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754800" y="4913280"/>
                <a:ext cx="319680" cy="31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6937200" y="3576600"/>
              <a:ext cx="320760" cy="320400"/>
              <a:chOff x="6937200" y="3576600"/>
              <a:chExt cx="320760" cy="320400"/>
            </a:xfrm>
          </p:grpSpPr>
          <p:sp>
            <p:nvSpPr>
              <p:cNvPr id="585" name=""/>
              <p:cNvSpPr/>
              <p:nvPr/>
            </p:nvSpPr>
            <p:spPr>
              <a:xfrm>
                <a:off x="6937200" y="3576600"/>
                <a:ext cx="320760" cy="320400"/>
              </a:xfrm>
              <a:prstGeom prst="ellipse">
                <a:avLst/>
              </a:pr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937560" y="3576600"/>
                <a:ext cx="319680" cy="31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2170080" y="4913280"/>
              <a:ext cx="320400" cy="322920"/>
              <a:chOff x="2170080" y="4913280"/>
              <a:chExt cx="320400" cy="322920"/>
            </a:xfrm>
          </p:grpSpPr>
          <p:sp>
            <p:nvSpPr>
              <p:cNvPr id="588" name=""/>
              <p:cNvSpPr/>
              <p:nvPr/>
            </p:nvSpPr>
            <p:spPr>
              <a:xfrm>
                <a:off x="2170080" y="4913280"/>
                <a:ext cx="320400" cy="320040"/>
              </a:xfrm>
              <a:prstGeom prst="ellipse">
                <a:avLst/>
              </a:pr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173680" y="4913280"/>
                <a:ext cx="316080" cy="32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6937200" y="4913280"/>
              <a:ext cx="320400" cy="322920"/>
              <a:chOff x="6937200" y="4913280"/>
              <a:chExt cx="320400" cy="322920"/>
            </a:xfrm>
          </p:grpSpPr>
          <p:sp>
            <p:nvSpPr>
              <p:cNvPr id="591" name=""/>
              <p:cNvSpPr/>
              <p:nvPr/>
            </p:nvSpPr>
            <p:spPr>
              <a:xfrm>
                <a:off x="6937200" y="4913280"/>
                <a:ext cx="320400" cy="320040"/>
              </a:xfrm>
              <a:prstGeom prst="ellipse">
                <a:avLst/>
              </a:pr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940800" y="4913280"/>
                <a:ext cx="316080" cy="32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672CE-DC0F-4B98-862C-4C4167475E05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Modelos de Negoci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2700360" y="2133720"/>
            <a:ext cx="1608120" cy="942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¿Donde competirá el negoci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529160" y="4727520"/>
            <a:ext cx="1608120" cy="9432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¿Como ganará el negoci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6" name=""/>
          <p:cNvCxnSpPr>
            <a:stCxn id="595" idx="1"/>
            <a:endCxn id="594" idx="2"/>
          </p:cNvCxnSpPr>
          <p:nvPr/>
        </p:nvCxnSpPr>
        <p:spPr>
          <a:xfrm rot="10800000">
            <a:off x="3504600" y="3075840"/>
            <a:ext cx="1024560" cy="212328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97" name=""/>
          <p:cNvCxnSpPr>
            <a:stCxn id="594" idx="3"/>
            <a:endCxn id="595" idx="0"/>
          </p:cNvCxnSpPr>
          <p:nvPr/>
        </p:nvCxnSpPr>
        <p:spPr>
          <a:xfrm>
            <a:off x="4308120" y="2604960"/>
            <a:ext cx="1026360" cy="2123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8" name=""/>
          <p:cNvSpPr/>
          <p:nvPr/>
        </p:nvSpPr>
        <p:spPr>
          <a:xfrm>
            <a:off x="1116000" y="1484280"/>
            <a:ext cx="1606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nálisis de oportunidad de mer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227640" y="56610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os de Negoc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E381D-80B9-4849-9A7A-BB4CC6582BB1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¿Por que Modelos de Negocio?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análisis de mercado debe responder la pregunta: ¿dónde competi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hora la pregunta es ¿cómo gana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diferencia de los modelos de empresas tradicionales, donde la respuesta está en el análisis interno, en Internet, tanto para empresas puras como para estrategias complementarias, todo modelo es nue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diseño racional y estructurado del modelo a implementar aumenta las probabilidades de éxit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EBE63-5E9F-4287-B57D-C8F28DAC14F3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192000" y="6643800"/>
            <a:ext cx="28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Fuente: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http://www.zakon.org/robert/internet/timelin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598500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61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Leonard Kleinrock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 del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MIT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 escribe el primer paper sobre packet-switching (PS) theory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: "Information Flow in Large Communication Nets“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5451480"/>
            <a:ext cx="807732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65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RPA (Advanced Research Projects Agency) patrocina un estudio sobre redes corporativas para compartir computadores; Máquinas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TX-2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del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MIT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AN/FSQ-32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en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Santa M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ó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nica, CA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 son conectados via línea telefónica dedicada de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1200bps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. Posteriormente se suma el computador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DEC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 de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ARPA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para formar la “Red Experimental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514656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66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Lawrence G. Roberts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 del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MIT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 escribe “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Towards a Cooperative Network of Time-Shared Computers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”, el primer plan para ARPAN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468936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69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4 nodos son interconectados como parte del proyecto ARPANET a través de lineas de 50kbps de AT&amp;T: UCLA – Stanford – UCSB – University of UTA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30848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70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Primera publicación del protocolo ARPANET Host-Ho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851280"/>
            <a:ext cx="80773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71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11 nodos se unen a la red;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Ray Tomlinson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inventa un software para enviar emails a través de la red, utilizando como base un programa de email inter-máquinas (SENDMSG) y un programa experimental de transferencia (CPYNET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3394080"/>
            <a:ext cx="80773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72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Se modifica el programa de email para ARPANET y se incorpora el símbolo @ para identificar el Host de origen; Se realiza el primer chat computador a computa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06396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73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Primera conexión internacional a ARPANET: University College of Lond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63196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74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Vint Cerf and Bob Kahn publi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can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"A Protocol for Packet Network Interconnection“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, especificando el diseño de un programa de control de transmisión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(TCP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33208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75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John Vittal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desarroll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MSG,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el primer programa de email completo, con capacidad de respuesta, re-envio y adjuntar archiv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90512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79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Kevin MacKenzie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propone incluir emociones en los emails, utilizando el símbolo -) para denotar ironía. Esa nomenclatura se populariza rápidam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Internet: Una historia de 4 década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371600"/>
            <a:ext cx="80773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83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ombre de servidores desarrollados en l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Univ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de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Wisconsin,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permite a los usuario interconectarse sin conocer la ruta exacta a otros sistemas. ARPANET se divide en ARPANET y MILNET; 68 de los 113 nodos existentes se van a MILNET. La interconección de ambas reder se denomina INTERNE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3BC8B-1922-4B50-ADA3-51F7D3257A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Elementos de un Modelo de Negoci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arar nacimiento de una empresa hace 20 años con la implementación de una estrategia de Interne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dicional: De la realidad a la academ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net: De la academia a la realida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9CDA7-1AC8-429A-8444-AD1DCB3CA57D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Ejemplo: Flores online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er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Industria en USA de US$15.000 millon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Altamente fragmentado, sin marcas líderes, compleja distribución, calidad dispareja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Usualmente son vendidas 10 a 12 días después de su cosecha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60% compradas en las call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80% permanecen en el área donde fueron comprada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rcado On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US$350 millon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US$2.500 millones en 2004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Modelos muy similar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6B42A-0441-451B-9524-EEF6144EF977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Ejemplo: Flores online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ayores competi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FTD.com gasta US$6.1 mill mensuales y vende sólo US$2.2 mill (déficit de US$3.9 mill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1-800-flowers opera con un déficit mensual de US$22.4 mill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Gerald Stevens pierde US$17.7 mill mensualmente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PC Flowers &amp; Gifts pierde US$326 mil mensula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e anda mal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El análisis de mercado predice una tremenda oportunidad para la venta de flores online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041CE-ED91-4D7E-A0D5-20DCBEAF1D7A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Elementos de un Modelo de Negoci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225960" y="171252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225960" y="277128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er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225960" y="380160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stema de recur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225960" y="488268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porte financiero_x001d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rot="5400000">
            <a:off x="4289760" y="2292840"/>
            <a:ext cx="496800" cy="241560"/>
          </a:xfrm>
          <a:custGeom>
            <a:avLst/>
            <a:gdLst>
              <a:gd name="textAreaLeft" fmla="*/ 77400 w 496800"/>
              <a:gd name="textAreaRight" fmla="*/ 434880 w 496800"/>
              <a:gd name="textAreaTop" fmla="*/ 60480 h 241560"/>
              <a:gd name="textAreaBottom" fmla="*/ 181440 h 241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5400000">
            <a:off x="4291560" y="3364560"/>
            <a:ext cx="497160" cy="241200"/>
          </a:xfrm>
          <a:custGeom>
            <a:avLst/>
            <a:gdLst>
              <a:gd name="textAreaLeft" fmla="*/ 77400 w 497160"/>
              <a:gd name="textAreaRight" fmla="*/ 435240 w 497160"/>
              <a:gd name="textAreaTop" fmla="*/ 60120 h 241200"/>
              <a:gd name="textAreaBottom" fmla="*/ 181080 h 241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rot="5400000">
            <a:off x="4291560" y="4394880"/>
            <a:ext cx="497160" cy="241200"/>
          </a:xfrm>
          <a:custGeom>
            <a:avLst/>
            <a:gdLst>
              <a:gd name="textAreaLeft" fmla="*/ 77400 w 497160"/>
              <a:gd name="textAreaRight" fmla="*/ 435240 w 497160"/>
              <a:gd name="textAreaTop" fmla="*/ 60120 h 241200"/>
              <a:gd name="textAreaBottom" fmla="*/ 181080 h 241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01400" y="2228760"/>
            <a:ext cx="123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Verdana"/>
              </a:rPr>
              <a:t>REGLA Nº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D4AD9-5127-4326-BF0B-40E8831CC790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Regla 1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los consumidores no les gusta el camb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s consumidores son reacios al camb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inercia de los consumidores los hace contrarios al cambio (aunque no lo diga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s consumidores cambian lentamente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9908C-65B1-4DA5-A9D9-ACB9BF6ED374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Paso 1: Propuesta de Valor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strucción de la propuesta en 3 etap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Elección del </a:t>
            </a:r>
            <a:r>
              <a:rPr b="0" lang="es-ES_tradnl" sz="2000" spc="-1" strike="noStrike">
                <a:solidFill>
                  <a:srgbClr val="ed181e"/>
                </a:solidFill>
                <a:latin typeface="Verdana"/>
              </a:rPr>
              <a:t>segmento</a:t>
            </a: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 objetiv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577880" indent="-3808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Debido a la capacidad de personalización de Internet, es posible elegir un “</a:t>
            </a:r>
            <a:r>
              <a:rPr b="0" i="1" lang="es-ES_tradnl" sz="1800" spc="-1" strike="noStrike">
                <a:solidFill>
                  <a:srgbClr val="6876e7"/>
                </a:solidFill>
                <a:latin typeface="Verdana"/>
              </a:rPr>
              <a:t>cluster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” o grupo de segmentos objetivos en vez de uno solo (“</a:t>
            </a:r>
            <a:r>
              <a:rPr b="0" i="1" lang="es-ES_tradnl" sz="1800" spc="-1" strike="noStrike">
                <a:solidFill>
                  <a:srgbClr val="6876e7"/>
                </a:solidFill>
                <a:latin typeface="Verdana"/>
              </a:rPr>
              <a:t>value-cluster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”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Elección del </a:t>
            </a:r>
            <a:r>
              <a:rPr b="0" lang="es-ES_tradnl" sz="2000" spc="-1" strike="noStrike">
                <a:solidFill>
                  <a:srgbClr val="ed181e"/>
                </a:solidFill>
                <a:latin typeface="Verdana"/>
              </a:rPr>
              <a:t>paquete de beneficios</a:t>
            </a: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 para los consumidor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577880" indent="-3808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Múltiples combinaciones de beneficios que pueden ser elegidos por los consumidores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Preguntarse por qué la firma está mejor posicionada para entregar el paquete beneficios mejor que los competidores en el mismo espacio (</a:t>
            </a:r>
            <a:r>
              <a:rPr b="0" lang="es-ES_tradnl" sz="2000" spc="-1" strike="noStrike">
                <a:solidFill>
                  <a:srgbClr val="ed181e"/>
                </a:solidFill>
                <a:latin typeface="Verdana"/>
              </a:rPr>
              <a:t>capacidades únicas</a:t>
            </a: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577880" indent="-3808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¿Que alianzas permiten a la firma y sus </a:t>
            </a:r>
            <a:r>
              <a:rPr b="0" i="1" lang="es-ES_tradnl" sz="1800" spc="-1" strike="noStrike">
                <a:solidFill>
                  <a:srgbClr val="6876e7"/>
                </a:solidFill>
                <a:latin typeface="Verdana"/>
              </a:rPr>
              <a:t>partners 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entregar</a:t>
            </a:r>
            <a:r>
              <a:rPr b="0" i="1" lang="es-ES_tradnl" sz="1800" spc="-1" strike="noStrike">
                <a:solidFill>
                  <a:srgbClr val="6876e7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los beneficios mejor que la competencia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1B816-B972-4724-A71E-D759FD49BB2F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Elección de Segmento(s) objetivo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cción a partir del análisis de oportunidad de merca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s form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Atractivo del mercad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Habilidad de la firma para competir en el mercad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iables críticas para determinar atractivo del mercad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Tamaño del mercado y tasa de crecimient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Necesidades no cubiertas o insuficientemente servida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Competencia débil o inexistente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89877-D8B8-409F-A221-D09DE0822EF4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Elección de paquete de beneficios:</a:t>
            </a:r>
            <a:br>
              <a:rPr sz="3000"/>
            </a:b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¿Propuesta simple o value-cluster?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puesta simple: foco en un beneficio crí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Alineamiento de la organización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Comunicar efectivamente al segmento objetiv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Otros beneficios también se entregan, pero no se hace hincapié en la comunicación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rupo de beneficios (value-clust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¿Qué dicen los defensores de esta aproximación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876e7"/>
                </a:solidFill>
                <a:latin typeface="Verdana"/>
              </a:rPr>
              <a:t>Beneficio único es un legado del mundo offline que no tiene sentido en Internet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876e7"/>
                </a:solidFill>
                <a:latin typeface="Verdana"/>
              </a:rPr>
              <a:t>Una URL (vitrina) permite múltiples decoraciones para múltiples segmentos.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Tecnológicamente posible, pero que pasa con la comunicación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¿Como evaluar para tomar decisiones de largo plazo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876e7"/>
                </a:solidFill>
                <a:latin typeface="Verdana"/>
              </a:rPr>
              <a:t>Ejemplo: Yahoo!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31637-57E8-41B3-8E15-9F5A2AD8002A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De cualquier manera…</a:t>
            </a:r>
            <a:br>
              <a:rPr sz="3000"/>
            </a:b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(Regla 2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egir un único, simple beneficio crítico y focalizarse en él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Precio, Variedad, Despacho, Servicio al Cliente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Ejemplos offline: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Volvo: seguridad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Southwest: conveniencia y bajos preci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Hoteles Four Season: Servicio sobresalient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E90E7-7A4E-43F7-94CC-88F4A2F9FBBE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De cualquier manera…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ección de 2 beneficios críticos genera 2 problem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En el lado de la demanda: Confusión por mensaje ambigu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En el lado de la oferta: Diseño estratégico de sistemas para uno de los beneficios entra en conflicto con el segundo (bajo precio y rapidez de despacho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nsecuencia: Sistema que entrega un promedio entre B1 y B2, dejando espacio para que 2 competidores se focalicen, uno en B1 y otro en B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16912-6802-433E-8F3C-0D991F73E311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03:03:23Z</dcterms:created>
  <dc:creator>Luis Felipe Troncoso</dc:creator>
  <dc:description/>
  <dc:language>en-US</dc:language>
  <cp:lastModifiedBy> </cp:lastModifiedBy>
  <dcterms:modified xsi:type="dcterms:W3CDTF">2004-03-17T19:14:50Z</dcterms:modified>
  <cp:revision>69</cp:revision>
  <dc:subject/>
  <dc:title>PowerPoint Presentation  -  IN-635 ESTRATEGIAS DE INTERNET: Un Enfoque Comercial</dc:title>
</cp:coreProperties>
</file>