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8.wmf" ContentType="image/x-wmf"/>
  <Override PartName="/ppt/media/image5.jpeg" ContentType="image/jpeg"/>
  <Override PartName="/ppt/media/image14.png" ContentType="image/png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Click to move the slid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842320"/>
            <a:ext cx="2971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3F33-7B16-4FF1-A024-8406356517F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cordemos las condiciones de competencia perfec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uchos vend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Bienes homogen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uchos consumidores bien inform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o hay costos de búsqueda (ni de transpor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Estrategia Corporativ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: Define el alcance de la firma en términos de las industrias y mercados en los cuales competir. Las decisiones de estrategia corporativa incluyen inversiones en diversificación, integración vertical, adquisiciones y nuevos proyectos; alocación de recursos entre los diferentes negocios y desiciones de “des-invers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Estrategia de Negoci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o estrategia competitiva se refiere a como la firma compite en una determinada industria o merc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A901-0B08-4E08-86B7-47C236A30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2996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86AF-DC7D-43F0-A106-9EF41F5E6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B6A1-BF3B-4F44-AE8A-314B95096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A36E-E277-433F-9FC5-B8C82695BF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9084-29A1-4197-8072-10F3594C6C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E48F-9413-41AB-8456-4DF8263FA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8405-16B5-41B4-8F5A-2C775F7AC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5340-B944-433B-82F8-04076CC84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C069-A3C5-432E-AE39-B99AB7BD1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9512-B320-4C7C-8FE0-36C36ABA6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D435-4497-4C20-91FB-25D8005E6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2996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3CC0-C984-471F-A3DE-E30D7DE17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7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4840" indent="-228600"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809720" indent="-320760"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266920" indent="-342720"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266920" indent="-3427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266920" indent="-3427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4A65-E5A3-42A5-BC3B-CB3564E31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1066680"/>
            <a:ext cx="8534160" cy="0"/>
          </a:xfrm>
          <a:prstGeom prst="line">
            <a:avLst/>
          </a:prstGeom>
          <a:ln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248520"/>
            <a:ext cx="8534160" cy="0"/>
          </a:xfrm>
          <a:prstGeom prst="line">
            <a:avLst/>
          </a:prstGeom>
          <a:ln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218280"/>
            <a:ext cx="47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® Luis Felipe Troncoso 2002-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hyperlink" Target="file:///D:/../Diplomado%20e-business/Art%2592culos/09%20Interfaz/Banco%20de%20Chile/Banco%20de%20Chile%20-%20Home.htm" TargetMode="External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D:/../IN635/Ejemplos%20web/Buzzsaw/Autodesk%20Buzzsaw.htm" TargetMode="External"/><Relationship Id="rId2" Type="http://schemas.openxmlformats.org/officeDocument/2006/relationships/hyperlink" Target="file:///D:/../IN635/Ejemplos%20web/PlanOK/Demo1.htm" TargetMode="External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655344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UNIVERSIDAD DE CHILE</a:t>
            </a:r>
            <a:br>
              <a:rPr sz="1300"/>
            </a:b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FACULTAD DE CIENCIAS FÍSICAS Y MATEMÁTICAS</a:t>
            </a:r>
            <a:br>
              <a:rPr sz="1300"/>
            </a:br>
            <a:br>
              <a:rPr sz="1900"/>
            </a:br>
            <a:br>
              <a:rPr sz="19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Estrategias de Internet</a:t>
            </a:r>
            <a:br>
              <a:rPr sz="21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Comercio Electrónico y e-Business</a:t>
            </a:r>
            <a:endParaRPr b="0" lang="en-US" sz="2100" spc="-1" strike="noStrike">
              <a:solidFill>
                <a:srgbClr val="555555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57801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4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introduce el sistema de nombres de dominio (DNS); Hosts superan los 1.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37840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Symbolics.com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asig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15 de Marzo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iendo el primer dominio registrad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tros primero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: cmu.edu, purdue.edu, rice.edu, berkeley.edu, ucla.edu, rutgers.edu, bbn.com; mit.edu; think.com; css.gov; mitre.org, .uk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(Jul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72932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8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sts superan los 10.000; Se conectan a NSFNET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Canada (CA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inamarc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DK), Fin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FI), Fran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FR), Iceland (IS), No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eg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NO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uec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34808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9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sts superan los 100.000; Se conectan a NSF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ustralia (AU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leman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DE), Israel (IL), Ital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IT), Jap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 (JP), M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xico (MX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land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NL), 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ev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Ze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NZ), Puerto Rico (PR), United Kingdom (U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96720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0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saparece ARPANET; Se conectan a NSF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rgentina (AR), Austria (AT), Belgi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BE), Br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il (BR), Chile (CL), Gre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GR), India (IN), Ir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IE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orea (KR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pañ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ES), 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iz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CH)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11020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6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crea NSFNET, una red orientada a la investigación y también ara desarrollo comer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52116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1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lanza World Wide Web (WWW); Se conectan a NFS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Cro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ia (HR), Rep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bli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 Chec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CZ), Hong Kong (HK), Hung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r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HU), Pol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n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PL), Portugal (PT), Singap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r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SG), 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d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rica (ZA), Taiwan (TW), Tu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TN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13992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2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Banco Mundial en linea; Se conectan a NFS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ntartica (AQ), Came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 (CM), 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ipre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CY), Ecuador (EC), Estonia (EE), Kuwait (KW), Lati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 (LV), Luxemburg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LU), Malasia (MY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ov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qui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 (SK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ovenia (SI), Tai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TH), Venezuela (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606760"/>
            <a:ext cx="80773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3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sa Blanca y Naciones Unidas online; Internet se empieza a conocer en los negocios y medios; Se conectan a NFS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Bulgaria (BG), Costa Rica (CR), Eg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pt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EG), Fiji (FJ), Ghana (GH), Guam (GU), Indonesia (ID), Kazakhstan (KZ), Kenya (KE), Liechtenstein (LI), Peru (PE), 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m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nia (RO), Ru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RU), Tu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quí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TR), U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ra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UA), UAE (AE), US Virgin Islands (V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2552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4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ongreso de USA y Primer Ministro japonés online; Shopping malls comienzan a utilizar Internet; se lanza el primer banco virtual; aparece el primer banner publicitario (zima, una bebida y AT&amp;T); se regulan los spams y emails publicitarios; se puede ordenar pizza online en Hut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92360"/>
            <a:ext cx="80773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NFSNET se reconvierte en una red de investigación; el tráfico comercial en USA es enrutado a través de proveedores de redes interconectadas; RealAudio permite escuchar audio a través de la red en tiempo “casi” real; aparece la primera emisora comercial online; Primeras compañía de Internet se abren a la bol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Una historia de 4 décad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567B-1521-420A-82FC-FBB983A0E3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Regla 3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consumidores no se preocupan sólo del pre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10360" cy="37591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1741680" y="6037200"/>
            <a:ext cx="262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Verdana"/>
              </a:rPr>
              <a:t>Fuente: Reporte JP Morgan: eTailing and the five 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4003-6F2B-4BEE-A106-F300EB77D33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cción de capacidades únic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por qué la firma puede entregar el beneficio o el paquete de beneficios clave significativamente mejor que la compet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álisis interno y de las alianz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nomb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ore competenci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Fortalez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Recursos únic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apacidades únic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terminar la capacidad de enlazar estas capacidades únicas con los beneficios eleg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3D89-A772-4CBB-BE72-5581A72AB30B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447920" y="257328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casiones especiale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75120" y="1420920"/>
            <a:ext cx="1143000" cy="64152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cios críti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fr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934320" y="1627200"/>
            <a:ext cx="198108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324480" y="1587600"/>
            <a:ext cx="533520" cy="380880"/>
          </a:xfrm>
          <a:prstGeom prst="downArrow">
            <a:avLst>
              <a:gd name="adj1" fmla="val 49676"/>
              <a:gd name="adj2" fmla="val 54634"/>
            </a:avLst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622600" y="1565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68600" y="1581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99000" y="231156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Experiencia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Amplia linea de productos complementa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4920" y="2425680"/>
            <a:ext cx="1005120" cy="45900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C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amp; G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971800" y="2311560"/>
            <a:ext cx="1447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res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galos complementa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jos pre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29400" y="231444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C Flowers &amp; Gift sirve el segmento de ocasiones especiales a través de la oferta de flores frescas y productos complementario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65320" y="4460760"/>
            <a:ext cx="83160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T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447920" y="44956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0" y="423216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Comunicación de 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Red de proveedc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71800" y="438624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de fácil despa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9400" y="422100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TD.com provee flores finas con la forma más fácil de enviar flores gracias a su extensa red de 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02640" y="1504800"/>
            <a:ext cx="1026720" cy="45900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g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27600" y="1504800"/>
            <a:ext cx="1447920" cy="45900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pacidades ú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80720" y="3521160"/>
            <a:ext cx="100512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Pro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447920" y="35053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nsible al precio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0" y="342900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Fuente ún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Convenio con Fe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71800" y="345924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más fres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ecios competi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29400" y="320040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oflowers sirve el segmento sensible al precio con las flores más frescas a precios competitivos gracias a su fuente única y conevenio con FedEx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629400" y="4978440"/>
            <a:ext cx="251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-800-flowers sirve el mercado de flores finas con una amplia variedad de regalos, flores frescas, precios razonables y fácil acceso gracias a su fuerte marca, alianzas con medios y red de franquicias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brick-and-mortar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16280" y="5361120"/>
            <a:ext cx="119124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1-800-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544356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95480" y="5208480"/>
            <a:ext cx="16765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res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ecios razon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ácil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0" y="523548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Alianzas con me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Red de franquicias brick-and-mor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opuesta de Valor: flores on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9A7C-61CE-4AB3-A44B-A5C7D9266D7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aso 2: Definición de la Ofert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ción en 3 et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Identificar el </a:t>
            </a:r>
            <a:r>
              <a:rPr b="0" lang="en-US" sz="2400" spc="-1" strike="noStrike">
                <a:solidFill>
                  <a:srgbClr val="ed181e"/>
                </a:solidFill>
                <a:latin typeface="Verdana"/>
              </a:rPr>
              <a:t>alcance</a:t>
            </a: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 de la ofer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Identificar el </a:t>
            </a:r>
            <a:r>
              <a:rPr b="0" lang="en-US" sz="2400" spc="-1" strike="noStrike">
                <a:solidFill>
                  <a:srgbClr val="ed181e"/>
                </a:solidFill>
                <a:latin typeface="Verdana"/>
              </a:rPr>
              <a:t>proceso de decisión del</a:t>
            </a: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 consumido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Hacer un </a:t>
            </a:r>
            <a:r>
              <a:rPr b="0" lang="en-US" sz="2400" spc="-1" strike="noStrike">
                <a:solidFill>
                  <a:srgbClr val="ed181e"/>
                </a:solidFill>
                <a:latin typeface="Verdana"/>
              </a:rPr>
              <a:t>mapa</a:t>
            </a: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 de la oferta (productos, servicios e información) en relación al proceso de decisión del consumido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5639-823A-4FF8-96DA-F5659B0117C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Alcance de la Ofert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úmero de categorías de productos y servicios que se ofrec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Una sola categoría (category killer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Múltiples categorí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pos de alcanc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Dominio “categoría específica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Foco exclusivo en una categoría de productos (flores, chocolates, libros, CD, etc.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Dominio “Cross-category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En la capacidad de mezclar categorías radica uno de los más interesantes desarrollos de Internet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Amazon es el ejemplo más claro. Otros son Cars.com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5C18-5A34-4D60-87CD-F5D945FC377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Alcance de la Ofert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68" name=""/>
          <p:cNvSpPr/>
          <p:nvPr/>
        </p:nvSpPr>
        <p:spPr>
          <a:xfrm>
            <a:off x="152280" y="3124080"/>
            <a:ext cx="36576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Dominio de “categoría específic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oco en una categoría de 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econdspin.com (CDs usad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PremiumOrchids.com (orquide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Peapod (supermercado on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4920" y="2133720"/>
            <a:ext cx="8458200" cy="609480"/>
          </a:xfrm>
          <a:prstGeom prst="leftRightArrow">
            <a:avLst>
              <a:gd name="adj1" fmla="val 55204"/>
              <a:gd name="adj2" fmla="val 422499"/>
            </a:avLst>
          </a:prstGeom>
          <a:solidFill>
            <a:srgbClr val="fafea0"/>
          </a:solidFill>
          <a:ln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Verdana"/>
              </a:rPr>
              <a:t>Alcance es un continu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05520" y="3124080"/>
            <a:ext cx="4038480" cy="20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Dominio “Cross-Category”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ocus on a large number of categ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Bestbuy.com (electrónicos, CD, DV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1-800-flowers (f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treamline* (supermetcado, lavado en seco, neumáticos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657600" y="39625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57600" y="44197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57600" y="4800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C83B-B775-4617-BF3D-CEBB296EF43C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Tipos de dominio Cross-Category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do de la dema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tractivo desde el punto de vista del consumidor: BabyCenter.com, Chemdex.com, ToysRU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do de la ofer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tractivo desde el punto de vista de la cadena de abastecimiento. Productos que se agrupan naturalmente desde el punto de vista logístico y de distribución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mazon.com: bienes físicos, inventariables, enfocados en consumidores finale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9A70-5158-45A8-BFDF-BE6E203C9E2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Metamercad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irmas que agrupan naturalmente distintas categorías de bienes y servic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sumidores piensan en términos de activ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irmas piensan en términos de produc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tamercados son grupos de mercados de acuerdo a como se ubican en la mente de los consumi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entretenimi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Son categorizados en Deportes favoritos / Clubs / Comida / Espectáculo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O más bien en cosas que hacer con la familia, donde ir cuando el tiempo está feo o bonito, etc.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o importante es que los consumidores categorizan de diferentes maneras y así, los negocios pueden categorizarse de diferentes mane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7153-08FB-4264-9D33-B95503E07EF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Metamercad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590920" y="1676520"/>
            <a:ext cx="533160" cy="30456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2209680"/>
            <a:ext cx="1981080" cy="144792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66680" y="4724280"/>
            <a:ext cx="1447920" cy="53352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066680" y="3657600"/>
            <a:ext cx="1067040" cy="38088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648320" y="2133720"/>
            <a:ext cx="1066680" cy="175248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57400" y="1676520"/>
            <a:ext cx="533520" cy="30456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867280" y="236232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unidad de soporte y ayuda para pad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80" idx="6"/>
            <a:endCxn id="686" idx="1"/>
          </p:cNvCxnSpPr>
          <p:nvPr/>
        </p:nvCxnSpPr>
        <p:spPr>
          <a:xfrm>
            <a:off x="3138480" y="1828800"/>
            <a:ext cx="2729520" cy="658080"/>
          </a:xfrm>
          <a:prstGeom prst="straightConnector1">
            <a:avLst/>
          </a:prstGeom>
          <a:ln w="9360">
            <a:solidFill>
              <a:srgbClr val="ed181e"/>
            </a:solidFill>
            <a:miter/>
            <a:headEnd len="med" type="triangle" w="med"/>
          </a:ln>
        </p:spPr>
      </p:cxnSp>
      <p:sp>
        <p:nvSpPr>
          <p:cNvPr id="688" name=""/>
          <p:cNvSpPr/>
          <p:nvPr/>
        </p:nvSpPr>
        <p:spPr>
          <a:xfrm>
            <a:off x="6008400" y="2743200"/>
            <a:ext cx="302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Venta de productos para guaguas y matern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5" idx="5"/>
            <a:endCxn id="688" idx="1"/>
          </p:cNvCxnSpPr>
          <p:nvPr/>
        </p:nvCxnSpPr>
        <p:spPr>
          <a:xfrm>
            <a:off x="2513160" y="1951200"/>
            <a:ext cx="3388320" cy="916560"/>
          </a:xfrm>
          <a:prstGeom prst="straightConnector1">
            <a:avLst/>
          </a:prstGeom>
          <a:ln w="9360">
            <a:solidFill>
              <a:srgbClr val="ed181e"/>
            </a:solidFill>
            <a:miter/>
            <a:headEnd len="med" type="arrow" w="med"/>
          </a:ln>
        </p:spPr>
      </p:cxnSp>
      <p:cxnSp>
        <p:nvCxnSpPr>
          <p:cNvPr id="690" name=""/>
          <p:cNvCxnSpPr>
            <a:stCxn id="684" idx="6"/>
            <a:endCxn id="688" idx="1"/>
          </p:cNvCxnSpPr>
          <p:nvPr/>
        </p:nvCxnSpPr>
        <p:spPr>
          <a:xfrm flipV="1">
            <a:off x="5729400" y="2866320"/>
            <a:ext cx="172080" cy="143640"/>
          </a:xfrm>
          <a:prstGeom prst="straightConnector1">
            <a:avLst/>
          </a:prstGeom>
          <a:ln w="9360">
            <a:solidFill>
              <a:srgbClr val="ed181e"/>
            </a:solidFill>
            <a:miter/>
            <a:headEnd len="med" type="triangle" w="med"/>
          </a:ln>
        </p:spPr>
      </p:cxnSp>
      <p:sp>
        <p:nvSpPr>
          <p:cNvPr id="691" name=""/>
          <p:cNvSpPr/>
          <p:nvPr/>
        </p:nvSpPr>
        <p:spPr>
          <a:xfrm>
            <a:off x="5980320" y="3108240"/>
            <a:ext cx="235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Personalización de usuario y gua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2" name=""/>
          <p:cNvCxnSpPr>
            <a:stCxn id="691" idx="1"/>
            <a:endCxn id="681" idx="6"/>
          </p:cNvCxnSpPr>
          <p:nvPr/>
        </p:nvCxnSpPr>
        <p:spPr>
          <a:xfrm flipH="1" flipV="1">
            <a:off x="2986200" y="2932920"/>
            <a:ext cx="2914920" cy="299160"/>
          </a:xfrm>
          <a:prstGeom prst="straightConnector1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</p:cxnSp>
      <p:sp>
        <p:nvSpPr>
          <p:cNvPr id="693" name=""/>
          <p:cNvSpPr/>
          <p:nvPr/>
        </p:nvSpPr>
        <p:spPr>
          <a:xfrm>
            <a:off x="5943600" y="387036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Soporte y ayuda por exper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1"/>
            <a:endCxn id="682" idx="6"/>
          </p:cNvCxnSpPr>
          <p:nvPr/>
        </p:nvCxnSpPr>
        <p:spPr>
          <a:xfrm flipH="1">
            <a:off x="2528280" y="3993840"/>
            <a:ext cx="3415320" cy="997560"/>
          </a:xfrm>
          <a:prstGeom prst="straightConnector1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5943600" y="350532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Información / Conten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95" idx="1"/>
            <a:endCxn id="683" idx="6"/>
          </p:cNvCxnSpPr>
          <p:nvPr/>
        </p:nvCxnSpPr>
        <p:spPr>
          <a:xfrm flipH="1">
            <a:off x="2147400" y="3629160"/>
            <a:ext cx="3796560" cy="219600"/>
          </a:xfrm>
          <a:prstGeom prst="straightConnector1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A779-2BF0-464A-9E33-5F73B6B7017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oceso de decisión del consumidor 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98" name=""/>
          <p:cNvSpPr/>
          <p:nvPr/>
        </p:nvSpPr>
        <p:spPr>
          <a:xfrm>
            <a:off x="1647720" y="548748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Retrib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71880" y="1692360"/>
            <a:ext cx="0" cy="584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71880" y="2332080"/>
            <a:ext cx="0" cy="585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71880" y="2992320"/>
            <a:ext cx="0" cy="584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71880" y="3602160"/>
            <a:ext cx="0" cy="5839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71880" y="4214880"/>
            <a:ext cx="0" cy="585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71880" y="4878360"/>
            <a:ext cx="0" cy="584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47720" y="487800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Lealt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47720" y="419220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atisf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47720" y="357768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Decisión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47720" y="297288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Evaluación de Alterna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647720" y="229176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Búsqueda de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47720" y="1595520"/>
            <a:ext cx="28479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Reconocimiento de problema o neces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371600" y="16002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447920" y="33526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47920" y="4086360"/>
            <a:ext cx="152280" cy="1857240"/>
          </a:xfrm>
          <a:custGeom>
            <a:avLst/>
            <a:gdLst>
              <a:gd name="textAreaLeft" fmla="*/ 97200 w 152280"/>
              <a:gd name="textAreaRight" fmla="*/ 152640 w 152280"/>
              <a:gd name="textAreaTop" fmla="*/ 48240 h 1857240"/>
              <a:gd name="textAreaBottom" fmla="*/ 1809000 h 18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320" y="2299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re-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320" y="3567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320" y="47995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ost-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(postven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523880"/>
            <a:ext cx="3352680" cy="39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Verdana"/>
              </a:rPr>
              <a:t>Ejemplo de las Fl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Reconocimiento de necesidad, posiblemente gatillado por cercanía de fiesta, aniversario u ocasión espe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Búsqueda de Ideas y ofer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Vitrineo” en tiendas online y off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Ideas y recomend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Consejo basado en perfil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Evaluación de alternativas bajo varias dimensiones o atributos: precio, disponibilidad, despacho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Decisión de 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elección de mensaje: medio y conten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oporte post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Tra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Eduicación en flores y dec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Recomendaciones a amigos, nueva compra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D97C-AD39-4A69-801C-B555E1CC036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5555"/>
                </a:solidFill>
                <a:latin typeface="Verdana"/>
              </a:rPr>
              <a:t>Datos que todos conocen (o debieran conocer) acerca de Internet</a:t>
            </a:r>
            <a:endParaRPr b="0" lang="en-US" sz="26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pidez de penetración frente a otras tecnologí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553080" cy="3735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33720" y="4091040"/>
            <a:ext cx="5638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60280" y="3886200"/>
            <a:ext cx="20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millones de usuarios (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3505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65880" y="3886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4114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2040" y="34750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7120" y="3306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9440" y="38098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30800" y="385596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5118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75840" y="50878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: 38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521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77440" y="51865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: 13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2960" y="5151600"/>
            <a:ext cx="10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le: 10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9680" y="515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: 5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6031-00CD-48E6-B0D6-7B6D9ECD517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de la oferta para 1-800-flower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19" name=""/>
          <p:cNvSpPr/>
          <p:nvPr/>
        </p:nvSpPr>
        <p:spPr>
          <a:xfrm>
            <a:off x="762120" y="1371600"/>
            <a:ext cx="7696080" cy="4842000"/>
          </a:xfrm>
          <a:prstGeom prst="ellipse">
            <a:avLst/>
          </a:prstGeom>
          <a:solidFill>
            <a:srgbClr val="fafe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2590920"/>
            <a:ext cx="3800520" cy="258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roceso de dec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lores / Regalos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038480" y="2590920"/>
            <a:ext cx="1175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conocimiento de neces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3048120"/>
            <a:ext cx="1190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Búsqueda de ideas y ofer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724280" y="4648320"/>
            <a:ext cx="839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cisión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429000" y="4648320"/>
            <a:ext cx="914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lección de mens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19520" y="4038480"/>
            <a:ext cx="13143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oporte postventa y gratifi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895480" y="2971800"/>
            <a:ext cx="1619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ducación en flores y dec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733920" y="1523880"/>
            <a:ext cx="220968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rvicio de recordato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speciales de Fie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ugerencias para celebraciones cotidia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ugerencias para ocasiones es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705720" y="3100320"/>
            <a:ext cx="1981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Gu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avori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na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rvicios corpora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6960" y="1675800"/>
            <a:ext cx="13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 u="sng">
                <a:solidFill>
                  <a:srgbClr val="000000"/>
                </a:solidFill>
                <a:uFillTx/>
                <a:latin typeface="Arial"/>
              </a:rPr>
              <a:t>Ideas e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8080" y="312336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 u="sng">
                <a:solidFill>
                  <a:srgbClr val="000000"/>
                </a:solidFill>
                <a:uFillTx/>
                <a:latin typeface="Arial"/>
              </a:rPr>
              <a:t>Soporte post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00800" y="4191120"/>
            <a:ext cx="198108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o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scrip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formación de despa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71800" y="5181480"/>
            <a:ext cx="1905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rjeta virtual anim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rjeta fís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14400" y="3292560"/>
            <a:ext cx="160020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Boleta por 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Online Customer Service (Q&amp;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por teéfono o 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00200" y="42523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 u="sng">
                <a:solidFill>
                  <a:srgbClr val="000000"/>
                </a:solidFill>
                <a:uFillTx/>
                <a:latin typeface="Arial"/>
              </a:rPr>
              <a:t>Gratifi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752480" y="4405320"/>
            <a:ext cx="140040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illas ganadas por compra de f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scuentos en AOL y B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embrecía espe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133720" y="1814400"/>
            <a:ext cx="144756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0000"/>
                </a:solidFill>
                <a:latin typeface="Arial"/>
              </a:rPr>
              <a:t>Cuidado de f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0000"/>
                </a:solidFill>
                <a:latin typeface="Arial"/>
              </a:rPr>
              <a:t>Hágalo Ud. mis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vitación a seminarios y eventos espe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10280" y="1881360"/>
            <a:ext cx="19670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lo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ara el jard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ara el ho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Gour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Ubicación de tie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comendaciones por pp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ejore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181480" y="403848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valuación de alternati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6800" y="2894760"/>
            <a:ext cx="129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 u="sng">
                <a:solidFill>
                  <a:srgbClr val="000000"/>
                </a:solidFill>
                <a:uFillTx/>
                <a:latin typeface="Arial"/>
              </a:rPr>
              <a:t>Recomend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81480" y="5105520"/>
            <a:ext cx="198144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nasta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ransacción e-comme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racterísticas espe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-1731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spacho fuera de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-1731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1-800-lasfloras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990720" y="2661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18156-9B96-432C-BB4C-3AD35235592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43" name=""/>
          <p:cNvSpPr/>
          <p:nvPr/>
        </p:nvSpPr>
        <p:spPr>
          <a:xfrm>
            <a:off x="3225960" y="171252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25960" y="27712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225960" y="380160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stema de 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25960" y="48826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porte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5400000">
            <a:off x="4289760" y="2292840"/>
            <a:ext cx="496800" cy="241560"/>
          </a:xfrm>
          <a:custGeom>
            <a:avLst/>
            <a:gdLst>
              <a:gd name="textAreaLeft" fmla="*/ 77400 w 496800"/>
              <a:gd name="textAreaRight" fmla="*/ 434880 w 496800"/>
              <a:gd name="textAreaTop" fmla="*/ 60480 h 241560"/>
              <a:gd name="textAreaBottom" fmla="*/ 181440 h 241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rot="5400000">
            <a:off x="4291560" y="336456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5400000">
            <a:off x="4291560" y="439488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019920" y="297180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019920" y="274284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19920" y="297180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19920" y="190512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6019920" y="16761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19920" y="190512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564960" y="1523880"/>
            <a:ext cx="238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gmento obje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Benef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¿Por que mejor que otr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468120" y="2593800"/>
            <a:ext cx="120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9BE0-0F2B-4274-92BD-808A27E1BF0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aso 3: Sistema de Recur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sistema de recursos determina cómo la compañía debe alinear sus sistemas internos y el de sus partners para entregar los beneficios de la propuesta de val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gado del mundo tradicion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Propuesta de valor por sí sola no es sufic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Set de activos y acciones elegidos para entregar la propuesta determina compañías exitosas de las de pobre desempeño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idades únicas atadas a propuesta de valor genera ventaja competitiva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2106-73E1-4573-8F10-7B0A0F1B3B6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Qué son los recursos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pueden tomar varias form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os físicos: bodegas, aviones, fábricas, etc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os intangibles: marcas, paten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Yahoo!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icelin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Amazo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idades, experiencia y Know-how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Idealab y su capacidad de lanzar nuevos negoc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49F4-5298-4ECF-954C-4ABCEFB596B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Sistema de Recur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pasar del mundo físico al mundo virtu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actividades y capacidades del mundo físico por una combinación físico-virtual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foco desde el lado de la oferta (abastecimiento) hacia el lado de la deman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actividades por capacidades: activos y talentos del más alto nive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enfoque uni-empresarial a multi-empresarial: asociaciones y partner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5244-EE2E-4924-9D2B-E61FC8D278F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Construcción del Sistema de Recur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istar beneficios centrales o críticos identificados en la 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dentificar capacidades relacionadas con cada benefic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sociar recursos necesarios para cada capacidad (activos y actividades clav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dentificar el nivel al cual la empresa puede entregar cada capacidad. Implica una mirada profunda al interior de la empresa y determinar si puede por sí sola o debe buscar aliados / invers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dentificar partners que pueden completar las capac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306E-D90B-4282-83EF-A910E778E2E4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6"/>
            <a:endCxn id="769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1" name=""/>
          <p:cNvCxnSpPr>
            <a:stCxn id="766" idx="4"/>
            <a:endCxn id="767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2" name=""/>
          <p:cNvCxnSpPr>
            <a:stCxn id="769" idx="4"/>
            <a:endCxn id="768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3" name=""/>
          <p:cNvCxnSpPr>
            <a:stCxn id="767" idx="6"/>
            <a:endCxn id="768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. Beneficios crític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5409720"/>
            <a:ext cx="1082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95B4-4B08-45F5-BB92-CCAEE787956D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2. Identificación de capac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78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6" name=""/>
          <p:cNvCxnSpPr>
            <a:stCxn id="782" idx="6"/>
            <a:endCxn id="785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7" name=""/>
          <p:cNvCxnSpPr>
            <a:stCxn id="782" idx="4"/>
            <a:endCxn id="783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8" name=""/>
          <p:cNvCxnSpPr>
            <a:stCxn id="785" idx="4"/>
            <a:endCxn id="784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9" name=""/>
          <p:cNvCxnSpPr>
            <a:stCxn id="783" idx="6"/>
            <a:endCxn id="784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0" name=""/>
          <p:cNvCxnSpPr>
            <a:stCxn id="780" idx="2"/>
            <a:endCxn id="784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1" name=""/>
          <p:cNvCxnSpPr>
            <a:stCxn id="779" idx="1"/>
            <a:endCxn id="784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8" idx="1"/>
            <a:endCxn id="784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81" idx="0"/>
            <a:endCxn id="784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4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"/>
          <p:cNvCxnSpPr>
            <a:stCxn id="794" idx="2"/>
            <a:endCxn id="785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94" idx="2"/>
            <a:endCxn id="782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7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8" name=""/>
          <p:cNvCxnSpPr>
            <a:stCxn id="797" idx="3"/>
            <a:endCxn id="782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0" name=""/>
          <p:cNvCxnSpPr>
            <a:stCxn id="799" idx="3"/>
            <a:endCxn id="782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2" name=""/>
          <p:cNvCxnSpPr>
            <a:stCxn id="801" idx="3"/>
            <a:endCxn id="783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3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09480" y="5414040"/>
            <a:ext cx="1082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20" y="5854680"/>
            <a:ext cx="12672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34C0-6275-4C54-81AE-50A69DD1DBD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3. Link Recursos-capac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807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"/>
          <p:cNvCxnSpPr>
            <a:stCxn id="811" idx="6"/>
            <a:endCxn id="814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6" name=""/>
          <p:cNvCxnSpPr>
            <a:stCxn id="811" idx="4"/>
            <a:endCxn id="812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7" name=""/>
          <p:cNvCxnSpPr>
            <a:stCxn id="814" idx="4"/>
            <a:endCxn id="813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8" name=""/>
          <p:cNvCxnSpPr>
            <a:stCxn id="812" idx="6"/>
            <a:endCxn id="813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9" name=""/>
          <p:cNvCxnSpPr>
            <a:stCxn id="809" idx="2"/>
            <a:endCxn id="813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0" name=""/>
          <p:cNvCxnSpPr>
            <a:stCxn id="808" idx="1"/>
            <a:endCxn id="813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07" idx="1"/>
            <a:endCxn id="813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810" idx="0"/>
            <a:endCxn id="813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3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4" name=""/>
          <p:cNvCxnSpPr>
            <a:stCxn id="823" idx="2"/>
            <a:endCxn id="814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23" idx="2"/>
            <a:endCxn id="811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6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7" name=""/>
          <p:cNvCxnSpPr>
            <a:stCxn id="826" idx="3"/>
            <a:endCxn id="811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8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stCxn id="828" idx="3"/>
            <a:endCxn id="811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0" idx="3"/>
            <a:endCxn id="812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5414040"/>
            <a:ext cx="1082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33520" y="5854680"/>
            <a:ext cx="12672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7238880" y="3048120"/>
            <a:ext cx="1905120" cy="1673280"/>
            <a:chOff x="7238880" y="3048120"/>
            <a:chExt cx="1905120" cy="1673280"/>
          </a:xfrm>
        </p:grpSpPr>
        <p:sp>
          <p:nvSpPr>
            <p:cNvPr id="836" name=""/>
            <p:cNvSpPr/>
            <p:nvPr/>
          </p:nvSpPr>
          <p:spPr>
            <a:xfrm>
              <a:off x="8229600" y="3048120"/>
              <a:ext cx="822240" cy="377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Teléfo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450280" y="3481560"/>
              <a:ext cx="669960" cy="377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Onli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077320" y="3886200"/>
              <a:ext cx="1066680" cy="4572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Franquic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620120" y="4343400"/>
              <a:ext cx="91440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Catalog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38880" y="3276720"/>
              <a:ext cx="838440" cy="444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3,000 afiliad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1" name=""/>
            <p:cNvCxnSpPr>
              <a:stCxn id="836" idx="3"/>
            </p:cNvCxnSpPr>
            <p:nvPr/>
          </p:nvCxnSpPr>
          <p:spPr>
            <a:xfrm flipH="1">
              <a:off x="7619760" y="3370320"/>
              <a:ext cx="730800" cy="78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40" idx="4"/>
            </p:cNvCxnSpPr>
            <p:nvPr/>
          </p:nvCxnSpPr>
          <p:spPr>
            <a:xfrm flipH="1">
              <a:off x="7619760" y="3720960"/>
              <a:ext cx="38880" cy="43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38" idx="2"/>
            </p:cNvCxnSpPr>
            <p:nvPr/>
          </p:nvCxnSpPr>
          <p:spPr>
            <a:xfrm flipH="1">
              <a:off x="7619760" y="4114800"/>
              <a:ext cx="457920" cy="3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4" name=""/>
            <p:cNvCxnSpPr>
              <a:stCxn id="839" idx="1"/>
            </p:cNvCxnSpPr>
            <p:nvPr/>
          </p:nvCxnSpPr>
          <p:spPr>
            <a:xfrm flipH="1" flipV="1">
              <a:off x="7620120" y="4152240"/>
              <a:ext cx="133560" cy="24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5" name=""/>
            <p:cNvCxnSpPr>
              <a:stCxn id="837" idx="2"/>
            </p:cNvCxnSpPr>
            <p:nvPr/>
          </p:nvCxnSpPr>
          <p:spPr>
            <a:xfrm flipH="1">
              <a:off x="7619760" y="3669840"/>
              <a:ext cx="830880" cy="48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46" name=""/>
          <p:cNvGrpSpPr/>
          <p:nvPr/>
        </p:nvGrpSpPr>
        <p:grpSpPr>
          <a:xfrm>
            <a:off x="6172200" y="4800600"/>
            <a:ext cx="2482920" cy="1216080"/>
            <a:chOff x="6172200" y="4800600"/>
            <a:chExt cx="2482920" cy="1216080"/>
          </a:xfrm>
        </p:grpSpPr>
        <p:sp>
          <p:nvSpPr>
            <p:cNvPr id="847" name=""/>
            <p:cNvSpPr/>
            <p:nvPr/>
          </p:nvSpPr>
          <p:spPr>
            <a:xfrm>
              <a:off x="6172200" y="5638680"/>
              <a:ext cx="99072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StarMed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696080" y="4800600"/>
              <a:ext cx="66996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MS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48720" y="5181480"/>
              <a:ext cx="806400" cy="4572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A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191360" y="5486400"/>
              <a:ext cx="73332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Yahoo!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1" name=""/>
            <p:cNvCxnSpPr>
              <a:stCxn id="847" idx="0"/>
            </p:cNvCxnSpPr>
            <p:nvPr/>
          </p:nvCxnSpPr>
          <p:spPr>
            <a:xfrm flipH="1" flipV="1">
              <a:off x="6591240" y="5257440"/>
              <a:ext cx="766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2" name=""/>
            <p:cNvCxnSpPr>
              <a:stCxn id="850" idx="0"/>
            </p:cNvCxnSpPr>
            <p:nvPr/>
          </p:nvCxnSpPr>
          <p:spPr>
            <a:xfrm flipH="1" flipV="1">
              <a:off x="6590880" y="5257080"/>
              <a:ext cx="967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3" name=""/>
            <p:cNvCxnSpPr>
              <a:stCxn id="849" idx="2"/>
            </p:cNvCxnSpPr>
            <p:nvPr/>
          </p:nvCxnSpPr>
          <p:spPr>
            <a:xfrm flipH="1" flipV="1">
              <a:off x="7162200" y="499068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4" name=""/>
            <p:cNvCxnSpPr>
              <a:stCxn id="848" idx="2"/>
            </p:cNvCxnSpPr>
            <p:nvPr/>
          </p:nvCxnSpPr>
          <p:spPr>
            <a:xfrm flipH="1">
              <a:off x="7162200" y="4989600"/>
              <a:ext cx="533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C1BD-A50B-4369-8B87-3F387163FD10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3. Link Recursos-capac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856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860" idx="6"/>
            <a:endCxn id="863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5" name=""/>
          <p:cNvCxnSpPr>
            <a:stCxn id="860" idx="4"/>
            <a:endCxn id="861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6" name=""/>
          <p:cNvCxnSpPr>
            <a:stCxn id="863" idx="4"/>
            <a:endCxn id="862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7" name=""/>
          <p:cNvCxnSpPr>
            <a:stCxn id="861" idx="6"/>
            <a:endCxn id="862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8" name=""/>
          <p:cNvCxnSpPr>
            <a:stCxn id="858" idx="2"/>
            <a:endCxn id="862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9" name=""/>
          <p:cNvCxnSpPr>
            <a:stCxn id="857" idx="1"/>
            <a:endCxn id="862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0" name=""/>
          <p:cNvCxnSpPr>
            <a:stCxn id="856" idx="1"/>
            <a:endCxn id="862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1" name=""/>
          <p:cNvSpPr/>
          <p:nvPr/>
        </p:nvSpPr>
        <p:spPr>
          <a:xfrm>
            <a:off x="6172200" y="5638680"/>
            <a:ext cx="99072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tarM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696080" y="4800600"/>
            <a:ext cx="66996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S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848720" y="5181480"/>
            <a:ext cx="8064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A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191360" y="5486400"/>
            <a:ext cx="73332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ahoo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1" idx="0"/>
            <a:endCxn id="856" idx="2"/>
          </p:cNvCxnSpPr>
          <p:nvPr/>
        </p:nvCxnSpPr>
        <p:spPr>
          <a:xfrm flipH="1" flipV="1">
            <a:off x="6591240" y="5257440"/>
            <a:ext cx="766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874" idx="0"/>
            <a:endCxn id="856" idx="2"/>
          </p:cNvCxnSpPr>
          <p:nvPr/>
        </p:nvCxnSpPr>
        <p:spPr>
          <a:xfrm flipH="1" flipV="1">
            <a:off x="6590880" y="5257080"/>
            <a:ext cx="9676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7" name=""/>
          <p:cNvCxnSpPr>
            <a:stCxn id="873" idx="2"/>
            <a:endCxn id="856" idx="3"/>
          </p:cNvCxnSpPr>
          <p:nvPr/>
        </p:nvCxnSpPr>
        <p:spPr>
          <a:xfrm flipH="1" flipV="1">
            <a:off x="7162200" y="4990680"/>
            <a:ext cx="6865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872" idx="2"/>
            <a:endCxn id="856" idx="3"/>
          </p:cNvCxnSpPr>
          <p:nvPr/>
        </p:nvCxnSpPr>
        <p:spPr>
          <a:xfrm flipH="1">
            <a:off x="7162200" y="4989600"/>
            <a:ext cx="533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9" name=""/>
          <p:cNvCxnSpPr>
            <a:stCxn id="859" idx="0"/>
            <a:endCxn id="862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0" name=""/>
          <p:cNvSpPr/>
          <p:nvPr/>
        </p:nvSpPr>
        <p:spPr>
          <a:xfrm>
            <a:off x="7162920" y="2514600"/>
            <a:ext cx="13716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pacidades de person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2057400"/>
            <a:ext cx="1143000" cy="444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iqueza de conten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3"/>
            <a:endCxn id="858" idx="0"/>
          </p:cNvCxnSpPr>
          <p:nvPr/>
        </p:nvCxnSpPr>
        <p:spPr>
          <a:xfrm flipH="1">
            <a:off x="6590520" y="2436840"/>
            <a:ext cx="2818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3" name=""/>
          <p:cNvCxnSpPr>
            <a:stCxn id="880" idx="2"/>
            <a:endCxn id="858" idx="0"/>
          </p:cNvCxnSpPr>
          <p:nvPr/>
        </p:nvCxnSpPr>
        <p:spPr>
          <a:xfrm flipH="1">
            <a:off x="6590880" y="2742840"/>
            <a:ext cx="572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4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315200" y="1295280"/>
            <a:ext cx="121932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ontratos con terc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477120" y="1600200"/>
            <a:ext cx="76176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ien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7" name=""/>
          <p:cNvCxnSpPr>
            <a:stCxn id="886" idx="2"/>
            <a:endCxn id="884" idx="3"/>
          </p:cNvCxnSpPr>
          <p:nvPr/>
        </p:nvCxnSpPr>
        <p:spPr>
          <a:xfrm flipH="1" flipV="1">
            <a:off x="6019560" y="1561680"/>
            <a:ext cx="4579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8" name=""/>
          <p:cNvCxnSpPr>
            <a:stCxn id="885" idx="2"/>
            <a:endCxn id="884" idx="3"/>
          </p:cNvCxnSpPr>
          <p:nvPr/>
        </p:nvCxnSpPr>
        <p:spPr>
          <a:xfrm flipH="1">
            <a:off x="6019560" y="1547640"/>
            <a:ext cx="129600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9" name=""/>
          <p:cNvCxnSpPr>
            <a:stCxn id="884" idx="2"/>
            <a:endCxn id="863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0" name=""/>
          <p:cNvCxnSpPr>
            <a:stCxn id="884" idx="2"/>
            <a:endCxn id="860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1" name=""/>
          <p:cNvSpPr/>
          <p:nvPr/>
        </p:nvSpPr>
        <p:spPr>
          <a:xfrm>
            <a:off x="3657600" y="1371600"/>
            <a:ext cx="99072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ejec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91" idx="6"/>
            <a:endCxn id="884" idx="1"/>
          </p:cNvCxnSpPr>
          <p:nvPr/>
        </p:nvCxnSpPr>
        <p:spPr>
          <a:xfrm flipV="1">
            <a:off x="4647960" y="1561680"/>
            <a:ext cx="229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3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>
            <a:stCxn id="893" idx="3"/>
            <a:endCxn id="860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5" name=""/>
          <p:cNvSpPr/>
          <p:nvPr/>
        </p:nvSpPr>
        <p:spPr>
          <a:xfrm>
            <a:off x="457200" y="1905120"/>
            <a:ext cx="83808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ecordato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752480" y="1295280"/>
            <a:ext cx="11430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Libreta de direc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14240" y="1447920"/>
            <a:ext cx="73368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ugerenci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8" name=""/>
          <p:cNvCxnSpPr>
            <a:stCxn id="896" idx="4"/>
            <a:endCxn id="893" idx="0"/>
          </p:cNvCxnSpPr>
          <p:nvPr/>
        </p:nvCxnSpPr>
        <p:spPr>
          <a:xfrm flipH="1">
            <a:off x="2171160" y="17524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7" idx="5"/>
            <a:endCxn id="893" idx="1"/>
          </p:cNvCxnSpPr>
          <p:nvPr/>
        </p:nvCxnSpPr>
        <p:spPr>
          <a:xfrm>
            <a:off x="1339560" y="1770120"/>
            <a:ext cx="26100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5" idx="6"/>
            <a:endCxn id="893" idx="1"/>
          </p:cNvCxnSpPr>
          <p:nvPr/>
        </p:nvCxnSpPr>
        <p:spPr>
          <a:xfrm flipV="1">
            <a:off x="1294920" y="2095200"/>
            <a:ext cx="3056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3"/>
            <a:endCxn id="860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3" name=""/>
          <p:cNvSpPr/>
          <p:nvPr/>
        </p:nvSpPr>
        <p:spPr>
          <a:xfrm>
            <a:off x="228600" y="3429000"/>
            <a:ext cx="99072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diner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90360" y="2819520"/>
            <a:ext cx="9003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ros y flor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5" name=""/>
          <p:cNvCxnSpPr>
            <a:stCxn id="903" idx="6"/>
            <a:endCxn id="901" idx="2"/>
          </p:cNvCxnSpPr>
          <p:nvPr/>
        </p:nvCxnSpPr>
        <p:spPr>
          <a:xfrm flipV="1">
            <a:off x="1218960" y="3428280"/>
            <a:ext cx="648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6" name=""/>
          <p:cNvCxnSpPr>
            <a:stCxn id="904" idx="6"/>
            <a:endCxn id="901" idx="1"/>
          </p:cNvCxnSpPr>
          <p:nvPr/>
        </p:nvCxnSpPr>
        <p:spPr>
          <a:xfrm>
            <a:off x="990720" y="3008160"/>
            <a:ext cx="30528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7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8" name=""/>
          <p:cNvCxnSpPr>
            <a:stCxn id="907" idx="3"/>
            <a:endCxn id="861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9" name=""/>
          <p:cNvSpPr/>
          <p:nvPr/>
        </p:nvSpPr>
        <p:spPr>
          <a:xfrm>
            <a:off x="1752480" y="4724280"/>
            <a:ext cx="99072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80880" y="4724280"/>
            <a:ext cx="106704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Integración Offlin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1" name=""/>
          <p:cNvCxnSpPr>
            <a:stCxn id="910" idx="7"/>
            <a:endCxn id="907" idx="2"/>
          </p:cNvCxnSpPr>
          <p:nvPr/>
        </p:nvCxnSpPr>
        <p:spPr>
          <a:xfrm flipV="1">
            <a:off x="1292040" y="4571640"/>
            <a:ext cx="42300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2" name=""/>
          <p:cNvCxnSpPr>
            <a:stCxn id="909" idx="0"/>
            <a:endCxn id="907" idx="2"/>
          </p:cNvCxnSpPr>
          <p:nvPr/>
        </p:nvCxnSpPr>
        <p:spPr>
          <a:xfrm flipH="1" flipV="1">
            <a:off x="1713960" y="4571280"/>
            <a:ext cx="533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3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20560" y="568944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07680" y="5414040"/>
            <a:ext cx="1223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Actividades y activos_x001d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33520" y="5854680"/>
            <a:ext cx="12672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229600" y="3048120"/>
            <a:ext cx="82224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eléfo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8450280" y="3481560"/>
            <a:ext cx="6699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077320" y="3886200"/>
            <a:ext cx="106668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Franqui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620120" y="4343400"/>
            <a:ext cx="91440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talog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238880" y="3276720"/>
            <a:ext cx="838440" cy="444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3,000 afili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2" name=""/>
          <p:cNvCxnSpPr>
            <a:stCxn id="917" idx="3"/>
            <a:endCxn id="857" idx="3"/>
          </p:cNvCxnSpPr>
          <p:nvPr/>
        </p:nvCxnSpPr>
        <p:spPr>
          <a:xfrm flipH="1">
            <a:off x="7619760" y="3370320"/>
            <a:ext cx="73080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3" name=""/>
          <p:cNvCxnSpPr>
            <a:stCxn id="921" idx="4"/>
            <a:endCxn id="857" idx="3"/>
          </p:cNvCxnSpPr>
          <p:nvPr/>
        </p:nvCxnSpPr>
        <p:spPr>
          <a:xfrm flipH="1">
            <a:off x="7619760" y="3720960"/>
            <a:ext cx="388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4" name=""/>
          <p:cNvCxnSpPr>
            <a:stCxn id="919" idx="2"/>
            <a:endCxn id="857" idx="3"/>
          </p:cNvCxnSpPr>
          <p:nvPr/>
        </p:nvCxnSpPr>
        <p:spPr>
          <a:xfrm flipH="1">
            <a:off x="7619760" y="4114800"/>
            <a:ext cx="4579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5" name=""/>
          <p:cNvCxnSpPr>
            <a:stCxn id="920" idx="1"/>
            <a:endCxn id="857" idx="3"/>
          </p:cNvCxnSpPr>
          <p:nvPr/>
        </p:nvCxnSpPr>
        <p:spPr>
          <a:xfrm flipH="1" flipV="1">
            <a:off x="7620120" y="4152240"/>
            <a:ext cx="13356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21" idx="1"/>
            <a:endCxn id="858" idx="3"/>
          </p:cNvCxnSpPr>
          <p:nvPr/>
        </p:nvCxnSpPr>
        <p:spPr>
          <a:xfrm flipH="1" flipV="1">
            <a:off x="7162200" y="3238200"/>
            <a:ext cx="199080" cy="1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18" idx="2"/>
            <a:endCxn id="857" idx="3"/>
          </p:cNvCxnSpPr>
          <p:nvPr/>
        </p:nvCxnSpPr>
        <p:spPr>
          <a:xfrm flipH="1">
            <a:off x="7619760" y="3669840"/>
            <a:ext cx="830880" cy="48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626E-67CD-4EC5-85D6-37AF7535B5F4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Qué es Internet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ecnología, Facili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pplication Service Providers (ASP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Microsoft (.net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edio (híbrido entre masivo y direc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Yahoo!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MOL, El Mostrador, TVN.cl, WSJ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oca Cola, Nike, Levi’s, PG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lata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mazon, eBay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Bazuca, Almacenesparis.com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Googl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39B5-8E5C-49D2-B1B9-EDFC9F6ADD3B}" type="slidenum">
              <a:t>12</a:t>
            </a:fld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380880" y="4737240"/>
            <a:ext cx="533520" cy="380880"/>
          </a:xfrm>
          <a:custGeom>
            <a:avLst/>
            <a:gdLst/>
            <a:ahLst/>
            <a:rect l="l" t="t" r="r" b="b"/>
            <a:pathLst>
              <a:path w="396" h="320">
                <a:moveTo>
                  <a:pt x="391" y="0"/>
                </a:moveTo>
                <a:lnTo>
                  <a:pt x="392" y="160"/>
                </a:lnTo>
                <a:lnTo>
                  <a:pt x="392" y="248"/>
                </a:lnTo>
                <a:cubicBezTo>
                  <a:pt x="392" y="269"/>
                  <a:pt x="393" y="275"/>
                  <a:pt x="392" y="284"/>
                </a:cubicBezTo>
                <a:cubicBezTo>
                  <a:pt x="391" y="293"/>
                  <a:pt x="387" y="298"/>
                  <a:pt x="388" y="304"/>
                </a:cubicBezTo>
                <a:lnTo>
                  <a:pt x="396" y="320"/>
                </a:lnTo>
                <a:lnTo>
                  <a:pt x="183" y="288"/>
                </a:lnTo>
                <a:lnTo>
                  <a:pt x="52" y="232"/>
                </a:lnTo>
                <a:lnTo>
                  <a:pt x="8" y="184"/>
                </a:lnTo>
                <a:lnTo>
                  <a:pt x="0" y="144"/>
                </a:lnTo>
                <a:lnTo>
                  <a:pt x="12" y="112"/>
                </a:lnTo>
                <a:lnTo>
                  <a:pt x="32" y="88"/>
                </a:lnTo>
                <a:lnTo>
                  <a:pt x="84" y="60"/>
                </a:lnTo>
                <a:lnTo>
                  <a:pt x="220" y="12"/>
                </a:lnTo>
                <a:lnTo>
                  <a:pt x="391" y="0"/>
                </a:lnTo>
                <a:close/>
              </a:path>
            </a:pathLst>
          </a:custGeom>
          <a:solidFill>
            <a:srgbClr val="cdc7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ntrega del beneficio y partner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930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8" name=""/>
          <p:cNvCxnSpPr>
            <a:stCxn id="934" idx="6"/>
            <a:endCxn id="937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9" name=""/>
          <p:cNvCxnSpPr>
            <a:stCxn id="934" idx="4"/>
            <a:endCxn id="935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0" name=""/>
          <p:cNvCxnSpPr>
            <a:stCxn id="937" idx="4"/>
            <a:endCxn id="936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1" name=""/>
          <p:cNvCxnSpPr>
            <a:stCxn id="935" idx="6"/>
            <a:endCxn id="936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2" name=""/>
          <p:cNvCxnSpPr>
            <a:stCxn id="932" idx="2"/>
            <a:endCxn id="936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3" name=""/>
          <p:cNvCxnSpPr>
            <a:stCxn id="931" idx="1"/>
            <a:endCxn id="936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4" name=""/>
          <p:cNvCxnSpPr>
            <a:stCxn id="930" idx="1"/>
            <a:endCxn id="936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5" name=""/>
          <p:cNvSpPr/>
          <p:nvPr/>
        </p:nvSpPr>
        <p:spPr>
          <a:xfrm>
            <a:off x="6172200" y="5638680"/>
            <a:ext cx="990720" cy="3780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tarM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96080" y="4800600"/>
            <a:ext cx="669960" cy="3780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S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848720" y="5181480"/>
            <a:ext cx="806400" cy="4572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A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91360" y="5486400"/>
            <a:ext cx="733320" cy="3780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ahoo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5" idx="0"/>
            <a:endCxn id="930" idx="2"/>
          </p:cNvCxnSpPr>
          <p:nvPr/>
        </p:nvCxnSpPr>
        <p:spPr>
          <a:xfrm flipH="1" flipV="1">
            <a:off x="6591240" y="5257440"/>
            <a:ext cx="766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0" name=""/>
          <p:cNvCxnSpPr>
            <a:stCxn id="948" idx="0"/>
            <a:endCxn id="930" idx="2"/>
          </p:cNvCxnSpPr>
          <p:nvPr/>
        </p:nvCxnSpPr>
        <p:spPr>
          <a:xfrm flipH="1" flipV="1">
            <a:off x="6590880" y="5257080"/>
            <a:ext cx="9676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1" name=""/>
          <p:cNvCxnSpPr>
            <a:stCxn id="947" idx="2"/>
            <a:endCxn id="930" idx="3"/>
          </p:cNvCxnSpPr>
          <p:nvPr/>
        </p:nvCxnSpPr>
        <p:spPr>
          <a:xfrm flipH="1" flipV="1">
            <a:off x="7162200" y="4990680"/>
            <a:ext cx="6865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2" name=""/>
          <p:cNvCxnSpPr>
            <a:stCxn id="946" idx="2"/>
            <a:endCxn id="930" idx="3"/>
          </p:cNvCxnSpPr>
          <p:nvPr/>
        </p:nvCxnSpPr>
        <p:spPr>
          <a:xfrm flipH="1">
            <a:off x="7162200" y="4989600"/>
            <a:ext cx="533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"/>
          <p:cNvCxnSpPr>
            <a:stCxn id="933" idx="0"/>
            <a:endCxn id="936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4" name=""/>
          <p:cNvSpPr/>
          <p:nvPr/>
        </p:nvSpPr>
        <p:spPr>
          <a:xfrm>
            <a:off x="7162920" y="2514600"/>
            <a:ext cx="13716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pacidades de person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705720" y="2057400"/>
            <a:ext cx="1143000" cy="444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iqueza de conten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55" idx="3"/>
            <a:endCxn id="932" idx="0"/>
          </p:cNvCxnSpPr>
          <p:nvPr/>
        </p:nvCxnSpPr>
        <p:spPr>
          <a:xfrm flipH="1">
            <a:off x="6590520" y="2436840"/>
            <a:ext cx="2818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54" idx="2"/>
            <a:endCxn id="932" idx="0"/>
          </p:cNvCxnSpPr>
          <p:nvPr/>
        </p:nvCxnSpPr>
        <p:spPr>
          <a:xfrm flipH="1">
            <a:off x="6590880" y="2742840"/>
            <a:ext cx="572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8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315200" y="1295280"/>
            <a:ext cx="1219320" cy="50328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ontratos con terc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477120" y="1600200"/>
            <a:ext cx="761760" cy="4572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ien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60" idx="2"/>
            <a:endCxn id="958" idx="3"/>
          </p:cNvCxnSpPr>
          <p:nvPr/>
        </p:nvCxnSpPr>
        <p:spPr>
          <a:xfrm flipH="1" flipV="1">
            <a:off x="6019560" y="1561680"/>
            <a:ext cx="4579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9" idx="2"/>
            <a:endCxn id="958" idx="3"/>
          </p:cNvCxnSpPr>
          <p:nvPr/>
        </p:nvCxnSpPr>
        <p:spPr>
          <a:xfrm flipH="1">
            <a:off x="6019560" y="1547640"/>
            <a:ext cx="129600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3" name=""/>
          <p:cNvCxnSpPr>
            <a:stCxn id="958" idx="2"/>
            <a:endCxn id="937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4" name=""/>
          <p:cNvCxnSpPr>
            <a:stCxn id="958" idx="2"/>
            <a:endCxn id="934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5" name=""/>
          <p:cNvSpPr/>
          <p:nvPr/>
        </p:nvSpPr>
        <p:spPr>
          <a:xfrm>
            <a:off x="3657600" y="1371600"/>
            <a:ext cx="990720" cy="50328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ejec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65" idx="6"/>
            <a:endCxn id="958" idx="1"/>
          </p:cNvCxnSpPr>
          <p:nvPr/>
        </p:nvCxnSpPr>
        <p:spPr>
          <a:xfrm flipV="1">
            <a:off x="4647960" y="1561680"/>
            <a:ext cx="229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7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8" name=""/>
          <p:cNvCxnSpPr>
            <a:stCxn id="967" idx="3"/>
            <a:endCxn id="934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9" name=""/>
          <p:cNvSpPr/>
          <p:nvPr/>
        </p:nvSpPr>
        <p:spPr>
          <a:xfrm>
            <a:off x="457200" y="1905120"/>
            <a:ext cx="83808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ecordato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752480" y="1295280"/>
            <a:ext cx="11430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Libreta de direc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14240" y="1447920"/>
            <a:ext cx="73368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ugerenci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70" idx="4"/>
            <a:endCxn id="967" idx="0"/>
          </p:cNvCxnSpPr>
          <p:nvPr/>
        </p:nvCxnSpPr>
        <p:spPr>
          <a:xfrm flipH="1">
            <a:off x="2171160" y="17524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3" name=""/>
          <p:cNvCxnSpPr>
            <a:stCxn id="971" idx="5"/>
            <a:endCxn id="967" idx="1"/>
          </p:cNvCxnSpPr>
          <p:nvPr/>
        </p:nvCxnSpPr>
        <p:spPr>
          <a:xfrm>
            <a:off x="1339560" y="1770120"/>
            <a:ext cx="26100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4" name=""/>
          <p:cNvCxnSpPr>
            <a:stCxn id="969" idx="6"/>
            <a:endCxn id="967" idx="1"/>
          </p:cNvCxnSpPr>
          <p:nvPr/>
        </p:nvCxnSpPr>
        <p:spPr>
          <a:xfrm flipV="1">
            <a:off x="1294920" y="2095200"/>
            <a:ext cx="3056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5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75" idx="3"/>
            <a:endCxn id="934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7" name=""/>
          <p:cNvSpPr/>
          <p:nvPr/>
        </p:nvSpPr>
        <p:spPr>
          <a:xfrm>
            <a:off x="228600" y="3429000"/>
            <a:ext cx="99072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diner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90360" y="2819520"/>
            <a:ext cx="9003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ros y flor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9" name=""/>
          <p:cNvCxnSpPr>
            <a:stCxn id="977" idx="6"/>
            <a:endCxn id="975" idx="2"/>
          </p:cNvCxnSpPr>
          <p:nvPr/>
        </p:nvCxnSpPr>
        <p:spPr>
          <a:xfrm flipV="1">
            <a:off x="1218960" y="3428280"/>
            <a:ext cx="648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0" name=""/>
          <p:cNvCxnSpPr>
            <a:stCxn id="978" idx="6"/>
            <a:endCxn id="975" idx="1"/>
          </p:cNvCxnSpPr>
          <p:nvPr/>
        </p:nvCxnSpPr>
        <p:spPr>
          <a:xfrm>
            <a:off x="990720" y="3008160"/>
            <a:ext cx="30528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1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2" name=""/>
          <p:cNvCxnSpPr>
            <a:stCxn id="981" idx="3"/>
            <a:endCxn id="935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3" name=""/>
          <p:cNvSpPr/>
          <p:nvPr/>
        </p:nvSpPr>
        <p:spPr>
          <a:xfrm>
            <a:off x="1752480" y="4724280"/>
            <a:ext cx="990720" cy="4572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80880" y="4724280"/>
            <a:ext cx="106704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Integración Offline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5" name=""/>
          <p:cNvCxnSpPr>
            <a:stCxn id="984" idx="7"/>
            <a:endCxn id="981" idx="2"/>
          </p:cNvCxnSpPr>
          <p:nvPr/>
        </p:nvCxnSpPr>
        <p:spPr>
          <a:xfrm flipV="1">
            <a:off x="1292040" y="4571640"/>
            <a:ext cx="42300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6" name=""/>
          <p:cNvCxnSpPr>
            <a:stCxn id="983" idx="0"/>
            <a:endCxn id="981" idx="2"/>
          </p:cNvCxnSpPr>
          <p:nvPr/>
        </p:nvCxnSpPr>
        <p:spPr>
          <a:xfrm flipH="1" flipV="1">
            <a:off x="1713960" y="4571280"/>
            <a:ext cx="533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7" name=""/>
          <p:cNvSpPr/>
          <p:nvPr/>
        </p:nvSpPr>
        <p:spPr>
          <a:xfrm flipH="1">
            <a:off x="625320" y="541008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96880" y="560088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10640" y="5310360"/>
            <a:ext cx="15249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Actividades y activos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Actividades y activos off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Partn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5943600"/>
            <a:ext cx="12708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229600" y="3048120"/>
            <a:ext cx="822240" cy="37764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eléfo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450280" y="3481560"/>
            <a:ext cx="6699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077320" y="3886200"/>
            <a:ext cx="1066680" cy="4572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Franqui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620120" y="4343400"/>
            <a:ext cx="914400" cy="3780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talog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238880" y="3276720"/>
            <a:ext cx="838440" cy="444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3,000 afili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91" idx="3"/>
            <a:endCxn id="931" idx="3"/>
          </p:cNvCxnSpPr>
          <p:nvPr/>
        </p:nvCxnSpPr>
        <p:spPr>
          <a:xfrm flipH="1">
            <a:off x="7619760" y="3370320"/>
            <a:ext cx="73080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7" name=""/>
          <p:cNvCxnSpPr>
            <a:stCxn id="995" idx="4"/>
            <a:endCxn id="931" idx="3"/>
          </p:cNvCxnSpPr>
          <p:nvPr/>
        </p:nvCxnSpPr>
        <p:spPr>
          <a:xfrm flipH="1">
            <a:off x="7619760" y="3720960"/>
            <a:ext cx="388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8" name=""/>
          <p:cNvCxnSpPr>
            <a:stCxn id="993" idx="2"/>
            <a:endCxn id="931" idx="3"/>
          </p:cNvCxnSpPr>
          <p:nvPr/>
        </p:nvCxnSpPr>
        <p:spPr>
          <a:xfrm flipH="1">
            <a:off x="7619760" y="4114800"/>
            <a:ext cx="4579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9" name=""/>
          <p:cNvCxnSpPr>
            <a:stCxn id="994" idx="1"/>
            <a:endCxn id="931" idx="3"/>
          </p:cNvCxnSpPr>
          <p:nvPr/>
        </p:nvCxnSpPr>
        <p:spPr>
          <a:xfrm flipH="1" flipV="1">
            <a:off x="7620120" y="4152240"/>
            <a:ext cx="13356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0" name=""/>
          <p:cNvCxnSpPr>
            <a:stCxn id="995" idx="1"/>
            <a:endCxn id="932" idx="3"/>
          </p:cNvCxnSpPr>
          <p:nvPr/>
        </p:nvCxnSpPr>
        <p:spPr>
          <a:xfrm flipH="1" flipV="1">
            <a:off x="7162200" y="3238200"/>
            <a:ext cx="199080" cy="1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1" name=""/>
          <p:cNvCxnSpPr>
            <a:stCxn id="992" idx="2"/>
            <a:endCxn id="931" idx="3"/>
          </p:cNvCxnSpPr>
          <p:nvPr/>
        </p:nvCxnSpPr>
        <p:spPr>
          <a:xfrm flipH="1">
            <a:off x="7619760" y="3669840"/>
            <a:ext cx="830880" cy="48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2" name=""/>
          <p:cNvSpPr/>
          <p:nvPr/>
        </p:nvSpPr>
        <p:spPr>
          <a:xfrm>
            <a:off x="596880" y="5765760"/>
            <a:ext cx="152280" cy="7632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09480" y="6095880"/>
            <a:ext cx="152640" cy="7632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DA07-4F18-4AC4-B99A-A0F1F41F0411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Paso 4: Soporte Financier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05" name=""/>
          <p:cNvSpPr/>
          <p:nvPr/>
        </p:nvSpPr>
        <p:spPr>
          <a:xfrm>
            <a:off x="2209680" y="1371600"/>
            <a:ext cx="4800600" cy="4152960"/>
          </a:xfrm>
          <a:prstGeom prst="triangle">
            <a:avLst>
              <a:gd name="adj" fmla="val 50000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3429000" y="3479760"/>
            <a:ext cx="2400480" cy="2021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105800" y="3857760"/>
            <a:ext cx="104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MODELO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E-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819520" y="45435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COTEN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(qué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231160" y="454356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USU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(quie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034160" y="25621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INGR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19920" y="1330200"/>
            <a:ext cx="2819160" cy="64152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1411d"/>
                </a:solidFill>
                <a:latin typeface="Verdana"/>
              </a:rPr>
              <a:t>Disposición a pagar p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f1411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1411d"/>
                </a:solidFill>
                <a:latin typeface="Verdana"/>
              </a:rPr>
              <a:t>Contenido (modelo dire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f1411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1411d"/>
                </a:solidFill>
                <a:latin typeface="Verdana"/>
              </a:rPr>
              <a:t>Usuarios (modelo indire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A7BC-C489-4BC7-8ED6-D47BD7ECD4E6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jemplo: Portal (EMOL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133720" y="1523880"/>
            <a:ext cx="2209320" cy="1752480"/>
            <a:chOff x="2133720" y="1523880"/>
            <a:chExt cx="2209320" cy="1752480"/>
          </a:xfrm>
        </p:grpSpPr>
        <p:sp>
          <p:nvSpPr>
            <p:cNvPr id="1014" name=""/>
            <p:cNvSpPr/>
            <p:nvPr/>
          </p:nvSpPr>
          <p:spPr>
            <a:xfrm>
              <a:off x="2133720" y="1523880"/>
              <a:ext cx="1752480" cy="1295280"/>
            </a:xfrm>
            <a:prstGeom prst="rect">
              <a:avLst/>
            </a:prstGeom>
            <a:solidFill>
              <a:srgbClr val="faf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</a:rPr>
                <a:t>CONTEN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666880" y="2666880"/>
              <a:ext cx="609120" cy="609480"/>
            </a:xfrm>
            <a:prstGeom prst="ellipse">
              <a:avLst/>
            </a:prstGeom>
            <a:solidFill>
              <a:srgbClr val="faf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733560" y="1828440"/>
              <a:ext cx="609480" cy="609840"/>
            </a:xfrm>
            <a:prstGeom prst="ellipse">
              <a:avLst/>
            </a:prstGeom>
            <a:solidFill>
              <a:srgbClr val="faf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4876920" y="1752480"/>
            <a:ext cx="1904760" cy="1447560"/>
            <a:chOff x="4876920" y="1752480"/>
            <a:chExt cx="1904760" cy="1447560"/>
          </a:xfrm>
        </p:grpSpPr>
        <p:sp>
          <p:nvSpPr>
            <p:cNvPr id="1018" name=""/>
            <p:cNvSpPr/>
            <p:nvPr/>
          </p:nvSpPr>
          <p:spPr>
            <a:xfrm>
              <a:off x="5029200" y="1752480"/>
              <a:ext cx="1752480" cy="1295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8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38680" y="2590560"/>
              <a:ext cx="60984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876920" y="2057040"/>
              <a:ext cx="609480" cy="60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2819520" y="3733920"/>
            <a:ext cx="3504960" cy="1447200"/>
            <a:chOff x="2819520" y="3733920"/>
            <a:chExt cx="3504960" cy="1447200"/>
          </a:xfrm>
        </p:grpSpPr>
        <p:sp>
          <p:nvSpPr>
            <p:cNvPr id="1022" name=""/>
            <p:cNvSpPr/>
            <p:nvPr/>
          </p:nvSpPr>
          <p:spPr>
            <a:xfrm>
              <a:off x="2819520" y="3886200"/>
              <a:ext cx="3504960" cy="129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</a:rPr>
                <a:t>USUA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00400" y="3733920"/>
              <a:ext cx="60912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181480" y="3733920"/>
              <a:ext cx="60912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5" name=""/>
          <p:cNvCxnSpPr>
            <a:stCxn id="1015" idx="5"/>
            <a:endCxn id="1023" idx="5"/>
          </p:cNvCxnSpPr>
          <p:nvPr/>
        </p:nvCxnSpPr>
        <p:spPr>
          <a:xfrm>
            <a:off x="3187440" y="3187440"/>
            <a:ext cx="533880" cy="106740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6" name=""/>
          <p:cNvCxnSpPr>
            <a:stCxn id="1016" idx="6"/>
            <a:endCxn id="1020" idx="6"/>
          </p:cNvCxnSpPr>
          <p:nvPr/>
        </p:nvCxnSpPr>
        <p:spPr>
          <a:xfrm>
            <a:off x="4343040" y="2133360"/>
            <a:ext cx="1143720" cy="2293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27" name=""/>
          <p:cNvSpPr/>
          <p:nvPr/>
        </p:nvSpPr>
        <p:spPr>
          <a:xfrm>
            <a:off x="5791320" y="5384880"/>
            <a:ext cx="3352680" cy="60948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Hombres y mujeres 25 – 40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re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rincipalmente en la ofic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52280" y="2971800"/>
            <a:ext cx="2133720" cy="137160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El Mercurio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Noti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Tiempo 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Depo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Inter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E-comme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086600" y="1371600"/>
            <a:ext cx="1638360" cy="49536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876e7"/>
                </a:solidFill>
                <a:latin typeface="Verdana"/>
              </a:rPr>
              <a:t>Alt.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086600" y="2133720"/>
            <a:ext cx="1638360" cy="68580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876e7"/>
                </a:solidFill>
                <a:latin typeface="Verdana"/>
              </a:rPr>
              <a:t>Alt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Suscripciones y mktg. Rel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086600" y="2971800"/>
            <a:ext cx="1638360" cy="60948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6600"/>
                </a:solidFill>
                <a:latin typeface="Verdana"/>
              </a:rPr>
              <a:t>Alt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c6600"/>
                </a:solidFill>
                <a:latin typeface="Verdana"/>
              </a:rPr>
              <a:t>Acceso a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1431600">
            <a:off x="5517720" y="3276720"/>
            <a:ext cx="3319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2" idx="0"/>
            <a:endCxn id="1019" idx="7"/>
          </p:cNvCxnSpPr>
          <p:nvPr/>
        </p:nvCxnSpPr>
        <p:spPr>
          <a:xfrm flipV="1">
            <a:off x="5775120" y="2679120"/>
            <a:ext cx="384840" cy="616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34" name=""/>
          <p:cNvCxnSpPr>
            <a:stCxn id="1032" idx="4"/>
            <a:endCxn id="1024" idx="3"/>
          </p:cNvCxnSpPr>
          <p:nvPr/>
        </p:nvCxnSpPr>
        <p:spPr>
          <a:xfrm flipH="1">
            <a:off x="5269680" y="3713040"/>
            <a:ext cx="321480" cy="5421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7225-B56C-4D8E-9909-25DD1FA586F8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Ingre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ublicidad (modelo de ingreso indirect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Yahoo!, EMOL 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Venta de productos, servicios o información (modelo direct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mazon, Chilevinos, Falabell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Intermediación de transac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chwab, eBay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uscrip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WSJ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arketing Relacional: híbrido entre suscripción y publicidad. El ingreso se puede generar online u off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NYTim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E11E-BAC2-48A9-B849-DEECE5CF596E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Valor para los accionis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odelo de ingresos ligado a generación de flujo pero no necesariamente de util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odelos de estrategia de LP para generar util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odelo “Blockbuster” de Disney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entradas al cin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explotación profunda de productos exitos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odelo “Base y Continuación” de Gillett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áquinas de afeitar y repuest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lock-i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odelo de “metamercados”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comisiones, margenes de venta o public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Apalancamien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B38A-D5F6-4A6A-B98F-7575F04AB9DA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Valor para los accionis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Rema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comision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Efectos de red, base de usuario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ategory-killer” (diferentes marcas de una misma categoría; ej. eToy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Margen de vent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Apalancamiento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ejor información (WSJ, Bloomberg, etc.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Suscripción, publicidad, comision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Credibilidad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ás amplia variedad (CDNow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Margen de venta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Precios premium por productos de difícil acceso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AC20-D786-4319-9587-C07F05D9C211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Valor para los accionis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ás bajo precio (buy.com y Wal-Mart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argen de vent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Volumen y eficienci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d de usuarios líder (ICQ, Real Networks, Napster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argen de ventas, publicidad, comis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Posibilidad de cobrar precios premium después de crear un standard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ejor experiencia (FAOSchwartz.com, Ashford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argen de vent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Satisfacción del cli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87F3-12FE-4E52-B2D4-C10C1141C4E5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de Crecimient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Fuentes de crecimien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rofundizar penetración en mercado actua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Desarrollo de nuevos productos (nuevos productos para mercados existentes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Desarrollo de mercados (productos existentes para mercados nuevos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Desarrollo de nuevos productos para nuevos mercado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B496-ADD2-4FC7-967B-93F82B5AE2DE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6" name=""/>
          <p:cNvSpPr/>
          <p:nvPr/>
        </p:nvSpPr>
        <p:spPr>
          <a:xfrm>
            <a:off x="3225960" y="171252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25960" y="27712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225960" y="380160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stema de 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225960" y="48826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porte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5400000">
            <a:off x="4289760" y="2292840"/>
            <a:ext cx="496800" cy="241560"/>
          </a:xfrm>
          <a:custGeom>
            <a:avLst/>
            <a:gdLst>
              <a:gd name="textAreaLeft" fmla="*/ 77400 w 496800"/>
              <a:gd name="textAreaRight" fmla="*/ 434880 w 496800"/>
              <a:gd name="textAreaTop" fmla="*/ 60480 h 241560"/>
              <a:gd name="textAreaBottom" fmla="*/ 181440 h 241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5400000">
            <a:off x="4291560" y="336456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rot="5400000">
            <a:off x="4291560" y="439488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19920" y="297180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6019920" y="274284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19920" y="297180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501600" y="2590920"/>
            <a:ext cx="120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19920" y="190512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6019920" y="16761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19920" y="190512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564960" y="1523880"/>
            <a:ext cx="238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gmento obje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Benef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¿Por que mejor que otr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19920" y="396252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6019920" y="37335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19920" y="396252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547320" y="3581280"/>
            <a:ext cx="2148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Beneficios cent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Capac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Link Recurso-capa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Entrega y 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19920" y="3962520"/>
            <a:ext cx="380880" cy="380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19920" y="5105520"/>
            <a:ext cx="457200" cy="6094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6019920" y="48765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19920" y="5105520"/>
            <a:ext cx="457200" cy="8380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477120" y="4724280"/>
            <a:ext cx="2438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Pilares:</a:t>
            </a: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contenido usu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ingr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Modelos de Ingr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Modelos de valor 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Modelos de cre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019920" y="5105520"/>
            <a:ext cx="457200" cy="380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3CC6-0A15-4A86-BC4A-23B20AB5B59A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faz de Usuario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7Cs o elementos de diseño gener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72" name=""/>
          <p:cNvSpPr/>
          <p:nvPr/>
        </p:nvSpPr>
        <p:spPr>
          <a:xfrm>
            <a:off x="228600" y="16416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ntex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Diseño y distribución de ele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629400" y="16002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Texto, imágenes, sonidos y vid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629400" y="32004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mu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o el sitio permite la comunicación entre usu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629400" y="4952880"/>
            <a:ext cx="2209680" cy="110196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ustom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apacidades de personalización del si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467160" y="4952880"/>
            <a:ext cx="2209680" cy="110196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mun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ormas de comunicación sitio a usuario y usuario a si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28600" y="4952880"/>
            <a:ext cx="2209680" cy="110196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Links a y desde otros si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" y="32004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mer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apacidad para efectuar transac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7A7A-A6ED-4B49-AF05-FDD9CCC3E201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Para qué sirve Internet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Herramienta de marketing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Sitios corporativ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eractu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mai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hat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Mensajeros instantáne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-commerc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-procurement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ABF3-077D-4979-85D7-DE6A5C2CBCA6}" type="slidenum">
              <a:t>13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aracterísticas del diseñ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lineamento con el modelo: Capacidad de cada uno de los elementos para soportar el modelo de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olidez de diseño: grado de consistencia entre los diferentes ele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"/>
          <p:cNvSpPr/>
          <p:nvPr/>
        </p:nvSpPr>
        <p:spPr>
          <a:xfrm>
            <a:off x="11430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13372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24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un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148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ustom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10552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unic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0958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nex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086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er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429000" y="3429000"/>
            <a:ext cx="2286000" cy="4572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odelo de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0" name=""/>
          <p:cNvCxnSpPr>
            <a:endCxn id="1082" idx="0"/>
          </p:cNvCxnSpPr>
          <p:nvPr/>
        </p:nvCxnSpPr>
        <p:spPr>
          <a:xfrm flipH="1">
            <a:off x="1599480" y="3733560"/>
            <a:ext cx="1600920" cy="99108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1" name=""/>
          <p:cNvCxnSpPr>
            <a:endCxn id="1083" idx="0"/>
          </p:cNvCxnSpPr>
          <p:nvPr/>
        </p:nvCxnSpPr>
        <p:spPr>
          <a:xfrm flipH="1">
            <a:off x="2590560" y="3886200"/>
            <a:ext cx="915120" cy="8388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2" name=""/>
          <p:cNvCxnSpPr>
            <a:endCxn id="1084" idx="0"/>
          </p:cNvCxnSpPr>
          <p:nvPr/>
        </p:nvCxnSpPr>
        <p:spPr>
          <a:xfrm flipH="1">
            <a:off x="3580560" y="3886200"/>
            <a:ext cx="305640" cy="8388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3" name=""/>
          <p:cNvCxnSpPr>
            <a:endCxn id="1085" idx="0"/>
          </p:cNvCxnSpPr>
          <p:nvPr/>
        </p:nvCxnSpPr>
        <p:spPr>
          <a:xfrm>
            <a:off x="4571640" y="3886200"/>
            <a:ext cx="1080" cy="8388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4" name=""/>
          <p:cNvCxnSpPr/>
          <p:nvPr/>
        </p:nvCxnSpPr>
        <p:spPr>
          <a:xfrm>
            <a:off x="5943240" y="3886200"/>
            <a:ext cx="1600920" cy="9914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5" name=""/>
          <p:cNvCxnSpPr/>
          <p:nvPr/>
        </p:nvCxnSpPr>
        <p:spPr>
          <a:xfrm>
            <a:off x="5638680" y="4038120"/>
            <a:ext cx="915120" cy="83916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6" name=""/>
          <p:cNvCxnSpPr/>
          <p:nvPr/>
        </p:nvCxnSpPr>
        <p:spPr>
          <a:xfrm>
            <a:off x="5257440" y="4038120"/>
            <a:ext cx="305640" cy="83916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097" name=""/>
          <p:cNvSpPr/>
          <p:nvPr/>
        </p:nvSpPr>
        <p:spPr>
          <a:xfrm>
            <a:off x="3505320" y="4114800"/>
            <a:ext cx="2133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line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8" name=""/>
          <p:cNvCxnSpPr>
            <a:stCxn id="1082" idx="2"/>
            <a:endCxn id="1083" idx="2"/>
          </p:cNvCxnSpPr>
          <p:nvPr/>
        </p:nvCxnSpPr>
        <p:spPr>
          <a:xfrm flipH="1" rot="16200000">
            <a:off x="2094480" y="5143680"/>
            <a:ext cx="2520" cy="991440"/>
          </a:xfrm>
          <a:prstGeom prst="curvedConnector5">
            <a:avLst>
              <a:gd name="adj1" fmla="val 14400000"/>
              <a:gd name="adj2" fmla="val 49981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99" name=""/>
          <p:cNvCxnSpPr>
            <a:stCxn id="1083" idx="2"/>
            <a:endCxn id="1084" idx="2"/>
          </p:cNvCxnSpPr>
          <p:nvPr/>
        </p:nvCxnSpPr>
        <p:spPr>
          <a:xfrm flipH="1" rot="16200000">
            <a:off x="3084120" y="5144040"/>
            <a:ext cx="2520" cy="99108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0" name=""/>
          <p:cNvCxnSpPr/>
          <p:nvPr/>
        </p:nvCxnSpPr>
        <p:spPr>
          <a:xfrm flipH="1" rot="16200000">
            <a:off x="2589120" y="4875840"/>
            <a:ext cx="2160" cy="1981800"/>
          </a:xfrm>
          <a:prstGeom prst="curvedConnector5">
            <a:avLst>
              <a:gd name="adj1" fmla="val 16880000"/>
              <a:gd name="adj2" fmla="val 50000"/>
              <a:gd name="adj3" fmla="val 1688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1" name=""/>
          <p:cNvCxnSpPr>
            <a:stCxn id="1084" idx="2"/>
            <a:endCxn id="1085" idx="2"/>
          </p:cNvCxnSpPr>
          <p:nvPr/>
        </p:nvCxnSpPr>
        <p:spPr>
          <a:xfrm flipH="1" rot="16200000">
            <a:off x="4075560" y="5143680"/>
            <a:ext cx="2520" cy="991440"/>
          </a:xfrm>
          <a:prstGeom prst="curvedConnector5">
            <a:avLst>
              <a:gd name="adj1" fmla="val 14400000"/>
              <a:gd name="adj2" fmla="val 49981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2" name=""/>
          <p:cNvCxnSpPr/>
          <p:nvPr/>
        </p:nvCxnSpPr>
        <p:spPr>
          <a:xfrm flipH="1" rot="16200000">
            <a:off x="6056280" y="4305960"/>
            <a:ext cx="2160" cy="2972520"/>
          </a:xfrm>
          <a:prstGeom prst="curvedConnector5">
            <a:avLst>
              <a:gd name="adj1" fmla="val 19680000"/>
              <a:gd name="adj2" fmla="val 50000"/>
              <a:gd name="adj3" fmla="val 1968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3" name=""/>
          <p:cNvCxnSpPr>
            <a:stCxn id="1086" idx="2"/>
            <a:endCxn id="1087" idx="2"/>
          </p:cNvCxnSpPr>
          <p:nvPr/>
        </p:nvCxnSpPr>
        <p:spPr>
          <a:xfrm flipH="1" rot="16200000">
            <a:off x="6055920" y="5144040"/>
            <a:ext cx="2520" cy="99108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04" name=""/>
          <p:cNvSpPr/>
          <p:nvPr/>
        </p:nvSpPr>
        <p:spPr>
          <a:xfrm>
            <a:off x="3505320" y="58672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Sol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79AB-7254-43AF-966F-D14A439DBC3D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text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os dimensiones de contex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uncionalidad (Google, Yahoo!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stétic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structuración del sitio p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ermitir el acceso a toda la información disponibl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acilidad de naveg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ementos a consid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Secc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structura de link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Herramientas de naveg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Medición y evaluación del contex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eloc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nfiabil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dependencia de plataforma (Sistemas operativos y browser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3267-2D9F-4979-BD03-05E0DBF62A08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tenid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4 dimen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Ofer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roductos, servicios, informa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ensaje (appeal): foco comunicaciona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ognitivo: foco en aspectos funcional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mocional: foco en humor, historias, etc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ix multimed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exto, imágenes, sonido y vide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Tipo de conteni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140B-7037-4CBD-832F-F3FC7818A853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omunicación entre usuar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Uno a un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Uno a much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lementos de una comun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ohesión: identidad de grupo y sentimiento individual de pertenenci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Efectividad: impacto del grupo en la vida de los miembr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yuda: percepción de poder dar y pedir ayu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Lenguaj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utoregulación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CE99-8726-419E-AD27-F5123A431071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pos de comun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mistad: Yahoogroup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ntusiastas: grupos que comparten un interés especial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Soporte: Alcoholicos anónim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Jueg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merc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Grado de participación de los miemb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asiv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otivador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termediari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1084-0C21-4D07-931F-C33AA5231973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ustomiz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os tipos de personaliza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r el usuar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utodefinición de Perfi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Diseño de look-and-fee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r el sit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Basado en uso anterior del mismo usuari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Basado en comportamiento de usuarios “similares”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71D3-58BB-4C56-BB63-9CF05F8A43A6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c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ialogos iniciados por la organización, dentro del sit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Broadcast o unidirecc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mailing masiv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AQ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-mail newsletter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terac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Dialogo de e-commerce (intercambio de e-mails, confirmación de pedido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ustomer Service (customer care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Híbr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94D0-E320-4442-BE9E-5D381D946A05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c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riables a consider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ntidad de usuarios que ponen conteni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Un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uch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ntidad de usuarios que reciben conteni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Un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uch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sibilidad de respuest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i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N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CEC0-918E-486C-AFA6-6A39F3B1F453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ex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omo se conecta el sitio con otros negoci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Link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Home site en backgroun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Outsourcing de contenid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itios compuestos (</a:t>
            </a:r>
            <a:r>
              <a:rPr b="0" lang="es-MX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banco de chile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pos de sit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6876e7"/>
                </a:solidFill>
                <a:uFillTx/>
                <a:latin typeface="Verdana"/>
              </a:rPr>
              <a:t>Sitios de destino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: exclusivamente contenido prop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6876e7"/>
                </a:solidFill>
                <a:uFillTx/>
                <a:latin typeface="Verdana"/>
              </a:rPr>
              <a:t>Hub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: Combinación de contenido propio y contenido seleccionado de otros sitio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6876e7"/>
                </a:solidFill>
                <a:uFillTx/>
                <a:latin typeface="Verdana"/>
              </a:rPr>
              <a:t>Portales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: Casi exclusivamente contenido de tercero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A4D0-EF6B-4526-9AE8-26CA6C222275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er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Modelos de  comer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tálog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ma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mates al revé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gregación de deman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Ofertas / contraofer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F328-5499-40F7-B1FF-E025834C988F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Matriz de Posicionamiento Estratégic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738920" cy="3938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6200000">
            <a:off x="-196560" y="396252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Qué Es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81840" y="14479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Para qué utilizar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7CE2-95ED-471E-B82F-49815D979B63}" type="slidenum">
              <a:t>14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er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imensiones de la capacidad de comer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gistr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rro de compr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guridad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étodo de pag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referencias (one-click-shopping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onfiguración tecnológic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guimiento de orde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Opciones de despach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65B66-617F-4446-BC91-679E339F5A72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efinir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6" name=""/>
          <p:cNvSpPr/>
          <p:nvPr/>
        </p:nvSpPr>
        <p:spPr>
          <a:xfrm>
            <a:off x="431640" y="365760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4" y="0"/>
                </a:lnTo>
                <a:lnTo>
                  <a:pt x="21600" y="10800"/>
                </a:lnTo>
                <a:lnTo>
                  <a:pt x="20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31640" y="397656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31640" y="429588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política y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211880" y="2739960"/>
            <a:ext cx="103320" cy="917640"/>
          </a:xfrm>
          <a:custGeom>
            <a:avLst/>
            <a:gdLst>
              <a:gd name="textAreaLeft" fmla="*/ 0 w 103320"/>
              <a:gd name="textAreaRight" fmla="*/ 37440 w 103320"/>
              <a:gd name="textAreaTop" fmla="*/ 23760 h 917640"/>
              <a:gd name="textAreaBottom" fmla="*/ 89388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211880" y="3654360"/>
            <a:ext cx="103320" cy="993960"/>
          </a:xfrm>
          <a:custGeom>
            <a:avLst/>
            <a:gdLst>
              <a:gd name="textAreaLeft" fmla="*/ 0 w 103320"/>
              <a:gd name="textAreaRight" fmla="*/ 37440 w 103320"/>
              <a:gd name="textAreaTop" fmla="*/ 25920 h 993960"/>
              <a:gd name="textAreaBottom" fmla="*/ 968040 h 9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328880" y="2895480"/>
            <a:ext cx="11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320960" y="3863880"/>
            <a:ext cx="14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870280" y="273672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90512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31640" y="2743200"/>
            <a:ext cx="1828800" cy="9208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7846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omun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990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mp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nt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638680" y="2743200"/>
            <a:ext cx="1295640" cy="9208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valu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rot="16200000">
            <a:off x="1943280" y="876240"/>
            <a:ext cx="304560" cy="3276720"/>
          </a:xfrm>
          <a:custGeom>
            <a:avLst/>
            <a:gdLst>
              <a:gd name="textAreaLeft" fmla="*/ 0 w 304560"/>
              <a:gd name="textAreaRight" fmla="*/ 109800 w 30456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rot="16200000">
            <a:off x="5005440" y="1118880"/>
            <a:ext cx="276120" cy="2819160"/>
          </a:xfrm>
          <a:custGeom>
            <a:avLst/>
            <a:gdLst>
              <a:gd name="textAreaLeft" fmla="*/ 0 w 276120"/>
              <a:gd name="textAreaRight" fmla="*/ 99720 w 2761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235520" y="194940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834000" y="1949400"/>
            <a:ext cx="26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79280" y="2421000"/>
            <a:ext cx="4248360" cy="1439640"/>
          </a:xfrm>
          <a:prstGeom prst="ellipse">
            <a:avLst/>
          </a:prstGeom>
          <a:noFill/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71E0-2878-4898-A39B-CCF29DB15529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655344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UNIVERSIDAD DE CHILE</a:t>
            </a:r>
            <a:br>
              <a:rPr sz="1300"/>
            </a:b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FACULTAD DE CIENCIAS FÍSICAS Y MATEMÁTICAS</a:t>
            </a:r>
            <a:br>
              <a:rPr sz="1300"/>
            </a:br>
            <a:br>
              <a:rPr sz="1900"/>
            </a:br>
            <a:br>
              <a:rPr sz="19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Estrategias de Internet</a:t>
            </a:r>
            <a:br>
              <a:rPr sz="21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Comercio Electrónico y e-Business</a:t>
            </a:r>
            <a:endParaRPr b="0" lang="en-US" sz="2100" spc="-1" strike="noStrike">
              <a:solidFill>
                <a:srgbClr val="555555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5555"/>
                </a:solidFill>
                <a:latin typeface="Verdana"/>
              </a:rPr>
              <a:t>Matriz de Posicionamiento Estratégico</a:t>
            </a:r>
            <a:br>
              <a:rPr sz="2600"/>
            </a:br>
            <a:r>
              <a:rPr b="0" lang="en-US" sz="2600" spc="-1" strike="noStrike">
                <a:solidFill>
                  <a:srgbClr val="555555"/>
                </a:solidFill>
                <a:latin typeface="Verdana"/>
              </a:rPr>
              <a:t>EJEMPLO</a:t>
            </a:r>
            <a:endParaRPr b="0" lang="en-US" sz="26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71640" y="1490760"/>
          <a:ext cx="7867440" cy="4087800"/>
        </p:xfrm>
        <a:graphic>
          <a:graphicData uri="http://schemas.openxmlformats.org/drawingml/2006/table">
            <a:tbl>
              <a:tblPr/>
              <a:tblGrid>
                <a:gridCol w="1842840"/>
                <a:gridCol w="2021040"/>
                <a:gridCol w="1897200"/>
                <a:gridCol w="210636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 q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actu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nolog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tafo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038760" y="3724560"/>
            <a:ext cx="1462680" cy="648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B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Sitio Forus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2299680"/>
            <a:ext cx="1511280" cy="10328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B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Integración con grandes 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2450160"/>
            <a:ext cx="2305080" cy="774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Intr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Reportes online de gestión, RRHH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E3B0-730F-4BA4-BA52-CC97B25AB59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Diferentes formas de utilizar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gún tipo de institu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Empresas y Corporacio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Productivas, Comercio minorista y mayorista, Distribuidores, Servicios, Intermediarios, Telecomunicaci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Medios de comunicación tradiciona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Educación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Gobiern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gún Á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RRHH (Intranet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Marketing, relación con clien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Operacio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FA51-FC8A-4F8B-A901-97D2C3CA5F6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Información y los Negoci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la mayoría de los negocios la información juega un rol crít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ompras, relación con proveedo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entas, relación con clientes, publicidad y márketing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roduc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Organización interna, relaciones entre emplead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información domina los procesos como también los produc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información unifica la cadena de valor de cada negoc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Gestión =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1387-4F59-4DE9-8C82-319FE70D74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efinir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31640" y="365760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4" y="0"/>
                </a:lnTo>
                <a:lnTo>
                  <a:pt x="21600" y="10800"/>
                </a:lnTo>
                <a:lnTo>
                  <a:pt x="20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1640" y="397656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1640" y="429588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política y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11880" y="2739960"/>
            <a:ext cx="103320" cy="917640"/>
          </a:xfrm>
          <a:custGeom>
            <a:avLst/>
            <a:gdLst>
              <a:gd name="textAreaLeft" fmla="*/ 0 w 103320"/>
              <a:gd name="textAreaRight" fmla="*/ 37440 w 103320"/>
              <a:gd name="textAreaTop" fmla="*/ 23760 h 917640"/>
              <a:gd name="textAreaBottom" fmla="*/ 89388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11880" y="3654360"/>
            <a:ext cx="103320" cy="993960"/>
          </a:xfrm>
          <a:custGeom>
            <a:avLst/>
            <a:gdLst>
              <a:gd name="textAreaLeft" fmla="*/ 0 w 103320"/>
              <a:gd name="textAreaRight" fmla="*/ 37440 w 103320"/>
              <a:gd name="textAreaTop" fmla="*/ 25920 h 993960"/>
              <a:gd name="textAreaBottom" fmla="*/ 968040 h 9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28880" y="2895480"/>
            <a:ext cx="11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0960" y="3863880"/>
            <a:ext cx="14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70280" y="273672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1640" y="2743200"/>
            <a:ext cx="1828800" cy="9208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846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omun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990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mp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nt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743200"/>
            <a:ext cx="1295640" cy="9208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valu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1943280" y="876240"/>
            <a:ext cx="304560" cy="3276720"/>
          </a:xfrm>
          <a:custGeom>
            <a:avLst/>
            <a:gdLst>
              <a:gd name="textAreaLeft" fmla="*/ 0 w 304560"/>
              <a:gd name="textAreaRight" fmla="*/ 109800 w 30456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5005440" y="1118880"/>
            <a:ext cx="276120" cy="2819160"/>
          </a:xfrm>
          <a:custGeom>
            <a:avLst/>
            <a:gdLst>
              <a:gd name="textAreaLeft" fmla="*/ 0 w 276120"/>
              <a:gd name="textAreaRight" fmla="*/ 99720 w 2761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35520" y="194940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34000" y="1949400"/>
            <a:ext cx="26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AEAB-B0D7-4533-B98C-246084162C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¿Nueva Economía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361960" y="1143000"/>
            <a:ext cx="6476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Por qué N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urva de demanda con pendiente positiv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Decisiones basadas en relación costo –beneficio (VP de los flujos sigue siendo “la” forma de evaluar proyecto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Por qué S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conomía tradicional se sustenta en la escasez; la información ya no es precisamente un recurso escaso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La estructura económica pensada en la protección de derechos de propiedad no se ajusta a los requerimientos de la información digital (economías de información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enso: el término “Nueva Economía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85800" y="1600200"/>
            <a:ext cx="0" cy="14479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2895480"/>
            <a:ext cx="15242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2895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6304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981080"/>
            <a:ext cx="114300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F6BB-20E3-4F79-9E2C-E88FE2454B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Profesor: Luis Felipe Tronco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tecedentes Académ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Ingeniero Civil Industrial, Universidad de Chile, 1995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MBA University of California at Berkeley, 2001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tecedentes Profecion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822cd"/>
                </a:solidFill>
                <a:latin typeface="Verdana"/>
              </a:rPr>
              <a:t>2002 Forus S.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Gerente de Planificación y Sistem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822cd"/>
                </a:solidFill>
                <a:latin typeface="Verdana"/>
              </a:rPr>
              <a:t>2001 – 2002 El Mercurio Onlin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Gerente Portal EMOL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822cd"/>
                </a:solidFill>
                <a:latin typeface="Verdana"/>
              </a:rPr>
              <a:t>1995 – 1999 Costanera S.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Subgerente de Finanzas y Estudi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tecedentes Doce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1994 – 1997 Area Investigación de Operac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2002 Area Marketing, Estrategia e Internet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Universidad Adolfo Ibañez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2002 Escuela de Negocios, MB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072F-996A-468E-A1AC-F720A7DB0E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conomía Tradic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ndustrias dominadas por oligopoli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Basada en economías de escal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conomía de la Inform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ndustrias dominadas por monopolios tempora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Basada en economías de red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¿Nueva Economía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5FC6-85A7-46C6-84A3-8232159CADC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Información (bienes de información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lquier cosa que puede ser digitalizada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Libros (textos), bases de datos, resultados deportivos, películas, música, cotizaciones de acciones, páginas web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or de la información está definido segú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Su uso (para que se va a usar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Valor de entretenimien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Valor de negoc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Valor de poder (estar informado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El rol del usuario (quien lo va a usar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Padre de famili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Ejecutiv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Negociador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58EF-B275-4EA0-B1CE-A78126A868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conomías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s de Inform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structura de costos de bienes de información y fijación de preci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Bienes de experienci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conomías de ‘atención’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Propiedad intelectua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s de Re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Lock-in y costos de camb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xternalidades de Red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Standard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E0BF-56E5-474F-9F0D-8ED3E79059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Estructura de costo de la inform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a de Produc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rata de reproduc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er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hundido, no se puede recuperar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gunda y demás cop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variable pequeño (despreciable);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No existen restricciones de capac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Microsoft tiene un 92% de marge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marginal &lt; costo promedi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promedio decrecient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690080" y="123516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os costos f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jos costos marg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12193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87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B1C9-F0C7-4167-99D5-14737A0CF6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Estructura de costo de la inform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licancias en la fijación de precios de bienes de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No existe competencia perfect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Sólo 2 posibles estructuras: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Monopol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Productos diferenciad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Precios se basan en el valor de la información para los consumidores y no en los costos de produc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Se generan incentivos para diferenciar precios o discriminar (extraer el máximo excedente de los consumidores posible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Identificación de mercad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rear diferentes versiones del mismo produc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Bundling” o “combos”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53B5-4C0E-4FAA-8156-B4BFA3265C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Información “Commodity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. Ante la sospecha, eliminar condi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uías de teléfono en CD-R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Nynex cobraba US$10.000 en 1986 por directorio de NY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US$3.50 diarios por trabajadores chin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10.000 registros/(trabajador-me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US$350 ciudad de 1.000.000 habitan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Precio de CD-ROM partió en US$50 y terminó en US$3.0 en menos de 1 añ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tros ejemplos: precio de acciones; resultados deportiv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ategia en negocio commodity: reducir costo prome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íder en cost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Vender el mismo producto varias veces (Reuter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460B-0E20-4AFC-AC4B-F0885A400A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Información “Diferenciable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mayoría. Si no, producir la diferenci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ecios de acciones en tiempo real / desfas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Ventaja de ser el primero (first-mover advantag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ocer al cliente (diferenciación a través de la experienci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Registro / suscrip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Seguimiento de su comportamiento (posible a través de la tecnología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7BAB5-69C9-4AE5-B650-3D086F9872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Bienes de ‘experiencia’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n aquellos en que el consumidor debe experimentarlos para valorizarl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i todo nuevo producto es un bien de experiencia, pero una vez que son probados, dejan de serl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información es un bien de experiencia cada vez que es consum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Un libro leído cuando niño y luego de adulto puede tener distinto valor para el lector, pero sólo lo sabrá cuando lo vuelva a leer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¿Cómo saber que El Mercurio de hoy ‘vale’ $300 antes de leerlo?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¿Cómo decidir que película ver en el teatro o la TV?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écnicas para persuadir a los clientes a pagar por informació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Muestras gratis: titulares del diario en los quioscos, sinopsis de películas, radios (como muestra del contenido de un CD);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Marcas: El Mercurio ‘garantiza’ cierto tipo y calidad de información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50B2A-81F3-4688-8648-D790ACC17E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Las economías de ‘Atención’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riqueza de información crea pobreza de atención” – Herbert Simon (Premio Nobel de Economía 1978 por procesos de decisió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problema de hoy no es el acceso a la información, sino la sobrecarga de ella. Cualquiera puede crear un sitio web, pero no es fácil comunicarle su existencia al público masiv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mazón pagó US$19MM a AOL para acceder a sus 10 millones de clientes. Esto no es adquisición de clientes, sino adquisición de la ‘atención’ de los cli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1DF9-324A-4C60-97DA-0B4F8CB069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piedad intelectu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otección a cambio de hacer público un  inven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omover el progreso de las ciencias y las artes útil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edidas de protección tradicionales no garantizan el control de la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atentes, copyrights y trademarks buscan desincentivar la copi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ío consiste en buscar formas para maximizar el valor de la propiedad intelectual, no para maximizar la protección de la mis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Gestión de derechos sobre propiedad intelectua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5353-41FC-4B25-B405-D722CD2CDA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749160"/>
            <a:ext cx="6433920" cy="6088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Silicon Valley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10280" y="762120"/>
            <a:ext cx="466920" cy="6984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2209680" y="1484280"/>
            <a:ext cx="3200400" cy="2527200"/>
            <a:chOff x="2209680" y="1484280"/>
            <a:chExt cx="3200400" cy="2527200"/>
          </a:xfrm>
        </p:grpSpPr>
        <p:sp>
          <p:nvSpPr>
            <p:cNvPr id="56" name=""/>
            <p:cNvSpPr/>
            <p:nvPr/>
          </p:nvSpPr>
          <p:spPr>
            <a:xfrm>
              <a:off x="2209680" y="1484280"/>
              <a:ext cx="76212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71800" y="1865160"/>
              <a:ext cx="76212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00560" y="3214800"/>
              <a:ext cx="761760" cy="38232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2000" y="3629160"/>
              <a:ext cx="762120" cy="38232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48320" y="2514600"/>
              <a:ext cx="76176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67080" y="1981080"/>
              <a:ext cx="76212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11FA-99C7-4BE9-9CB7-1B21849C2C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stos de producción y costos de distribu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a tecnología digital </a:t>
            </a:r>
            <a:r>
              <a:rPr b="0" lang="es-ES_tradnl" sz="1800" spc="-1" strike="noStrike" u="sng">
                <a:solidFill>
                  <a:srgbClr val="6876e7"/>
                </a:solidFill>
                <a:uFillTx/>
                <a:latin typeface="Verdana"/>
              </a:rPr>
              <a:t>cambia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 dos de los costos relevantes a la inform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Reduce dramáticamente los costos de hacer perfectas reproducciones y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Permite distribuir dichas reproducciones rápida y fácilmente, a un costo despreciable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tros adelantos tecnológicos han logrado cambios significativos en uno de los dos, pero el hecho de que cambien ambos crea oportunidades únicas de negoc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Ejemplo: grabador de cassettes disminuye 1, pero no 2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Una fotocopia de la mona lisa permite una distribución masiva de la obra, pero para apreciar toda su calidad es necesario visitar Paris (1 no, 2 si)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La radio AM permite una distribución barata de música, pero de baja calidad e impidiendo que el usuario controle la reproducción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4DA5-0F4A-4CFC-9D4D-775B958C2B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galar el contenido (alineado con característica de bienes de experiencia de la inform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onsumidores no saben a priori cual es el valor de la inform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Muestras gratis son una vieja práctica que ha resultado muy útil para Internet, sobretodo porque se puede controlar el consumo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jemplos: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ffline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ibrerías en US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nline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AMAZO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Importancia de los formatos y costumbres: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EMOL no sustituye 100% al diario El Mercurio: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Disponibilidad de un libro online no necesariamente daña las ventas del mismo, sino que las increment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AB8BA-A234-40F5-8D02-50824EFF7F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4540320" y="4329000"/>
            <a:ext cx="2465280" cy="2071800"/>
            <a:chOff x="4540320" y="4329000"/>
            <a:chExt cx="2465280" cy="207180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5715000" y="4641840"/>
              <a:ext cx="1290600" cy="17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4540320" y="4329000"/>
              <a:ext cx="2165400" cy="20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648360" y="1523880"/>
            <a:ext cx="766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manda por repeticiones (música, películas infanti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Radio es de hecho una publicidad del contenido que transmite, pero en un empaque más convenient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CD es lo que en economía se denomina un “Option Value”: El propietario puede ejercer la opción de escuchar la canción que desee en el momento que dese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Los niños y el deseo de repetir: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aso Barney vs. Disney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A492-C72E-4044-A805-91C4EE1BF5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manda por bienes similares pero no idént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Revista Playboy: Los “lectores” se aburrirían rápido si siempre vinieran exactamente las mismas imágenes. Ello quieren variación… pero no tanto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Distribución digital de imágenes permite la incorporación de sellos de agua o incluso variaciones tecnológicas más relevantes (especie de encriptación gráfica, modificando brillo, contraste o colores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Distintas versiones del mismo softwar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A32F-C474-45B7-83A8-4A63774A05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ductos Complement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Índices de contenido de reportes (consultoras, investment banks, etc.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Titulares y artículos básicos en diarios y revista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WSJ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conomist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Contenido completo pero en formato incómodo  no imprimible (muchos links, mucha publicidad mezclada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5CE5-3F7B-4AC3-AC9D-88D7E77B8DE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 y costos de camb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omp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GM vs Toyo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C vs Mac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Lock-in (amarre, cautiv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roovedores buscan amarrar a sus clien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onsumidores evitan sentirse amarrad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B473-9A28-4DDC-96E3-C6E8D59CE8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 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mpras durables (Centrales teléfono, Iomega Zi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emplazo de eqipo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iende a decrecer lock-in con el tiemp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ambién disminuye cuando la depreciación es muy rápida (continuas mejoras tecnológicas) o si existe un mercado secundario (usados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nocimiento o entrenamiento específico de mar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prendizaje de un nevo sistem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ncluye costos directos y pérdida de productividad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iende a aumentar con el tiemp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jemplo clásico: casi cualquier softwar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689D-8138-4A05-A4E2-F1019B0E116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formación y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HW y SW usado para almacenar inform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nvertir data en un nuevo forma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iende a aumentar con el tempo al crecer la da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jemplos clásicos: Vinilo - CD; VHS - Laserdisc - DVD …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Books (adobe vs microsoft),  eMusic (Real vs microsoft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veedores especializ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Búsqueda de nuevos proveedores que cumplan requerimiento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stos de búsque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promisos contractu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ultas o compensac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gramas de fidelidad y lealtad de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Lock-in artificial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sto: necesidad de construir confianza como usuario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 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B22D-BB14-4CE2-B3C9-4D3DA1D93D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El ciclo de Lock-i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2057400"/>
            <a:ext cx="241632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4572000"/>
            <a:ext cx="241632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ntrañ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3348000"/>
            <a:ext cx="188280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Lock-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3348000"/>
            <a:ext cx="188280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4" idx="3"/>
            <a:endCxn id="207" idx="0"/>
          </p:cNvCxnSpPr>
          <p:nvPr/>
        </p:nvCxnSpPr>
        <p:spPr>
          <a:xfrm>
            <a:off x="5769000" y="2212560"/>
            <a:ext cx="1116720" cy="11358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09" name=""/>
          <p:cNvCxnSpPr>
            <a:stCxn id="207" idx="2"/>
            <a:endCxn id="205" idx="3"/>
          </p:cNvCxnSpPr>
          <p:nvPr/>
        </p:nvCxnSpPr>
        <p:spPr>
          <a:xfrm rot="5400000">
            <a:off x="5791320" y="3634560"/>
            <a:ext cx="1070640" cy="11167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205" idx="1"/>
            <a:endCxn id="206" idx="2"/>
          </p:cNvCxnSpPr>
          <p:nvPr/>
        </p:nvCxnSpPr>
        <p:spPr>
          <a:xfrm rot="10800000">
            <a:off x="2235960" y="3656880"/>
            <a:ext cx="1116720" cy="10706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206" idx="0"/>
            <a:endCxn id="204" idx="1"/>
          </p:cNvCxnSpPr>
          <p:nvPr/>
        </p:nvCxnSpPr>
        <p:spPr>
          <a:xfrm flipH="1" flipV="1" rot="5400000">
            <a:off x="2226960" y="2221920"/>
            <a:ext cx="1135800" cy="11167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ECBA3-8A0F-4716-B46A-569F6104C60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stos de Camb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stos de búsqueda (searching cost): costos de transacción de buscar un nuevo provee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sto de cambio = costo de búsqueda + costo de evaluación (para elegir) + costo de desechar proveedor act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mplo: Reemplazo de VHS por DV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valuar razones por las que se desea / requiere el camb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prender sobre DVD (características, ventajas, etc.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prender sobre los distintos proveedores de DV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legir un proveedor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osiblemente comprar un nuevo TV por la conexión coaxial del antigu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Dejar de ver algunas películas que sólo están disponibles en VHS (costo social de no poder opinar en alguna reunión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F5C6-B5E6-4D48-BAB4-FF24C6DB377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Objetivo d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2520"/>
            <a:ext cx="77724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egar herramientas para el análisis formal de las diferentes opciones de uso de Internet en los negoci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Entender los cambios que Internet está causando en el mundo de los negocio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Permitir  la toma de decisiones de marketing estratégico en el uso de Internet en la empresa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4946-E492-4D1E-921D-568CBFB824E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jemplos de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 y Costos de Camb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Bay, Half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istema de reputación de usuarios (rating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eBay: 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Half.com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maz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rvicio al cl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Uso de perfil de usuario y actividades pasadas para recomendacio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D46F-0FB9-4C22-9646-A43B2A253FC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Ley de Metcalfe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el valor de una red es proporcional al cuadrado del número de usuarios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876e7"/>
                </a:solidFill>
                <a:latin typeface="Verdana"/>
              </a:rPr>
              <a:t>n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 usuar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: valor que tiene para un usuario cualquiera que haya otro usuario en la re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: Valor total de la re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 = (# usuarios)*(valor por usuario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por usuario = (n – 1)v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de la red = n(n-1) v = (n</a:t>
            </a:r>
            <a:r>
              <a:rPr b="0" lang="es-MX" sz="2000" spc="-1" strike="noStrike" baseline="30000">
                <a:solidFill>
                  <a:srgbClr val="6876e7"/>
                </a:solidFill>
                <a:latin typeface="Verdana"/>
              </a:rPr>
              <a:t>2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 – n)v ~ n</a:t>
            </a:r>
            <a:r>
              <a:rPr b="0" lang="es-MX" sz="2000" spc="-1" strike="noStrike" baseline="30000">
                <a:solidFill>
                  <a:srgbClr val="6876e7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438120" y="5867280"/>
            <a:ext cx="695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* F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undador de 3com e inventor del protocolo de comunicación de redes 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3397-2CC7-4C87-AFEF-C303562A867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4190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V = número de comunicaciones que se pueden realizar en un r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n: número de usuarios de la r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5333400" y="2576520"/>
            <a:ext cx="56268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09480" y="2590920"/>
          <a:ext cx="1524240" cy="259056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7694640" y="4253040"/>
            <a:ext cx="56340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42160" y="4176720"/>
            <a:ext cx="56340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7440" y="2347920"/>
            <a:ext cx="56340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1" idx="7"/>
            <a:endCxn id="225" idx="1"/>
          </p:cNvCxnSpPr>
          <p:nvPr/>
        </p:nvCxnSpPr>
        <p:spPr>
          <a:xfrm flipV="1">
            <a:off x="5811840" y="2418480"/>
            <a:ext cx="1510560" cy="2293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3"/>
            <a:endCxn id="221" idx="5"/>
          </p:cNvCxnSpPr>
          <p:nvPr/>
        </p:nvCxnSpPr>
        <p:spPr>
          <a:xfrm flipH="1">
            <a:off x="5811480" y="2709360"/>
            <a:ext cx="1510560" cy="2293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1" idx="3"/>
            <a:endCxn id="224" idx="2"/>
          </p:cNvCxnSpPr>
          <p:nvPr/>
        </p:nvCxnSpPr>
        <p:spPr>
          <a:xfrm>
            <a:off x="5416560" y="2938320"/>
            <a:ext cx="527760" cy="14565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4" idx="1"/>
            <a:endCxn id="221" idx="4"/>
          </p:cNvCxnSpPr>
          <p:nvPr/>
        </p:nvCxnSpPr>
        <p:spPr>
          <a:xfrm flipH="1" flipV="1">
            <a:off x="5614560" y="2998440"/>
            <a:ext cx="411840" cy="12499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4" idx="7"/>
            <a:endCxn id="223" idx="1"/>
          </p:cNvCxnSpPr>
          <p:nvPr/>
        </p:nvCxnSpPr>
        <p:spPr>
          <a:xfrm>
            <a:off x="6420960" y="4248000"/>
            <a:ext cx="1358280" cy="76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3" idx="3"/>
            <a:endCxn id="224" idx="5"/>
          </p:cNvCxnSpPr>
          <p:nvPr/>
        </p:nvCxnSpPr>
        <p:spPr>
          <a:xfrm flipH="1" flipV="1">
            <a:off x="6420600" y="4538520"/>
            <a:ext cx="1358280" cy="76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5" idx="5"/>
            <a:endCxn id="223" idx="0"/>
          </p:cNvCxnSpPr>
          <p:nvPr/>
        </p:nvCxnSpPr>
        <p:spPr>
          <a:xfrm>
            <a:off x="7716600" y="2709720"/>
            <a:ext cx="261000" cy="155520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3" idx="7"/>
            <a:endCxn id="225" idx="6"/>
          </p:cNvCxnSpPr>
          <p:nvPr/>
        </p:nvCxnSpPr>
        <p:spPr>
          <a:xfrm flipH="1" flipV="1">
            <a:off x="7798680" y="2565000"/>
            <a:ext cx="375480" cy="1759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21" idx="5"/>
            <a:endCxn id="223" idx="1"/>
          </p:cNvCxnSpPr>
          <p:nvPr/>
        </p:nvCxnSpPr>
        <p:spPr>
          <a:xfrm>
            <a:off x="5811840" y="2938320"/>
            <a:ext cx="1967760" cy="13867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3" idx="0"/>
            <a:endCxn id="221" idx="6"/>
          </p:cNvCxnSpPr>
          <p:nvPr/>
        </p:nvCxnSpPr>
        <p:spPr>
          <a:xfrm flipH="1" flipV="1">
            <a:off x="5893920" y="2793600"/>
            <a:ext cx="2083680" cy="14709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5" idx="3"/>
            <a:endCxn id="224" idx="0"/>
          </p:cNvCxnSpPr>
          <p:nvPr/>
        </p:nvCxnSpPr>
        <p:spPr>
          <a:xfrm flipH="1">
            <a:off x="6224040" y="2709720"/>
            <a:ext cx="1097640" cy="14788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4" idx="7"/>
            <a:endCxn id="225" idx="4"/>
          </p:cNvCxnSpPr>
          <p:nvPr/>
        </p:nvCxnSpPr>
        <p:spPr>
          <a:xfrm flipV="1">
            <a:off x="6421320" y="2769480"/>
            <a:ext cx="1099440" cy="1478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1607040" y="345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7040" y="3886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41160" y="4329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29200" y="474336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-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8077320" y="601992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8534520" y="60199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4910-A5A4-4145-BB3E-629B252DAD3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osto de adquisición de 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r qué pagar por adquirir un cliente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d de n-1 usuar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de la red para usuarios n: (n-1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que aporta a la red el usuario n: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2n - 1 &gt; n – 1, entonc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l valor que agrega a la red la incorporación de un usuario es mayor que el valor que entrega la red a ese usuar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971800" y="3352680"/>
                <a:ext cx="29718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84A6-88C9-44F9-962C-2C0BFC08EB7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Ley de disrup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ientras no se alcance una masa crítica de usuarios, un cambio tecnológico sólo afecta la tecnología; cuando esa masa crítica se logra, se producen cambios en los sistemas económicos, políticos y sociales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3A45-F6D4-4A98-A778-5A7FB7A7815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Teléfon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1 o 2 usuarios son de dudosa util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Durante mucho tiempo se mejoró la tecnología sobretodo para lograr la comunicación a través de los tableros de conex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ólo en 1931 se incorpora un discador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nternet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1961 – 1993: desarrollo de tecnología y aplicaci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1993: 2.5 millones de hosts conectado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39BF-18C1-480C-9ACF-D1905D034C3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ey de Metcalfe en rever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mpedir el crecimiento de la red para generar lock-i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jempl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OL IM: evitar que usuarios de MS y Yahoo! Se comuniquen con clientes AOL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Universal Studios: prohibe que sitios de películas hagan links a sus sinópsis y contenid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niciativas de construir murallas alrededor debieran fracasar debido a la ley de Metcalf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egún esta ley, las redes grandes siempre ganarán a las pequeñas, aun cuando las pequeñas tengan una ventaja inicia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nternet, al ser la más grande de las redes, debiera ganar sobre cualquier otra red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6927-4331-4359-AB15-A3D74908F80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Uso de la ley en reversa para determinar el efecto de particionar re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Valor de la red: V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d se divide en N partes igua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w = Valor de cada mini-red: 1/N</a:t>
            </a:r>
            <a:r>
              <a:rPr b="0" lang="es-MX" sz="2400" spc="-1" strike="noStrike" baseline="30000">
                <a:solidFill>
                  <a:srgbClr val="6876e7"/>
                </a:solidFill>
                <a:latin typeface="Verdana"/>
              </a:rPr>
              <a:t>2 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veces V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Hay N mini-redes de igual valo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Valor total de las N mini-redes sumad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d181e"/>
                </a:solidFill>
                <a:latin typeface="Verdana"/>
              </a:rPr>
              <a:t>N*(1/N</a:t>
            </a:r>
            <a:r>
              <a:rPr b="0" lang="es-MX" sz="2800" spc="-1" strike="noStrike" baseline="30000">
                <a:solidFill>
                  <a:srgbClr val="ed181e"/>
                </a:solidFill>
                <a:latin typeface="Verdana"/>
              </a:rPr>
              <a:t>2</a:t>
            </a:r>
            <a:r>
              <a:rPr b="0" lang="es-MX" sz="2800" spc="-1" strike="noStrike">
                <a:solidFill>
                  <a:srgbClr val="ed181e"/>
                </a:solidFill>
                <a:latin typeface="Verdana"/>
              </a:rPr>
              <a:t>)*V = (1/N) * V</a:t>
            </a:r>
            <a:endParaRPr b="0" lang="en-US" sz="2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14DB-D220-457B-9C64-50817A051EB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mplo: Mensajeros Instantáne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1 sólo provee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600.000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horro en teléfono:  $5 por cada mensaje eviado a otro usu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ada usuario envía mensaje sólo a 20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1800" spc="-1" strike="noStrike" baseline="-25000">
                <a:solidFill>
                  <a:srgbClr val="6876e7"/>
                </a:solidFill>
                <a:latin typeface="Verdana"/>
              </a:rPr>
              <a:t>1 sólo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 = 600.000 X 5 X 20 = $60.0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i existen 5 proveedores no compatibles con 120.000 usuarios cada uno, con 1/5 de sus conocidos compartiendo la red )sólo puede enviar mesnaje a 4 de sus conocid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w</a:t>
            </a:r>
            <a:r>
              <a:rPr b="0" lang="es-MX" sz="1800" spc="-1" strike="noStrike" baseline="-25000">
                <a:solidFill>
                  <a:srgbClr val="6876e7"/>
                </a:solidFill>
                <a:latin typeface="Verdana"/>
              </a:rPr>
              <a:t>cada una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 = 120.000 X 5 X 4 = 2.4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1800" spc="-1" strike="noStrike" baseline="-25000">
                <a:solidFill>
                  <a:srgbClr val="6876e7"/>
                </a:solidFill>
                <a:latin typeface="Verdana"/>
              </a:rPr>
              <a:t>de las 5 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= 5 x 2.400.000 = $12.0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érdida social: $48.0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F416-BF98-4A54-A439-DC1C46A90DB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Generalmente 2 sub-re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Usuarios, clientes o demandant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Proveedo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Radiotaxi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Compraventa de autos o propiedad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eMarketplac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afí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Capacidad de generar las 2 sub-redes simultáneament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Escalabilidad y masa crític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1129-F8D5-42E9-81BC-557D52FB604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eguntas que se podrán contestar al finalizar 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omo evaluar con rigurosidad y método los modelos de negocio de una compañía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Por qué y dónde fallaron los modelos de muchas compañías de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formas de comunicación son más apropiadas para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ómo fijar precios de bienes digitales y de informació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ómo diferenciarse en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ómo lograr ventajas competitivas sustentables en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tipos de conflictos pueden surgir con la implementación de modelos de Internet y cómo resolverl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E00D-E30E-4CE2-8D88-7E444EAB2678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xternalidades de redes y modelos de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aso Zoomera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roducto: servicio para realizar encuestas con herramientas de análisis onlin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mpresas: Acceso a poblaciones muestrales con alto grado de perfilamien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Usuarios: Posibilidad de realizar encuestas sencillas a cambio de perfile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aso ZipRealty y Habita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Oferentes: sistema de Back-office y administración de propiedade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Demandantes: información útil para decidir sobre propiedades, asesoría inmobiliaria, servicio de visita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A620-E5F7-4DAF-9B7B-8CCD28CC94B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tros ejempl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otencial de negocio de los eMarketpla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Iconstruye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Secontruye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Senegocia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Artiko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Merconet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Laboru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Farox, AyL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9C9AE-EE7F-48F7-ACDF-0006FF09C3A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des y feedback pos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egunt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ómo aprovechar las externalidades de rede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ómo comenzar el feedback positivo? 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omo romper la inercia de los consumidore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omo crear una buena razón para cambiar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0384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5791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0080" y="5791320"/>
            <a:ext cx="177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Valor Agregado total a la Indust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4343400"/>
            <a:ext cx="30477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3807360" y="4613760"/>
            <a:ext cx="18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articipación del Valor de la Indust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67640" y="404496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80720" y="549288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Ap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00200" y="40384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5791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4280" y="579132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Desempeñ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680" y="4343400"/>
            <a:ext cx="30470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795960" y="4482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Compatib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25760" y="40449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Ev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35960" y="549288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Rev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0840" y="450216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Opt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4800600"/>
            <a:ext cx="1143000" cy="9907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62760" y="476712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1321-61B5-446E-AC01-CFA405EF19AA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esempeño (performance) versus compati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strategia de Revolución asociada al desempeñ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Revolución ofrece mejoras en el desempeño / calidad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strategia de Evolución asociada a la compatibil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Evolución ofrece una ruta de migración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ertura versus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C: IBM, Intel Pentium, Microsoft D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Beta versus VH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cordar que el objetivo es maximizar el valor de la nueva tecnología y no el control sobre ell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des y feedback pos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0A20-A661-4D92-9323-70DE382C184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des y feedback pos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04920" y="2666880"/>
          <a:ext cx="8534160" cy="2424240"/>
        </p:xfrm>
        <a:graphic>
          <a:graphicData uri="http://schemas.openxmlformats.org/drawingml/2006/table">
            <a:tbl>
              <a:tblPr/>
              <a:tblGrid>
                <a:gridCol w="2590560"/>
                <a:gridCol w="3265560"/>
                <a:gridCol w="267804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er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ti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gración control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Windows 98, Intel Pentium I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gración abie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modem y fa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emp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erforman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uesta al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Nintendo, Palm Pilot, Iomega ZI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ontin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CD, DV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0E8B-9D1B-43D9-B186-60FD3810763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Hacia la creación de un standar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os tácticas bás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nticipa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provecar feedback positiv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prender por experiencia (curva de aprendizaje) reduce cost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xternalidades de rede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dministración de expectativ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laves cuando la decisión de compra depende de lo que los clientes esperan que suced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omunicacíon predatori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Lanzar a tiemp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7B1B-BA16-4C4C-8B08-7F7CABEEA41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447920" y="2666880"/>
          <a:ext cx="7162560" cy="2665440"/>
        </p:xfrm>
        <a:graphic>
          <a:graphicData uri="http://schemas.openxmlformats.org/drawingml/2006/table">
            <a:tbl>
              <a:tblPr/>
              <a:tblGrid>
                <a:gridCol w="2209680"/>
                <a:gridCol w="2705040"/>
                <a:gridCol w="2247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olución R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olución versus revolu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olución versus Evolu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olución R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3657600" y="2181240"/>
            <a:ext cx="493704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Tecnología 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20520" y="3925440"/>
            <a:ext cx="1981080" cy="825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Tecnología Pr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Hacia la creación de un standar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5145-6C8E-4FE1-A394-1E7974B37A0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efinir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431640" y="365760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4" y="0"/>
                </a:lnTo>
                <a:lnTo>
                  <a:pt x="21600" y="10800"/>
                </a:lnTo>
                <a:lnTo>
                  <a:pt x="20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1640" y="397656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1640" y="429588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política y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11880" y="2739960"/>
            <a:ext cx="103320" cy="917640"/>
          </a:xfrm>
          <a:custGeom>
            <a:avLst/>
            <a:gdLst>
              <a:gd name="textAreaLeft" fmla="*/ 0 w 103320"/>
              <a:gd name="textAreaRight" fmla="*/ 37440 w 103320"/>
              <a:gd name="textAreaTop" fmla="*/ 23760 h 917640"/>
              <a:gd name="textAreaBottom" fmla="*/ 89388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11880" y="3654360"/>
            <a:ext cx="103320" cy="993960"/>
          </a:xfrm>
          <a:custGeom>
            <a:avLst/>
            <a:gdLst>
              <a:gd name="textAreaLeft" fmla="*/ 0 w 103320"/>
              <a:gd name="textAreaRight" fmla="*/ 37440 w 103320"/>
              <a:gd name="textAreaTop" fmla="*/ 25920 h 993960"/>
              <a:gd name="textAreaBottom" fmla="*/ 968040 h 9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28880" y="2895480"/>
            <a:ext cx="11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0960" y="3863880"/>
            <a:ext cx="14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70280" y="273672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1640" y="2743200"/>
            <a:ext cx="1828800" cy="9208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846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omun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990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mp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nt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38680" y="2743200"/>
            <a:ext cx="1295640" cy="9208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valu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1943280" y="876240"/>
            <a:ext cx="304560" cy="3276720"/>
          </a:xfrm>
          <a:custGeom>
            <a:avLst/>
            <a:gdLst>
              <a:gd name="textAreaLeft" fmla="*/ 0 w 304560"/>
              <a:gd name="textAreaRight" fmla="*/ 109800 w 30456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5005440" y="1118880"/>
            <a:ext cx="276120" cy="2819160"/>
          </a:xfrm>
          <a:custGeom>
            <a:avLst/>
            <a:gdLst>
              <a:gd name="textAreaLeft" fmla="*/ 0 w 276120"/>
              <a:gd name="textAreaRight" fmla="*/ 99720 w 2761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5520" y="194940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34000" y="1949400"/>
            <a:ext cx="26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2421000"/>
            <a:ext cx="4248360" cy="1439640"/>
          </a:xfrm>
          <a:prstGeom prst="ellipse">
            <a:avLst/>
          </a:prstGeom>
          <a:noFill/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5586-8424-4032-8E90-615EAD69F1F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para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1763640" y="2276640"/>
            <a:ext cx="4500720" cy="1981080"/>
          </a:xfrm>
          <a:custGeom>
            <a:avLst/>
            <a:gdLst>
              <a:gd name="textAreaLeft" fmla="*/ 0 w 4500720"/>
              <a:gd name="textAreaRight" fmla="*/ 4501080 w 450072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(de mercad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 mejor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 cambi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 integr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08698-F561-40D5-A0C7-06D367CC416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Análisis a “2 bandas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3285360" y="1486080"/>
            <a:ext cx="2539800" cy="580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ROPUESTA DE NEG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RELIMIN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1413000"/>
            <a:ext cx="1944360" cy="211752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Set de beneficios para sub-red de ofer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77080" y="1413000"/>
            <a:ext cx="1944720" cy="211752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Set de beneficios para sub-red de demand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9000000">
            <a:off x="2267640" y="1844280"/>
            <a:ext cx="790920" cy="360360"/>
          </a:xfrm>
          <a:custGeom>
            <a:avLst/>
            <a:gdLst>
              <a:gd name="textAreaLeft" fmla="*/ 98640 w 790920"/>
              <a:gd name="textAreaRight" fmla="*/ 692280 w 790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2400" y="3573360"/>
            <a:ext cx="140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Análisis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Lado de la ofe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52400" y="3573360"/>
            <a:ext cx="163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Análisis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Lado de la dem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rot="12600000">
            <a:off x="6084000" y="1917360"/>
            <a:ext cx="791280" cy="360360"/>
          </a:xfrm>
          <a:custGeom>
            <a:avLst/>
            <a:gdLst>
              <a:gd name="textAreaLeft" fmla="*/ 98640 w 791280"/>
              <a:gd name="textAreaRight" fmla="*/ 692640 w 791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77960" y="3502080"/>
            <a:ext cx="2187720" cy="580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MODELO DE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(Propuesta de Val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16200000">
            <a:off x="3957120" y="2096280"/>
            <a:ext cx="1213560" cy="1365120"/>
          </a:xfrm>
          <a:custGeom>
            <a:avLst/>
            <a:gdLst>
              <a:gd name="textAreaLeft" fmla="*/ 151560 w 1213560"/>
              <a:gd name="textAreaRight" fmla="*/ 1062000 w 1213560"/>
              <a:gd name="textAreaTop" fmla="*/ 341280 h 1365120"/>
              <a:gd name="textAreaBottom" fmla="*/ 1023840 h 1365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Análisis de oportun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 rot="10800000">
            <a:off x="2267280" y="3643920"/>
            <a:ext cx="790920" cy="360360"/>
          </a:xfrm>
          <a:custGeom>
            <a:avLst/>
            <a:gdLst>
              <a:gd name="textAreaLeft" fmla="*/ 98640 w 790920"/>
              <a:gd name="textAreaRight" fmla="*/ 692280 w 790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 rot="10711800">
            <a:off x="6086520" y="3643920"/>
            <a:ext cx="790560" cy="360360"/>
          </a:xfrm>
          <a:custGeom>
            <a:avLst/>
            <a:gdLst>
              <a:gd name="textAreaLeft" fmla="*/ 98640 w 790560"/>
              <a:gd name="textAreaRight" fmla="*/ 691920 w 7905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4920" y="5540400"/>
            <a:ext cx="2592360" cy="4809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Oferta ef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rot="16200000">
            <a:off x="3995640" y="3429000"/>
            <a:ext cx="1152720" cy="273672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684000 h 2736720"/>
              <a:gd name="textAreaBottom" fmla="*/ 205272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Impleme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66B2-CC84-4F7D-A6AB-6B8766026F5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eguntas que NO se podrán contestar con este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omo diseñar páginas web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significa web, http, www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es o como se programa en html, java, flash, javascrip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diferencia hay entre Explorer o Netscap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ómo decidir entre Microsoft, SUN, Oracle, Syba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as otras de corte tecnológ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071C-399B-4608-BF8C-BFD377785BE2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Pregun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Qué modelo utilizar para el análisis de oportunidades (de mercado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Es el análisis diferente en la economía de la informació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Cómo identificamos necesidades no cubiertas o sub-satisfech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 donde provienen los recursos para entregar los beneficios de la oferta propuest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o determinamos el atractivo de la oportunida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E87A-91A0-4215-99CA-C18CC90A741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iagnosticar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Oportunidades de Mercad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1630440" y="1523520"/>
            <a:ext cx="576108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Identificar oportunidad en sistema de valor existente o nue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39800" y="2136960"/>
            <a:ext cx="57657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Descubrir nucleo de la oportunidad: necesidades no cubiertas o sub-satisfec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39800" y="2976120"/>
            <a:ext cx="57657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Identificar segmento objetivo (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39800" y="3584880"/>
            <a:ext cx="57657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Identificar los recursos de la compañía necesarios para tomar una posición ventaj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33680" y="4422960"/>
            <a:ext cx="57657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Determinar atractivo competitivo, tecnológico y financiero de la 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39800" y="5262120"/>
            <a:ext cx="57657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Tomar decisión de IR / NO 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0" idx="2"/>
            <a:endCxn id="331" idx="0"/>
          </p:cNvCxnSpPr>
          <p:nvPr/>
        </p:nvCxnSpPr>
        <p:spPr>
          <a:xfrm>
            <a:off x="4511160" y="1836360"/>
            <a:ext cx="11880" cy="29268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31" idx="2"/>
            <a:endCxn id="332" idx="0"/>
          </p:cNvCxnSpPr>
          <p:nvPr/>
        </p:nvCxnSpPr>
        <p:spPr>
          <a:xfrm>
            <a:off x="4522320" y="2665080"/>
            <a:ext cx="1080" cy="3056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2" idx="2"/>
            <a:endCxn id="333" idx="0"/>
          </p:cNvCxnSpPr>
          <p:nvPr/>
        </p:nvCxnSpPr>
        <p:spPr>
          <a:xfrm>
            <a:off x="4522320" y="3289320"/>
            <a:ext cx="1080" cy="2880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33" idx="2"/>
            <a:endCxn id="334" idx="0"/>
          </p:cNvCxnSpPr>
          <p:nvPr/>
        </p:nvCxnSpPr>
        <p:spPr>
          <a:xfrm flipH="1">
            <a:off x="4515840" y="4113000"/>
            <a:ext cx="6840" cy="3020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4" idx="2"/>
            <a:endCxn id="335" idx="0"/>
          </p:cNvCxnSpPr>
          <p:nvPr/>
        </p:nvCxnSpPr>
        <p:spPr>
          <a:xfrm>
            <a:off x="4516200" y="4951080"/>
            <a:ext cx="6840" cy="3056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DE5C-DB4C-4C46-8C77-5B01D192650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1. 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Identifica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ión de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 oport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Sistema de valor es el campo de jue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dena completa de proveedores, distribuidores, competidores, compradores e intermediario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dentificar oferta existente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Generalmente el punto de partida es la creencia o convencimiento de que algo puede ser reinventado o transformado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ctividades económicas pueden ser redireccionadas o cread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5F87-EAB9-48A0-8F7D-6136014D1BE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2. Descubrir núcleo de la oport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umentar satisfacción de los cli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rear una nueva experi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Como sab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¿qué hacen los consumidores que les produce frustración?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¿qué dejan de hacer?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¿qué puede ser mejorado, aun cuando no sea percibido por los usuarios?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scubr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Necesidades no cubiertas o insatisfech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Necesidades pobremente servid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3953-EB7B-4C9D-874D-2D839FA2C3A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3. Segmento obje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Identificación y elección de clientes prioritar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ntendimiento preliminar del atractivo de la oportun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Quienes son? ¿qué los hace atractivos? ¿qué experiencias están buscand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qué se les puede ofrec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qué cambios requeriría la organizació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CA06-43D5-433E-A343-94DB1CC8FDD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4. Recursos de la compañí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xaminar las capacidades y actividades que la organización puede utilizar para lograr la oferta en una posición ventajo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Por qué se puede gan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iferenciar los recursos críticos de aquellos menos releva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8528-771F-441F-BC73-74D515ED89A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5. Determinar atrac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nálisis de ambiente financiero, tecnológico y competitivo del merc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tractivo económico de la oportun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C829-4D6C-4087-AD87-EA8DD852E1D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Diferencias del análisis respecto a lo tradicion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mpetencia puede ocurrir a través de los límites de diferentes industr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jemplo: cars.com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ntes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hor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omparación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vista especializad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Búsqued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lasificados de El Mercuri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ompr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presentante o automotor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Financiamient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Banco, financier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Segur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ompañía de segur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puestos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presentante, taller, 10 de Juli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mpetencia a gran rapid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ejoras constantes y lanzamientos inmediat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apidez de copia de buenas prácticas obliga a ser más innovadores y creativ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Éxito ligado a alianzas y colabo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ars.com no es capaz de hacer todo lo que ofrece sol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6212-47B7-4E8A-A30D-9FF08C69AFE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Diferencias del análisis respecto a lo tradicion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umidores aún están en las primeras etapas de adop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rade-off entre facilidad de influenciarlos y resistencia al camb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istemas de valor de las industrias se reconfiguran rápid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Senegocia.com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isco, DELL, Wal-Mart y su uso de Internet B2B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Infomediación: 2 análisis en vez de un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876e7"/>
                </a:solidFill>
                <a:latin typeface="Verdana"/>
              </a:rPr>
              <a:t>lado de la ofer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876e7"/>
                </a:solidFill>
                <a:latin typeface="Verdana"/>
              </a:rPr>
              <a:t>lado de la demand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8007-3BDE-4676-8C80-EB489D41E12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Objetivo del análisis de mercad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dentificar fuentes de creación de valor o modificación (mejoramiento) de valor exist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Crear valor: “valor nuevo” en el mun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Agregar valor: “valor atrapado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8DD4-B7AA-4F4D-8E85-F9C3C212B20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Acerca d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so 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terne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 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strateg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aremos algunos conceptos de “estrategia corporativa” y “estrategias de negocios” para definir, evaluar e implementar “estrategias de Internet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 foco estará en los aspectos comerciales  y de marketing y no tecnológic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remos la distinción entre estrategia y planifica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CE6C-873D-4AD9-9337-2D622151BD47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istemas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os negocios consisten en un conjunto discreto y finito de individuos y organizaciones que realizan actividades con el objeto de entregar algún beneficio a los consumidores a través de productos o servicios y así lucrar o no lucrar de ell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as actividades integradas constituyen una “cadena de valor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s cadenas de valor que están ligadas a una industria se denomina “sistema de valor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d181e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ed181e"/>
                </a:solidFill>
                <a:latin typeface="Verdana"/>
              </a:rPr>
              <a:t>Sistema de Valor”: Interconexión de procesos y actividades dentro y a través de firmas que crean beneficios para intermediarios y consumidores fin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0C4F-2DB9-4E04-BBAF-015725C40A7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a firma y los sistemas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1760" indent="-406440">
              <a:spcBef>
                <a:spcPts val="601"/>
              </a:spcBef>
              <a:buClr>
                <a:srgbClr val="333399"/>
              </a:buClr>
              <a:buFont typeface="Verdan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rie de actividades, funciones y procedimientos que resultan en la creación de un producto o servicio final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(compra de materiales, producción, marketing, ventas, etc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333399"/>
              </a:buClr>
              <a:buFont typeface="Verdan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ctividades de soporte o complementarias para asegurar viavilidad y sustentabilidad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(planificación financiera, control de gestión reclutamiento, investigación y desarrollo, etc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901"/>
              </a:spcBef>
              <a:buClr>
                <a:srgbClr val="000000"/>
              </a:buClr>
              <a:buFont typeface="Verdana"/>
              <a:buChar char="=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d181e"/>
                </a:solidFill>
                <a:latin typeface="Verdana"/>
              </a:rPr>
              <a:t>Firma</a:t>
            </a:r>
            <a:endParaRPr b="0" lang="en-US" sz="3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04FE-4A62-4A9D-BB0E-8A249E5D417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a firma y los sistemas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l objetivo de la firma 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7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76e7"/>
                </a:solidFill>
                <a:latin typeface="Verdana"/>
              </a:rPr>
              <a:t>Reconfigurar cadenas de valor existentes para liberar Valor “Atrapado”</a:t>
            </a:r>
            <a:endParaRPr b="0" lang="en-US" sz="2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7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76e7"/>
                </a:solidFill>
                <a:latin typeface="Verdana"/>
              </a:rPr>
              <a:t>Crear beneficios inexistentes al introducir Valor “nuevo en el mundo”</a:t>
            </a:r>
            <a:endParaRPr b="0" lang="en-US" sz="2800" spc="-1" strike="noStrike">
              <a:solidFill>
                <a:srgbClr val="6876e7"/>
              </a:solidFill>
              <a:latin typeface="Verdana"/>
            </a:endParaRPr>
          </a:p>
          <a:p>
            <a:pPr marL="511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5B4C-F386-4490-94F8-CA9AD942D34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Valor “Atrapado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xistente en esencia, pero cerrado, atrapado por tradición, inercia, cultura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ene que ver con “Agregar valo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4 tip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reación de mercados más eficien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disminuyendo costos de búsqueda y transacción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senegocia.com, Habitante, Autodi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reación de sistemas de valor más eficien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Disminución o eliminación de paso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GTNexus, FedEx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acilitar acces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Laborum.com, Guru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Romper relaciones de poder de precios vig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Cambio de manos de los excedentes o márgen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Mysimon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DADF-9ABB-4199-97E5-7F7310198CE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Valor “Nuevo en el mundo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ene que ver con “Crear Valo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5 tip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Oferta personalizada (customizada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mi.XXX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Riqueza y alcance radicalmente extendi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nstrucción de comunidades (marketing viral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Chat rooms, virtuali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ermitir colaboración remo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Buzzsaw.com</a:t>
            </a: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, </a:t>
            </a:r>
            <a:r>
              <a:rPr b="0" lang="es-MX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lanOK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troducir nuevas funcionalidades o “experiencial”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Compartir fotografías o incluso películas familiar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8CA6-BE09-438E-8EFD-565DADDCF44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dentificación de necesidades no cubiertas o sub-satisfech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imero: examinar proceso de decisión del 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Pasos que realiza hasta decidir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ién está involucrado y en que ro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Diferentes patrones seguidos por diferentes consumidore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Donde tiene lugar el proceso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Tiempo total del proceso? ¿Tiempo de cada pado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Diferentes categorías y competidores considerado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Alternativas descartadas a priori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e consumidoresno participan? ¿Por que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n algunos casos, dos o más sets de consumidores: usuarios y clientes (EMOL, CNN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CFA3-70E2-4E9D-AC35-A082F9EEE18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velando necesidades no cubiertas o sub-satisfech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Basado en el proceso de decisió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ómo sería la experiencia idea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uánto difiere (y cómo) la realidad de lo idea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uáles son los aspectos críticos de frustración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é comportamientos compensatorios identificamo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é necesidades están siendo cubiertas pero pobremente (aunque el cliente no se de cuenta)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Existen grupos que por motivos de entorno experimenten diferentes grados de satisfacción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omo puede ayudar Internet a disminuir la brecha entre la experiencia real y la idea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9858-ABF9-4378-8528-C38EC60670A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Análisis de Consumidores y Segment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¿Por que hacerl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Fundamental para desarrollar ventajas competitivas sustentab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Diferencia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Bajos cost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Foco estratégic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Permite determinar los beneficios a ofrecer (modelo de negocio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Ayuda a lograr una comunicación más efic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Lenguaj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Med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Frecuenci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D750-D5B5-4686-B35B-D992269ECB3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Análisis de Consumidores y Segment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¿Cómo hacerl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El sentido común no siempre ayu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Identificar tantas variables de segmentación como sea posibl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Descartar razonablemente las menos significativ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Realizar estudios cuantitativ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2CDD-34CC-49B7-AF45-2CD8158ADE7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egmentación y Targeting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ferenciación de consumidores respecto de variables determina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25320" y="1825560"/>
          <a:ext cx="7985160" cy="44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25560"/>
                    <a:ext cx="79851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4A8F-89B8-47CC-A0BB-ADAB7D2D984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tenidos d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conomías de Inter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nálisis de Internet como plataforma de negoci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portunidades de merc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Modelos de Nego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A18E-A923-4A88-A4EB-4D095B03B9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Requerimientos para una segmentación efectiv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>
            <a:off x="314280" y="1503360"/>
            <a:ext cx="159084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ignific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1440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Consumidores deben demostrar necesidades, aspiraciones o patrones de comportamiento que sean similares dentro de un mismo segmento y diferentes entre segment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Una distinción de segmentros entre sensibilidad al precio y buscador de calidad es significativa, pues ambos segmentos muestran un set de necesidades distinguibles</a:t>
            </a: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Una compañía debe ser capaz de alcanzar consumidores dentro de cada segmento a través de un plan de márketing efectivo y focaliza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Una segementación consistente en consumidores con ojos café no es accionable, pues es difícil identificar y alcanzar sólo esos consumidores</a:t>
            </a: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egmentos deben ser suficientemente grandes y rentables para justificar las inversiones necesarias en servirl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Un sitio llamado myCFO.com está orientado a individuos con altos ingresos o riqueza, para manejar sus portafolios de inversión. Aún cuando el número de esos individuos no es muy grande, el tamaño en $ es considerable, constituyendo un segmento sustancial</a:t>
            </a: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Características básicas de los segmentos (tamaño, patrón de gasto, etc.) deben ser fáciles de me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"/>
          <p:cNvSpPr/>
          <p:nvPr/>
        </p:nvSpPr>
        <p:spPr>
          <a:xfrm>
            <a:off x="314280" y="2847960"/>
            <a:ext cx="159084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ccio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960" y="4038480"/>
            <a:ext cx="159084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sta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5362560"/>
            <a:ext cx="159048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ed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588C-C075-4D8E-8597-4DA1B527F819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egmentación basada en neces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sumidores y negocios compran bienes y servicios porque satisfacen sus neces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mismo producto puede satisfacer diferentes necesidades; una persona podría comprar pastillas de menta para refrescar su aliento, porque disfruta su sabor o porque le ayuda a dejar de fum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segmentación basada en necesidades busca entender por qué una compra es realizada (es decir, que necesidad está siendo satisfecha) y para dividir el mercado en grupos de compradores cuyas necesidades son homogéne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segmentación basada en necesidades es particularmente útil para compañías de tecnología porque previene el desarrollo de nuevos productos o capacidades tecnológicas sólo porque es posible o porque son “cool”, pero posiblemente innecesari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A741-DE73-4419-9CB0-9D7D2EAB7AA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Determinación del atractivo compet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tensidad competi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antidad de competidor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ortalezas y debilidades en la entrega de benefici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inamicas de cli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Nivel de insatisfacción de necesidad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agnitud de las oportunidad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Nivel de interacción entre segmentos principal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asa de crecimiento esperad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ulnerabilidad tecnológ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mpacto de penetración de tecnologías necesarias para la entrega de los beneficios de la ofer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mpacto de nuevas tecnologías en la propuesta de valor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spectos microeconó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amaño y volumen del merca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Nivel de rentabil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4928-A744-45E8-A5BF-BFA7A55084A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egmentación para el negocio de Viaj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884160" y="1782720"/>
          <a:ext cx="795996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782720"/>
                    <a:ext cx="795996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3216240" y="180432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20040" y="1984320"/>
            <a:ext cx="107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01600" y="5572080"/>
            <a:ext cx="2100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Group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93680" y="3532320"/>
            <a:ext cx="898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bajos, No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93680" y="4535640"/>
            <a:ext cx="8985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alto /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6840" y="1817640"/>
            <a:ext cx="21081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89000" y="2585880"/>
            <a:ext cx="2131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tudi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89000" y="3075120"/>
            <a:ext cx="21319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11440" y="1798560"/>
            <a:ext cx="1449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pósito del Vi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2133720"/>
            <a:ext cx="8985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095480" y="2271600"/>
            <a:ext cx="900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Qu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39920" y="3132000"/>
            <a:ext cx="209736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604960"/>
            <a:ext cx="10015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30560" y="2627280"/>
            <a:ext cx="102384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 de ver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30560" y="5670720"/>
            <a:ext cx="418464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en gru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24480" y="2619360"/>
            <a:ext cx="1020960" cy="29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Todos los o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30560" y="3638520"/>
            <a:ext cx="102060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11640" y="2629080"/>
            <a:ext cx="102060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sita a papá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30560" y="4129200"/>
            <a:ext cx="102060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Otros 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30560" y="4626000"/>
            <a:ext cx="102060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3635280"/>
            <a:ext cx="1020600" cy="9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capad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moción u of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65720" y="2619360"/>
            <a:ext cx="982800" cy="29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ltimo Minu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(fiesta sorpres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uerte famili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41720" y="4627440"/>
            <a:ext cx="2097000" cy="933480"/>
          </a:xfrm>
          <a:custGeom>
            <a:avLst/>
            <a:gdLst/>
            <a:ahLst/>
            <a:rect l="l" t="t" r="r" b="b"/>
            <a:pathLst>
              <a:path w="1437" h="661">
                <a:moveTo>
                  <a:pt x="738" y="308"/>
                </a:moveTo>
                <a:lnTo>
                  <a:pt x="738" y="0"/>
                </a:lnTo>
                <a:lnTo>
                  <a:pt x="1437" y="0"/>
                </a:lnTo>
                <a:lnTo>
                  <a:pt x="1437" y="661"/>
                </a:lnTo>
                <a:lnTo>
                  <a:pt x="0" y="661"/>
                </a:lnTo>
                <a:lnTo>
                  <a:pt x="0" y="341"/>
                </a:lnTo>
                <a:lnTo>
                  <a:pt x="738" y="341"/>
                </a:lnTo>
                <a:lnTo>
                  <a:pt x="738" y="3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2577960"/>
            <a:ext cx="228600" cy="359424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-1098360" y="4244760"/>
            <a:ext cx="318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gmentación demográfica y condu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5592240" y="-1017360"/>
            <a:ext cx="180720" cy="539748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1370880"/>
            <a:ext cx="35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Oca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68320" y="5144400"/>
            <a:ext cx="136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no famili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fin de semana larg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AB75-EB9B-4B9E-8077-510F7281AF7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Número de Viajes / Segment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884160" y="1782720"/>
          <a:ext cx="795996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782720"/>
                    <a:ext cx="795996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3216240" y="180432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520040" y="1984320"/>
            <a:ext cx="107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01600" y="5572080"/>
            <a:ext cx="2100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Group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93680" y="3532320"/>
            <a:ext cx="898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bajos, No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93680" y="4535640"/>
            <a:ext cx="8985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alto /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96840" y="1817640"/>
            <a:ext cx="21081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89000" y="2585880"/>
            <a:ext cx="2131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tudi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89000" y="3075120"/>
            <a:ext cx="21319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11440" y="1798560"/>
            <a:ext cx="1449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pósito del Vi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0" y="2133720"/>
            <a:ext cx="8985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95480" y="2271600"/>
            <a:ext cx="900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Qu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39920" y="3132000"/>
            <a:ext cx="2041560" cy="425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80360" y="2604960"/>
            <a:ext cx="1001520" cy="343224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aj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30560" y="2627280"/>
            <a:ext cx="1023840" cy="4255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Estudiantes en </a:t>
            </a: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30560" y="5670720"/>
            <a:ext cx="4184640" cy="4251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ajes en gru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24480" y="2619360"/>
            <a:ext cx="1020960" cy="2936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Todos los o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30560" y="3638520"/>
            <a:ext cx="1020600" cy="425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ingr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2629080"/>
            <a:ext cx="990360" cy="4251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sita a papá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30560" y="4129200"/>
            <a:ext cx="1020600" cy="4251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 ingresos ot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30560" y="4626000"/>
            <a:ext cx="1020600" cy="4255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ed / 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11640" y="3635280"/>
            <a:ext cx="969840" cy="9255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Escapad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Promoción u of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65720" y="2619360"/>
            <a:ext cx="982800" cy="2936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Ultimo Minu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(fiesta sorpres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uerte famili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41720" y="4627440"/>
            <a:ext cx="2097000" cy="933480"/>
          </a:xfrm>
          <a:custGeom>
            <a:avLst/>
            <a:gdLst/>
            <a:ahLst/>
            <a:rect l="l" t="t" r="r" b="b"/>
            <a:pathLst>
              <a:path w="1437" h="661">
                <a:moveTo>
                  <a:pt x="738" y="308"/>
                </a:moveTo>
                <a:lnTo>
                  <a:pt x="738" y="0"/>
                </a:lnTo>
                <a:lnTo>
                  <a:pt x="1437" y="0"/>
                </a:lnTo>
                <a:lnTo>
                  <a:pt x="1437" y="661"/>
                </a:lnTo>
                <a:lnTo>
                  <a:pt x="0" y="661"/>
                </a:lnTo>
                <a:lnTo>
                  <a:pt x="0" y="341"/>
                </a:lnTo>
                <a:lnTo>
                  <a:pt x="738" y="341"/>
                </a:lnTo>
                <a:lnTo>
                  <a:pt x="738" y="30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5800" y="2577960"/>
            <a:ext cx="228600" cy="359424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-1098360" y="4244760"/>
            <a:ext cx="318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gmentación demográfica y condu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5400000">
            <a:off x="5592240" y="-1017360"/>
            <a:ext cx="180720" cy="539748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62520" y="1370880"/>
            <a:ext cx="35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Oca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68320" y="5144400"/>
            <a:ext cx="136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no famili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fin de semana larg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6324480"/>
            <a:ext cx="228600" cy="152640"/>
          </a:xfrm>
          <a:prstGeom prst="rect">
            <a:avLst/>
          </a:prstGeom>
          <a:solidFill>
            <a:srgbClr val="00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48320" y="6505560"/>
            <a:ext cx="22860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6686640"/>
            <a:ext cx="228600" cy="152280"/>
          </a:xfrm>
          <a:prstGeom prst="rect">
            <a:avLst/>
          </a:prstGeom>
          <a:solidFill>
            <a:srgbClr val="99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76920" y="624780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%±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35160" y="64285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0%±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35160" y="66096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0%±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B8BD-1995-4213-BEBA-C956EBB87D6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Priorización de segmentos de Priceline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targeting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884160" y="1782720"/>
          <a:ext cx="795996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782720"/>
                    <a:ext cx="795996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3216240" y="180432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20040" y="1984320"/>
            <a:ext cx="107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01600" y="5572080"/>
            <a:ext cx="2100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Group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93680" y="3532320"/>
            <a:ext cx="898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bajos, No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93680" y="4535640"/>
            <a:ext cx="8985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alto /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96840" y="1817640"/>
            <a:ext cx="21081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089000" y="2585880"/>
            <a:ext cx="2131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tudi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89000" y="3075120"/>
            <a:ext cx="21319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11440" y="1798560"/>
            <a:ext cx="1449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pósito del Vi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0" y="2133720"/>
            <a:ext cx="8985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95480" y="2271600"/>
            <a:ext cx="900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Qu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39920" y="3132000"/>
            <a:ext cx="2041560" cy="42552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380360" y="2604960"/>
            <a:ext cx="1001520" cy="343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30560" y="2627280"/>
            <a:ext cx="1023840" cy="42552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studiantes en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30560" y="5670720"/>
            <a:ext cx="4184640" cy="4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en gru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324480" y="2619360"/>
            <a:ext cx="1020960" cy="29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Todos los o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130560" y="3638520"/>
            <a:ext cx="1020600" cy="42552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ingr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91120" y="2629080"/>
            <a:ext cx="990360" cy="42516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sita a papá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30560" y="4129200"/>
            <a:ext cx="1020600" cy="42516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ingresos ot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30560" y="4626000"/>
            <a:ext cx="102060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11640" y="3635280"/>
            <a:ext cx="969840" cy="92556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capad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moción u of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65720" y="2619360"/>
            <a:ext cx="982800" cy="293688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ltimo Minu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(fiesta sorpres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uerte famili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41720" y="4627440"/>
            <a:ext cx="2097000" cy="933480"/>
          </a:xfrm>
          <a:custGeom>
            <a:avLst/>
            <a:gdLst/>
            <a:ahLst/>
            <a:rect l="l" t="t" r="r" b="b"/>
            <a:pathLst>
              <a:path w="1437" h="661">
                <a:moveTo>
                  <a:pt x="738" y="308"/>
                </a:moveTo>
                <a:lnTo>
                  <a:pt x="738" y="0"/>
                </a:lnTo>
                <a:lnTo>
                  <a:pt x="1437" y="0"/>
                </a:lnTo>
                <a:lnTo>
                  <a:pt x="1437" y="661"/>
                </a:lnTo>
                <a:lnTo>
                  <a:pt x="0" y="661"/>
                </a:lnTo>
                <a:lnTo>
                  <a:pt x="0" y="341"/>
                </a:lnTo>
                <a:lnTo>
                  <a:pt x="738" y="341"/>
                </a:lnTo>
                <a:lnTo>
                  <a:pt x="738" y="30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2577960"/>
            <a:ext cx="228600" cy="359424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6200000">
            <a:off x="-1098360" y="4244760"/>
            <a:ext cx="318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gmentación demográfica y condu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5400000">
            <a:off x="5592240" y="-1017360"/>
            <a:ext cx="180720" cy="539748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62520" y="1370880"/>
            <a:ext cx="35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Oca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68320" y="5144400"/>
            <a:ext cx="136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no famili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fin de semana larg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48320" y="6324480"/>
            <a:ext cx="228600" cy="152640"/>
          </a:xfrm>
          <a:prstGeom prst="rect">
            <a:avLst/>
          </a:prstGeom>
          <a:solidFill>
            <a:srgbClr val="6876e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6505560"/>
            <a:ext cx="228600" cy="152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48120" y="624780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arget Prim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48480" y="6430320"/>
            <a:ext cx="24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prox. 45% - 55% d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50FB-1CA9-4AAD-93A6-5366E4F5B00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de perfil competitivo de Price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1371600"/>
            <a:ext cx="7440480" cy="4694400"/>
          </a:xfrm>
          <a:prstGeom prst="ellipse">
            <a:avLst/>
          </a:prstGeom>
          <a:solidFill>
            <a:srgbClr val="fee1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704960" y="1968480"/>
            <a:ext cx="5556240" cy="3500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27280" y="2492280"/>
            <a:ext cx="3711600" cy="245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1981080"/>
            <a:ext cx="690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p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2438280"/>
            <a:ext cx="672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velo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920" y="2590920"/>
            <a:ext cx="707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t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00600" y="228600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encias Off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419720" y="2057400"/>
            <a:ext cx="707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bi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48520" y="2971800"/>
            <a:ext cx="939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05400" y="3568680"/>
            <a:ext cx="1028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mpetencia Dire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74080" y="4038480"/>
            <a:ext cx="1046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mpetencia Indire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05720" y="2362320"/>
            <a:ext cx="9763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, Un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34320" y="259092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th W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324480" y="320040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16560" y="2147760"/>
            <a:ext cx="978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ras líneas aere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5562720"/>
            <a:ext cx="97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encias especializa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316560" y="2147760"/>
            <a:ext cx="978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ras líneas aere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4191120" y="25909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685800" cy="4795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5572080" y="32767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3581280" y="41911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5257800" y="39625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6"/>
          <a:stretch/>
        </p:blipFill>
        <p:spPr>
          <a:xfrm>
            <a:off x="2819520" y="3581280"/>
            <a:ext cx="685800" cy="4795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7"/>
          <a:stretch/>
        </p:blipFill>
        <p:spPr>
          <a:xfrm>
            <a:off x="3352680" y="28195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8"/>
          <a:stretch/>
        </p:blipFill>
        <p:spPr>
          <a:xfrm>
            <a:off x="4495680" y="4267080"/>
            <a:ext cx="685800" cy="4795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 rot="8069400">
            <a:off x="5676480" y="384768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8956400">
            <a:off x="3124080" y="335232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2785200">
            <a:off x="5676480" y="3085920"/>
            <a:ext cx="304560" cy="228600"/>
          </a:xfrm>
          <a:custGeom>
            <a:avLst/>
            <a:gdLst>
              <a:gd name="textAreaLeft" fmla="*/ 37800 w 304560"/>
              <a:gd name="textAreaRight" fmla="*/ 266760 w 3045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1230600">
            <a:off x="4800240" y="266688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20377800">
            <a:off x="3886200" y="266652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3919400">
            <a:off x="3238200" y="415224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11610000">
            <a:off x="4190760" y="4419360"/>
            <a:ext cx="304560" cy="228600"/>
          </a:xfrm>
          <a:custGeom>
            <a:avLst/>
            <a:gdLst>
              <a:gd name="textAreaLeft" fmla="*/ 37800 w 304560"/>
              <a:gd name="textAreaRight" fmla="*/ 266760 w 3045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0069200">
            <a:off x="5028480" y="434304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17680" y="304812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Financia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 propie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28520" y="388620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u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Nue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16480" y="449568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ruc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27840" y="29052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tick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ere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037480" y="32004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te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0640" y="3581280"/>
            <a:ext cx="60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rrien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u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37360" y="4648320"/>
            <a:ext cx="71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Vac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271480" y="434340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Lar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ista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63040" y="4419720"/>
            <a:ext cx="75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Net2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76000" y="4724280"/>
            <a:ext cx="4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T&amp;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67080" y="4876920"/>
            <a:ext cx="6908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p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72000" y="5181480"/>
            <a:ext cx="673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velo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29000" y="502920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encias Off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51480" y="3733920"/>
            <a:ext cx="65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rs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05200" y="3962520"/>
            <a:ext cx="68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utobyt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79960" y="1828800"/>
            <a:ext cx="56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Ban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34040" y="2209680"/>
            <a:ext cx="103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tras financie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33480" y="3824280"/>
            <a:ext cx="58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al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A348-D070-46EC-B3B5-3A055AA1458B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de desempeño competitivo por segmento para Price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68360" y="1341360"/>
            <a:ext cx="8292960" cy="4914720"/>
            <a:chOff x="468360" y="1341360"/>
            <a:chExt cx="8292960" cy="4914720"/>
          </a:xfrm>
        </p:grpSpPr>
        <p:graphicFrame>
          <p:nvGraphicFramePr>
            <p:cNvPr id="546" name=""/>
            <p:cNvGraphicFramePr/>
            <p:nvPr/>
          </p:nvGraphicFramePr>
          <p:xfrm>
            <a:off x="468360" y="1341360"/>
            <a:ext cx="8292960" cy="49147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1341360"/>
                      <a:ext cx="8292960" cy="491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8" name=""/>
            <p:cNvGrpSpPr/>
            <p:nvPr/>
          </p:nvGrpSpPr>
          <p:grpSpPr>
            <a:xfrm>
              <a:off x="542880" y="6019560"/>
              <a:ext cx="2116080" cy="179280"/>
              <a:chOff x="542880" y="6019560"/>
              <a:chExt cx="2116080" cy="179280"/>
            </a:xfrm>
          </p:grpSpPr>
          <p:sp>
            <p:nvSpPr>
              <p:cNvPr id="549" name=""/>
              <p:cNvSpPr/>
              <p:nvPr/>
            </p:nvSpPr>
            <p:spPr>
              <a:xfrm>
                <a:off x="542880" y="6022440"/>
                <a:ext cx="172800" cy="17280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923760" y="6019560"/>
                <a:ext cx="173520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ivel alto de desempeñ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3754440" y="3576600"/>
              <a:ext cx="320760" cy="320400"/>
            </a:xfrm>
            <a:prstGeom prst="ellipse">
              <a:avLst/>
            </a:prstGeom>
            <a:solidFill>
              <a:srgbClr val="000000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2170080" y="2300040"/>
              <a:ext cx="320760" cy="320760"/>
              <a:chOff x="2170080" y="2300040"/>
              <a:chExt cx="320760" cy="320760"/>
            </a:xfrm>
          </p:grpSpPr>
          <p:sp>
            <p:nvSpPr>
              <p:cNvPr id="553" name=""/>
              <p:cNvSpPr/>
              <p:nvPr/>
            </p:nvSpPr>
            <p:spPr>
              <a:xfrm>
                <a:off x="2170080" y="2300040"/>
                <a:ext cx="320760" cy="3207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170440" y="230004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484440" y="6019560"/>
              <a:ext cx="2116080" cy="179280"/>
              <a:chOff x="3484440" y="6019560"/>
              <a:chExt cx="2116080" cy="17928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3484440" y="6024240"/>
                <a:ext cx="172800" cy="173160"/>
                <a:chOff x="3484440" y="6024240"/>
                <a:chExt cx="172800" cy="17316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484440" y="6024240"/>
                  <a:ext cx="172800" cy="173160"/>
                </a:xfrm>
                <a:prstGeom prst="ellipse">
                  <a:avLst/>
                </a:prstGeom>
                <a:solidFill>
                  <a:srgbClr val="ffffff"/>
                </a:solidFill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484800" y="6024240"/>
                  <a:ext cx="172080" cy="172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864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86471"/>
                    </a:path>
                  </a:pathLst>
                </a:custGeom>
                <a:solidFill>
                  <a:srgbClr val="000000"/>
                </a:solidFill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3865320" y="6019560"/>
                <a:ext cx="173520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ivel medio de desempeñ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6426000" y="6019560"/>
              <a:ext cx="2116080" cy="179280"/>
              <a:chOff x="6426000" y="6019560"/>
              <a:chExt cx="2116080" cy="179280"/>
            </a:xfrm>
          </p:grpSpPr>
          <p:sp>
            <p:nvSpPr>
              <p:cNvPr id="561" name=""/>
              <p:cNvSpPr/>
              <p:nvPr/>
            </p:nvSpPr>
            <p:spPr>
              <a:xfrm>
                <a:off x="6426000" y="6022440"/>
                <a:ext cx="172800" cy="1731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06880" y="6019560"/>
                <a:ext cx="173520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ivel bajo de desempeñ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3754440" y="2300040"/>
              <a:ext cx="320760" cy="320760"/>
              <a:chOff x="3754440" y="2300040"/>
              <a:chExt cx="320760" cy="320760"/>
            </a:xfrm>
          </p:grpSpPr>
          <p:sp>
            <p:nvSpPr>
              <p:cNvPr id="564" name=""/>
              <p:cNvSpPr/>
              <p:nvPr/>
            </p:nvSpPr>
            <p:spPr>
              <a:xfrm>
                <a:off x="3754440" y="2300040"/>
                <a:ext cx="320760" cy="3207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754800" y="230004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5348160" y="2300040"/>
              <a:ext cx="320760" cy="320760"/>
              <a:chOff x="5348160" y="2300040"/>
              <a:chExt cx="320760" cy="320760"/>
            </a:xfrm>
          </p:grpSpPr>
          <p:sp>
            <p:nvSpPr>
              <p:cNvPr id="567" name=""/>
              <p:cNvSpPr/>
              <p:nvPr/>
            </p:nvSpPr>
            <p:spPr>
              <a:xfrm>
                <a:off x="5348160" y="2300040"/>
                <a:ext cx="320760" cy="3207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348520" y="230004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937200" y="2300040"/>
              <a:ext cx="320400" cy="320400"/>
              <a:chOff x="6937200" y="2300040"/>
              <a:chExt cx="320400" cy="320400"/>
            </a:xfrm>
          </p:grpSpPr>
          <p:sp>
            <p:nvSpPr>
              <p:cNvPr id="570" name=""/>
              <p:cNvSpPr/>
              <p:nvPr/>
            </p:nvSpPr>
            <p:spPr>
              <a:xfrm>
                <a:off x="6937200" y="2300040"/>
                <a:ext cx="320400" cy="32040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37560" y="2300040"/>
                <a:ext cx="319680" cy="320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2170080" y="3576600"/>
              <a:ext cx="320400" cy="320040"/>
              <a:chOff x="2170080" y="3576600"/>
              <a:chExt cx="320400" cy="320040"/>
            </a:xfrm>
          </p:grpSpPr>
          <p:sp>
            <p:nvSpPr>
              <p:cNvPr id="573" name=""/>
              <p:cNvSpPr/>
              <p:nvPr/>
            </p:nvSpPr>
            <p:spPr>
              <a:xfrm>
                <a:off x="2170080" y="357660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170440" y="357660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5348160" y="3576600"/>
              <a:ext cx="320400" cy="320040"/>
              <a:chOff x="5348160" y="3576600"/>
              <a:chExt cx="320400" cy="320040"/>
            </a:xfrm>
          </p:grpSpPr>
          <p:sp>
            <p:nvSpPr>
              <p:cNvPr id="576" name=""/>
              <p:cNvSpPr/>
              <p:nvPr/>
            </p:nvSpPr>
            <p:spPr>
              <a:xfrm>
                <a:off x="5348160" y="357660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348520" y="357660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5348160" y="4913280"/>
              <a:ext cx="320400" cy="320040"/>
              <a:chOff x="5348160" y="4913280"/>
              <a:chExt cx="320400" cy="320040"/>
            </a:xfrm>
          </p:grpSpPr>
          <p:sp>
            <p:nvSpPr>
              <p:cNvPr id="579" name=""/>
              <p:cNvSpPr/>
              <p:nvPr/>
            </p:nvSpPr>
            <p:spPr>
              <a:xfrm>
                <a:off x="5348160" y="491328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348520" y="491328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3754440" y="4913280"/>
              <a:ext cx="320760" cy="320400"/>
              <a:chOff x="3754440" y="4913280"/>
              <a:chExt cx="320760" cy="320400"/>
            </a:xfrm>
          </p:grpSpPr>
          <p:sp>
            <p:nvSpPr>
              <p:cNvPr id="582" name=""/>
              <p:cNvSpPr/>
              <p:nvPr/>
            </p:nvSpPr>
            <p:spPr>
              <a:xfrm>
                <a:off x="3754440" y="4913280"/>
                <a:ext cx="320760" cy="32040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54800" y="491328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6937200" y="3576600"/>
              <a:ext cx="320760" cy="320400"/>
              <a:chOff x="6937200" y="3576600"/>
              <a:chExt cx="320760" cy="320400"/>
            </a:xfrm>
          </p:grpSpPr>
          <p:sp>
            <p:nvSpPr>
              <p:cNvPr id="585" name=""/>
              <p:cNvSpPr/>
              <p:nvPr/>
            </p:nvSpPr>
            <p:spPr>
              <a:xfrm>
                <a:off x="6937200" y="3576600"/>
                <a:ext cx="320760" cy="32040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937560" y="357660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170080" y="4913280"/>
              <a:ext cx="320400" cy="322920"/>
              <a:chOff x="2170080" y="4913280"/>
              <a:chExt cx="320400" cy="322920"/>
            </a:xfrm>
          </p:grpSpPr>
          <p:sp>
            <p:nvSpPr>
              <p:cNvPr id="588" name=""/>
              <p:cNvSpPr/>
              <p:nvPr/>
            </p:nvSpPr>
            <p:spPr>
              <a:xfrm>
                <a:off x="2170080" y="491328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73680" y="4913280"/>
                <a:ext cx="31608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937200" y="4913280"/>
              <a:ext cx="320400" cy="322920"/>
              <a:chOff x="6937200" y="4913280"/>
              <a:chExt cx="320400" cy="322920"/>
            </a:xfrm>
          </p:grpSpPr>
          <p:sp>
            <p:nvSpPr>
              <p:cNvPr id="591" name=""/>
              <p:cNvSpPr/>
              <p:nvPr/>
            </p:nvSpPr>
            <p:spPr>
              <a:xfrm>
                <a:off x="6937200" y="491328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940800" y="4913280"/>
                <a:ext cx="31608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A4CC-0364-48AE-8EEC-2FC9644768C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Modelos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2700360" y="2133720"/>
            <a:ext cx="1608120" cy="942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¿Donde competirá el negoci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29160" y="4727520"/>
            <a:ext cx="1608120" cy="943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¿Como ganará el negoci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"/>
          <p:cNvCxnSpPr>
            <a:stCxn id="595" idx="1"/>
            <a:endCxn id="594" idx="2"/>
          </p:cNvCxnSpPr>
          <p:nvPr/>
        </p:nvCxnSpPr>
        <p:spPr>
          <a:xfrm rot="10800000">
            <a:off x="3504600" y="3075840"/>
            <a:ext cx="1024560" cy="212328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97" name=""/>
          <p:cNvCxnSpPr>
            <a:stCxn id="594" idx="3"/>
            <a:endCxn id="595" idx="0"/>
          </p:cNvCxnSpPr>
          <p:nvPr/>
        </p:nvCxnSpPr>
        <p:spPr>
          <a:xfrm>
            <a:off x="4308120" y="2604960"/>
            <a:ext cx="1026360" cy="2123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8" name=""/>
          <p:cNvSpPr/>
          <p:nvPr/>
        </p:nvSpPr>
        <p:spPr>
          <a:xfrm>
            <a:off x="1116000" y="1484280"/>
            <a:ext cx="160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nálisis de oportunidad de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227640" y="56610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os de Nego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EE75-D30C-45C2-B247-176226E2DBCA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Por que Modelos de Negocio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análisis de mercado debe responder la pregunta: ¿dónde competi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hora la pregunta es ¿cómo gan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iferencia de los modelos de empresas tradicionales, donde la respuesta está en el análisis interno, en Internet, tanto para empresas puras como para estrategias complementarias, todo modelo es nue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diseño racional y estructurado del modelo a implementar aumenta las probabilidades de éxi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F9B4-C8F3-48EF-9F93-35289D7A655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192000" y="6643800"/>
            <a:ext cx="28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Fuente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http://www.zakon.org/robert/internet/timelin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598500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1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eonard Kleinrock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del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MIT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escribe el primer paper sobre packet-switching (PS) theory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: "Information Flow in Large Communication Nets“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5451480"/>
            <a:ext cx="80773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RPA (Advanced Research Projects Agency) patrocina un estudio sobre redes corporativas para compartir computadores; Máquinas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TX-2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l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MIT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AN/FSQ-32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Santa M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ica, C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son conectados via línea telefónica dedicada de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1200bp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. Posteriormente se suma el computador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DE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de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ARPA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ara formar la “Red Experimental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51465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6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awrence G. Robert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del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MIT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escribe “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Towards a Cooperative Network of Time-Shared Computer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”, el primer plan para ARPA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6893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9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4 nodos son interconectados como parte del proyecto ARPANET a través de lineas de 50kbps de AT&amp;T: UCLA – Stanford – UCSB – University of UTA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30848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0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rimera publicación del protocolo ARPANET Host-H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5128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1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11 nodos se unen a la red;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Ray Tomlinson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nventa un software para enviar emails a través de la red, utilizando como base un programa de email inter-máquinas (SENDMSG) y un programa experimental de transferencia (CPYNET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39408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2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modifica el programa de email para ARPANET y se incorpora el símbolo @ para identificar el Host de origen; Se realiza el primer chat computador a computa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0639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3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rimera conexión internacional a ARPANET: University College of Lond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6319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4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Vint Cerf and Bob Kahn publi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n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"A Protocol for Packet Network Interconnection“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, especificando el diseño de un programa de control de transmisión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(TCP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33208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John Vittal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sarroll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MSG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l primer programa de email completo, con capacidad de respuesta, re-envio y adjuntar arch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90512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9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Kevin MacKenzie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ropone incluir emociones en los emails, utilizando el símbolo -) para denotar ironía. Esa nomenclatura se populariza rápidam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Una historia de 4 décad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37160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3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mbre de servidores desarrollados en l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Univ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Wisconsin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ermite a los usuario interconectarse sin conocer la ruta exacta a otros sistemas. ARPANET se divide en ARPANET y MILNET; 68 de los 113 nodos existentes se van a MILNET. La interconección de ambas reder se denomina INTERN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1E52-AD56-4396-BF7B-86D71AC671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ar nacimiento de una empresa hace 20 años con la implementación de una estrategia de Intern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dicional: De la realidad a la academ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et: De la academia a la rea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2ABF-7528-4CBC-8F83-B04AC89B9A9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jemplo: Flores on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Industria en USA de US$15.000 mill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Altamente fragmentado, sin marcas líderes, compleja distribución, calidad disparej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Usualmente son vendidas 10 a 12 días después de su cosech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60% compradas en las call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80% permanecen en el área donde fueron comprada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rcado On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US$350 mill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US$2.500 millones en 2004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Modelos muy simila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13DC-0C39-42A2-A47D-AD9D318F4C2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jemplo: Flores on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yores competi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FTD.com gasta US$6.1 mill mensuales y vende sólo US$2.2 mill (déficit de US$3.9 mill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1-800-flowers opera con un déficit mensual de US$22.4 mill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Gerald Stevens pierde US$17.7 mill mensualm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PC Flowers &amp; Gifts pierde US$326 mil mensula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e anda ma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l análisis de mercado predice una tremenda oportunidad para la venta de flores online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0939-D4DD-4D8B-B94A-C9206F8C07C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225960" y="171252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25960" y="27712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25960" y="380160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stema de 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25960" y="48826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porte financiero_x001d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5400000">
            <a:off x="4289760" y="2292840"/>
            <a:ext cx="496800" cy="241560"/>
          </a:xfrm>
          <a:custGeom>
            <a:avLst/>
            <a:gdLst>
              <a:gd name="textAreaLeft" fmla="*/ 77400 w 496800"/>
              <a:gd name="textAreaRight" fmla="*/ 434880 w 496800"/>
              <a:gd name="textAreaTop" fmla="*/ 60480 h 241560"/>
              <a:gd name="textAreaBottom" fmla="*/ 181440 h 241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5400000">
            <a:off x="4291560" y="336456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5400000">
            <a:off x="4291560" y="439488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01400" y="222876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REGLA Nº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6A1D-0E94-4140-AC38-008ABE15A18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Regla 1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os consumidores no les gusta el camb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consumidores son reacios al camb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nercia de los consumidores los hace contrarios al cambio (aunque no lo diga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consumidores cambian lentamente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C91A-3405-427C-9896-5B7A938768E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aso 1: Propuesta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strucción de la propuesta en 3 etap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Elección del </a:t>
            </a:r>
            <a:r>
              <a:rPr b="0" lang="es-ES_tradnl" sz="2000" spc="-1" strike="noStrike">
                <a:solidFill>
                  <a:srgbClr val="ed181e"/>
                </a:solidFill>
                <a:latin typeface="Verdana"/>
              </a:rPr>
              <a:t>segmento</a:t>
            </a: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 objetiv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7788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Debido a la capacidad de personalización de Internet, es posible elegir un “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cluster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” o grupo de segmentos objetivos en vez de uno solo (“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value-cluster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”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Elección del </a:t>
            </a:r>
            <a:r>
              <a:rPr b="0" lang="es-ES_tradnl" sz="2000" spc="-1" strike="noStrike">
                <a:solidFill>
                  <a:srgbClr val="ed181e"/>
                </a:solidFill>
                <a:latin typeface="Verdana"/>
              </a:rPr>
              <a:t>paquete de beneficios</a:t>
            </a: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 para los consumido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7788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Múltiples combinaciones de beneficios que pueden ser elegidos por los consumidore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eguntarse por qué la firma está mejor posicionada para entregar el paquete beneficios mejor que los competidores en el mismo espacio (</a:t>
            </a:r>
            <a:r>
              <a:rPr b="0" lang="es-ES_tradnl" sz="2000" spc="-1" strike="noStrike">
                <a:solidFill>
                  <a:srgbClr val="ed181e"/>
                </a:solidFill>
                <a:latin typeface="Verdana"/>
              </a:rPr>
              <a:t>capacidades únicas</a:t>
            </a: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7788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Que alianzas permiten a la firma y sus 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partners 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ntregar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os beneficios mejor que la competencia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49EE-92CD-467E-8DAB-95883DF6C17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cción de Segmento(s) objetiv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ción a partir del análisis de oportunidad de merc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s for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Atractivo del merca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Habilidad de la firma para competir en el merca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s críticas para determinar atractivo del merca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Tamaño del mercado y tasa de crecimien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Necesidades no cubiertas o insuficientemente servid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Competencia débil o inexist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DB09-7D5E-4CF6-B6D4-8E2DB33265F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Elección de paquete de beneficios:</a:t>
            </a:r>
            <a:br>
              <a:rPr sz="30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¿Propuesta simple o value-cluster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puesta simple: foco en un benefici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Alineamiento de la organiz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omunicar efectivamente al segmento objetiv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tros beneficios también se entregan, pero no se hace hincapié en la comunicación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upo de beneficios (value-clus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Qué dicen los defensores de esta aproximación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Beneficio único es un legado del mundo offline que no tiene sentido en Internet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Una URL (vitrina) permite múltiples decoraciones para múltiples segmentos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Tecnológicamente posible, pero que pasa con la comunic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Como evaluar para tomar decisiones de largo plazo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Ejemplo: Yahoo!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8307-8393-4620-B218-01024AE67EB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De cualquier manera…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(Regla 2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egir un único, simple beneficio crítico y focalizarse en é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Precio, Variedad, Despacho, Servicio al Cl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jemplos offline: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Volvo: segur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Southwest: conveniencia y bajos prec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Hoteles Four Season: Servicio sobresalient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878B-1D34-4049-986B-38FB8B6C7EF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De cualquier manera…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ección de 2 beneficios críticos genera 2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n el lado de la demanda: Confusión por mensaje ambigu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n el lado de la oferta: Diseño estratégico de sistemas para uno de los beneficios entra en conflicto con el segundo (bajo precio y rapidez de despacho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secuencia: Sistema que entrega un promedio entre B1 y B2, dejando espacio para que 2 competidores se focalicen, uno en B1 y otro en B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329F-E942-499A-A9FF-99474E82C46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03:03:23Z</dcterms:created>
  <dc:creator>Luis Felipe Troncoso</dc:creator>
  <dc:description/>
  <dc:language>en-US</dc:language>
  <cp:lastModifiedBy> </cp:lastModifiedBy>
  <dcterms:modified xsi:type="dcterms:W3CDTF">2004-03-17T19:14:50Z</dcterms:modified>
  <cp:revision>69</cp:revision>
  <dc:subject/>
  <dc:title>PowerPoint Presentation  -  IN-635 ESTRATEGIAS DE INTERNET: Un Enfoque Comercial</dc:title>
</cp:coreProperties>
</file>