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8.wmf" ContentType="image/x-wmf"/>
  <Override PartName="/ppt/media/image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7D0D-7058-43CD-9AE9-6B628B5599E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ordemos las condiciones de competencia perfec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vend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Bienes homogen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consumidores bien inform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 hay costos de búsqueda (ni de transp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Corporativ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: Define el alcance de la firma en términos de las industrias y mercados en los cuales competir. Las decisiones de estrategia corporativa incluyen inversiones en diversificación, integración vertical, adquisiciones y nuevos proyectos; alocación de recursos entre los diferentes negocios y desiciones de “des-inver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de Negoci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o estrategia competitiva se refiere a como la firma compite en una determinada industria o 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3F68-6CF3-4540-ADBA-61350C61B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C706-7A8C-422B-AD0B-61B5C0FC1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85BE-6660-4310-AAF8-84EEEFD80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12E7-73F3-4E17-96D0-395349A61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B792-F497-4244-BDB8-383EC82C61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6E07-55EB-43C3-9128-481E3A93C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8196-789E-4A26-B440-61189E6F9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41F2-BF3C-4907-8CD1-4F1556C20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B934-3337-4D42-B7C6-45F8C48A9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551D-2444-493D-B0E6-37A2E3F70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F9DA-7E9C-4498-BFF2-19F6DC030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67A9-E342-4828-9EB4-3757B853C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4840" indent="-22860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809720" indent="-32076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266920" indent="-34272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54AE-804D-4D0F-8E20-883760B9A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24852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1828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® Luis Felipe Troncoso 2002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hyperlink" Target="file:///D:/../Diplomado%20e-business/Art%2592culos/09%20Interfaz/Banco%20de%20Chile/Banco%20de%20Chile%20-%20Home.htm" TargetMode="External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D:/../IN635/Ejemplos%20web/Buzzsaw/Autodesk%20Buzzsaw.htm" TargetMode="External"/><Relationship Id="rId2" Type="http://schemas.openxmlformats.org/officeDocument/2006/relationships/hyperlink" Target="file:///D:/../IN635/Ejemplos%20web/PlanOK/Demo1.htm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57801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introduce el sistema de nombres de dominio (DNS); Hosts superan los 1.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3784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Symbolics.com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sig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15 de Marzo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iendo el primer dominio registrad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os primero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cmu.edu, purdue.edu, rice.edu, berkeley.edu, ucla.edu, rutgers.edu, bbn.com; mit.edu; think.com; css.gov; mitre.org, .u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(Jul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7293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8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.000; Se conectan a NSFNET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anada (CA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namar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K), Fin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I), Fran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R), Iceland (IS), No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g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O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uec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348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0.000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ustralia (AU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lema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E), Israel (IL), Ita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T), J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JP),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xico (MX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lan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L), 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v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Ze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Z), Puerto Rico (PR), United Kingdom (U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9672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parece ARPANET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rgentina (AR), Austria (AT), Belg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BE), Br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l (BR), Chile (CL), Gr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GR), India (IN), Ir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E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orea (KR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pañ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S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iz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H)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1102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crea NSFNET, una red orientada a la investigación y también ara desarrollo comer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52116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lanza World Wide Web (WWW)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ro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a (HR), Re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li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 Che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Z), Hong Kong (HK), Hun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r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HU), Po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PL), Portugal (PT), Sing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r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G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rica (ZA), Taiwan (TW), Tu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1399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 Mundial en linea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tartica (AQ), Came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CM), 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ipr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Y), Ecuador (EC), Estonia (EE), Kuwait (KW), Lat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LV), Luxembur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LU), Malasia (MY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SK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enia (SI), Tai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H), Venezuela (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6067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sa Blanca y Naciones Unidas online; Internet se empieza a conocer en los negocios y medios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ulgaria (BG), Costa Rica (CR), E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G), Fiji (FJ), Ghana (GH), Guam (GU), Indonesia (ID), Kazakhstan (KZ), Kenya (KE), Liechtenstein (LI), Peru (PE), 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m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ia (RO), Ru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RU), Tu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í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R), U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UA), UAE (AE), US Virgin Islands (V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255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ongreso de USA y Primer Ministro japonés online; Shopping malls comienzan a utilizar Internet; se lanza el primer banco virtual; aparece el primer banner publicitario (zima, una bebida y AT&amp;T); se regulan los spams y emails publicitarios; se puede ordenar pizza online en Hut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923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FSNET se reconvierte en una red de investigación; el tráfico comercial en USA es enrutado a través de proveedores de redes interconectadas; RealAudio permite escuchar audio a través de la red en tiempo “casi” real; aparece la primera emisora comercial online; Primeras compañía de Internet se abren a la bol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D427-3C63-4AC3-8A20-B406102C12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3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no se preocupan sólo del pre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10360" cy="37591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741680" y="6037200"/>
            <a:ext cx="26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Verdana"/>
              </a:rPr>
              <a:t>Fuente: Reporte JP Morgan: eTailing and the five 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DF73-764C-49CE-8891-43F83F2FD71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capacidades únic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or qué la firma puede entregar el beneficio o el paquete de beneficios clave significativamente mejor que la compet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interno y de las alianz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nomb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re competenci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ortalez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Recursos únic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pacidades únic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terminar la capacidad de enlazar estas capacidades únicas con los beneficios eleg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5FFD-6AEB-45AE-A8E3-B46FDCE7A70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447920" y="25732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asiones especiale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75120" y="1420920"/>
            <a:ext cx="1143000" cy="64152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cios críti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r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1627200"/>
            <a:ext cx="198108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324480" y="1587600"/>
            <a:ext cx="533520" cy="380880"/>
          </a:xfrm>
          <a:prstGeom prst="downArrow">
            <a:avLst>
              <a:gd name="adj1" fmla="val 49676"/>
              <a:gd name="adj2" fmla="val 54634"/>
            </a:avLst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22600" y="1565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68600" y="1581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99000" y="23115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Experiencia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mplia linea de product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4920" y="2425680"/>
            <a:ext cx="10051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C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amp; G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1800" y="231156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gal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jos pre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31444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C Flowers &amp; Gift sirve el segmento de ocasiones especiales a través de la oferta de flores frescas y productos complementario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5320" y="4460760"/>
            <a:ext cx="83160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T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44956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42321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municación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proveed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1800" y="4386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de fácil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9400" y="42210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TD.com provee flores finas con la forma más fácil de enviar flores gracias a su extensa red de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02640" y="1504800"/>
            <a:ext cx="10267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g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27600" y="1504800"/>
            <a:ext cx="14479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pacidades ú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0720" y="3521160"/>
            <a:ext cx="100512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ro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35053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nsible al precio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342900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uente ú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nvenio con Fe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3459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má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competi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29400" y="32004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flowers sirve el segmento sensible al precio con las flores más frescas a precios competitivos gracias a su fuente única y conevenio con FedEx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29400" y="497844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-800-flowers sirve el mercado de flores finas con una amplia variedad de regalos, flores frescas, precios razonables y fácil acceso gracias a su fuerte marca, alianzas con medios y red de franquicias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brick-and-morta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16280" y="5361120"/>
            <a:ext cx="119124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1-800-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4356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95480" y="5208480"/>
            <a:ext cx="1676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razo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ácil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52354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lianzas con me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franquicias brick-and-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puesta de Valor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B362-426E-46DA-BDFC-0A6013C35AC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2: Definición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ción en 3 et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alcance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proceso de decisión del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Hacer un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mapa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 (productos, servicios e información) en relación al proceso de decisión del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7D9F-BAF0-4512-A6FE-F3267776696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úmero de categorías de productos y servicios que se ofrec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Una sola categoría (category killer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últiples categorí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pos de alc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ategoría específica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Foco exclusivo en una categoría de productos (flores, chocolates, libros, CD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ross-category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n la capacidad de mezclar categorías radica uno de los más interesantes desarrollos de Internet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 es el ejemplo más claro. Otros son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97E7-CE32-4F38-9B15-05CE63F1CA6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3124080"/>
            <a:ext cx="36576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de “categoría específic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o en una categoría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condspin.com (CDs us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remiumOrchids.com (orquide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eapod (supermercado on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2133720"/>
            <a:ext cx="8458200" cy="609480"/>
          </a:xfrm>
          <a:prstGeom prst="leftRightArrow">
            <a:avLst>
              <a:gd name="adj1" fmla="val 55204"/>
              <a:gd name="adj2" fmla="val 422499"/>
            </a:avLst>
          </a:prstGeom>
          <a:solidFill>
            <a:srgbClr val="fafea0"/>
          </a:solidFill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Alcance es un contin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5520" y="3124080"/>
            <a:ext cx="4038480" cy="20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“Cross-Category”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us on a large number of categ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estbuy.com (electrónicos, CD, DV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1-800-flowers (f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treamline* (supermetcado, lavado en seco, neumático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57600" y="3962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44197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57600" y="4800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D6EC-5A00-41B4-A9F5-E226DE150CF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Tipos de dominio Cross-Categor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l consumidor: BabyCenter.com, Chemdex.com, ToysRU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 la cadena de abastecimiento. Productos que se agrupan naturalmente desde el punto de vista logístico y de distribu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.com: bienes físicos, inventariables, enfocados en consumidores finale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4651-E51F-4908-8514-2E67DC6C372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que agrupan naturalmente distintas categorías de bienes y servic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umidores piensan en términos de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piensan en términos de produ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tamercados son grupos de mercados de acuerdo a como se ubican en la mente de los consum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entreten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Son categorizados en Deportes favoritos / Clubs / Comida / Espectácul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O más bien en cosas que hacer con la familia, donde ir cuando el tiempo está feo o bonito, etc.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importante es que los consumidores categorizan de diferentes maneras y así, los negocios pueden categorizarse de diferentes mane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FE44-908E-48FE-84D2-144E1C445D0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590920" y="1676520"/>
            <a:ext cx="53316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2209680"/>
            <a:ext cx="1981080" cy="14479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4724280"/>
            <a:ext cx="1447920" cy="5335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66680" y="3657600"/>
            <a:ext cx="1067040" cy="3808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48320" y="2133720"/>
            <a:ext cx="1066680" cy="17524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1676520"/>
            <a:ext cx="53352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67280" y="2362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unidad de soporte y ayuda para pad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80" idx="6"/>
            <a:endCxn id="686" idx="1"/>
          </p:cNvCxnSpPr>
          <p:nvPr/>
        </p:nvCxnSpPr>
        <p:spPr>
          <a:xfrm>
            <a:off x="3138480" y="1828800"/>
            <a:ext cx="2729520" cy="65808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6008400" y="2743200"/>
            <a:ext cx="30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Venta de productos para guaguas y mater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5"/>
            <a:endCxn id="688" idx="1"/>
          </p:cNvCxnSpPr>
          <p:nvPr/>
        </p:nvCxnSpPr>
        <p:spPr>
          <a:xfrm>
            <a:off x="2513160" y="1951200"/>
            <a:ext cx="3388320" cy="916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arrow" w="med"/>
          </a:ln>
        </p:spPr>
      </p:cxnSp>
      <p:cxnSp>
        <p:nvCxnSpPr>
          <p:cNvPr id="690" name=""/>
          <p:cNvCxnSpPr>
            <a:stCxn id="684" idx="6"/>
            <a:endCxn id="688" idx="1"/>
          </p:cNvCxnSpPr>
          <p:nvPr/>
        </p:nvCxnSpPr>
        <p:spPr>
          <a:xfrm flipV="1">
            <a:off x="5729400" y="2866320"/>
            <a:ext cx="172080" cy="14364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5980320" y="3108240"/>
            <a:ext cx="23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Personalización de usuario y gua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stCxn id="691" idx="1"/>
            <a:endCxn id="681" idx="6"/>
          </p:cNvCxnSpPr>
          <p:nvPr/>
        </p:nvCxnSpPr>
        <p:spPr>
          <a:xfrm flipH="1" flipV="1">
            <a:off x="2986200" y="2932920"/>
            <a:ext cx="2914920" cy="2991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>
            <a:off x="5943600" y="387036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Soporte y ayuda por exper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1"/>
            <a:endCxn id="682" idx="6"/>
          </p:cNvCxnSpPr>
          <p:nvPr/>
        </p:nvCxnSpPr>
        <p:spPr>
          <a:xfrm flipH="1">
            <a:off x="2528280" y="3993840"/>
            <a:ext cx="3415320" cy="997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5943600" y="3505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Información / Conten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1"/>
            <a:endCxn id="683" idx="6"/>
          </p:cNvCxnSpPr>
          <p:nvPr/>
        </p:nvCxnSpPr>
        <p:spPr>
          <a:xfrm flipH="1">
            <a:off x="2147400" y="3629160"/>
            <a:ext cx="3796560" cy="21960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F511-B3A0-44B1-8A01-54F9D663988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ceso de decisión del consumidor 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8" name=""/>
          <p:cNvSpPr/>
          <p:nvPr/>
        </p:nvSpPr>
        <p:spPr>
          <a:xfrm>
            <a:off x="1647720" y="54874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71880" y="1692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71880" y="23320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71880" y="299232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71880" y="3602160"/>
            <a:ext cx="0" cy="583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71880" y="42148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71880" y="4878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47720" y="48780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Leal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47720" y="41922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47720" y="35776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47720" y="29728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valuación de Altern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47720" y="229176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úsqueda d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47720" y="1595520"/>
            <a:ext cx="28479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conocimiento de problema o nece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1600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33526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086360"/>
            <a:ext cx="152280" cy="1857240"/>
          </a:xfrm>
          <a:custGeom>
            <a:avLst/>
            <a:gdLst>
              <a:gd name="textAreaLeft" fmla="*/ 97200 w 152280"/>
              <a:gd name="textAreaRight" fmla="*/ 152640 w 152280"/>
              <a:gd name="textAreaTop" fmla="*/ 48240 h 1857240"/>
              <a:gd name="textAreaBottom" fmla="*/ 180900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320" y="2299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re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320" y="3567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4799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ost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(postve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523880"/>
            <a:ext cx="335268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Verdana"/>
              </a:rPr>
              <a:t>Ejemplo de las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nocimiento de necesidad, posiblemente gatillado por cercanía de fiesta, aniversario u ocasión espe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Búsqueda de Ideas y ofer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Vitrineo” en tiendas online y off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Ideas y recomend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Consejo basado en perfil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valuación de alternativas bajo varias dimensiones o atributos: precio, disponibilidad, despacho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lección de mensaje: medio y 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oporte post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duicación en flores y dec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mendaciones a amigos, nueva compra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B156-AC55-4062-B74C-6F5C68B0263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Datos que todos conocen (o debieran conocer) acerca de Internet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553080" cy="373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4091040"/>
            <a:ext cx="5638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0280" y="388620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millones de usuarios (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6588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2040" y="34750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7120" y="330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9440" y="3809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0800" y="38559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11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75840" y="50878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: 38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521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7440" y="51865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: 13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2960" y="51516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: 1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9680" y="515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: 5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BE38-DDAA-40F2-A1B7-83AB456E96B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la oferta para 1-800-flow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1371600"/>
            <a:ext cx="7696080" cy="4842000"/>
          </a:xfrm>
          <a:prstGeom prst="ellipse">
            <a:avLst/>
          </a:prstGeom>
          <a:solidFill>
            <a:srgbClr val="fafe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2590920"/>
            <a:ext cx="3800520" cy="258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ceso de dec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lores / Regalos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38480" y="2590920"/>
            <a:ext cx="1175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nocimiento de neces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048120"/>
            <a:ext cx="1190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úsqueda de ideas y of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24280" y="4648320"/>
            <a:ext cx="839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cisión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46483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lección de mens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038480"/>
            <a:ext cx="1314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oporte postventa y 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95480" y="2971800"/>
            <a:ext cx="1619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ducación en flores y dec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33920" y="1523880"/>
            <a:ext cx="22096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 de recordato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peciales de Fi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celebraciones cotidia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ocasiones es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05720" y="3100320"/>
            <a:ext cx="1981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vori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s corpora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6960" y="1675800"/>
            <a:ext cx="13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000000"/>
                </a:solidFill>
                <a:uFillTx/>
                <a:latin typeface="Arial"/>
              </a:rPr>
              <a:t>Ideas 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8080" y="31233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Soporte post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00800" y="4191120"/>
            <a:ext cx="19810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formación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5181480"/>
            <a:ext cx="1905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virtual anim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fís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3292560"/>
            <a:ext cx="16002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oleta por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Online Customer Service (Q&amp;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por teéfono o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00200" y="42523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52480" y="4405320"/>
            <a:ext cx="140040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illas ganadas por compra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uentos en AOL y B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mbrecía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1814400"/>
            <a:ext cx="144756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Cuidado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Hágalo Ud. mis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vitación a seminarios y even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0280" y="1881360"/>
            <a:ext cx="19670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l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jard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ho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our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bicación de t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mendaciones por pp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jor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1480" y="403848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valuación de alterna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6800" y="289476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Recomend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1480" y="5105520"/>
            <a:ext cx="198144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ransacción e-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pacho fuera de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-800-lasflora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90720" y="2661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909C-A83E-4CB7-9BF3-4C4808A659A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68120" y="259380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971A-284A-43C5-9BAB-0301A1884EF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3: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sistema de recursos determina cómo la compañía debe alinear sus sistemas internos y el de sus partners para entregar los beneficios de la propuesta de val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gado del mundo tradicion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uesta de valor por sí sola no es su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et de activos y acciones elegidos para entregar la propuesta determina compañías exitosas de las de pobre desempeñ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 únicas atadas a propuesta de valor genera ventaja competitiv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128B-02BB-4D4C-8E7F-4B5C7C3ED32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son los recursos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pueden tomar varias form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físicos: bodegas, aviones, fábricas, etc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intangibles: marcas, pat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ice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, experiencia y Know-how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Idealab y su capacidad de lanzar nuevos nego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EC45-6B51-4884-806F-B43EAAEBD76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pasar del mundo físico al mundo virtu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y capacidades del mundo físico por una combinación físico-virtual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foco desde el lado de la oferta (abastecimiento) hacia el lado de la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por capacidades: activos y talentos del más alto nive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enfoque uni-empresarial a multi-empresarial: asociaciones y partner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AB76-3E56-4108-9CEE-1370B27C005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onstrucción del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star beneficios centrales o críticos identificados en la 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capacidades relacionadas con cada benefi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ociar recursos necesarios para cada capacidad (activos y actividades cla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el nivel al cual la empresa puede entregar cada capacidad. Implica una mirada profunda al interior de la empresa y determinar si puede por sí sola o debe buscar aliados / invers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partners que pueden completar las capac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E7F1-3446-4D20-9FA3-B19EF20593C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6"/>
            <a:endCxn id="769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1" name=""/>
          <p:cNvCxnSpPr>
            <a:stCxn id="766" idx="4"/>
            <a:endCxn id="767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2" name=""/>
          <p:cNvCxnSpPr>
            <a:stCxn id="769" idx="4"/>
            <a:endCxn id="768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3" name=""/>
          <p:cNvCxnSpPr>
            <a:stCxn id="767" idx="6"/>
            <a:endCxn id="768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. Beneficios crític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5409720"/>
            <a:ext cx="1082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60A9-BC71-4524-857B-8228BD7DB89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2. Identificación de 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8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2" idx="6"/>
            <a:endCxn id="785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7" name=""/>
          <p:cNvCxnSpPr>
            <a:stCxn id="782" idx="4"/>
            <a:endCxn id="783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8" name=""/>
          <p:cNvCxnSpPr>
            <a:stCxn id="785" idx="4"/>
            <a:endCxn id="784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9" name=""/>
          <p:cNvCxnSpPr>
            <a:stCxn id="783" idx="6"/>
            <a:endCxn id="784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0" name=""/>
          <p:cNvCxnSpPr>
            <a:stCxn id="780" idx="2"/>
            <a:endCxn id="784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"/>
          <p:cNvCxnSpPr>
            <a:stCxn id="779" idx="1"/>
            <a:endCxn id="784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8" idx="1"/>
            <a:endCxn id="784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81" idx="0"/>
            <a:endCxn id="784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"/>
          <p:cNvCxnSpPr>
            <a:stCxn id="794" idx="2"/>
            <a:endCxn id="785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94" idx="2"/>
            <a:endCxn id="782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97" idx="3"/>
            <a:endCxn id="782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0" name=""/>
          <p:cNvCxnSpPr>
            <a:stCxn id="799" idx="3"/>
            <a:endCxn id="782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2" name=""/>
          <p:cNvCxnSpPr>
            <a:stCxn id="801" idx="3"/>
            <a:endCxn id="783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4668-6FCF-459C-A53D-5129C58B197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07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"/>
          <p:cNvCxnSpPr>
            <a:stCxn id="811" idx="6"/>
            <a:endCxn id="814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6" name=""/>
          <p:cNvCxnSpPr>
            <a:stCxn id="811" idx="4"/>
            <a:endCxn id="812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7" name=""/>
          <p:cNvCxnSpPr>
            <a:stCxn id="814" idx="4"/>
            <a:endCxn id="813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8" name=""/>
          <p:cNvCxnSpPr>
            <a:stCxn id="812" idx="6"/>
            <a:endCxn id="813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9" name=""/>
          <p:cNvCxnSpPr>
            <a:stCxn id="809" idx="2"/>
            <a:endCxn id="813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0" name=""/>
          <p:cNvCxnSpPr>
            <a:stCxn id="808" idx="1"/>
            <a:endCxn id="813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07" idx="1"/>
            <a:endCxn id="813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0" idx="0"/>
            <a:endCxn id="813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4" name=""/>
          <p:cNvCxnSpPr>
            <a:stCxn id="823" idx="2"/>
            <a:endCxn id="814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23" idx="2"/>
            <a:endCxn id="811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826" idx="3"/>
            <a:endCxn id="811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8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stCxn id="828" idx="3"/>
            <a:endCxn id="811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0" idx="3"/>
            <a:endCxn id="812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238880" y="3048120"/>
            <a:ext cx="1905120" cy="1673280"/>
            <a:chOff x="7238880" y="3048120"/>
            <a:chExt cx="1905120" cy="1673280"/>
          </a:xfrm>
        </p:grpSpPr>
        <p:sp>
          <p:nvSpPr>
            <p:cNvPr id="836" name=""/>
            <p:cNvSpPr/>
            <p:nvPr/>
          </p:nvSpPr>
          <p:spPr>
            <a:xfrm>
              <a:off x="8229600" y="3048120"/>
              <a:ext cx="82224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Teléf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50280" y="3481560"/>
              <a:ext cx="66996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On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077320" y="3886200"/>
              <a:ext cx="106668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ranquic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20120" y="4343400"/>
              <a:ext cx="91440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atalog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8880" y="3276720"/>
              <a:ext cx="838440" cy="444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3,000 afili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1" name=""/>
            <p:cNvCxnSpPr>
              <a:stCxn id="836" idx="3"/>
            </p:cNvCxnSpPr>
            <p:nvPr/>
          </p:nvCxnSpPr>
          <p:spPr>
            <a:xfrm flipH="1">
              <a:off x="7619760" y="3370320"/>
              <a:ext cx="730800" cy="78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40" idx="4"/>
            </p:cNvCxnSpPr>
            <p:nvPr/>
          </p:nvCxnSpPr>
          <p:spPr>
            <a:xfrm flipH="1">
              <a:off x="7619760" y="3720960"/>
              <a:ext cx="388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8" idx="2"/>
            </p:cNvCxnSpPr>
            <p:nvPr/>
          </p:nvCxnSpPr>
          <p:spPr>
            <a:xfrm flipH="1">
              <a:off x="7619760" y="4114800"/>
              <a:ext cx="45792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39" idx="1"/>
            </p:cNvCxnSpPr>
            <p:nvPr/>
          </p:nvCxnSpPr>
          <p:spPr>
            <a:xfrm flipH="1" flipV="1">
              <a:off x="7620120" y="4152240"/>
              <a:ext cx="133560" cy="24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5" name=""/>
            <p:cNvCxnSpPr>
              <a:stCxn id="837" idx="2"/>
            </p:cNvCxnSpPr>
            <p:nvPr/>
          </p:nvCxnSpPr>
          <p:spPr>
            <a:xfrm flipH="1">
              <a:off x="7619760" y="3669840"/>
              <a:ext cx="83088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6" name=""/>
          <p:cNvGrpSpPr/>
          <p:nvPr/>
        </p:nvGrpSpPr>
        <p:grpSpPr>
          <a:xfrm>
            <a:off x="6172200" y="4800600"/>
            <a:ext cx="2482920" cy="1216080"/>
            <a:chOff x="6172200" y="4800600"/>
            <a:chExt cx="2482920" cy="1216080"/>
          </a:xfrm>
        </p:grpSpPr>
        <p:sp>
          <p:nvSpPr>
            <p:cNvPr id="847" name=""/>
            <p:cNvSpPr/>
            <p:nvPr/>
          </p:nvSpPr>
          <p:spPr>
            <a:xfrm>
              <a:off x="6172200" y="5638680"/>
              <a:ext cx="9907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StarMed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96080" y="4800600"/>
              <a:ext cx="66996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S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48720" y="5181480"/>
              <a:ext cx="80640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91360" y="5486400"/>
              <a:ext cx="7333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Yahoo!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1" name=""/>
            <p:cNvCxnSpPr>
              <a:stCxn id="847" idx="0"/>
            </p:cNvCxnSpPr>
            <p:nvPr/>
          </p:nvCxnSpPr>
          <p:spPr>
            <a:xfrm flipH="1" flipV="1">
              <a:off x="6591240" y="5257440"/>
              <a:ext cx="766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2" name=""/>
            <p:cNvCxnSpPr>
              <a:stCxn id="850" idx="0"/>
            </p:cNvCxnSpPr>
            <p:nvPr/>
          </p:nvCxnSpPr>
          <p:spPr>
            <a:xfrm flipH="1" flipV="1">
              <a:off x="6590880" y="5257080"/>
              <a:ext cx="967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3" name=""/>
            <p:cNvCxnSpPr>
              <a:stCxn id="849" idx="2"/>
            </p:cNvCxnSpPr>
            <p:nvPr/>
          </p:nvCxnSpPr>
          <p:spPr>
            <a:xfrm flipH="1" flipV="1">
              <a:off x="7162200" y="499068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4" name=""/>
            <p:cNvCxnSpPr>
              <a:stCxn id="848" idx="2"/>
            </p:cNvCxnSpPr>
            <p:nvPr/>
          </p:nvCxnSpPr>
          <p:spPr>
            <a:xfrm flipH="1">
              <a:off x="7162200" y="4989600"/>
              <a:ext cx="533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6778-B91C-40D6-9E19-C45AF6D4475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0" idx="6"/>
            <a:endCxn id="863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5" name=""/>
          <p:cNvCxnSpPr>
            <a:stCxn id="860" idx="4"/>
            <a:endCxn id="861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6" name=""/>
          <p:cNvCxnSpPr>
            <a:stCxn id="863" idx="4"/>
            <a:endCxn id="862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61" idx="6"/>
            <a:endCxn id="862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8" name=""/>
          <p:cNvCxnSpPr>
            <a:stCxn id="858" idx="2"/>
            <a:endCxn id="862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857" idx="1"/>
            <a:endCxn id="862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56" idx="1"/>
            <a:endCxn id="862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1" idx="0"/>
            <a:endCxn id="856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74" idx="0"/>
            <a:endCxn id="856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73" idx="2"/>
            <a:endCxn id="856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2" idx="2"/>
            <a:endCxn id="856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"/>
          <p:cNvCxnSpPr>
            <a:stCxn id="859" idx="0"/>
            <a:endCxn id="862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3"/>
            <a:endCxn id="858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3" name=""/>
          <p:cNvCxnSpPr>
            <a:stCxn id="880" idx="2"/>
            <a:endCxn id="858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"/>
          <p:cNvCxnSpPr>
            <a:stCxn id="886" idx="2"/>
            <a:endCxn id="884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8" name=""/>
          <p:cNvCxnSpPr>
            <a:stCxn id="885" idx="2"/>
            <a:endCxn id="884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9" name=""/>
          <p:cNvCxnSpPr>
            <a:stCxn id="884" idx="2"/>
            <a:endCxn id="863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0" name=""/>
          <p:cNvCxnSpPr>
            <a:stCxn id="884" idx="2"/>
            <a:endCxn id="860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1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91" idx="6"/>
            <a:endCxn id="884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3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>
            <a:stCxn id="893" idx="3"/>
            <a:endCxn id="860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5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8" name=""/>
          <p:cNvCxnSpPr>
            <a:stCxn id="896" idx="4"/>
            <a:endCxn id="893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7" idx="5"/>
            <a:endCxn id="893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5" idx="6"/>
            <a:endCxn id="893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3"/>
            <a:endCxn id="860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3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"/>
          <p:cNvCxnSpPr>
            <a:stCxn id="903" idx="6"/>
            <a:endCxn id="901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904" idx="6"/>
            <a:endCxn id="901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7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7" idx="3"/>
            <a:endCxn id="861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9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910" idx="7"/>
            <a:endCxn id="907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"/>
          <p:cNvCxnSpPr>
            <a:stCxn id="909" idx="0"/>
            <a:endCxn id="907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0560" y="56894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7680" y="5414040"/>
            <a:ext cx="1223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_x001d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2" name=""/>
          <p:cNvCxnSpPr>
            <a:stCxn id="917" idx="3"/>
            <a:endCxn id="857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"/>
          <p:cNvCxnSpPr>
            <a:stCxn id="921" idx="4"/>
            <a:endCxn id="857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4" name=""/>
          <p:cNvCxnSpPr>
            <a:stCxn id="919" idx="2"/>
            <a:endCxn id="857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20" idx="1"/>
            <a:endCxn id="857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21" idx="1"/>
            <a:endCxn id="858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18" idx="2"/>
            <a:endCxn id="857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276F-20F6-4D25-994E-FEE8DCF96F21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es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ecnología, Facili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pplication Service Providers (ASP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icrosoft (.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edio (híbrido entre masivo y direc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OL, El Mostrador, TVN.cl, WSJ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oca Cola, Nike, Levi’s, PG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ta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, eBay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azuca, Almacenesparis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Goog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1C17-3471-4095-83F0-54F5DAED9192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380880" y="4737240"/>
            <a:ext cx="533520" cy="380880"/>
          </a:xfrm>
          <a:custGeom>
            <a:avLst/>
            <a:gdLst/>
            <a:ahLst/>
            <a:rect l="l" t="t" r="r" b="b"/>
            <a:pathLst>
              <a:path w="396" h="320">
                <a:moveTo>
                  <a:pt x="391" y="0"/>
                </a:moveTo>
                <a:lnTo>
                  <a:pt x="392" y="160"/>
                </a:lnTo>
                <a:lnTo>
                  <a:pt x="392" y="248"/>
                </a:lnTo>
                <a:cubicBezTo>
                  <a:pt x="392" y="269"/>
                  <a:pt x="393" y="275"/>
                  <a:pt x="392" y="284"/>
                </a:cubicBezTo>
                <a:cubicBezTo>
                  <a:pt x="391" y="293"/>
                  <a:pt x="387" y="298"/>
                  <a:pt x="388" y="304"/>
                </a:cubicBezTo>
                <a:lnTo>
                  <a:pt x="396" y="320"/>
                </a:lnTo>
                <a:lnTo>
                  <a:pt x="183" y="288"/>
                </a:lnTo>
                <a:lnTo>
                  <a:pt x="52" y="232"/>
                </a:lnTo>
                <a:lnTo>
                  <a:pt x="8" y="184"/>
                </a:lnTo>
                <a:lnTo>
                  <a:pt x="0" y="144"/>
                </a:lnTo>
                <a:lnTo>
                  <a:pt x="12" y="112"/>
                </a:lnTo>
                <a:lnTo>
                  <a:pt x="32" y="88"/>
                </a:lnTo>
                <a:lnTo>
                  <a:pt x="84" y="60"/>
                </a:lnTo>
                <a:lnTo>
                  <a:pt x="220" y="12"/>
                </a:lnTo>
                <a:lnTo>
                  <a:pt x="391" y="0"/>
                </a:lnTo>
                <a:close/>
              </a:path>
            </a:pathLst>
          </a:custGeom>
          <a:solidFill>
            <a:srgbClr val="cdc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ntrega del beneficio y partn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30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"/>
          <p:cNvCxnSpPr>
            <a:stCxn id="934" idx="6"/>
            <a:endCxn id="937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9" name=""/>
          <p:cNvCxnSpPr>
            <a:stCxn id="934" idx="4"/>
            <a:endCxn id="935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0" name=""/>
          <p:cNvCxnSpPr>
            <a:stCxn id="937" idx="4"/>
            <a:endCxn id="936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1" name=""/>
          <p:cNvCxnSpPr>
            <a:stCxn id="935" idx="6"/>
            <a:endCxn id="936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2" name=""/>
          <p:cNvCxnSpPr>
            <a:stCxn id="932" idx="2"/>
            <a:endCxn id="936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3" name=""/>
          <p:cNvCxnSpPr>
            <a:stCxn id="931" idx="1"/>
            <a:endCxn id="936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4" name=""/>
          <p:cNvCxnSpPr>
            <a:stCxn id="930" idx="1"/>
            <a:endCxn id="936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5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5" idx="0"/>
            <a:endCxn id="930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0" name=""/>
          <p:cNvCxnSpPr>
            <a:stCxn id="948" idx="0"/>
            <a:endCxn id="930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47" idx="2"/>
            <a:endCxn id="930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"/>
          <p:cNvCxnSpPr>
            <a:stCxn id="946" idx="2"/>
            <a:endCxn id="930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"/>
          <p:cNvCxnSpPr>
            <a:stCxn id="933" idx="0"/>
            <a:endCxn id="936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4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55" idx="3"/>
            <a:endCxn id="932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54" idx="2"/>
            <a:endCxn id="932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60" idx="2"/>
            <a:endCxn id="958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9" idx="2"/>
            <a:endCxn id="958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3" name=""/>
          <p:cNvCxnSpPr>
            <a:stCxn id="958" idx="2"/>
            <a:endCxn id="937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4" name=""/>
          <p:cNvCxnSpPr>
            <a:stCxn id="958" idx="2"/>
            <a:endCxn id="934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65" idx="6"/>
            <a:endCxn id="958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8" name=""/>
          <p:cNvCxnSpPr>
            <a:stCxn id="967" idx="3"/>
            <a:endCxn id="934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9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70" idx="4"/>
            <a:endCxn id="967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"/>
          <p:cNvCxnSpPr>
            <a:stCxn id="971" idx="5"/>
            <a:endCxn id="967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"/>
          <p:cNvCxnSpPr>
            <a:stCxn id="969" idx="6"/>
            <a:endCxn id="967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75" idx="3"/>
            <a:endCxn id="934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7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9" name=""/>
          <p:cNvCxnSpPr>
            <a:stCxn id="977" idx="6"/>
            <a:endCxn id="975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"/>
          <p:cNvCxnSpPr>
            <a:stCxn id="978" idx="6"/>
            <a:endCxn id="975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1" idx="3"/>
            <a:endCxn id="935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3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e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5" name=""/>
          <p:cNvCxnSpPr>
            <a:stCxn id="984" idx="7"/>
            <a:endCxn id="981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6" name=""/>
          <p:cNvCxnSpPr>
            <a:stCxn id="983" idx="0"/>
            <a:endCxn id="981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7" name=""/>
          <p:cNvSpPr/>
          <p:nvPr/>
        </p:nvSpPr>
        <p:spPr>
          <a:xfrm flipH="1">
            <a:off x="625320" y="541008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96880" y="560088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0640" y="5310360"/>
            <a:ext cx="15249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Part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5943600"/>
            <a:ext cx="12708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91" idx="3"/>
            <a:endCxn id="931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95" idx="4"/>
            <a:endCxn id="931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8" name=""/>
          <p:cNvCxnSpPr>
            <a:stCxn id="993" idx="2"/>
            <a:endCxn id="931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"/>
          <p:cNvCxnSpPr>
            <a:stCxn id="994" idx="1"/>
            <a:endCxn id="931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0" name=""/>
          <p:cNvCxnSpPr>
            <a:stCxn id="995" idx="1"/>
            <a:endCxn id="932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92" idx="2"/>
            <a:endCxn id="931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2" name=""/>
          <p:cNvSpPr/>
          <p:nvPr/>
        </p:nvSpPr>
        <p:spPr>
          <a:xfrm>
            <a:off x="596880" y="5765760"/>
            <a:ext cx="152280" cy="7632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9480" y="6095880"/>
            <a:ext cx="152640" cy="7632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6E21-7178-47DC-9DC4-59C760B889A4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aso 4: Soporte Financier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1371600"/>
            <a:ext cx="4800600" cy="4152960"/>
          </a:xfrm>
          <a:prstGeom prst="triangle">
            <a:avLst>
              <a:gd name="adj" fmla="val 50000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3429000" y="3479760"/>
            <a:ext cx="2400480" cy="202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105800" y="3857760"/>
            <a:ext cx="104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ODEL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-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19520" y="45435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CO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231160" y="45435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USU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ie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034160" y="2562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19920" y="1330200"/>
            <a:ext cx="2819160" cy="64152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1411d"/>
                </a:solidFill>
                <a:latin typeface="Verdana"/>
              </a:rPr>
              <a:t>Disposición a pagar p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Contenido (modelo 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Usuarios (modelo in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AA3D-ABAC-4E3F-8FF3-1BCBC5202620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: Portal (EMOL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133720" y="1523880"/>
            <a:ext cx="2209320" cy="1752480"/>
            <a:chOff x="2133720" y="1523880"/>
            <a:chExt cx="2209320" cy="1752480"/>
          </a:xfrm>
        </p:grpSpPr>
        <p:sp>
          <p:nvSpPr>
            <p:cNvPr id="1014" name=""/>
            <p:cNvSpPr/>
            <p:nvPr/>
          </p:nvSpPr>
          <p:spPr>
            <a:xfrm>
              <a:off x="2133720" y="1523880"/>
              <a:ext cx="1752480" cy="1295280"/>
            </a:xfrm>
            <a:prstGeom prst="rect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CONTEN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66880" y="2666880"/>
              <a:ext cx="609120" cy="60948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33560" y="1828440"/>
              <a:ext cx="609480" cy="60984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876920" y="1752480"/>
            <a:ext cx="1904760" cy="1447560"/>
            <a:chOff x="4876920" y="1752480"/>
            <a:chExt cx="1904760" cy="1447560"/>
          </a:xfrm>
        </p:grpSpPr>
        <p:sp>
          <p:nvSpPr>
            <p:cNvPr id="1018" name=""/>
            <p:cNvSpPr/>
            <p:nvPr/>
          </p:nvSpPr>
          <p:spPr>
            <a:xfrm>
              <a:off x="5029200" y="1752480"/>
              <a:ext cx="1752480" cy="1295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8680" y="25905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76920" y="20570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819520" y="3733920"/>
            <a:ext cx="3504960" cy="1447200"/>
            <a:chOff x="2819520" y="3733920"/>
            <a:chExt cx="3504960" cy="1447200"/>
          </a:xfrm>
        </p:grpSpPr>
        <p:sp>
          <p:nvSpPr>
            <p:cNvPr id="1022" name=""/>
            <p:cNvSpPr/>
            <p:nvPr/>
          </p:nvSpPr>
          <p:spPr>
            <a:xfrm>
              <a:off x="2819520" y="3886200"/>
              <a:ext cx="3504960" cy="129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USU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0040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8148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5" name=""/>
          <p:cNvCxnSpPr>
            <a:stCxn id="1015" idx="5"/>
            <a:endCxn id="1023" idx="5"/>
          </p:cNvCxnSpPr>
          <p:nvPr/>
        </p:nvCxnSpPr>
        <p:spPr>
          <a:xfrm>
            <a:off x="3187440" y="3187440"/>
            <a:ext cx="533880" cy="106740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6" name=""/>
          <p:cNvCxnSpPr>
            <a:stCxn id="1016" idx="6"/>
            <a:endCxn id="1020" idx="6"/>
          </p:cNvCxnSpPr>
          <p:nvPr/>
        </p:nvCxnSpPr>
        <p:spPr>
          <a:xfrm>
            <a:off x="4343040" y="2133360"/>
            <a:ext cx="114372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27" name=""/>
          <p:cNvSpPr/>
          <p:nvPr/>
        </p:nvSpPr>
        <p:spPr>
          <a:xfrm>
            <a:off x="5791320" y="5384880"/>
            <a:ext cx="335268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Hombres y mujeres 25 – 4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e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incipalmente en la ofic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2280" y="2971800"/>
            <a:ext cx="2133720" cy="13716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l Mercurio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Noti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Tiempo 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po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Inter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086600" y="1371600"/>
            <a:ext cx="1638360" cy="49536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86600" y="2133720"/>
            <a:ext cx="1638360" cy="6858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uscripciones y mktg. Rel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86600" y="2971800"/>
            <a:ext cx="163836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6600"/>
                </a:solidFill>
                <a:latin typeface="Verdana"/>
              </a:rPr>
              <a:t>Alt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c6600"/>
                </a:solidFill>
                <a:latin typeface="Verdana"/>
              </a:rPr>
              <a:t>Acceso a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1431600">
            <a:off x="5517720" y="3276720"/>
            <a:ext cx="3319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2" idx="0"/>
            <a:endCxn id="1019" idx="7"/>
          </p:cNvCxnSpPr>
          <p:nvPr/>
        </p:nvCxnSpPr>
        <p:spPr>
          <a:xfrm flipV="1">
            <a:off x="5775120" y="2679120"/>
            <a:ext cx="384840" cy="61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34" name=""/>
          <p:cNvCxnSpPr>
            <a:stCxn id="1032" idx="4"/>
            <a:endCxn id="1024" idx="3"/>
          </p:cNvCxnSpPr>
          <p:nvPr/>
        </p:nvCxnSpPr>
        <p:spPr>
          <a:xfrm flipH="1">
            <a:off x="5269680" y="3713040"/>
            <a:ext cx="321480" cy="542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2DA4-0A21-410E-BAD2-2FD9BAE1847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Ingre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ublicidad (modelo de ingreso in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Yahoo!, EMOL 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enta de productos, servicios o información (modelo 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mazon, Chilevinos, Falabell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termediación de transa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chwab, eBa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uscrip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arketing Relacional: híbrido entre suscripción y publicidad. El ingreso se puede generar online u 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YTim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8849-A896-4D6F-A1F5-5A9848D0CB73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 de ingresos ligado a generación de flujo pero no necesariamente de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s de estrategia de LP para generar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lockbuster” de Disne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entradas al cin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explotación profunda de productos exitos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ase y Continuación” de Gillet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áquinas de afeitar y repue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lock-i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de “metamercad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comisiones, margenes de venta o publi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FBD5-C97A-4923-A5E3-B87ADE3E9B48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Efectos de red, base de usuari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tegory-killer” (diferentes marcas de una misma categoría; ej. eToy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ejor información (WSJ, Bloomberg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Suscripción, publicidad,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Credibi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ás amplia variedad (CDNow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Precios premium por productos de difícil acceso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4AD9-2EB6-43DA-9AA4-26AF5BF0C78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ás bajo precio (buy.com y Wal-Mart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Volumen y eficienc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usuarios líder (ICQ, Real Networks, Napste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, publicidad, comis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Posibilidad de cobrar precios premium después de crear un standard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 experiencia (FAOSchwartz.com, Ashford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Satisfacción del cli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2A02-01CE-4248-A915-A16FA8384B74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de Crecimi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Fuentes de crecimien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fundizar penetración en mercado a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(nuevos productos para mercados existente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mercados (productos existentes para mercados nuevo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para nuevos mercad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0701-C40B-47FC-B3D6-768C9E12EBA1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6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501600" y="259092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9920" y="39625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6019920" y="3733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19920" y="39625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547320" y="3581280"/>
            <a:ext cx="214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Beneficios cent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Capac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Link Recurso-capa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Entrega y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19920" y="3962520"/>
            <a:ext cx="38088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5105520"/>
            <a:ext cx="457200" cy="609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6019920" y="4876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19920" y="5105520"/>
            <a:ext cx="457200" cy="838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77120" y="4724280"/>
            <a:ext cx="2438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ilares: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contenido 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Ingr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valor 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cr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019920" y="5105520"/>
            <a:ext cx="45720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DB9F-5ABA-474C-BF24-48BAD9DB5447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faz de Usuario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7Cs o elementos de diseño gener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72" name=""/>
          <p:cNvSpPr/>
          <p:nvPr/>
        </p:nvSpPr>
        <p:spPr>
          <a:xfrm>
            <a:off x="228600" y="16416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Diseño y distribución de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629400" y="16002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Texto, imágenes, sonidos y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294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o el sitio permite la comunicación entre usu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294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ustom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es de personalización del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6716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ormas de comunicación sitio a usuario y usuario a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86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Links a y desde otros si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 para efectuar trans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A8F9-0CD4-4AF5-8B92-29F9D1AFB3A2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ara qué sirve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Herramienta de marketing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itios corpor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ractu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ai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ha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ensajeros instantáne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procuremen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422A-FFFA-4F8B-AFDB-85E9C22D9AAF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aracterísticas del diseñ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lineamento con el modelo: Capacidad de cada uno de los elementos para soportar el modelo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olidez de diseño: grado de consistencia entre los diferentes ele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"/>
          <p:cNvSpPr/>
          <p:nvPr/>
        </p:nvSpPr>
        <p:spPr>
          <a:xfrm>
            <a:off x="11430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1337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ustom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055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c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0958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086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29000" y="3429000"/>
            <a:ext cx="228600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0" name=""/>
          <p:cNvCxnSpPr>
            <a:endCxn id="1082" idx="0"/>
          </p:cNvCxnSpPr>
          <p:nvPr/>
        </p:nvCxnSpPr>
        <p:spPr>
          <a:xfrm flipH="1">
            <a:off x="1599480" y="3733560"/>
            <a:ext cx="1600920" cy="9910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1" name=""/>
          <p:cNvCxnSpPr>
            <a:endCxn id="1083" idx="0"/>
          </p:cNvCxnSpPr>
          <p:nvPr/>
        </p:nvCxnSpPr>
        <p:spPr>
          <a:xfrm flipH="1">
            <a:off x="2590560" y="3886200"/>
            <a:ext cx="91512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endCxn id="1084" idx="0"/>
          </p:cNvCxnSpPr>
          <p:nvPr/>
        </p:nvCxnSpPr>
        <p:spPr>
          <a:xfrm flipH="1">
            <a:off x="3580560" y="3886200"/>
            <a:ext cx="30564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endCxn id="1085" idx="0"/>
          </p:cNvCxnSpPr>
          <p:nvPr/>
        </p:nvCxnSpPr>
        <p:spPr>
          <a:xfrm>
            <a:off x="4571640" y="3886200"/>
            <a:ext cx="108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4" name=""/>
          <p:cNvCxnSpPr/>
          <p:nvPr/>
        </p:nvCxnSpPr>
        <p:spPr>
          <a:xfrm>
            <a:off x="5943240" y="3886200"/>
            <a:ext cx="1600920" cy="9914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5" name=""/>
          <p:cNvCxnSpPr/>
          <p:nvPr/>
        </p:nvCxnSpPr>
        <p:spPr>
          <a:xfrm>
            <a:off x="5638680" y="4038120"/>
            <a:ext cx="91512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6" name=""/>
          <p:cNvCxnSpPr/>
          <p:nvPr/>
        </p:nvCxnSpPr>
        <p:spPr>
          <a:xfrm>
            <a:off x="5257440" y="4038120"/>
            <a:ext cx="30564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>
            <a:off x="3505320" y="4114800"/>
            <a:ext cx="2133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line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82" idx="2"/>
            <a:endCxn id="1083" idx="2"/>
          </p:cNvCxnSpPr>
          <p:nvPr/>
        </p:nvCxnSpPr>
        <p:spPr>
          <a:xfrm flipH="1" rot="16200000">
            <a:off x="209448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9" name=""/>
          <p:cNvCxnSpPr>
            <a:stCxn id="1083" idx="2"/>
            <a:endCxn id="1084" idx="2"/>
          </p:cNvCxnSpPr>
          <p:nvPr/>
        </p:nvCxnSpPr>
        <p:spPr>
          <a:xfrm flipH="1" rot="16200000">
            <a:off x="30841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0" name=""/>
          <p:cNvCxnSpPr/>
          <p:nvPr/>
        </p:nvCxnSpPr>
        <p:spPr>
          <a:xfrm flipH="1" rot="16200000">
            <a:off x="2589120" y="4875840"/>
            <a:ext cx="2160" cy="1981800"/>
          </a:xfrm>
          <a:prstGeom prst="curvedConnector5">
            <a:avLst>
              <a:gd name="adj1" fmla="val 16880000"/>
              <a:gd name="adj2" fmla="val 50000"/>
              <a:gd name="adj3" fmla="val 168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1" name=""/>
          <p:cNvCxnSpPr>
            <a:stCxn id="1084" idx="2"/>
            <a:endCxn id="1085" idx="2"/>
          </p:cNvCxnSpPr>
          <p:nvPr/>
        </p:nvCxnSpPr>
        <p:spPr>
          <a:xfrm flipH="1" rot="16200000">
            <a:off x="407556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2" name=""/>
          <p:cNvCxnSpPr/>
          <p:nvPr/>
        </p:nvCxnSpPr>
        <p:spPr>
          <a:xfrm flipH="1" rot="16200000">
            <a:off x="6056280" y="4305960"/>
            <a:ext cx="2160" cy="2972520"/>
          </a:xfrm>
          <a:prstGeom prst="curvedConnector5">
            <a:avLst>
              <a:gd name="adj1" fmla="val 19680000"/>
              <a:gd name="adj2" fmla="val 50000"/>
              <a:gd name="adj3" fmla="val 196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3" name=""/>
          <p:cNvCxnSpPr>
            <a:stCxn id="1086" idx="2"/>
            <a:endCxn id="1087" idx="2"/>
          </p:cNvCxnSpPr>
          <p:nvPr/>
        </p:nvCxnSpPr>
        <p:spPr>
          <a:xfrm flipH="1" rot="16200000">
            <a:off x="60559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>
            <a:off x="3505320" y="58672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Sol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F096-5362-4233-9356-E750027C1289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os dimensiones de contex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uncionalidad (Google, Yahoo!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étic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tructuración del sitio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el acceso a toda la información disponibl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dad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ementos a consid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c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ructura de link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erramientas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edición y evaluación del contex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elo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fi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dependencia de plataforma (Sistemas operativos y brows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2EBD-AC4E-483E-941C-940634E2EDB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4 dimen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s, servicios, inform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ensaje (appeal): foco comunicacion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gnitivo: foco en aspectos funciona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ocional: foco en humor, historias, etc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x multimed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exto, imágenes, sonido y vide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ipo de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8B3D-814D-43F3-AEA9-E183B4E9BC61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unicación entre usu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u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much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lementos de una com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hesión: identidad de grupo y sentimiento individual de perten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fectividad: impacto del grupo en la vida de los miembr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yuda: percepción de poder dar y pedir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utoregul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E755-D508-47AD-8EE5-7E8F673AACB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comun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mistad: Yahoogroup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tusiastas: grupos que comparten un interés especia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oporte: Alcoholicos anónim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Jueg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mer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ado de participación de los miemb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as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otiva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ermediar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9D27-1B2F-459B-ADD4-2F00857E1D3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ustomiz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ipos de personaliz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usuar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utodefinición de Perfi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iseño de look-and-fee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sit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uso anterior del mismo usuar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comportamiento de usuarios “similare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614E-4CE6-4AA7-BF6F-A6C82B32CE3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alogos iniciados por la organización, dentro del si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roadcast o unidirecc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mailing mas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Q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-mail newslette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r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ialogo de e-commerce (intercambio de e-mails, confirmación de pedid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stomer Service (customer care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Híbr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9561-5983-492F-BB34-97021D366489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riables a consider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pon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recib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sibilidad de respuest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9744-DAEF-43A9-BC4A-1B0E3EEBC41A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ex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omo se conecta el sitio con otros negoc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ink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Home site en backgroun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utsourcing de contenid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tios compuestos (</a:t>
            </a:r>
            <a:r>
              <a:rPr b="0" lang="es-MX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anco de chile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si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Sitios de destin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exclusivamente contenido prop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Hub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ombinación de contenido propio y contenido seleccionado de otros siti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Portales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asi exclusivamente contenido de tercer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ABB6-DC68-4E0A-90BC-C89802E9B0F0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tálog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 al revé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gregación de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s / contra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DB5E-74B9-4C8E-878B-BA14A24912D3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738920" cy="393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96560" y="39625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Qué Es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1840" y="14479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Para qué utilizar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C886-3C30-4E79-ADBA-D77C5F85BA47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mensiones de la capacidad de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gistr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rro de compr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étodo de pag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eferencias (one-click-shopp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figuración tecnológic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imiento de orde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pciones de despach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FA60-58FA-4D7C-8454-C6D798A2C46B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6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BFFC-BFFF-43FE-A215-537566F3BFE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br>
              <a:rPr sz="2600"/>
            </a:b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EJEMPLO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490760"/>
          <a:ext cx="7867440" cy="4087800"/>
        </p:xfrm>
        <a:graphic>
          <a:graphicData uri="http://schemas.openxmlformats.org/drawingml/2006/table">
            <a:tbl>
              <a:tblPr/>
              <a:tblGrid>
                <a:gridCol w="1842840"/>
                <a:gridCol w="2021040"/>
                <a:gridCol w="1897200"/>
                <a:gridCol w="21063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 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nolog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tafo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038760" y="3724560"/>
            <a:ext cx="1462680" cy="64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Sitio Forus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299680"/>
            <a:ext cx="1511280" cy="10328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egración con grandes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50160"/>
            <a:ext cx="2305080" cy="774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r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Reportes online de gestión, RRHH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D654-4AC5-4069-8387-7BA9F9F1DA2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iferentes formas de utilizar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tipo de institu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mpresas y Corpo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oductivas, Comercio minorista y mayorista, Distribuidores, Servicios, Intermediarios, Telecomun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edios de comunicación tradicion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duc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Gobier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Á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RRHH (Intra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arketing, relación con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Ope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ECBD-8B9F-4488-A20D-8284E3440E3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Información y los Negoci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la mayoría de los negocios la información juega un rol crít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pras, relación con 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entas, relación con clientes, publicidad y márketing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rganización interna, relaciones entre emple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domina los procesos como también los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unifica la cadena de valor de cada nego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estión =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7DE3-C7B8-4391-8105-1932C3737E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26FF-4A3B-4431-B186-5D273273AC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61960" y="11430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N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rva de demanda con pendiente positiv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cisiones basadas en relación costo –beneficio (VP de los flujos sigue siendo “la” forma de evaluar proyect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S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conomía tradicional se sustenta en la escasez; la información ya no es precisamente un recurso escas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a estructura económica pensada en la protección de derechos de propiedad no se ajusta a los requerimientos de la información digital (economías de informac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enso: el término “Nueva Economí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5800" y="1600200"/>
            <a:ext cx="0" cy="1447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895480"/>
            <a:ext cx="15242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895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30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114300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5F18-1BA6-4B5F-A663-5F1A543BEF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Profesor: Luis Felipe Tronco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Académ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Ingeniero Civil Industrial, Universidad de Chile, 1995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BA University of California at Berkeley, 2001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Profeci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2 Forus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de Planificación y Sistem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1 – 2002 El Mercurio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Portal EM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1995 – 1999 Costanera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Subgerente de Finanzas y Estud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Doc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1994 – 1997 Area Investigación de Oper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Area Marketing, Estrategia e Interne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Adolfo Ibañez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Escuela de Negocios, MB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5664-B73C-4CEE-B5A9-3B8B61089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Tra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oligopol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escal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de la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monopolios tempor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8E2D-743D-4AAD-BD17-A5EEE93A49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Información (bienes de información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lquier cosa que puede ser digitalizad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Libros (textos), bases de datos, resultados deportivos, películas, música, cotizaciones de acciones, páginas web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or de la información está definido segú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u uso (para que se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entreten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poder (estar informad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El rol del usuario (quien lo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adre de famil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Ejecu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gociad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0E2D-D863-43BF-9D5A-26E42ABD2F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conomías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structura de costos de bienes de información y fijación de pre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ienes de experi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conomías de ‘atención’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Lock-in y costos de camb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xternalidade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tandard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EA36-FE30-40BC-9083-11AD75F00E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a de 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ata de re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er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hundido, no se puede recupera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unda y demás cop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variable pequeño (despreciable);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n restricciones de capac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icrosoft tiene un 92% de marge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marginal &lt; costo promed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promedio decrec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690080" y="12351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os costos f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jos costos marg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2193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87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5191-08CD-4945-BB01-D8D234D081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ancias en la fijación de precios de bienes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 competencia perfect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ólo 2 posibles estructuras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Monopol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roductos diferencia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ecios se basan en el valor de la información para los consumidores y no en los costos de 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e generan incentivos para diferenciar precios o discriminar (extraer el máximo excedente de los consumidores posible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dentificación de merc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rear diferentes versiones del mismo 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Bundling” o “comb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AF5E-08BB-443C-8BAA-5A3C7C5976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Commodity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. Ante la sospecha, eliminar condi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uías de teléfono en CD-R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Nynex cobraba US$10.000 en 1986 por directorio de NY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.50 diarios por trabajadores chin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0.000 registros/(trabajador-me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50 ciudad de 1.000.000 habita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recio de CD-ROM partió en US$50 y terminó en US$3.0 en menos de 1 añ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os ejemplos: precio de acciones; resultados deporti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ategia en negocio commodity: reducir costo prome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íder en co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Vender el mismo producto varias veces (Reut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C6CC-612C-4586-8DA4-578B5BB96E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Diferenciable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mayoría. Si no, producir la diferenci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s de acciones en tiempo real / desfas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entaja de ser el primero (first-mover advant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ocer al cliente (diferenciación a través de la experienc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gistro / suscrip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eguimiento de su comportamiento (posible a través de la tecnologí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CC39-5018-427B-AA4F-4C12D4DCAE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Bienes de ‘experiencia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n aquellos en que el consumidor debe experimentarlos para valorizarl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i todo nuevo producto es un bien de experiencia, pero una vez que son probados, dejan de ser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información es un bien de experiencia cada vez que es consum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Un libro leído cuando niño y luego de adulto puede tener distinto valor para el lector, pero sólo lo sabrá cuando lo vuelva a leer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saber que El Mercurio de hoy ‘vale’ $300 antes de leerlo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decidir que película ver en el teatro o la TV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écnicas para persuadir a los clientes a pagar por informació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uestras gratis: titulares del diario en los quioscos, sinopsis de películas, radios (como muestra del contenido de un CD);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arcas: El Mercurio ‘garantiza’ cierto tipo y calidad de inform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C05E-CB06-4E22-9370-6B9354252D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Las economías de ‘Atención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riqueza de información crea pobreza de atención” – Herbert Simon (Premio Nobel de Economía 1978 por procesos de decis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problema de hoy no es el acceso a la información, sino la sobrecarga de ella. Cualquiera puede crear un sitio web, pero no es fácil comunicarle su existencia al público masiv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mazón pagó US$19MM a AOL para acceder a sus 10 millones de clientes. Esto no es adquisición de clientes, sino adquisición de la ‘atención’ de los cli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4EDE-A9BC-4D87-9834-93198FA9F4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tección a cambio de hacer público un  inv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mover el progreso de las ciencias y las artes úti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didas de protección tradicionales no garantizan el control de la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atentes, copyrights y trademarks buscan desincentivar la copi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ío consiste en buscar formas para maximizar el valor de la propiedad intelectual, no para maximizar la protección de la mis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Gestión de derechos sobre propiedad intelectu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14BE-76DF-41B5-B5EB-D5EAB88DF6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749160"/>
            <a:ext cx="6433920" cy="6088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licon Valle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466920" cy="698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09680" y="1484280"/>
            <a:ext cx="3200400" cy="2527200"/>
            <a:chOff x="2209680" y="1484280"/>
            <a:chExt cx="3200400" cy="2527200"/>
          </a:xfrm>
        </p:grpSpPr>
        <p:sp>
          <p:nvSpPr>
            <p:cNvPr id="56" name=""/>
            <p:cNvSpPr/>
            <p:nvPr/>
          </p:nvSpPr>
          <p:spPr>
            <a:xfrm>
              <a:off x="2209680" y="14842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71800" y="186516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00560" y="3214800"/>
              <a:ext cx="76176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0" y="3629160"/>
              <a:ext cx="76212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2514600"/>
              <a:ext cx="76176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67080" y="19810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0DD8-B0F5-479B-9536-F96A34C9B8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stos de producción y costos de distribu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a tecnología digital </a:t>
            </a:r>
            <a:r>
              <a:rPr b="0" lang="es-ES_tradnl" sz="1800" spc="-1" strike="noStrike" u="sng">
                <a:solidFill>
                  <a:srgbClr val="6876e7"/>
                </a:solidFill>
                <a:uFillTx/>
                <a:latin typeface="Verdana"/>
              </a:rPr>
              <a:t>cambia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 dos de los costos relevantes a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Reduce dramáticamente los costos de hacer perfectas reproducciones y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Permite distribuir dichas reproducciones rápida y fácilmente, a un costo despreciable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adelantos tecnológicos han logrado cambios significativos en uno de los dos, pero el hecho de que cambien ambos crea oportunidades únicas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grabador de cassettes disminuye 1, pero no 2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fotocopia de la mona lisa permite una distribución masiva de la obra, pero para apreciar toda su calidad es necesario visitar Paris (1 no, 2 si)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La radio AM permite una distribución barata de música, pero de baja calidad e impidiendo que el usuario controle la reproduc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D8C6-2B12-405C-9F36-F2C3691EC6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galar el contenido (alineado con característica de bienes de experiencia de la 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nsumidores no saben a priori cual es el valor de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uestras gratis son una vieja práctica que ha resultado muy útil para Internet, sobretodo porque se puede controlar el consum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jemplos: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ff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ibrerías en US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n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Importancia de los formatos y costumbres: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MOL no sustituye 100% al diario El Mercurio: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Disponibilidad de un libro online no necesariamente daña las ventas del mismo, sino que las increm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C368-EFD1-4E59-BCF3-F3C9188A38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540320" y="4329000"/>
            <a:ext cx="2465280" cy="2071800"/>
            <a:chOff x="4540320" y="4329000"/>
            <a:chExt cx="2465280" cy="20718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715000" y="4641840"/>
              <a:ext cx="129060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540320" y="4329000"/>
              <a:ext cx="2165400" cy="20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48360" y="1523880"/>
            <a:ext cx="766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repeticiones (música, películas infanti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adio es de hecho una publicidad del contenido que transmite, pero en un empaque más conven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D es lo que en economía se denomina un “Option Value”: El propietario puede ejercer la opción de escuchar la canción que desee en el momento que dese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Los niños y el deseo de repetir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so Barney vs. Disney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3BB9-3700-4A7B-BB32-B8EEF14ADF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bienes similares pero no idént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vista Playboy: Los “lectores” se aburrirían rápido si siempre vinieran exactamente las mismas imágenes. Ello quieren variación… pero no tanto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ribución digital de imágenes permite la incorporación de sellos de agua o incluso variaciones tecnológicas más relevantes (especie de encriptación gráfica, modificando brillo, contraste o colore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intas versiones del mismo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043D-D982-4451-9722-CDC8B4145D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s Complement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Índices de contenido de reportes (consultoras, investment banks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Titulares y artículos básicos en diarios y revis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conomis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ontenido completo pero en formato incómodo  no imprimible (muchos links, mucha publicidad mezclad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B647-0D07-41CC-A03F-BE004A5C8C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p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M vs Toyo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C vs Mac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ock-in (amarre, cautiv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ovedores buscan amarrar a sus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sumidores evitan sentirse amarrad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82AC-C2A1-47E0-B497-7DB06868F3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ras durables (Centrales teléfono, Iomega Z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emplazo de eqip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decrecer lock-in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ambién disminuye cuando la depreciación es muy rápida (continuas mejoras tecnológicas) o si existe un mercado secundario (usado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ocimiento o entrenamiento específico de mar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izaje de un nevo sistem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cluye costos directos y pérdida de productivida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aumentar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 clásico: casi cualquier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330E-6EE9-42CD-94B2-D44D8CCC39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formación y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W y SW usado para almacenar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vertir data en un nuevo forma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iende a aumentar con el tempo al crecer la da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jemplos clásicos: Vinilo - CD; VHS - Laserdisc - DVD …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Books (adobe vs microsoft),  eMusic (Real vs microsoft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veedores especi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Búsqueda de nuevos proveedores que cumplan requerimient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romisos contractu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ultas o compens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gramas de fidelidad y lealtad de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ock-in artificia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sto: necesidad de construir confianza como usuari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C298-C5F4-402D-AF08-75FF450A73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 ciclo de 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0574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5720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ntrañ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Lock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4" idx="3"/>
            <a:endCxn id="207" idx="0"/>
          </p:cNvCxnSpPr>
          <p:nvPr/>
        </p:nvCxnSpPr>
        <p:spPr>
          <a:xfrm>
            <a:off x="5769000" y="2212560"/>
            <a:ext cx="1116720" cy="11358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09" name=""/>
          <p:cNvCxnSpPr>
            <a:stCxn id="207" idx="2"/>
            <a:endCxn id="205" idx="3"/>
          </p:cNvCxnSpPr>
          <p:nvPr/>
        </p:nvCxnSpPr>
        <p:spPr>
          <a:xfrm rot="5400000">
            <a:off x="5791320" y="3634560"/>
            <a:ext cx="107064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205" idx="1"/>
            <a:endCxn id="206" idx="2"/>
          </p:cNvCxnSpPr>
          <p:nvPr/>
        </p:nvCxnSpPr>
        <p:spPr>
          <a:xfrm rot="10800000">
            <a:off x="2235960" y="3656880"/>
            <a:ext cx="1116720" cy="10706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206" idx="0"/>
            <a:endCxn id="204" idx="1"/>
          </p:cNvCxnSpPr>
          <p:nvPr/>
        </p:nvCxnSpPr>
        <p:spPr>
          <a:xfrm flipH="1" flipV="1" rot="5400000">
            <a:off x="2226960" y="2221920"/>
            <a:ext cx="113580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AE0E-5512-41DE-9A50-A65ED93C7B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 (searching cost): costos de transacción de buscar un nuevo provee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 de cambio = costo de búsqueda + costo de evaluación (para elegir) + costo de desechar proveedor ac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Reemplazo de VHS por DV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valuar razones por las que se desea / requiere e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DVD (características, ventajas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los distintos proveedores de DV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egir un proveedor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osiblemente comprar un nuevo TV por la conexión coaxial del ant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jar de ver algunas películas que sólo están disponibles en VHS (costo social de no poder opinar en alguna reun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4F71-8CFD-41B5-9D33-B0AFF8E652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Objetivo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252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egar herramientas para el análisis formal de las diferentes opciones de uso de Internet en los negoci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ntender los cambios que Internet está causando en el mundo de los negoc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Permitir  la toma de decisiones de marketing estratégico en el uso de Internet en la empres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EAE4-F0EC-4587-BCF8-9CE2697B63A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s d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Bay, Half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istema de reputación de usuarios (rat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Bay: 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lf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maz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so de perfil de usuario y actividades pasadas para recomend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F46C-35C1-47BF-BC8F-8C4D43A605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Metcalfe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l valor de una red es proporcional al cuadrado del número de usuario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n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que tiene para un usuario cualquiera que haya otro usuario en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total de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 = (# usuarios)*(valor por usuario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por usuario = (n – 1)v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= n(n-1) v = (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– n)v ~ 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438120" y="5867280"/>
            <a:ext cx="695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* F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dador de 3com e inventor del protocolo de comunicación de redes 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5413-11BB-496B-9756-3C7B21D218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V = número de comunicaciones que se pueden realizar en un r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n: número de usuarios de la r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333400" y="2576520"/>
            <a:ext cx="56268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09480" y="2590920"/>
          <a:ext cx="1524240" cy="25905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7694640" y="425304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2160" y="41767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7440" y="23479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1" idx="7"/>
            <a:endCxn id="225" idx="1"/>
          </p:cNvCxnSpPr>
          <p:nvPr/>
        </p:nvCxnSpPr>
        <p:spPr>
          <a:xfrm flipV="1">
            <a:off x="5811840" y="241848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3"/>
            <a:endCxn id="221" idx="5"/>
          </p:cNvCxnSpPr>
          <p:nvPr/>
        </p:nvCxnSpPr>
        <p:spPr>
          <a:xfrm flipH="1">
            <a:off x="5811480" y="270936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1" idx="3"/>
            <a:endCxn id="224" idx="2"/>
          </p:cNvCxnSpPr>
          <p:nvPr/>
        </p:nvCxnSpPr>
        <p:spPr>
          <a:xfrm>
            <a:off x="5416560" y="2938320"/>
            <a:ext cx="527760" cy="14565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4" idx="1"/>
            <a:endCxn id="221" idx="4"/>
          </p:cNvCxnSpPr>
          <p:nvPr/>
        </p:nvCxnSpPr>
        <p:spPr>
          <a:xfrm flipH="1" flipV="1">
            <a:off x="5614560" y="2998440"/>
            <a:ext cx="411840" cy="12499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7"/>
            <a:endCxn id="223" idx="1"/>
          </p:cNvCxnSpPr>
          <p:nvPr/>
        </p:nvCxnSpPr>
        <p:spPr>
          <a:xfrm>
            <a:off x="6420960" y="424800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24" idx="5"/>
          </p:cNvCxnSpPr>
          <p:nvPr/>
        </p:nvCxnSpPr>
        <p:spPr>
          <a:xfrm flipH="1" flipV="1">
            <a:off x="6420600" y="453852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5" idx="5"/>
            <a:endCxn id="223" idx="0"/>
          </p:cNvCxnSpPr>
          <p:nvPr/>
        </p:nvCxnSpPr>
        <p:spPr>
          <a:xfrm>
            <a:off x="7716600" y="2709720"/>
            <a:ext cx="261000" cy="15552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3" idx="7"/>
            <a:endCxn id="225" idx="6"/>
          </p:cNvCxnSpPr>
          <p:nvPr/>
        </p:nvCxnSpPr>
        <p:spPr>
          <a:xfrm flipH="1" flipV="1">
            <a:off x="7798680" y="2565000"/>
            <a:ext cx="375480" cy="1759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1" idx="5"/>
            <a:endCxn id="223" idx="1"/>
          </p:cNvCxnSpPr>
          <p:nvPr/>
        </p:nvCxnSpPr>
        <p:spPr>
          <a:xfrm>
            <a:off x="5811840" y="2938320"/>
            <a:ext cx="1967760" cy="13867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3" idx="0"/>
            <a:endCxn id="221" idx="6"/>
          </p:cNvCxnSpPr>
          <p:nvPr/>
        </p:nvCxnSpPr>
        <p:spPr>
          <a:xfrm flipH="1" flipV="1">
            <a:off x="5893920" y="2793600"/>
            <a:ext cx="2083680" cy="14709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5" idx="3"/>
            <a:endCxn id="224" idx="0"/>
          </p:cNvCxnSpPr>
          <p:nvPr/>
        </p:nvCxnSpPr>
        <p:spPr>
          <a:xfrm flipH="1">
            <a:off x="6224040" y="2709720"/>
            <a:ext cx="1097640" cy="14788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4" idx="7"/>
            <a:endCxn id="225" idx="4"/>
          </p:cNvCxnSpPr>
          <p:nvPr/>
        </p:nvCxnSpPr>
        <p:spPr>
          <a:xfrm flipV="1">
            <a:off x="6421320" y="2769480"/>
            <a:ext cx="1099440" cy="1478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1607040" y="345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7040" y="3886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1160" y="432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0" y="4743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534520" y="6019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1360-CB73-40B9-B542-9C3B6117478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sto de adquisición de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qué pagar por adquirir un cliente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n-1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para usuarios n: (n-1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que aporta a la red el usuario n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2n - 1 &gt; n – 1, enton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 valor que agrega a la red la incorporación de un usuario es mayor que el valor que entrega la red a ese usuar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971800" y="3352680"/>
                <a:ext cx="29718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0345-0BD3-44CB-A2D4-149FE69590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disrup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entras no se alcance una masa crítica de usuarios, un cambio tecnológico sólo afecta la tecnología; cuando esa masa crítica se logra, se producen cambios en los sistemas económicos, políticos y sociale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69B6-DC9B-47E4-B007-F390E25EA06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eléfon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 o 2 usuarios son de dudosa ut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urante mucho tiempo se mejoró la tecnología sobretodo para lograr la comunicación a través de los tableros de conex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ólo en 1931 se incorpora un discado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61 – 1993: desarrollo de tecnología y apl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93: 2.5 millones de hosts conectad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F867-109A-4A1B-8F5C-9AC1DA20667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ey de Metcalfe en rever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mpedir el crecimiento de la red para generar lock-i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OL IM: evitar que usuarios de MS y Yahoo! Se comuniquen con clientes A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Universal Studios: prohibe que sitios de películas hagan links a sus sinópsis y conteni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iciativas de construir murallas alrededor debieran fracasar debido a la ley de Metcalf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egún esta ley, las redes grandes siempre ganarán a las pequeñas, aun cuando las pequeñas tengan una ventaja inici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ternet, al ser la más grande de las redes, debiera ganar sobre cualquier otra re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5637-284F-466F-90CB-619AC3A364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Uso de la ley en reversa para determinar el efecto de particionar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de la red: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d se divide en N partes igu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w = Valor de cada mini-red: 1/N</a:t>
            </a:r>
            <a:r>
              <a:rPr b="0" lang="es-MX" sz="2400" spc="-1" strike="noStrike" baseline="30000">
                <a:solidFill>
                  <a:srgbClr val="6876e7"/>
                </a:solidFill>
                <a:latin typeface="Verdana"/>
              </a:rPr>
              <a:t>2 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eces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y N mini-redes de igual val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total de las N mini-redes sum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N*(1/N</a:t>
            </a:r>
            <a:r>
              <a:rPr b="0" lang="es-MX" sz="2800" spc="-1" strike="noStrike" baseline="30000">
                <a:solidFill>
                  <a:srgbClr val="ed181e"/>
                </a:solidFill>
                <a:latin typeface="Verdana"/>
              </a:rPr>
              <a:t>2</a:t>
            </a: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)*V = (1/N) * V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9C77-D12F-4208-8152-E8B4BF11EA5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Mensajeros Instantáne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 sólo provee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600.000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horro en teléfono:  $5 por cada mensaje eviado a otro 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da usuario envía mensaje sólo a 20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1 sól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600.000 X 5 X 20 = $60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 existen 5 proveedores no compatibles con 120.000 usuarios cada uno, con 1/5 de sus conocidos compartiendo la red )sólo puede enviar mesnaje a 4 de sus conoci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w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cada una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120.000 X 5 X 4 = 2.4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de las 5 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= 5 x 2.400.000 = $12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érdida social: $48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34B9-222A-463E-87F6-BBE8D61459A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Generalmente 2 sub-re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suarios, clientes o demandant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Radiotaxi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ompraventa de autos o propiedad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Marketpla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afí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apacidad de generar las 2 sub-redes simultáneam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scalabilidad y masa crític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BB15-A3B2-4BBD-9AAF-10A4F8CAE8D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se podrán contestar al finalizar 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omo evaluar con rigurosidad y método los modelos de negocio de una compañí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Por qué y dónde fallaron los modelos de muchas compañías de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formas de comunicación son más apropiadas par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fijar precios de bienes digitales y de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diferenciarse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lograr ventajas competitivas sustentables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tipos de conflictos pueden surgir con la implementación de modelos de Internet y cómo resolv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B856-F808-4B20-BDA2-72CBACB3D25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xternalidades de redes y modelos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oomera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: servicio para realizar encuestas con herramientas de análisis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presas: Acceso a poblaciones muestrales con alto grado de perfilami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suarios: Posibilidad de realizar encuestas sencillas a cambio de perfil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ipRealty y Habi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ferentes: sistema de Back-office y administración de propieda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emandantes: información útil para decidir sobre propiedades, asesoría inmobiliaria, servicio de visi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81F8-CFCF-4569-BCD9-98740723E30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ejempl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otencial de negocio de los eMarketpl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Icons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con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Artik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Merco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Laboru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Farox, AyL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6529-AAE1-4861-B622-222272FCA5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egun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aprovechar las externalidades de red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comenzar el feedback positivo? 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romper la inercia de lo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crear una buena razón para cambia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5791320"/>
            <a:ext cx="177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Valor Agregado total a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343400"/>
            <a:ext cx="30477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807360" y="461376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articipación del Valor de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67640" y="404496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80720" y="54928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4280" y="57913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semp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680" y="4343400"/>
            <a:ext cx="30470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795960" y="4482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Compat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5760" y="40449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35960" y="549288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R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0840" y="4502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p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8006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62760" y="47671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9D61-DF3A-4A48-AE36-8E762BB001A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sempeño (performance) versus compat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Revolución asociada al desempeñ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Revolución ofrece mejoras en el desempeño / ca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Evolución asociada a la compatib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Evolución ofrece una ruta de migr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ertura versus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C: IBM, Intel Pentium, Microsoft 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eta versus VH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cordar que el objetivo es maximizar el valor de la nueva tecnología y no el control sobre ell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0D2F-AA77-4373-9E64-0D026B2AF50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2666880"/>
          <a:ext cx="8534160" cy="2424240"/>
        </p:xfrm>
        <a:graphic>
          <a:graphicData uri="http://schemas.openxmlformats.org/drawingml/2006/table">
            <a:tbl>
              <a:tblPr/>
              <a:tblGrid>
                <a:gridCol w="2590560"/>
                <a:gridCol w="3265560"/>
                <a:gridCol w="267804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er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control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Windows 98, Intel Pentium 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abi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modem y fa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emp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erforma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uesta al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Nintendo, Palm Pilot, Iomega ZI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ontin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CD, DV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EB49-B154-4287-ADC1-685FE34630C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ácticas bá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ticipa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ovecar feedback posi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er por experiencia (curva de aprendizaje) reduce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xternalidades de re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dministración de expect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laves cuando la decisión de compra depende de lo que los clientes esperan que suced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unicacíon predator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anzar a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BB72-5CBC-4BF0-AD5F-20668223FA0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447920" y="2666880"/>
          <a:ext cx="7162560" cy="2665440"/>
        </p:xfrm>
        <a:graphic>
          <a:graphicData uri="http://schemas.openxmlformats.org/drawingml/2006/table">
            <a:tbl>
              <a:tblPr/>
              <a:tblGrid>
                <a:gridCol w="2209680"/>
                <a:gridCol w="2705040"/>
                <a:gridCol w="2247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versus r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versus 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657600" y="2181240"/>
            <a:ext cx="493704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20520" y="3925440"/>
            <a:ext cx="1981080" cy="825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FAF3-C399-4BB4-9AF2-97EB775FC2E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CBE9-090A-4226-A9CD-7E77446AFA7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para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1763640" y="2276640"/>
            <a:ext cx="4500720" cy="198108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(de mercad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mejo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cambi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integ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9606-B70D-4335-BC83-95B3F688634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a “2 bandas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3285360" y="1486080"/>
            <a:ext cx="253980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OPUESTA DE NEG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LI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1413000"/>
            <a:ext cx="194436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of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77080" y="1413000"/>
            <a:ext cx="194472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demand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9000000">
            <a:off x="2267640" y="184428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00" y="3573360"/>
            <a:ext cx="140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2400" y="357336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rot="12600000">
            <a:off x="6084000" y="1917360"/>
            <a:ext cx="791280" cy="360360"/>
          </a:xfrm>
          <a:custGeom>
            <a:avLst/>
            <a:gdLst>
              <a:gd name="textAreaLeft" fmla="*/ 98640 w 791280"/>
              <a:gd name="textAreaRight" fmla="*/ 692640 w 791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77960" y="3502080"/>
            <a:ext cx="218772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(Propuesta de Val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3957120" y="2096280"/>
            <a:ext cx="1213560" cy="1365120"/>
          </a:xfrm>
          <a:custGeom>
            <a:avLst/>
            <a:gdLst>
              <a:gd name="textAreaLeft" fmla="*/ 151560 w 1213560"/>
              <a:gd name="textAreaRight" fmla="*/ 1062000 w 1213560"/>
              <a:gd name="textAreaTop" fmla="*/ 341280 h 1365120"/>
              <a:gd name="textAreaBottom" fmla="*/ 1023840 h 1365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Análisis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 rot="10800000">
            <a:off x="2267280" y="364392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 rot="10711800">
            <a:off x="6086520" y="3643920"/>
            <a:ext cx="790560" cy="360360"/>
          </a:xfrm>
          <a:custGeom>
            <a:avLst/>
            <a:gdLst>
              <a:gd name="textAreaLeft" fmla="*/ 98640 w 790560"/>
              <a:gd name="textAreaRight" fmla="*/ 691920 w 790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4920" y="5540400"/>
            <a:ext cx="2592360" cy="4809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Oferta ef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rot="16200000">
            <a:off x="3995640" y="3429000"/>
            <a:ext cx="1152720" cy="2736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684000 h 2736720"/>
              <a:gd name="textAreaBottom" fmla="*/ 20527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26FF-AF61-4A8F-A4E6-8154E1F7279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NO se podrán contestar con este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omo diseñar páginas web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significa web, http, ww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es o como se programa en html, java, flash, javascrip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diferencia hay entre Explorer o Netscap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decidir entre Microsoft, SUN, Oracle, Syba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as otras de corte tecnológ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C30C-118A-471C-ABD2-9243120D372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egun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Qué modelo utilizar para el análisis de oportunidades (de mercado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Es el análisis diferente en la economía de la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Cómo identificamos necesidades no cubiertas o sub-satisfech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 donde provienen los recursos para entregar los beneficios de la oferta propuest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o determinamos el atractivo de la oportunida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AD94-97A6-44B2-B7C4-70B98782D62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iagnosticar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portunidade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630440" y="1523520"/>
            <a:ext cx="576108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oportunidad en sistema de valor existente o nue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39800" y="2136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scubrir nucleo de la oportunidad: necesidades no cubiertas o sub-satisfec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39800" y="2976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segmento objetivo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39800" y="358488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los recursos de la compañía necesarios para tomar una posición ventaj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33680" y="4422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terminar atractivo competitivo, tecnológico y financiero de la 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39800" y="5262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Tomar decisión de IR / NO 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0" idx="2"/>
            <a:endCxn id="331" idx="0"/>
          </p:cNvCxnSpPr>
          <p:nvPr/>
        </p:nvCxnSpPr>
        <p:spPr>
          <a:xfrm>
            <a:off x="4511160" y="1836360"/>
            <a:ext cx="11880" cy="2926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1" idx="2"/>
            <a:endCxn id="332" idx="0"/>
          </p:cNvCxnSpPr>
          <p:nvPr/>
        </p:nvCxnSpPr>
        <p:spPr>
          <a:xfrm>
            <a:off x="4522320" y="2665080"/>
            <a:ext cx="108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2" idx="2"/>
            <a:endCxn id="333" idx="0"/>
          </p:cNvCxnSpPr>
          <p:nvPr/>
        </p:nvCxnSpPr>
        <p:spPr>
          <a:xfrm>
            <a:off x="4522320" y="3289320"/>
            <a:ext cx="1080" cy="2880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3" idx="2"/>
            <a:endCxn id="334" idx="0"/>
          </p:cNvCxnSpPr>
          <p:nvPr/>
        </p:nvCxnSpPr>
        <p:spPr>
          <a:xfrm flipH="1">
            <a:off x="4515840" y="4113000"/>
            <a:ext cx="6840" cy="3020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4" idx="2"/>
            <a:endCxn id="335" idx="0"/>
          </p:cNvCxnSpPr>
          <p:nvPr/>
        </p:nvCxnSpPr>
        <p:spPr>
          <a:xfrm>
            <a:off x="4516200" y="4951080"/>
            <a:ext cx="684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106D-0934-4D4E-A1DE-BA3BF4F95C4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1. 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dentifica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ión de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istema de valor es el campo de jue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dena completa de proveedores, distribuidores, competidores, compradores e intermediar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dentificar oferta existente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eneralmente el punto de partida es la creencia o convencimiento de que algo puede ser reinventado o transformad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económicas pueden ser redireccionadas o cre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0AA8-C494-4076-B858-9B2043D9231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2. Descubrir núcleo de la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umentar satisfacción de los cli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rear una nueva experi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Como sab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hacen los consumidores que les produce frustración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dejan de hacer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puede ser mejorado, aun cuando no sea percibido por los usuarios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scubr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no cubiertas o insatisfech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pobremente servi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ED39-2213-4B18-865F-8CA48923F83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3. Segmento obje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dentificación y elección de clientes priorit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ntendimiento preliminar del atractiv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ienes son? ¿qué los hace atractivos? ¿qué experiencias están buscand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se les puede ofrec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cambios requeriría la organizació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46F4-E68D-42AE-BEF4-D9E91CA1D19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4. Recursos de la compañí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xaminar las capacidades y actividades que la organización puede utilizar para lograr la oferta en una posición ventajo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Por qué se puede gan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ferenciar los recursos críticos de aquellos menos releva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BB78-4444-47D1-81A2-3CAEC230090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5. Determinar atrac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nálisis de ambiente financiero, tecnológico y competitivo del mer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tractivo económic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A9A7-104B-4521-8569-C4C1D680211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puede ocurrir a través de los límites de diferentes industr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: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ntes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hor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ración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vista especializa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úsque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lasificados de El Mercur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 o automoto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Financiamient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anco, financie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ñía de 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uestos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, taller, 10 de Jul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a gran rapid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as constantes y lanzamientos inmedia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apidez de copia de buenas prácticas obliga a ser más innovadores y creativ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Éxito ligado a alianzas y colabo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ars.com no es capaz de hacer todo lo que ofrece sol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6D76-5597-41ED-8AD4-C1B0DB05B77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umidores aún están en las primeras etapas de adop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rade-off entre facilidad de influenciarlos y resistencia a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stemas de valor de las industrias se reconfiguran ráp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isco, DELL, Wal-Mart y su uso de Internet B2B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fomediación: 2 análisis en vez de un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deman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EE02-1345-4F5E-8956-69EEFDB5F18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bjetivo del análisi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entificar fuentes de creación de valor o modificación (mejoramiento) de valor exist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Crear valor: “valor nuevo” en el mun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gregar valor: “valor atrapado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FCBC-A0F7-471F-AD2E-FE0361454C4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cerca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so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strate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remos algunos conceptos de “estrategia corporativa” y “estrategias de negocios” para definir, evaluar e implementar “estrategias de Interne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foco estará en los aspectos comerciales  y de marketing y no tecnológic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emos la distinción entre estrategia y planific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817C-CD9B-4F1B-9668-2C1318ACBD9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negocios consisten en un conjunto discreto y finito de individuos y organizaciones que realizan actividades con el objeto de entregar algún beneficio a los consumidores a través de productos o servicios y así lucrar o no lucrar de e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as actividades integradas constituyen una “caden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s cadenas de valor que están ligadas a una industria se denomina “sistem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Sistema de Valor”: Interconexión de procesos y actividades dentro y a través de firmas que crean beneficios para intermediarios y consumidor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B5C6-4A1A-42A9-8B08-6E8C6E5933E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ie de actividades, funciones y procedimientos que resultan en la creación de un producto o servicio final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compra de materiales, producción, marketing, ventas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de soporte o complementarias para asegurar viavilidad y sustentabilidad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planificación financiera, control de gestión reclutamiento, investigación y desarrollo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901"/>
              </a:spcBef>
              <a:buClr>
                <a:srgbClr val="000000"/>
              </a:buClr>
              <a:buFont typeface="Verdana"/>
              <a:buChar char="=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d181e"/>
                </a:solidFill>
                <a:latin typeface="Verdana"/>
              </a:rPr>
              <a:t>Firma</a:t>
            </a:r>
            <a:endParaRPr b="0" lang="en-US" sz="3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E600-721E-438D-B968-B36306C3263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l objetivo de la firma 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Reconfigurar cadenas de valor existentes para liberar Valor “Atrapa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Crear beneficios inexistentes al introducir Valor “nuevo en el mun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BB31-7315-438D-8F5D-75816552DB1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Atrapa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istente en esencia, pero cerrado, atrapado por tradición, inercia, cultura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Agreg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4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mercados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yendo costos de búsqueda y transacción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senegocia.com, Habitante, Autod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sistemas de valor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ción o eliminación de pas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GTNexus, FedEx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tar acces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Laborum.com, Guru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omper relaciones de poder de precios vig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ambio de manos de los excedentes o márge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ysimon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297C-87F3-482D-AF55-34FCA4C983F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Nuevo en el mun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Cre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5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Oferta personalizada (customizada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i.XXX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iqueza y alcance radicalmente extendi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strucción de comunidades (marketing vira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Chat rooms, virtual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colaboración remo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uzzsaw.com</a:t>
            </a: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, </a:t>
            </a: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lanOK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roducir nuevas funcionalidades o “experiencial”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ompartir fotografías o incluso películas familiar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94C3-C7A6-4F67-926D-B6595656914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dentificación de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imero: examinar proceso de decisión de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Pasos que realiza hasta decidi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ién está involucrado y en que ro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patrones seguidos por diferente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onde tiene lugar el proces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Tiempo total del proceso? ¿Tiempo de cada pad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categorías y competidores considerad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Alternativas descartadas a priori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e consumidoresno participan? ¿Por que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 algunos casos, dos o más sets de consumidores: usuarios y clientes (EMOL, CN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A09D-24D1-46BD-9859-F22DEA6EE02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velando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asado en el proceso de decisió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sería la experienci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nto difiere (y cómo) la realidad de lo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les son los aspectos críticos de frustr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comportamientos compensatorios identificam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necesidades están siendo cubiertas pero pobremente (aunque el cliente no se de cuenta)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Existen grupos que por motivos de entorno experimenten diferentes grados de satisfac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puede ayudar Internet a disminuir la brecha entre la experiencia real y l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8FCF-9AD1-4953-B200-6B5E45E07FC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Por que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Fundamental para desarrollar ventajas competitivas sustentab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Diferenci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Bajos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oco estratégic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Permite determinar los beneficios a ofrecer (modelo de negocio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yuda a lograr una comunicación más e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ed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recuenc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C4CE-A412-4E11-BD8E-DEEA2295D5C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Cómo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El sentido común no siempre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Identificar tantas variables de segmentación como sea posib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Descartar razonablemente las menos signific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Realizar estudios cuantit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8F1A-C4F0-483C-BA02-19C1F6C8E50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y Targeting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ferenciación de consumidores respecto de variables determina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25320" y="1825560"/>
          <a:ext cx="7985160" cy="44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25560"/>
                    <a:ext cx="79851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7B08-B22F-49F1-93D3-1905FD335EF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s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s de Inter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álisis de Internet como plataforma de nego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portunidades de merc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Nego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AC48-EC46-4A32-A6A8-0901DD9C9D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querimientos para una segmentación efectiv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314280" y="15033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gnific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1440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onsumidores deben demostrar necesidades, aspiraciones o patrones de comportamiento que sean similares dentro de un mismo segmento y diferentes entre segmen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distinción de segmentros entre sensibilidad al precio y buscador de calidad es significativa, pues ambos segmentos muestran un set de necesidades distinguibl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a compañía debe ser capaz de alcanzar consumidores dentro de cada segmento a través de un plan de márketing efectivo y focaliz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segementación consistente en consumidores con ojos café no es accionable, pues es difícil identificar y alcanzar sólo esos consumidor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gmentos deben ser suficientemente grandes y rentables para justificar las inversiones necesarias en servirl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 sitio llamado myCFO.com está orientado a individuos con altos ingresos o riqueza, para manejar sus portafolios de inversión. Aún cuando el número de esos individuos no es muy grande, el tamaño en $ es considerable, constituyendo un segmento sustancial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aracterísticas básicas de los segmentos (tamaño, patrón de gasto, etc.) deben ser fáciles de me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28479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ccio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960" y="403848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st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5362560"/>
            <a:ext cx="159048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ed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D918-DF98-46C6-807C-A6DA5E115412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basada en neces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sumidores y negocios compran bienes y servicios porque satisfacen sus neces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mismo producto puede satisfacer diferentes necesidades; una persona podría comprar pastillas de menta para refrescar su aliento, porque disfruta su sabor o porque le ayuda a dejar de fum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busca entender por qué una compra es realizada (es decir, que necesidad está siendo satisfecha) y para dividir el mercado en grupos de compradores cuyas necesidades son homogé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es particularmente útil para compañías de tecnología porque previene el desarrollo de nuevos productos o capacidades tecnológicas sólo porque es posible o porque son “cool”, pero posiblemente innecesar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50AA-7F79-473B-9A2A-0175BF0031C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eterminación del atractivo compet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nsidad competi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ntidad de competi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ortalezas y debilidades en la entrega de benefic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namicas de cli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satisfacción de neces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agnitud de las oportun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teracción entre segmentos principal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sa de crecimiento espera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ulnerabilidad tecn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penetración de tecnologías necesarias para la entrega de los beneficios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nuevas tecnologías en la propuesta de val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spectos microeconó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maño y volumen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rent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32AE-1E72-4CF6-9B30-5EBA8C2C0E2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para el negocio de Viaj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39920" y="3132000"/>
            <a:ext cx="209736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 de ve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11640" y="262908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Otros 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3635280"/>
            <a:ext cx="1020600" cy="9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C91F-15D1-427A-B2AA-77C4D3DB9D9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Número de Viajes / Segm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00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6686640"/>
            <a:ext cx="228600" cy="152280"/>
          </a:xfrm>
          <a:prstGeom prst="rect">
            <a:avLst/>
          </a:prstGeom>
          <a:solidFill>
            <a:srgbClr val="99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624780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35160" y="64285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0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35160" y="66096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0%±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73D0-8ECA-4ADF-8482-856A4C1D893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iorización de segmentos de Pricelin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targeting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6876e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48120" y="624780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arget Pri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48480" y="64303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prox. 45% - 55% d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87F9-97CB-4F2E-AC9B-FBE4493AFD4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perfil competitivo de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1371600"/>
            <a:ext cx="7440480" cy="4694400"/>
          </a:xfrm>
          <a:prstGeom prst="ellipse">
            <a:avLst/>
          </a:prstGeom>
          <a:solidFill>
            <a:srgbClr val="fee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04960" y="1968480"/>
            <a:ext cx="5556240" cy="3500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2492280"/>
            <a:ext cx="3711600" cy="245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1981080"/>
            <a:ext cx="690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2438280"/>
            <a:ext cx="672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259092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t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00600" y="22860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205740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bi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971800"/>
            <a:ext cx="939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05400" y="3568680"/>
            <a:ext cx="1028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74080" y="4038480"/>
            <a:ext cx="1046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In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2362320"/>
            <a:ext cx="976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, Un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34320" y="259092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 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24480" y="32004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5562720"/>
            <a:ext cx="97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especializ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72080" y="32767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3581280" y="41911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2819520" y="358128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352680" y="2819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8"/>
          <a:stretch/>
        </p:blipFill>
        <p:spPr>
          <a:xfrm>
            <a:off x="4495680" y="4267080"/>
            <a:ext cx="685800" cy="4795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 rot="8069400">
            <a:off x="5676480" y="38476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8956400">
            <a:off x="3124080" y="33523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785200">
            <a:off x="5676480" y="308592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230600">
            <a:off x="4800240" y="26668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0377800">
            <a:off x="3886200" y="26665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3919400">
            <a:off x="3238200" y="41522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1610000">
            <a:off x="4190760" y="441936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0069200">
            <a:off x="5028480" y="43430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17680" y="3048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inanci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 propie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28520" y="38862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ue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16480" y="449568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ru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27840" y="29052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tic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ere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37480" y="32004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te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358128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rien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37360" y="4648320"/>
            <a:ext cx="71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ac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71480" y="43434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Lar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63040" y="4419720"/>
            <a:ext cx="75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et2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6000" y="472428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4876920"/>
            <a:ext cx="690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5181480"/>
            <a:ext cx="673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50292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51480" y="3733920"/>
            <a:ext cx="65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rs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05200" y="3962520"/>
            <a:ext cx="68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byt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79960" y="1828800"/>
            <a:ext cx="56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34040" y="2209680"/>
            <a:ext cx="103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as financi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33480" y="3824280"/>
            <a:ext cx="58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a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4CF2-3189-4680-AB6A-147E16D9755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desempeño competitivo por segmento para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68360" y="1341360"/>
            <a:ext cx="8292960" cy="4914720"/>
            <a:chOff x="468360" y="1341360"/>
            <a:chExt cx="8292960" cy="4914720"/>
          </a:xfrm>
        </p:grpSpPr>
        <p:graphicFrame>
          <p:nvGraphicFramePr>
            <p:cNvPr id="546" name=""/>
            <p:cNvGraphicFramePr/>
            <p:nvPr/>
          </p:nvGraphicFramePr>
          <p:xfrm>
            <a:off x="468360" y="1341360"/>
            <a:ext cx="8292960" cy="4914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341360"/>
                      <a:ext cx="8292960" cy="491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8" name=""/>
            <p:cNvGrpSpPr/>
            <p:nvPr/>
          </p:nvGrpSpPr>
          <p:grpSpPr>
            <a:xfrm>
              <a:off x="542880" y="6019560"/>
              <a:ext cx="2116080" cy="179280"/>
              <a:chOff x="542880" y="6019560"/>
              <a:chExt cx="2116080" cy="179280"/>
            </a:xfrm>
          </p:grpSpPr>
          <p:sp>
            <p:nvSpPr>
              <p:cNvPr id="549" name=""/>
              <p:cNvSpPr/>
              <p:nvPr/>
            </p:nvSpPr>
            <p:spPr>
              <a:xfrm>
                <a:off x="542880" y="6022440"/>
                <a:ext cx="172800" cy="1728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2376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alt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754440" y="3576600"/>
              <a:ext cx="320760" cy="320400"/>
            </a:xfrm>
            <a:prstGeom prst="ellipse">
              <a:avLst/>
            </a:prstGeom>
            <a:solidFill>
              <a:srgbClr val="000000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170080" y="2300040"/>
              <a:ext cx="320760" cy="320760"/>
              <a:chOff x="2170080" y="2300040"/>
              <a:chExt cx="320760" cy="320760"/>
            </a:xfrm>
          </p:grpSpPr>
          <p:sp>
            <p:nvSpPr>
              <p:cNvPr id="553" name=""/>
              <p:cNvSpPr/>
              <p:nvPr/>
            </p:nvSpPr>
            <p:spPr>
              <a:xfrm>
                <a:off x="217008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7044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84440" y="6019560"/>
              <a:ext cx="2116080" cy="179280"/>
              <a:chOff x="3484440" y="6019560"/>
              <a:chExt cx="2116080" cy="17928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3484440" y="6024240"/>
                <a:ext cx="172800" cy="173160"/>
                <a:chOff x="3484440" y="6024240"/>
                <a:chExt cx="172800" cy="1731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484440" y="6024240"/>
                  <a:ext cx="172800" cy="173160"/>
                </a:xfrm>
                <a:prstGeom prst="ellipse">
                  <a:avLst/>
                </a:prstGeom>
                <a:solidFill>
                  <a:srgbClr val="ffffff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484800" y="6024240"/>
                  <a:ext cx="172080" cy="172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864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86471"/>
                    </a:path>
                  </a:pathLst>
                </a:custGeom>
                <a:solidFill>
                  <a:srgbClr val="000000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386532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medi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426000" y="6019560"/>
              <a:ext cx="2116080" cy="179280"/>
              <a:chOff x="6426000" y="6019560"/>
              <a:chExt cx="2116080" cy="179280"/>
            </a:xfrm>
          </p:grpSpPr>
          <p:sp>
            <p:nvSpPr>
              <p:cNvPr id="561" name=""/>
              <p:cNvSpPr/>
              <p:nvPr/>
            </p:nvSpPr>
            <p:spPr>
              <a:xfrm>
                <a:off x="6426000" y="6022440"/>
                <a:ext cx="172800" cy="1731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0688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baj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754440" y="2300040"/>
              <a:ext cx="320760" cy="320760"/>
              <a:chOff x="3754440" y="2300040"/>
              <a:chExt cx="320760" cy="320760"/>
            </a:xfrm>
          </p:grpSpPr>
          <p:sp>
            <p:nvSpPr>
              <p:cNvPr id="564" name=""/>
              <p:cNvSpPr/>
              <p:nvPr/>
            </p:nvSpPr>
            <p:spPr>
              <a:xfrm>
                <a:off x="375444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5480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348160" y="2300040"/>
              <a:ext cx="320760" cy="320760"/>
              <a:chOff x="5348160" y="2300040"/>
              <a:chExt cx="320760" cy="320760"/>
            </a:xfrm>
          </p:grpSpPr>
          <p:sp>
            <p:nvSpPr>
              <p:cNvPr id="567" name=""/>
              <p:cNvSpPr/>
              <p:nvPr/>
            </p:nvSpPr>
            <p:spPr>
              <a:xfrm>
                <a:off x="534816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4852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937200" y="2300040"/>
              <a:ext cx="320400" cy="320400"/>
              <a:chOff x="6937200" y="2300040"/>
              <a:chExt cx="320400" cy="320400"/>
            </a:xfrm>
          </p:grpSpPr>
          <p:sp>
            <p:nvSpPr>
              <p:cNvPr id="570" name=""/>
              <p:cNvSpPr/>
              <p:nvPr/>
            </p:nvSpPr>
            <p:spPr>
              <a:xfrm>
                <a:off x="6937200" y="2300040"/>
                <a:ext cx="320400" cy="3204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37560" y="2300040"/>
                <a:ext cx="319680" cy="32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170080" y="3576600"/>
              <a:ext cx="320400" cy="320040"/>
              <a:chOff x="2170080" y="3576600"/>
              <a:chExt cx="320400" cy="320040"/>
            </a:xfrm>
          </p:grpSpPr>
          <p:sp>
            <p:nvSpPr>
              <p:cNvPr id="573" name=""/>
              <p:cNvSpPr/>
              <p:nvPr/>
            </p:nvSpPr>
            <p:spPr>
              <a:xfrm>
                <a:off x="217008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7044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5348160" y="3576600"/>
              <a:ext cx="320400" cy="320040"/>
              <a:chOff x="5348160" y="3576600"/>
              <a:chExt cx="320400" cy="320040"/>
            </a:xfrm>
          </p:grpSpPr>
          <p:sp>
            <p:nvSpPr>
              <p:cNvPr id="576" name=""/>
              <p:cNvSpPr/>
              <p:nvPr/>
            </p:nvSpPr>
            <p:spPr>
              <a:xfrm>
                <a:off x="534816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4852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348160" y="4913280"/>
              <a:ext cx="320400" cy="320040"/>
              <a:chOff x="5348160" y="4913280"/>
              <a:chExt cx="320400" cy="320040"/>
            </a:xfrm>
          </p:grpSpPr>
          <p:sp>
            <p:nvSpPr>
              <p:cNvPr id="579" name=""/>
              <p:cNvSpPr/>
              <p:nvPr/>
            </p:nvSpPr>
            <p:spPr>
              <a:xfrm>
                <a:off x="534816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34852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3754440" y="4913280"/>
              <a:ext cx="320760" cy="320400"/>
              <a:chOff x="3754440" y="4913280"/>
              <a:chExt cx="320760" cy="320400"/>
            </a:xfrm>
          </p:grpSpPr>
          <p:sp>
            <p:nvSpPr>
              <p:cNvPr id="582" name=""/>
              <p:cNvSpPr/>
              <p:nvPr/>
            </p:nvSpPr>
            <p:spPr>
              <a:xfrm>
                <a:off x="3754440" y="491328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5480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937200" y="3576600"/>
              <a:ext cx="320760" cy="320400"/>
              <a:chOff x="6937200" y="3576600"/>
              <a:chExt cx="320760" cy="320400"/>
            </a:xfrm>
          </p:grpSpPr>
          <p:sp>
            <p:nvSpPr>
              <p:cNvPr id="585" name=""/>
              <p:cNvSpPr/>
              <p:nvPr/>
            </p:nvSpPr>
            <p:spPr>
              <a:xfrm>
                <a:off x="6937200" y="357660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3756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70080" y="4913280"/>
              <a:ext cx="320400" cy="322920"/>
              <a:chOff x="2170080" y="4913280"/>
              <a:chExt cx="320400" cy="322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17008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7368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937200" y="4913280"/>
              <a:ext cx="320400" cy="322920"/>
              <a:chOff x="6937200" y="4913280"/>
              <a:chExt cx="320400" cy="322920"/>
            </a:xfrm>
          </p:grpSpPr>
          <p:sp>
            <p:nvSpPr>
              <p:cNvPr id="591" name=""/>
              <p:cNvSpPr/>
              <p:nvPr/>
            </p:nvSpPr>
            <p:spPr>
              <a:xfrm>
                <a:off x="693720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4080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FB66-49A0-4B24-B95B-D1075927066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odelos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2700360" y="2133720"/>
            <a:ext cx="1608120" cy="942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Donde competi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29160" y="4727520"/>
            <a:ext cx="1608120" cy="943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Como gana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stCxn id="595" idx="1"/>
            <a:endCxn id="594" idx="2"/>
          </p:cNvCxnSpPr>
          <p:nvPr/>
        </p:nvCxnSpPr>
        <p:spPr>
          <a:xfrm rot="10800000">
            <a:off x="3504600" y="3075840"/>
            <a:ext cx="1024560" cy="212328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97" name=""/>
          <p:cNvCxnSpPr>
            <a:stCxn id="594" idx="3"/>
            <a:endCxn id="595" idx="0"/>
          </p:cNvCxnSpPr>
          <p:nvPr/>
        </p:nvCxnSpPr>
        <p:spPr>
          <a:xfrm>
            <a:off x="4308120" y="2604960"/>
            <a:ext cx="1026360" cy="2123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"/>
          <p:cNvSpPr/>
          <p:nvPr/>
        </p:nvSpPr>
        <p:spPr>
          <a:xfrm>
            <a:off x="1116000" y="1484280"/>
            <a:ext cx="160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álisis de oportunidad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27640" y="5661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os de Nego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1C49-42EB-4B89-8128-7481843DA65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or que Modelos de Negocio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análisis de mercado debe responder la pregunta: ¿dónde competi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hora la pregunta es ¿cómo ga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iferencia de los modelos de empresas tradicionales, donde la respuesta está en el análisis interno, en Internet, tanto para empresas puras como para estrategias complementarias, todo modelo es nue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diseño racional y estructurado del modelo a implementar aumenta las probabilidades de éxi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FB7F-CBCF-4CDD-BF13-5D3BBDD9E72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92000" y="6643800"/>
            <a:ext cx="28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uente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http://www.zakon.org/robert/internet/timelin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59850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eonard Kleinroc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el primer paper sobre packet-switching (PS) theor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"Information Flow in Large Communication Nets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45148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PA (Advanced Research Projects Agency) patrocina un estudio sobre redes corporativas para compartir computadores; Máquinas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X-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N/FSQ-3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Santa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ica, C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son conectados via línea telefónica dedicada de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1200bp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 Posteriormente se suma el computador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RPA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ara formar la “Red Experimental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1465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awrence G. Robert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“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owards a Cooperative Network of Time-Shared Computer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”, el primer plan para ARPA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6893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4 nodos son interconectados como parte del proyecto ARPANET a través de lineas de 50kbps de AT&amp;T: UCLA – Stanford – UCSB – University of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3084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publicación del protocolo ARPANET Host-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512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11 nodos se unen a la red;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y Tomlinson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nventa un software para enviar emails a través de la red, utilizando como base un programa de email inter-máquinas (SENDMSG) y un programa experimental de transferencia (CPYNET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394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modifica el programa de email para ARPANET y se incorpora el símbolo @ para identificar el Host de origen; Se realiza el primer chat computador a computa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063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conexión internacional a ARPANET: University College of Lond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631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Vint Cerf and Bob Kahn publ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"A Protocol for Packet Network Interconnection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, especificando el diseño de un programa de control de transmisión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(TCP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3320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John Vittal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rrol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SG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 primer programa de email completo, con capacidad de respuesta, re-envio y adjuntar arch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051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Kevin MacKenzie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opone incluir emociones en los emails, utilizando el símbolo -) para denotar ironía. Esa nomenclatura se populariza rápida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3716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mbre de servidores desarrollados en 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Univ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Wisconsin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ermite a los usuario interconectarse sin conocer la ruta exacta a otros sistemas. ARPANET se divide en ARPANET y MILNET; 68 de los 113 nodos existentes se van a MILNET. La interconección de ambas reder se denomina INTERN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6420-1962-4417-9626-0012AF532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ar nacimiento de una empresa hace 20 años con la implementación de una estrategia de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cional: De la realidad a la academ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: De la academia a la rea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60AC-1C77-4B85-95DC-64053D2ABEF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ndustria en USA de US$15.00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Altamente fragmentado, sin marcas líderes, compleja distribución, calidad disparej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ualmente son vendidas 10 a 12 días después de su cosech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60% compradas en las cal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80% permanecen en el área donde fueron comprad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cado 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35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2.500 millones en 2004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odelos muy simila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F306-09F5-4655-950B-7EA3AD18BDD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es compet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TD.com gasta US$6.1 mill mensuales y vende sólo US$2.2 mill (déficit de US$3.9 mil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-800-flowers opera con un déficit mensual de US$22.4 mil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Gerald Stevens pierde US$17.7 mill mensualm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C Flowers &amp; Gifts pierde US$326 mil mensula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e anda ma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l análisis de mercado predice una tremenda oportunidad para la venta de flores online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24E5-451D-446D-A148-651898C51D9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_x001d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01400" y="22287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REGLA Nº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1ECB-300C-455F-873B-F2B9E687C3D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1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s consumidores no les gusta e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son reacios a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nercia de los consumidores los hace contrarios al cambio (aunque no lo dig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cambian lentament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2033-74D2-4762-AF6F-72FAD8DF146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1: Propuesta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trucción de la propuesta en 3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segmento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obje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Debido a la capacidad de personalización de Internet, es posible elegir un 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 o grupo de segmentos objetivos en vez de uno solo (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value-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paquete de beneficio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para los consumi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últiples combinaciones de beneficios que pueden ser elegidos por los consumidore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guntarse por qué la firma está mejor posicionada para entregar el paquete beneficios mejor que los competidores en el mismo espacio (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capacidades única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e alianzas permiten a la firma y sus 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partners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tregar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os beneficios mejor que la competencia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F884-9695-4A3E-987B-19036B186E4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Segmento(s) objetiv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ción a partir del análisis de oportunidad de mer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 for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Atractivo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Habilidad de la firma para competir en 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críticas para determinar atractivo del merca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Tamaño del mercado y tasa de crec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cesidades no cubiertas o insuficientemente servid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Competencia débil o inexist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86BA-3352-4BF6-BB86-8BDFB843FC3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ección de paquete de beneficios: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¿Propuesta simple o value-cluster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simple: foco en un benefici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lineamiento de la organiz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municar efectivamente al segmento obje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beneficios también se entregan, pero no se hace hincapié en la comunicación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 de beneficios (value-clus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é dicen los defensores de esta aproxim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Beneficio único es un legado del mundo offline que no tiene sentido en Inter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URL (vitrina) permite múltiples decoraciones para múltiples segmentos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Tecnológicamente posible, pero que pasa con la comunic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Como evaluar para tomar decisiones de largo plaz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Yahoo!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D599-6F17-4B49-BFC5-74106B35DC3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(Regla 2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egir un único, simple beneficio crítico y focalizarse en é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ecio, Variedad, Despacho, 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jemplos offline: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Volvo: segur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outhwest: conveniencia y bajos pre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Hoteles Four Season: Servicio sobresalien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C08C-D588-4856-B0E7-2D042FD7058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ección de 2 beneficios críticos genera 2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demanda: Confusión por mensaje amb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oferta: Diseño estratégico de sistemas para uno de los beneficios entra en conflicto con el segundo (bajo precio y rapidez de despach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cuencia: Sistema que entrega un promedio entre B1 y B2, dejando espacio para que 2 competidores se focalicen, uno en B1 y otro en B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F4A0-B5E5-4D2F-BB72-0591472A4ED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03:23Z</dcterms:created>
  <dc:creator>Luis Felipe Troncoso</dc:creator>
  <dc:description/>
  <dc:language>en-US</dc:language>
  <cp:lastModifiedBy> </cp:lastModifiedBy>
  <dcterms:modified xsi:type="dcterms:W3CDTF">2004-03-17T19:14:50Z</dcterms:modified>
  <cp:revision>69</cp:revision>
  <dc:subject/>
  <dc:title>PowerPoint Presentation  -  IN-635 ESTRATEGIAS DE INTERNET: Un Enfoque Comercial</dc:title>
</cp:coreProperties>
</file>