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8.wmf" ContentType="image/x-wmf"/>
  <Override PartName="/ppt/media/image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22E2-02CA-4AEF-891F-E6E5C816043B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cordemos las condiciones de competencia perfec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chos vend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Bienes homogen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uchos consumidores bien inform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 hay costos de búsqueda (ni de transp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rategia Corporativ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: Define el alcance de la firma en términos de las industrias y mercados en los cuales competir. Las decisiones de estrategia corporativa incluyen inversiones en diversificación, integración vertical, adquisiciones y nuevos proyectos; alocación de recursos entre los diferentes negocios y desiciones de “des-inver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rategia de Negoci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o estrategia competitiva se refiere a como la firma compite en una determinada industria o merc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E314-04DE-4270-97A9-4DF8B34BF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299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149C-C117-4458-86B0-FF3393A9B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D581-380F-4CFC-8CA9-D6CCB6875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72E1-3768-4B4C-A299-F7B1A1D5D6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1DD0-5D45-46DF-A8B7-9C7F93FB9B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8604-D9EF-44DE-AA8F-FC3F5D717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18A6-0D3D-46FE-91CA-9E5187352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7BE0-9524-4553-9ABA-BB1A79920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8394-8672-49F6-9D48-0575EB610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E390-E682-4476-922A-5AEABC0C3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299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F347-80A7-494C-A0AB-C725FF3DD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299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0781-457A-4E0C-A0D3-B618F221E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4840" indent="-22860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809720" indent="-32076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266920" indent="-342720"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266920" indent="-342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266920" indent="-3427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4EFF-C85D-49E6-9EE9-6CE4ADB3E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248520"/>
            <a:ext cx="8534160" cy="0"/>
          </a:xfrm>
          <a:prstGeom prst="line">
            <a:avLst/>
          </a:prstGeom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1828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® Luis Felipe Troncoso 2002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hyperlink" Target="file:///D:/../Diplomado%20e-business/Art%2592culos/09%20Interfaz/Banco%20de%20Chile/Banco%20de%20Chile%20-%20Home.htm" TargetMode="External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D:/../IN635/Ejemplos%20web/Buzzsaw/Autodesk%20Buzzsaw.htm" TargetMode="External"/><Relationship Id="rId2" Type="http://schemas.openxmlformats.org/officeDocument/2006/relationships/hyperlink" Target="file:///D:/../IN635/Ejemplos%20web/PlanOK/Demo1.htm" TargetMode="Externa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UNIVERSIDAD DE CHILE</a:t>
            </a:r>
            <a:br>
              <a:rPr sz="1300"/>
            </a:b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FACULTAD DE CIENCIAS FÍSICAS Y MATEMÁTICAS</a:t>
            </a:r>
            <a:br>
              <a:rPr sz="1300"/>
            </a:br>
            <a:br>
              <a:rPr sz="1900"/>
            </a:br>
            <a:br>
              <a:rPr sz="19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Estrategias de Internet</a:t>
            </a:r>
            <a:br>
              <a:rPr sz="21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Comercio Electrónico y e-Business</a:t>
            </a:r>
            <a:endParaRPr b="0" lang="en-US" sz="2100" spc="-1" strike="noStrike">
              <a:solidFill>
                <a:srgbClr val="555555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57801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introduce el sistema de nombres de dominio (DNS); Hosts superan los 1.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3784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Symbolics.com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sig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15 de Marzo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iendo el primer dominio registrad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tros primero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: cmu.edu, purdue.edu, rice.edu, berkeley.edu, ucla.edu, rutgers.edu, bbn.com; mit.edu; think.com; css.gov; mitre.org, .uk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(Jul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72932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8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sts superan los 10.000; Se conectan a NSFNET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Canada (CA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inamar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DK), Fin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FI), Fran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FR), Iceland (IS), No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eg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O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uec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3480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sts superan los 100.000; Se conectan a NSF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ustralia (AU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leman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DE), Israel (IL), Ital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IT), Ja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 (JP), M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xico (MX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land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L), 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ev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Ze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NZ), Puerto Rico (PR), United Kingdom (U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9672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0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saparece ARPANET; Se conectan a NSF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rgentina (AR), Austria (AT), Belg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BE), Br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l (BR), Chile (CL), Gre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GR), India (IN), Ir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IE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orea (KR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pañ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ES), 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iz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H)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11020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6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crea NSFNET, una red orientada a la investigación y también ara desarrollo comer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52116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lanza World Wide Web (WWW)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Cro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a (HR), Re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li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 Chec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Z), Hong Kong (HK), Hun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r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HU), Pol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n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PL), Portugal (PT), Singap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r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SG), 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d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rica (ZA), Taiwan (TW), Tu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13992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2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Banco Mundial en linea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ntartica (AQ), Came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 (CM), 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ipr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CY), Ecuador (EC), Estonia (EE), Kuwait (KW), Lat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 (LV), Luxembur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LU), Malasia (MY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ov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qu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 (SK)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ovenia (SI), Tailand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H), Venezuela (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60676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sa Blanca y Naciones Unidas online; Internet se empieza a conocer en los negocios y medios; Se conectan a NFSNET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ulgaria (BG), Costa Rica (CR), Eg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EG), Fiji (FJ), Ghana (GH), Guam (GU), Indonesia (ID), Kazakhstan (KZ), Kenya (KE), Liechtenstein (LI), Peru (PE), 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um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ania (RO), Ru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RU), Tur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quí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TR), U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ra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(UA), UAE (AE), US Virgin Islands (V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2552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ongreso de USA y Primer Ministro japonés online; Shopping malls comienzan a utilizar Internet; se lanza el primer banco virtual; aparece el primer banner publicitario (zima, una bebida y AT&amp;T); se regulan los spams y emails publicitarios; se puede ordenar pizza online en Hut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9236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9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FSNET se reconvierte en una red de investigación; el tráfico comercial en USA es enrutado a través de proveedores de redes interconectadas; RealAudio permite escuchar audio a través de la red en tiempo “casi” real; aparece la primera emisora comercial online; Primeras compañía de Internet se abren a la bol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Una historia de 4 décad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3A87-FA68-4234-80E6-875E08342E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gla 3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no se preocupan sólo del pre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10360" cy="37591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741680" y="6037200"/>
            <a:ext cx="262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Verdana"/>
              </a:rPr>
              <a:t>Fuente: Reporte JP Morgan: eTailing and the five 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1938-B075-48E2-9513-FBDB10538D0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cción de capacidades únic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or qué la firma puede entregar el beneficio o el paquete de beneficios clave significativamente mejor que la compet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álisis interno y de las alianz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nomb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re competenci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Fortalez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Recursos únic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apacidades únic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terminar la capacidad de enlazar estas capacidades únicas con los beneficios eleg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1970-1A12-4EC2-A2FB-AB12A87D51E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447920" y="257328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casiones especiale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75120" y="1420920"/>
            <a:ext cx="1143000" cy="64152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cios críti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fr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1627200"/>
            <a:ext cx="198108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324480" y="1587600"/>
            <a:ext cx="533520" cy="380880"/>
          </a:xfrm>
          <a:prstGeom prst="downArrow">
            <a:avLst>
              <a:gd name="adj1" fmla="val 49676"/>
              <a:gd name="adj2" fmla="val 54634"/>
            </a:avLst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22600" y="1565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68600" y="1581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99000" y="231156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Experiencia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mplia linea de productos complem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4920" y="2425680"/>
            <a:ext cx="10051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C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amp; G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71800" y="2311560"/>
            <a:ext cx="144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galos complement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jos pre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231444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C Flowers &amp; Gift sirve el segmento de ocasiones especiales a través de la oferta de flores frescas y productos complementario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5320" y="4460760"/>
            <a:ext cx="83160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T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447920" y="44956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423216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omunicación de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Red de proveedc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71800" y="438624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de fácil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9400" y="422100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TD.com provee flores finas con la forma más fácil de enviar flores gracias a su extensa red de 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02640" y="1504800"/>
            <a:ext cx="10267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g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27600" y="1504800"/>
            <a:ext cx="1447920" cy="45900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pacidades ú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80720" y="3521160"/>
            <a:ext cx="100512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Pro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35053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nsible al precio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342900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Fuente ú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Convenio con Fe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345924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má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ecios competi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29400" y="320040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flowers sirve el segmento sensible al precio con las flores más frescas a precios competitivos gracias a su fuente única y conevenio con FedEx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29400" y="497844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-800-flowers sirve el mercado de flores finas con una amplia variedad de regalos, flores frescas, precios razonables y fácil acceso gracias a su fuerte marca, alianzas con medios y red de franquicias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brick-and-morta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16280" y="5361120"/>
            <a:ext cx="1191240" cy="276480"/>
          </a:xfrm>
          <a:prstGeom prst="rect">
            <a:avLst/>
          </a:prstGeom>
          <a:solidFill>
            <a:srgbClr val="5fbee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1-800-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4356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95480" y="5208480"/>
            <a:ext cx="1676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res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ecios razon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ácil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52354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Alianzas con me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Red de franquicias brick-and-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opuesta de Valor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58A1-EF5B-4EC5-9331-12F2D8D413B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2: Definición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ción en 3 et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Identificar el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alcance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de la 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Identificar el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proceso de decisión del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consumid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Hacer un </a:t>
            </a:r>
            <a:r>
              <a:rPr b="0" lang="en-US" sz="2400" spc="-1" strike="noStrike">
                <a:solidFill>
                  <a:srgbClr val="ed181e"/>
                </a:solidFill>
                <a:latin typeface="Verdana"/>
              </a:rPr>
              <a:t>mapa</a:t>
            </a: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 de la oferta (productos, servicios e información) en relación al proceso de decisión del consumid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BB88-23C3-46E5-9464-6127660CE31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lcance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úmero de categorías de productos y servicios que se ofrec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Una sola categoría (category killer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últiples categorí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pos de alc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Dominio “categoría específica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Foco exclusivo en una categoría de productos (flores, chocolates, libros, CD, etc.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Dominio “Cross-category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n la capacidad de mezclar categorías radica uno de los más interesantes desarrollos de Internet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Amazon es el ejemplo más claro. Otros son Cars.com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C836-B811-4CB2-BE6A-0A340C2892C7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lcance de la Ofert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68" name=""/>
          <p:cNvSpPr/>
          <p:nvPr/>
        </p:nvSpPr>
        <p:spPr>
          <a:xfrm>
            <a:off x="152280" y="3124080"/>
            <a:ext cx="36576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ominio de “categoría específic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oco en una categoría de 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condspin.com (CDs us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remiumOrchids.com (orquide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eapod (supermercado on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2133720"/>
            <a:ext cx="8458200" cy="609480"/>
          </a:xfrm>
          <a:prstGeom prst="leftRightArrow">
            <a:avLst>
              <a:gd name="adj1" fmla="val 55204"/>
              <a:gd name="adj2" fmla="val 422499"/>
            </a:avLst>
          </a:prstGeom>
          <a:solidFill>
            <a:srgbClr val="fafea0"/>
          </a:solidFill>
          <a:ln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Alcance es un contin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05520" y="3124080"/>
            <a:ext cx="4038480" cy="20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ominio “Cross-Category”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ocus on a large number of categ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Bestbuy.com (electrónicos, CD, DV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1-800-flowers (f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treamline* (supermetcado, lavado en seco, neumático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57600" y="3962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44197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57600" y="4800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FE20-9D4A-4B7C-B92B-5E974F7CF95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Tipos de dominio Cross-Category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do de la dema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tractivo desde el punto de vista del consumidor: BabyCenter.com, Chemdex.com, ToysRU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do de la ofer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tractivo desde el punto de vista de la cadena de abastecimiento. Productos que se agrupan naturalmente desde el punto de vista logístico y de distribu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mazon.com: bienes físicos, inventariables, enfocados en consumidores finale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7099-08EF-4D0A-A02C-0EDA330C072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Metamercad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rmas que agrupan naturalmente distintas categorías de bienes y servic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umidores piensan en términos de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rmas piensan en términos de produ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tamercados son grupos de mercados de acuerdo a como se ubican en la mente de los consum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entretenimi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Son categorizados en Deportes favoritos / Clubs / Comida / Espectácul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O más bien en cosas que hacer con la familia, donde ir cuando el tiempo está feo o bonito, etc.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importante es que los consumidores categorizan de diferentes maneras y así, los negocios pueden categorizarse de diferentes mane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8C25-5D16-4F47-9CA2-8C79B9F2483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Metamercad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590920" y="1676520"/>
            <a:ext cx="533160" cy="30456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2209680"/>
            <a:ext cx="1981080" cy="144792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4724280"/>
            <a:ext cx="1447920" cy="53352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66680" y="3657600"/>
            <a:ext cx="1067040" cy="38088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48320" y="2133720"/>
            <a:ext cx="1066680" cy="175248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57400" y="1676520"/>
            <a:ext cx="533520" cy="304560"/>
          </a:xfrm>
          <a:prstGeom prst="ellipse">
            <a:avLst/>
          </a:prstGeom>
          <a:noFill/>
          <a:ln w="2844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67280" y="23623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unidad de soporte y ayuda para pad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80" idx="6"/>
            <a:endCxn id="686" idx="1"/>
          </p:cNvCxnSpPr>
          <p:nvPr/>
        </p:nvCxnSpPr>
        <p:spPr>
          <a:xfrm>
            <a:off x="3138480" y="1828800"/>
            <a:ext cx="2729520" cy="65808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6008400" y="2743200"/>
            <a:ext cx="302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Venta de productos para guaguas y mater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5"/>
            <a:endCxn id="688" idx="1"/>
          </p:cNvCxnSpPr>
          <p:nvPr/>
        </p:nvCxnSpPr>
        <p:spPr>
          <a:xfrm>
            <a:off x="2513160" y="1951200"/>
            <a:ext cx="3388320" cy="91656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arrow" w="med"/>
          </a:ln>
        </p:spPr>
      </p:cxnSp>
      <p:cxnSp>
        <p:nvCxnSpPr>
          <p:cNvPr id="690" name=""/>
          <p:cNvCxnSpPr>
            <a:stCxn id="684" idx="6"/>
            <a:endCxn id="688" idx="1"/>
          </p:cNvCxnSpPr>
          <p:nvPr/>
        </p:nvCxnSpPr>
        <p:spPr>
          <a:xfrm flipV="1">
            <a:off x="5729400" y="2866320"/>
            <a:ext cx="172080" cy="143640"/>
          </a:xfrm>
          <a:prstGeom prst="straightConnector1">
            <a:avLst/>
          </a:prstGeom>
          <a:ln w="9360">
            <a:solidFill>
              <a:srgbClr val="ed181e"/>
            </a:solidFill>
            <a:miter/>
            <a:headEnd len="med" type="triangle" w="med"/>
          </a:ln>
        </p:spPr>
      </p:cxnSp>
      <p:sp>
        <p:nvSpPr>
          <p:cNvPr id="691" name=""/>
          <p:cNvSpPr/>
          <p:nvPr/>
        </p:nvSpPr>
        <p:spPr>
          <a:xfrm>
            <a:off x="5980320" y="3108240"/>
            <a:ext cx="235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Personalización de usuario y gua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2" name=""/>
          <p:cNvCxnSpPr>
            <a:stCxn id="691" idx="1"/>
            <a:endCxn id="681" idx="6"/>
          </p:cNvCxnSpPr>
          <p:nvPr/>
        </p:nvCxnSpPr>
        <p:spPr>
          <a:xfrm flipH="1" flipV="1">
            <a:off x="2986200" y="2932920"/>
            <a:ext cx="2914920" cy="29916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>
            <a:off x="5943600" y="387036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Soporte y ayuda por exper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1"/>
            <a:endCxn id="682" idx="6"/>
          </p:cNvCxnSpPr>
          <p:nvPr/>
        </p:nvCxnSpPr>
        <p:spPr>
          <a:xfrm flipH="1">
            <a:off x="2528280" y="3993840"/>
            <a:ext cx="3415320" cy="99756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5943600" y="35053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Información / Conten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1"/>
            <a:endCxn id="683" idx="6"/>
          </p:cNvCxnSpPr>
          <p:nvPr/>
        </p:nvCxnSpPr>
        <p:spPr>
          <a:xfrm flipH="1">
            <a:off x="2147400" y="3629160"/>
            <a:ext cx="3796560" cy="219600"/>
          </a:xfrm>
          <a:prstGeom prst="straightConnector1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F495-2AAC-43C2-BF70-D36B1284C94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oceso de decisión del consumidor 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98" name=""/>
          <p:cNvSpPr/>
          <p:nvPr/>
        </p:nvSpPr>
        <p:spPr>
          <a:xfrm>
            <a:off x="1647720" y="54874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trib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71880" y="169236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71880" y="2332080"/>
            <a:ext cx="0" cy="585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71880" y="299232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71880" y="3602160"/>
            <a:ext cx="0" cy="583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71880" y="4214880"/>
            <a:ext cx="0" cy="585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71880" y="4878360"/>
            <a:ext cx="0" cy="584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47720" y="487800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Leal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47720" y="419220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47720" y="35776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Decisión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47720" y="297288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valuación de Altern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47720" y="2291760"/>
            <a:ext cx="28479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Búsqueda de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47720" y="1595520"/>
            <a:ext cx="28479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conocimiento de problema o neces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71600" y="1600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33526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4086360"/>
            <a:ext cx="152280" cy="1857240"/>
          </a:xfrm>
          <a:custGeom>
            <a:avLst/>
            <a:gdLst>
              <a:gd name="textAreaLeft" fmla="*/ 97200 w 152280"/>
              <a:gd name="textAreaRight" fmla="*/ 152640 w 152280"/>
              <a:gd name="textAreaTop" fmla="*/ 48240 h 1857240"/>
              <a:gd name="textAreaBottom" fmla="*/ 180900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320" y="2299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re-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320" y="3567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4799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ost-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(postve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523880"/>
            <a:ext cx="335268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Verdana"/>
              </a:rPr>
              <a:t>Ejemplo de las F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econocimiento de necesidad, posiblemente gatillado por cercanía de fiesta, aniversario u ocasión espe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Búsqueda de Ideas y ofer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Vitrineo” en tiendas online y off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Ideas y recomend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Consejo basado en perfil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valuación de alternativas bajo varias dimensiones o atributos: precio, disponibilidad, despacho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Decisión de com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lección de mensaje: medio y conte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oporte post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duicación en flores y dec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ecomendaciones a amigos, nueva compra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648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6A5E-A31C-49AD-8A47-284187B75D8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Datos que todos conocen (o debieran conocer) acerca de Internet</a:t>
            </a:r>
            <a:endParaRPr b="0" lang="en-US" sz="26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553080" cy="373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4091040"/>
            <a:ext cx="5638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0280" y="388620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millones de usuarios (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6588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2040" y="34750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7120" y="330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9440" y="3809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30800" y="38559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11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75840" y="50878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: 38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521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7440" y="51865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: 13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2960" y="515160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le: 10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9680" y="515160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: 5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C4D7-2A7E-4339-9E49-FAE6F4368BC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la oferta para 1-800-flower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1371600"/>
            <a:ext cx="7696080" cy="4842000"/>
          </a:xfrm>
          <a:prstGeom prst="ellipse">
            <a:avLst/>
          </a:prstGeom>
          <a:solidFill>
            <a:srgbClr val="fafe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2590920"/>
            <a:ext cx="3800520" cy="258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oceso de dec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lores / Regalos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038480" y="2590920"/>
            <a:ext cx="1175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conocimiento de neces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048120"/>
            <a:ext cx="1190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Búsqueda de ideas y ofer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24280" y="4648320"/>
            <a:ext cx="839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cisión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46483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lección de mens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4038480"/>
            <a:ext cx="1314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oporte postventa y gratifi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95480" y="2971800"/>
            <a:ext cx="1619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ducación en flores y dec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733920" y="1523880"/>
            <a:ext cx="22096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 de recordato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peciales de Fi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ugerencias para celebraciones cotidia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ugerencias para ocasiones es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705720" y="3100320"/>
            <a:ext cx="1981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avori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na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rvicios corpora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6960" y="1675800"/>
            <a:ext cx="13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 u="sng">
                <a:solidFill>
                  <a:srgbClr val="000000"/>
                </a:solidFill>
                <a:uFillTx/>
                <a:latin typeface="Arial"/>
              </a:rPr>
              <a:t>Ideas e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8080" y="312336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Soporte post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00800" y="4191120"/>
            <a:ext cx="19810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o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formación de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71800" y="5181480"/>
            <a:ext cx="1905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rjeta virtual anim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rjeta fís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3292560"/>
            <a:ext cx="160020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Boleta por 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Online Customer Service (Q&amp;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por teéfono o 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00200" y="42523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Gratifi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752480" y="4405320"/>
            <a:ext cx="140040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illas ganadas por compra de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cuentos en AOL y B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mbrecía espe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1814400"/>
            <a:ext cx="144756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"/>
              </a:rPr>
              <a:t>Cuidado de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"/>
              </a:rPr>
              <a:t>Hágalo Ud. mis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vitación a seminarios y even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10280" y="1881360"/>
            <a:ext cx="19670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lo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ra el jard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ra el ho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our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Ubicación de ti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comendaciones por pp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ejor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81480" y="403848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valuación de alterna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6800" y="2894760"/>
            <a:ext cx="129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 u="sng">
                <a:solidFill>
                  <a:srgbClr val="000000"/>
                </a:solidFill>
                <a:uFillTx/>
                <a:latin typeface="Arial"/>
              </a:rPr>
              <a:t>Recomend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1480" y="5105520"/>
            <a:ext cx="198144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nasta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ransacción e-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racterística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731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spacho fuera de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1731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1-800-lasflora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90720" y="2661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154A-1461-4439-A122-C3A3E18C9ED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43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019920" y="274284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9920" y="297180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19920" y="19051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019920" y="16761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19920" y="19051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64960" y="152388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gmento obje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¿Por que mejor que otr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468120" y="2593800"/>
            <a:ext cx="120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63E6-E156-49C0-86C3-81E3C13CA30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3: 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sistema de recursos determina cómo la compañía debe alinear sus sistemas internos y el de sus partners para entregar los beneficios de la propuesta de val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gado del mundo tradicion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opuesta de valor por sí sola no es sufic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et de activos y acciones elegidos para entregar la propuesta determina compañías exitosas de las de pobre desempeño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idades únicas atadas a propuesta de valor genera ventaja competitiva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DE27-DE4F-494C-BABC-D59EB888871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Qué son los recursos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pueden tomar varias form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os físicos: bodegas, aviones, fábricas, etc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os intangibles: marcas, pat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Yahoo!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ice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Amazo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ctividades, experiencia y Know-how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Idealab y su capacidad de lanzar nuevos negoc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3E17-BF1D-49F7-9B63-CC833B996F9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pasar del mundo físico al mundo virtu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actividades y capacidades del mundo físico por una combinación físico-virtual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foco desde el lado de la oferta (abastecimiento) hacia el lado de la deman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actividades por capacidades: activos y talentos del más alto nive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ambiar enfoque uni-empresarial a multi-empresarial: asociaciones y partner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4242-117A-47C3-BFCA-1352F47DBFB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Construcción del Sistema de Recur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istar beneficios centrales o críticos identificados en la 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capacidades relacionadas con cada benefi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sociar recursos necesarios para cada capacidad (activos y actividades clav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el nivel al cual la empresa puede entregar cada capacidad. Implica una mirada profunda al interior de la empresa y determinar si puede por sí sola o debe buscar aliados / invers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car partners que pueden completar las capac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BFAD-65AF-4CB9-B443-FB54DB1D140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6"/>
            <a:endCxn id="769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1" name=""/>
          <p:cNvCxnSpPr>
            <a:stCxn id="766" idx="4"/>
            <a:endCxn id="767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2" name=""/>
          <p:cNvCxnSpPr>
            <a:stCxn id="769" idx="4"/>
            <a:endCxn id="768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3" name=""/>
          <p:cNvCxnSpPr>
            <a:stCxn id="767" idx="6"/>
            <a:endCxn id="768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. Beneficios crític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5409720"/>
            <a:ext cx="1082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A620-CCD1-45BC-997F-F979AE79D41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2. Identificación de 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78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6" name=""/>
          <p:cNvCxnSpPr>
            <a:stCxn id="782" idx="6"/>
            <a:endCxn id="785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7" name=""/>
          <p:cNvCxnSpPr>
            <a:stCxn id="782" idx="4"/>
            <a:endCxn id="783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8" name=""/>
          <p:cNvCxnSpPr>
            <a:stCxn id="785" idx="4"/>
            <a:endCxn id="784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9" name=""/>
          <p:cNvCxnSpPr>
            <a:stCxn id="783" idx="6"/>
            <a:endCxn id="784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0" name=""/>
          <p:cNvCxnSpPr>
            <a:stCxn id="780" idx="2"/>
            <a:endCxn id="784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"/>
          <p:cNvCxnSpPr>
            <a:stCxn id="779" idx="1"/>
            <a:endCxn id="784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8" idx="1"/>
            <a:endCxn id="784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81" idx="0"/>
            <a:endCxn id="784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4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"/>
          <p:cNvCxnSpPr>
            <a:stCxn id="794" idx="2"/>
            <a:endCxn id="785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94" idx="2"/>
            <a:endCxn id="782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97" idx="3"/>
            <a:endCxn id="782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0" name=""/>
          <p:cNvCxnSpPr>
            <a:stCxn id="799" idx="3"/>
            <a:endCxn id="782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2" name=""/>
          <p:cNvCxnSpPr>
            <a:stCxn id="801" idx="3"/>
            <a:endCxn id="783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09480" y="5414040"/>
            <a:ext cx="1082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39D9-945C-48D3-8C2A-3A6A3B788E8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3. Link Recursos-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07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"/>
          <p:cNvCxnSpPr>
            <a:stCxn id="811" idx="6"/>
            <a:endCxn id="814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6" name=""/>
          <p:cNvCxnSpPr>
            <a:stCxn id="811" idx="4"/>
            <a:endCxn id="812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7" name=""/>
          <p:cNvCxnSpPr>
            <a:stCxn id="814" idx="4"/>
            <a:endCxn id="813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8" name=""/>
          <p:cNvCxnSpPr>
            <a:stCxn id="812" idx="6"/>
            <a:endCxn id="813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9" name=""/>
          <p:cNvCxnSpPr>
            <a:stCxn id="809" idx="2"/>
            <a:endCxn id="813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0" name=""/>
          <p:cNvCxnSpPr>
            <a:stCxn id="808" idx="1"/>
            <a:endCxn id="813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07" idx="1"/>
            <a:endCxn id="813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0" idx="0"/>
            <a:endCxn id="813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4" name=""/>
          <p:cNvCxnSpPr>
            <a:stCxn id="823" idx="2"/>
            <a:endCxn id="814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23" idx="2"/>
            <a:endCxn id="811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7" name=""/>
          <p:cNvCxnSpPr>
            <a:stCxn id="826" idx="3"/>
            <a:endCxn id="811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8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stCxn id="828" idx="3"/>
            <a:endCxn id="811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0" idx="3"/>
            <a:endCxn id="812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5414040"/>
            <a:ext cx="1082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7238880" y="3048120"/>
            <a:ext cx="1905120" cy="1673280"/>
            <a:chOff x="7238880" y="3048120"/>
            <a:chExt cx="1905120" cy="1673280"/>
          </a:xfrm>
        </p:grpSpPr>
        <p:sp>
          <p:nvSpPr>
            <p:cNvPr id="836" name=""/>
            <p:cNvSpPr/>
            <p:nvPr/>
          </p:nvSpPr>
          <p:spPr>
            <a:xfrm>
              <a:off x="8229600" y="3048120"/>
              <a:ext cx="822240" cy="37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Teléfo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450280" y="3481560"/>
              <a:ext cx="669960" cy="37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Onl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077320" y="3886200"/>
              <a:ext cx="1066680" cy="4572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Franquic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20120" y="4343400"/>
              <a:ext cx="91440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atalog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38880" y="3276720"/>
              <a:ext cx="838440" cy="444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3,000 afiliad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1" name=""/>
            <p:cNvCxnSpPr>
              <a:stCxn id="836" idx="3"/>
            </p:cNvCxnSpPr>
            <p:nvPr/>
          </p:nvCxnSpPr>
          <p:spPr>
            <a:xfrm flipH="1">
              <a:off x="7619760" y="3370320"/>
              <a:ext cx="730800" cy="78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40" idx="4"/>
            </p:cNvCxnSpPr>
            <p:nvPr/>
          </p:nvCxnSpPr>
          <p:spPr>
            <a:xfrm flipH="1">
              <a:off x="7619760" y="3720960"/>
              <a:ext cx="388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8" idx="2"/>
            </p:cNvCxnSpPr>
            <p:nvPr/>
          </p:nvCxnSpPr>
          <p:spPr>
            <a:xfrm flipH="1">
              <a:off x="7619760" y="4114800"/>
              <a:ext cx="457920" cy="3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839" idx="1"/>
            </p:cNvCxnSpPr>
            <p:nvPr/>
          </p:nvCxnSpPr>
          <p:spPr>
            <a:xfrm flipH="1" flipV="1">
              <a:off x="7620120" y="4152240"/>
              <a:ext cx="133560" cy="24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5" name=""/>
            <p:cNvCxnSpPr>
              <a:stCxn id="837" idx="2"/>
            </p:cNvCxnSpPr>
            <p:nvPr/>
          </p:nvCxnSpPr>
          <p:spPr>
            <a:xfrm flipH="1">
              <a:off x="7619760" y="3669840"/>
              <a:ext cx="830880" cy="48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46" name=""/>
          <p:cNvGrpSpPr/>
          <p:nvPr/>
        </p:nvGrpSpPr>
        <p:grpSpPr>
          <a:xfrm>
            <a:off x="6172200" y="4800600"/>
            <a:ext cx="2482920" cy="1216080"/>
            <a:chOff x="6172200" y="4800600"/>
            <a:chExt cx="2482920" cy="1216080"/>
          </a:xfrm>
        </p:grpSpPr>
        <p:sp>
          <p:nvSpPr>
            <p:cNvPr id="847" name=""/>
            <p:cNvSpPr/>
            <p:nvPr/>
          </p:nvSpPr>
          <p:spPr>
            <a:xfrm>
              <a:off x="6172200" y="5638680"/>
              <a:ext cx="99072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StarMed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96080" y="4800600"/>
              <a:ext cx="66996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MS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48720" y="5181480"/>
              <a:ext cx="806400" cy="4572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A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191360" y="5486400"/>
              <a:ext cx="733320" cy="378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Yahoo!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1" name=""/>
            <p:cNvCxnSpPr>
              <a:stCxn id="847" idx="0"/>
            </p:cNvCxnSpPr>
            <p:nvPr/>
          </p:nvCxnSpPr>
          <p:spPr>
            <a:xfrm flipH="1" flipV="1">
              <a:off x="6591240" y="5257440"/>
              <a:ext cx="766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2" name=""/>
            <p:cNvCxnSpPr>
              <a:stCxn id="850" idx="0"/>
            </p:cNvCxnSpPr>
            <p:nvPr/>
          </p:nvCxnSpPr>
          <p:spPr>
            <a:xfrm flipH="1" flipV="1">
              <a:off x="6590880" y="5257080"/>
              <a:ext cx="967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3" name=""/>
            <p:cNvCxnSpPr>
              <a:stCxn id="849" idx="2"/>
            </p:cNvCxnSpPr>
            <p:nvPr/>
          </p:nvCxnSpPr>
          <p:spPr>
            <a:xfrm flipH="1" flipV="1">
              <a:off x="7162200" y="499068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4" name=""/>
            <p:cNvCxnSpPr>
              <a:stCxn id="848" idx="2"/>
            </p:cNvCxnSpPr>
            <p:nvPr/>
          </p:nvCxnSpPr>
          <p:spPr>
            <a:xfrm flipH="1">
              <a:off x="7162200" y="4989600"/>
              <a:ext cx="533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BE17-5B68-41E5-A19D-A6D379E27A0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3. Link Recursos-capac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0" idx="6"/>
            <a:endCxn id="863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5" name=""/>
          <p:cNvCxnSpPr>
            <a:stCxn id="860" idx="4"/>
            <a:endCxn id="861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6" name=""/>
          <p:cNvCxnSpPr>
            <a:stCxn id="863" idx="4"/>
            <a:endCxn id="862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7" name=""/>
          <p:cNvCxnSpPr>
            <a:stCxn id="861" idx="6"/>
            <a:endCxn id="862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8" name=""/>
          <p:cNvCxnSpPr>
            <a:stCxn id="858" idx="2"/>
            <a:endCxn id="862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9" name=""/>
          <p:cNvCxnSpPr>
            <a:stCxn id="857" idx="1"/>
            <a:endCxn id="862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56" idx="1"/>
            <a:endCxn id="862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1" name=""/>
          <p:cNvSpPr/>
          <p:nvPr/>
        </p:nvSpPr>
        <p:spPr>
          <a:xfrm>
            <a:off x="6172200" y="5638680"/>
            <a:ext cx="99072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tarM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696080" y="4800600"/>
            <a:ext cx="66996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848720" y="5181480"/>
            <a:ext cx="8064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191360" y="5486400"/>
            <a:ext cx="73332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1" idx="0"/>
            <a:endCxn id="856" idx="2"/>
          </p:cNvCxnSpPr>
          <p:nvPr/>
        </p:nvCxnSpPr>
        <p:spPr>
          <a:xfrm flipH="1" flipV="1">
            <a:off x="6591240" y="525744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74" idx="0"/>
            <a:endCxn id="856" idx="2"/>
          </p:cNvCxnSpPr>
          <p:nvPr/>
        </p:nvCxnSpPr>
        <p:spPr>
          <a:xfrm flipH="1" flipV="1">
            <a:off x="6590880" y="5257080"/>
            <a:ext cx="967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73" idx="2"/>
            <a:endCxn id="856" idx="3"/>
          </p:cNvCxnSpPr>
          <p:nvPr/>
        </p:nvCxnSpPr>
        <p:spPr>
          <a:xfrm flipH="1" flipV="1">
            <a:off x="7162200" y="4990680"/>
            <a:ext cx="6865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2" idx="2"/>
            <a:endCxn id="856" idx="3"/>
          </p:cNvCxnSpPr>
          <p:nvPr/>
        </p:nvCxnSpPr>
        <p:spPr>
          <a:xfrm flipH="1">
            <a:off x="7162200" y="4989600"/>
            <a:ext cx="533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"/>
          <p:cNvCxnSpPr>
            <a:stCxn id="859" idx="0"/>
            <a:endCxn id="862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7162920" y="2514600"/>
            <a:ext cx="13716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pacidades de person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057400"/>
            <a:ext cx="1143000" cy="444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iqueza de conte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3"/>
            <a:endCxn id="858" idx="0"/>
          </p:cNvCxnSpPr>
          <p:nvPr/>
        </p:nvCxnSpPr>
        <p:spPr>
          <a:xfrm flipH="1">
            <a:off x="6590520" y="2436840"/>
            <a:ext cx="2818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3" name=""/>
          <p:cNvCxnSpPr>
            <a:stCxn id="880" idx="2"/>
            <a:endCxn id="858" idx="0"/>
          </p:cNvCxnSpPr>
          <p:nvPr/>
        </p:nvCxnSpPr>
        <p:spPr>
          <a:xfrm flipH="1">
            <a:off x="6590880" y="2742840"/>
            <a:ext cx="572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4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315200" y="1295280"/>
            <a:ext cx="121932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ntratos con ter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477120" y="1600200"/>
            <a:ext cx="76176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ien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"/>
          <p:cNvCxnSpPr>
            <a:stCxn id="886" idx="2"/>
            <a:endCxn id="884" idx="3"/>
          </p:cNvCxnSpPr>
          <p:nvPr/>
        </p:nvCxnSpPr>
        <p:spPr>
          <a:xfrm flipH="1" flipV="1">
            <a:off x="6019560" y="1561680"/>
            <a:ext cx="4579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8" name=""/>
          <p:cNvCxnSpPr>
            <a:stCxn id="885" idx="2"/>
            <a:endCxn id="884" idx="3"/>
          </p:cNvCxnSpPr>
          <p:nvPr/>
        </p:nvCxnSpPr>
        <p:spPr>
          <a:xfrm flipH="1">
            <a:off x="6019560" y="1547640"/>
            <a:ext cx="12960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9" name=""/>
          <p:cNvCxnSpPr>
            <a:stCxn id="884" idx="2"/>
            <a:endCxn id="863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0" name=""/>
          <p:cNvCxnSpPr>
            <a:stCxn id="884" idx="2"/>
            <a:endCxn id="860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1" name=""/>
          <p:cNvSpPr/>
          <p:nvPr/>
        </p:nvSpPr>
        <p:spPr>
          <a:xfrm>
            <a:off x="3657600" y="1371600"/>
            <a:ext cx="99072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91" idx="6"/>
            <a:endCxn id="884" idx="1"/>
          </p:cNvCxnSpPr>
          <p:nvPr/>
        </p:nvCxnSpPr>
        <p:spPr>
          <a:xfrm flipV="1">
            <a:off x="4647960" y="1561680"/>
            <a:ext cx="229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3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>
            <a:stCxn id="893" idx="3"/>
            <a:endCxn id="860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5" name=""/>
          <p:cNvSpPr/>
          <p:nvPr/>
        </p:nvSpPr>
        <p:spPr>
          <a:xfrm>
            <a:off x="457200" y="1905120"/>
            <a:ext cx="8380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ecorda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752480" y="1295280"/>
            <a:ext cx="11430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Libreta de di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14240" y="1447920"/>
            <a:ext cx="73368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ugerenci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8" name=""/>
          <p:cNvCxnSpPr>
            <a:stCxn id="896" idx="4"/>
            <a:endCxn id="893" idx="0"/>
          </p:cNvCxnSpPr>
          <p:nvPr/>
        </p:nvCxnSpPr>
        <p:spPr>
          <a:xfrm flipH="1">
            <a:off x="2171160" y="17524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7" idx="5"/>
            <a:endCxn id="893" idx="1"/>
          </p:cNvCxnSpPr>
          <p:nvPr/>
        </p:nvCxnSpPr>
        <p:spPr>
          <a:xfrm>
            <a:off x="1339560" y="1770120"/>
            <a:ext cx="2610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5" idx="6"/>
            <a:endCxn id="893" idx="1"/>
          </p:cNvCxnSpPr>
          <p:nvPr/>
        </p:nvCxnSpPr>
        <p:spPr>
          <a:xfrm flipV="1">
            <a:off x="1294920" y="209520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3"/>
            <a:endCxn id="860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3" name=""/>
          <p:cNvSpPr/>
          <p:nvPr/>
        </p:nvSpPr>
        <p:spPr>
          <a:xfrm>
            <a:off x="228600" y="342900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dine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90360" y="2819520"/>
            <a:ext cx="9003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ros y flor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5" name=""/>
          <p:cNvCxnSpPr>
            <a:stCxn id="903" idx="6"/>
            <a:endCxn id="901" idx="2"/>
          </p:cNvCxnSpPr>
          <p:nvPr/>
        </p:nvCxnSpPr>
        <p:spPr>
          <a:xfrm flipV="1">
            <a:off x="1218960" y="3428280"/>
            <a:ext cx="648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6" name=""/>
          <p:cNvCxnSpPr>
            <a:stCxn id="904" idx="6"/>
            <a:endCxn id="901" idx="1"/>
          </p:cNvCxnSpPr>
          <p:nvPr/>
        </p:nvCxnSpPr>
        <p:spPr>
          <a:xfrm>
            <a:off x="990720" y="3008160"/>
            <a:ext cx="305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7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8" name=""/>
          <p:cNvCxnSpPr>
            <a:stCxn id="907" idx="3"/>
            <a:endCxn id="861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9" name=""/>
          <p:cNvSpPr/>
          <p:nvPr/>
        </p:nvSpPr>
        <p:spPr>
          <a:xfrm>
            <a:off x="1752480" y="472428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0880" y="4724280"/>
            <a:ext cx="106704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Integración Offlin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"/>
          <p:cNvCxnSpPr>
            <a:stCxn id="910" idx="7"/>
            <a:endCxn id="907" idx="2"/>
          </p:cNvCxnSpPr>
          <p:nvPr/>
        </p:nvCxnSpPr>
        <p:spPr>
          <a:xfrm flipV="1">
            <a:off x="1292040" y="4571640"/>
            <a:ext cx="4230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"/>
          <p:cNvCxnSpPr>
            <a:stCxn id="909" idx="0"/>
            <a:endCxn id="907" idx="2"/>
          </p:cNvCxnSpPr>
          <p:nvPr/>
        </p:nvCxnSpPr>
        <p:spPr>
          <a:xfrm flipH="1" flipV="1">
            <a:off x="1713960" y="457128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"/>
          <p:cNvSpPr/>
          <p:nvPr/>
        </p:nvSpPr>
        <p:spPr>
          <a:xfrm flipH="1">
            <a:off x="549360" y="549900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20560" y="5689440"/>
            <a:ext cx="15264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07680" y="5414040"/>
            <a:ext cx="1223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_x001d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3520" y="5854680"/>
            <a:ext cx="12672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229600" y="3048120"/>
            <a:ext cx="82224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450280" y="3481560"/>
            <a:ext cx="6699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077320" y="3886200"/>
            <a:ext cx="10666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20120" y="4343400"/>
            <a:ext cx="91440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talog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38880" y="3276720"/>
            <a:ext cx="838440" cy="444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,000 afili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2" name=""/>
          <p:cNvCxnSpPr>
            <a:stCxn id="917" idx="3"/>
            <a:endCxn id="857" idx="3"/>
          </p:cNvCxnSpPr>
          <p:nvPr/>
        </p:nvCxnSpPr>
        <p:spPr>
          <a:xfrm flipH="1">
            <a:off x="7619760" y="3370320"/>
            <a:ext cx="730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3" name=""/>
          <p:cNvCxnSpPr>
            <a:stCxn id="921" idx="4"/>
            <a:endCxn id="857" idx="3"/>
          </p:cNvCxnSpPr>
          <p:nvPr/>
        </p:nvCxnSpPr>
        <p:spPr>
          <a:xfrm flipH="1">
            <a:off x="7619760" y="3720960"/>
            <a:ext cx="388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4" name=""/>
          <p:cNvCxnSpPr>
            <a:stCxn id="919" idx="2"/>
            <a:endCxn id="857" idx="3"/>
          </p:cNvCxnSpPr>
          <p:nvPr/>
        </p:nvCxnSpPr>
        <p:spPr>
          <a:xfrm flipH="1">
            <a:off x="7619760" y="411480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5" name=""/>
          <p:cNvCxnSpPr>
            <a:stCxn id="920" idx="1"/>
            <a:endCxn id="857" idx="3"/>
          </p:cNvCxnSpPr>
          <p:nvPr/>
        </p:nvCxnSpPr>
        <p:spPr>
          <a:xfrm flipH="1" flipV="1">
            <a:off x="7620120" y="4152240"/>
            <a:ext cx="1335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21" idx="1"/>
            <a:endCxn id="858" idx="3"/>
          </p:cNvCxnSpPr>
          <p:nvPr/>
        </p:nvCxnSpPr>
        <p:spPr>
          <a:xfrm flipH="1" flipV="1">
            <a:off x="7162200" y="3238200"/>
            <a:ext cx="19908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18" idx="2"/>
            <a:endCxn id="857" idx="3"/>
          </p:cNvCxnSpPr>
          <p:nvPr/>
        </p:nvCxnSpPr>
        <p:spPr>
          <a:xfrm flipH="1">
            <a:off x="7619760" y="3669840"/>
            <a:ext cx="83088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3935-8EC3-4D9B-9D52-68B4B2DEBFB1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Qué es Internet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ecnología, Facili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pplication Service Providers (ASP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icrosoft (.net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edio (híbrido entre masivo y direc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Yahoo!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MOL, El Mostrador, TVN.cl, WSJ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oca Cola, Nike, Levi’s, PG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ta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Amazon, eBay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Bazuca, Almacenesparis.com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Googl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0AE8-5852-4B3C-BC5F-5498D4E0C35F}" type="slidenum">
              <a:t>12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380880" y="4737240"/>
            <a:ext cx="533520" cy="380880"/>
          </a:xfrm>
          <a:custGeom>
            <a:avLst/>
            <a:gdLst/>
            <a:ahLst/>
            <a:rect l="l" t="t" r="r" b="b"/>
            <a:pathLst>
              <a:path w="396" h="320">
                <a:moveTo>
                  <a:pt x="391" y="0"/>
                </a:moveTo>
                <a:lnTo>
                  <a:pt x="392" y="160"/>
                </a:lnTo>
                <a:lnTo>
                  <a:pt x="392" y="248"/>
                </a:lnTo>
                <a:cubicBezTo>
                  <a:pt x="392" y="269"/>
                  <a:pt x="393" y="275"/>
                  <a:pt x="392" y="284"/>
                </a:cubicBezTo>
                <a:cubicBezTo>
                  <a:pt x="391" y="293"/>
                  <a:pt x="387" y="298"/>
                  <a:pt x="388" y="304"/>
                </a:cubicBezTo>
                <a:lnTo>
                  <a:pt x="396" y="320"/>
                </a:lnTo>
                <a:lnTo>
                  <a:pt x="183" y="288"/>
                </a:lnTo>
                <a:lnTo>
                  <a:pt x="52" y="232"/>
                </a:lnTo>
                <a:lnTo>
                  <a:pt x="8" y="184"/>
                </a:lnTo>
                <a:lnTo>
                  <a:pt x="0" y="144"/>
                </a:lnTo>
                <a:lnTo>
                  <a:pt x="12" y="112"/>
                </a:lnTo>
                <a:lnTo>
                  <a:pt x="32" y="88"/>
                </a:lnTo>
                <a:lnTo>
                  <a:pt x="84" y="60"/>
                </a:lnTo>
                <a:lnTo>
                  <a:pt x="220" y="12"/>
                </a:lnTo>
                <a:lnTo>
                  <a:pt x="391" y="0"/>
                </a:lnTo>
                <a:close/>
              </a:path>
            </a:pathLst>
          </a:custGeom>
          <a:solidFill>
            <a:srgbClr val="cdc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1-800-flowers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ntrega del beneficio y partner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930" name=""/>
          <p:cNvSpPr/>
          <p:nvPr/>
        </p:nvSpPr>
        <p:spPr>
          <a:xfrm>
            <a:off x="6019920" y="4724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plio alcance de consumi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77120" y="38862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últiples puntos de conta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19920" y="2971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opularidad del Sit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800600" y="5334120"/>
            <a:ext cx="1143000" cy="53316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ca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80044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an variedad de rega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0044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540320" y="36576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onibi-lidad, facilidad de ac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40320" y="2057400"/>
            <a:ext cx="1174680" cy="1143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lores finas o de alta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8" name=""/>
          <p:cNvCxnSpPr>
            <a:stCxn id="934" idx="6"/>
            <a:endCxn id="937" idx="2"/>
          </p:cNvCxnSpPr>
          <p:nvPr/>
        </p:nvCxnSpPr>
        <p:spPr>
          <a:xfrm>
            <a:off x="3975120" y="2628720"/>
            <a:ext cx="565920" cy="108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9" name=""/>
          <p:cNvCxnSpPr>
            <a:stCxn id="934" idx="4"/>
            <a:endCxn id="935" idx="0"/>
          </p:cNvCxnSpPr>
          <p:nvPr/>
        </p:nvCxnSpPr>
        <p:spPr>
          <a:xfrm>
            <a:off x="3387240" y="3200400"/>
            <a:ext cx="1080" cy="45792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0" name=""/>
          <p:cNvCxnSpPr>
            <a:stCxn id="937" idx="4"/>
            <a:endCxn id="936" idx="0"/>
          </p:cNvCxnSpPr>
          <p:nvPr/>
        </p:nvCxnSpPr>
        <p:spPr>
          <a:xfrm>
            <a:off x="5127120" y="3200400"/>
            <a:ext cx="1080" cy="45792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1" name=""/>
          <p:cNvCxnSpPr>
            <a:stCxn id="935" idx="6"/>
            <a:endCxn id="936" idx="2"/>
          </p:cNvCxnSpPr>
          <p:nvPr/>
        </p:nvCxnSpPr>
        <p:spPr>
          <a:xfrm>
            <a:off x="3975120" y="4228920"/>
            <a:ext cx="565920" cy="1080"/>
          </a:xfrm>
          <a:prstGeom prst="straightConnector1">
            <a:avLst/>
          </a:prstGeom>
          <a:ln w="38160">
            <a:solidFill>
              <a:srgbClr val="55555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2" name=""/>
          <p:cNvCxnSpPr>
            <a:stCxn id="932" idx="2"/>
            <a:endCxn id="936" idx="6"/>
          </p:cNvCxnSpPr>
          <p:nvPr/>
        </p:nvCxnSpPr>
        <p:spPr>
          <a:xfrm flipH="1">
            <a:off x="5714640" y="3504960"/>
            <a:ext cx="87696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3" name=""/>
          <p:cNvCxnSpPr>
            <a:stCxn id="931" idx="1"/>
            <a:endCxn id="936" idx="6"/>
          </p:cNvCxnSpPr>
          <p:nvPr/>
        </p:nvCxnSpPr>
        <p:spPr>
          <a:xfrm flipH="1">
            <a:off x="5714280" y="4152960"/>
            <a:ext cx="76284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4" name=""/>
          <p:cNvCxnSpPr>
            <a:stCxn id="930" idx="1"/>
            <a:endCxn id="936" idx="6"/>
          </p:cNvCxnSpPr>
          <p:nvPr/>
        </p:nvCxnSpPr>
        <p:spPr>
          <a:xfrm flipH="1" flipV="1">
            <a:off x="5714280" y="4228920"/>
            <a:ext cx="30564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5" name=""/>
          <p:cNvSpPr/>
          <p:nvPr/>
        </p:nvSpPr>
        <p:spPr>
          <a:xfrm>
            <a:off x="6172200" y="5638680"/>
            <a:ext cx="99072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tarM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4800600"/>
            <a:ext cx="66996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848720" y="5181480"/>
            <a:ext cx="806400" cy="4572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91360" y="5486400"/>
            <a:ext cx="733320" cy="37800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5" idx="0"/>
            <a:endCxn id="930" idx="2"/>
          </p:cNvCxnSpPr>
          <p:nvPr/>
        </p:nvCxnSpPr>
        <p:spPr>
          <a:xfrm flipH="1" flipV="1">
            <a:off x="6591240" y="525744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0" name=""/>
          <p:cNvCxnSpPr>
            <a:stCxn id="948" idx="0"/>
            <a:endCxn id="930" idx="2"/>
          </p:cNvCxnSpPr>
          <p:nvPr/>
        </p:nvCxnSpPr>
        <p:spPr>
          <a:xfrm flipH="1" flipV="1">
            <a:off x="6590880" y="5257080"/>
            <a:ext cx="967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"/>
          <p:cNvCxnSpPr>
            <a:stCxn id="947" idx="2"/>
            <a:endCxn id="930" idx="3"/>
          </p:cNvCxnSpPr>
          <p:nvPr/>
        </p:nvCxnSpPr>
        <p:spPr>
          <a:xfrm flipH="1" flipV="1">
            <a:off x="7162200" y="4990680"/>
            <a:ext cx="6865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"/>
          <p:cNvCxnSpPr>
            <a:stCxn id="946" idx="2"/>
            <a:endCxn id="930" idx="3"/>
          </p:cNvCxnSpPr>
          <p:nvPr/>
        </p:nvCxnSpPr>
        <p:spPr>
          <a:xfrm flipH="1">
            <a:off x="7162200" y="4989600"/>
            <a:ext cx="533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"/>
          <p:cNvCxnSpPr>
            <a:stCxn id="933" idx="0"/>
            <a:endCxn id="936" idx="5"/>
          </p:cNvCxnSpPr>
          <p:nvPr/>
        </p:nvCxnSpPr>
        <p:spPr>
          <a:xfrm flipV="1">
            <a:off x="5372280" y="4633200"/>
            <a:ext cx="17208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4" name=""/>
          <p:cNvSpPr/>
          <p:nvPr/>
        </p:nvSpPr>
        <p:spPr>
          <a:xfrm>
            <a:off x="7162920" y="2514600"/>
            <a:ext cx="13716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pacidades de personaliz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5720" y="2057400"/>
            <a:ext cx="1143000" cy="444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iqueza de conte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55" idx="3"/>
            <a:endCxn id="932" idx="0"/>
          </p:cNvCxnSpPr>
          <p:nvPr/>
        </p:nvCxnSpPr>
        <p:spPr>
          <a:xfrm flipH="1">
            <a:off x="6590520" y="2436840"/>
            <a:ext cx="2818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54" idx="2"/>
            <a:endCxn id="932" idx="0"/>
          </p:cNvCxnSpPr>
          <p:nvPr/>
        </p:nvCxnSpPr>
        <p:spPr>
          <a:xfrm flipH="1">
            <a:off x="6590880" y="2742840"/>
            <a:ext cx="572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8" name=""/>
          <p:cNvSpPr/>
          <p:nvPr/>
        </p:nvSpPr>
        <p:spPr>
          <a:xfrm>
            <a:off x="4876920" y="12952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d de distribución fu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315200" y="1295280"/>
            <a:ext cx="1219320" cy="50328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ontratos con ter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477120" y="1600200"/>
            <a:ext cx="76176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ien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60" idx="2"/>
            <a:endCxn id="958" idx="3"/>
          </p:cNvCxnSpPr>
          <p:nvPr/>
        </p:nvCxnSpPr>
        <p:spPr>
          <a:xfrm flipH="1" flipV="1">
            <a:off x="6019560" y="1561680"/>
            <a:ext cx="4579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9" idx="2"/>
            <a:endCxn id="958" idx="3"/>
          </p:cNvCxnSpPr>
          <p:nvPr/>
        </p:nvCxnSpPr>
        <p:spPr>
          <a:xfrm flipH="1">
            <a:off x="6019560" y="1547640"/>
            <a:ext cx="12960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3" name=""/>
          <p:cNvCxnSpPr>
            <a:stCxn id="958" idx="2"/>
            <a:endCxn id="937" idx="0"/>
          </p:cNvCxnSpPr>
          <p:nvPr/>
        </p:nvCxnSpPr>
        <p:spPr>
          <a:xfrm flipH="1">
            <a:off x="5126760" y="1828440"/>
            <a:ext cx="3214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4" name=""/>
          <p:cNvCxnSpPr>
            <a:stCxn id="958" idx="2"/>
            <a:endCxn id="934" idx="7"/>
          </p:cNvCxnSpPr>
          <p:nvPr/>
        </p:nvCxnSpPr>
        <p:spPr>
          <a:xfrm flipH="1">
            <a:off x="3803400" y="1828800"/>
            <a:ext cx="164520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3657600" y="1371600"/>
            <a:ext cx="990720" cy="50328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ejec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65" idx="6"/>
            <a:endCxn id="958" idx="1"/>
          </p:cNvCxnSpPr>
          <p:nvPr/>
        </p:nvCxnSpPr>
        <p:spPr>
          <a:xfrm flipV="1">
            <a:off x="4647960" y="1561680"/>
            <a:ext cx="229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7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entro de Regalos On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8" name=""/>
          <p:cNvCxnSpPr>
            <a:stCxn id="967" idx="3"/>
            <a:endCxn id="934" idx="1"/>
          </p:cNvCxnSpPr>
          <p:nvPr/>
        </p:nvCxnSpPr>
        <p:spPr>
          <a:xfrm>
            <a:off x="2742840" y="2095200"/>
            <a:ext cx="22932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9" name=""/>
          <p:cNvSpPr/>
          <p:nvPr/>
        </p:nvSpPr>
        <p:spPr>
          <a:xfrm>
            <a:off x="457200" y="1905120"/>
            <a:ext cx="83808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Recordato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752480" y="1295280"/>
            <a:ext cx="114300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Libreta de direc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14240" y="1447920"/>
            <a:ext cx="73368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ugerenci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70" idx="4"/>
            <a:endCxn id="967" idx="0"/>
          </p:cNvCxnSpPr>
          <p:nvPr/>
        </p:nvCxnSpPr>
        <p:spPr>
          <a:xfrm flipH="1">
            <a:off x="2171160" y="17524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"/>
          <p:cNvCxnSpPr>
            <a:stCxn id="971" idx="5"/>
            <a:endCxn id="967" idx="1"/>
          </p:cNvCxnSpPr>
          <p:nvPr/>
        </p:nvCxnSpPr>
        <p:spPr>
          <a:xfrm>
            <a:off x="1339560" y="1770120"/>
            <a:ext cx="2610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"/>
          <p:cNvCxnSpPr>
            <a:stCxn id="969" idx="6"/>
            <a:endCxn id="967" idx="1"/>
          </p:cNvCxnSpPr>
          <p:nvPr/>
        </p:nvCxnSpPr>
        <p:spPr>
          <a:xfrm flipV="1">
            <a:off x="1294920" y="209520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"/>
          <p:cNvSpPr/>
          <p:nvPr/>
        </p:nvSpPr>
        <p:spPr>
          <a:xfrm>
            <a:off x="1295280" y="2895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ertas de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75" idx="3"/>
            <a:endCxn id="934" idx="3"/>
          </p:cNvCxnSpPr>
          <p:nvPr/>
        </p:nvCxnSpPr>
        <p:spPr>
          <a:xfrm flipV="1">
            <a:off x="2438280" y="3033000"/>
            <a:ext cx="534240" cy="129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7" name=""/>
          <p:cNvSpPr/>
          <p:nvPr/>
        </p:nvSpPr>
        <p:spPr>
          <a:xfrm>
            <a:off x="228600" y="3429000"/>
            <a:ext cx="990720" cy="4572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diner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0360" y="2819520"/>
            <a:ext cx="9003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Jarros y flor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9" name=""/>
          <p:cNvCxnSpPr>
            <a:stCxn id="977" idx="6"/>
            <a:endCxn id="975" idx="2"/>
          </p:cNvCxnSpPr>
          <p:nvPr/>
        </p:nvCxnSpPr>
        <p:spPr>
          <a:xfrm flipV="1">
            <a:off x="1218960" y="3428280"/>
            <a:ext cx="648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0" name=""/>
          <p:cNvCxnSpPr>
            <a:stCxn id="978" idx="6"/>
            <a:endCxn id="975" idx="1"/>
          </p:cNvCxnSpPr>
          <p:nvPr/>
        </p:nvCxnSpPr>
        <p:spPr>
          <a:xfrm>
            <a:off x="990720" y="3008160"/>
            <a:ext cx="305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1" name=""/>
          <p:cNvSpPr/>
          <p:nvPr/>
        </p:nvSpPr>
        <p:spPr>
          <a:xfrm>
            <a:off x="1143000" y="4038480"/>
            <a:ext cx="1143000" cy="5335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stCxn id="981" idx="3"/>
            <a:endCxn id="935" idx="2"/>
          </p:cNvCxnSpPr>
          <p:nvPr/>
        </p:nvCxnSpPr>
        <p:spPr>
          <a:xfrm flipV="1">
            <a:off x="2285640" y="4228560"/>
            <a:ext cx="51516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3" name=""/>
          <p:cNvSpPr/>
          <p:nvPr/>
        </p:nvSpPr>
        <p:spPr>
          <a:xfrm>
            <a:off x="1752480" y="4724280"/>
            <a:ext cx="99072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entro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0880" y="4724280"/>
            <a:ext cx="1067040" cy="378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Integración Offline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5" name=""/>
          <p:cNvCxnSpPr>
            <a:stCxn id="984" idx="7"/>
            <a:endCxn id="981" idx="2"/>
          </p:cNvCxnSpPr>
          <p:nvPr/>
        </p:nvCxnSpPr>
        <p:spPr>
          <a:xfrm flipV="1">
            <a:off x="1292040" y="4571640"/>
            <a:ext cx="4230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6" name=""/>
          <p:cNvCxnSpPr>
            <a:stCxn id="983" idx="0"/>
            <a:endCxn id="981" idx="2"/>
          </p:cNvCxnSpPr>
          <p:nvPr/>
        </p:nvCxnSpPr>
        <p:spPr>
          <a:xfrm flipH="1" flipV="1">
            <a:off x="1713960" y="4571280"/>
            <a:ext cx="533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7" name=""/>
          <p:cNvSpPr/>
          <p:nvPr/>
        </p:nvSpPr>
        <p:spPr>
          <a:xfrm flipH="1">
            <a:off x="625320" y="5410080"/>
            <a:ext cx="108000" cy="1080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96880" y="560088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10640" y="5310360"/>
            <a:ext cx="15249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Beneficios Cla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 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Actividades y activo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Capa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Part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5943600"/>
            <a:ext cx="127080" cy="76320"/>
          </a:xfrm>
          <a:prstGeom prst="rect">
            <a:avLst/>
          </a:prstGeom>
          <a:solidFill>
            <a:srgbClr val="5b87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229600" y="3048120"/>
            <a:ext cx="822240" cy="37764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50280" y="3481560"/>
            <a:ext cx="669960" cy="377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77320" y="3886200"/>
            <a:ext cx="1066680" cy="4572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620120" y="4343400"/>
            <a:ext cx="914400" cy="37800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atalog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238880" y="3276720"/>
            <a:ext cx="838440" cy="444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3,000 afili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91" idx="3"/>
            <a:endCxn id="931" idx="3"/>
          </p:cNvCxnSpPr>
          <p:nvPr/>
        </p:nvCxnSpPr>
        <p:spPr>
          <a:xfrm flipH="1">
            <a:off x="7619760" y="3370320"/>
            <a:ext cx="730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7" name=""/>
          <p:cNvCxnSpPr>
            <a:stCxn id="995" idx="4"/>
            <a:endCxn id="931" idx="3"/>
          </p:cNvCxnSpPr>
          <p:nvPr/>
        </p:nvCxnSpPr>
        <p:spPr>
          <a:xfrm flipH="1">
            <a:off x="7619760" y="3720960"/>
            <a:ext cx="388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8" name=""/>
          <p:cNvCxnSpPr>
            <a:stCxn id="993" idx="2"/>
            <a:endCxn id="931" idx="3"/>
          </p:cNvCxnSpPr>
          <p:nvPr/>
        </p:nvCxnSpPr>
        <p:spPr>
          <a:xfrm flipH="1">
            <a:off x="7619760" y="411480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9" name=""/>
          <p:cNvCxnSpPr>
            <a:stCxn id="994" idx="1"/>
            <a:endCxn id="931" idx="3"/>
          </p:cNvCxnSpPr>
          <p:nvPr/>
        </p:nvCxnSpPr>
        <p:spPr>
          <a:xfrm flipH="1" flipV="1">
            <a:off x="7620120" y="4152240"/>
            <a:ext cx="13356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0" name=""/>
          <p:cNvCxnSpPr>
            <a:stCxn id="995" idx="1"/>
            <a:endCxn id="932" idx="3"/>
          </p:cNvCxnSpPr>
          <p:nvPr/>
        </p:nvCxnSpPr>
        <p:spPr>
          <a:xfrm flipH="1" flipV="1">
            <a:off x="7162200" y="3238200"/>
            <a:ext cx="19908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1" name=""/>
          <p:cNvCxnSpPr>
            <a:stCxn id="992" idx="2"/>
            <a:endCxn id="931" idx="3"/>
          </p:cNvCxnSpPr>
          <p:nvPr/>
        </p:nvCxnSpPr>
        <p:spPr>
          <a:xfrm flipH="1">
            <a:off x="7619760" y="3669840"/>
            <a:ext cx="830880" cy="48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2" name=""/>
          <p:cNvSpPr/>
          <p:nvPr/>
        </p:nvSpPr>
        <p:spPr>
          <a:xfrm>
            <a:off x="596880" y="5765760"/>
            <a:ext cx="152280" cy="76320"/>
          </a:xfrm>
          <a:prstGeom prst="ellipse">
            <a:avLst/>
          </a:prstGeom>
          <a:solidFill>
            <a:srgbClr val="cdc7c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09480" y="6095880"/>
            <a:ext cx="152640" cy="76320"/>
          </a:xfrm>
          <a:prstGeom prst="ellipse">
            <a:avLst/>
          </a:prstGeom>
          <a:solidFill>
            <a:srgbClr val="f63f1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A085-E238-4FE5-B7D5-6C48FF2EBFD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aso 4: Soporte Financier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1371600"/>
            <a:ext cx="4800600" cy="4152960"/>
          </a:xfrm>
          <a:prstGeom prst="triangle">
            <a:avLst>
              <a:gd name="adj" fmla="val 50000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3429000" y="3479760"/>
            <a:ext cx="2400480" cy="202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105800" y="3857760"/>
            <a:ext cx="104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ODEL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-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19520" y="45435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CO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(qu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231160" y="45435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USU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(quie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034160" y="256212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822cd"/>
                </a:solidFill>
                <a:latin typeface="Verdana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19920" y="1330200"/>
            <a:ext cx="2819160" cy="64152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1411d"/>
                </a:solidFill>
                <a:latin typeface="Verdana"/>
              </a:rPr>
              <a:t>Disposición a pagar p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f1411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1411d"/>
                </a:solidFill>
                <a:latin typeface="Verdana"/>
              </a:rPr>
              <a:t>Contenido (modelo dire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f1411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1411d"/>
                </a:solidFill>
                <a:latin typeface="Verdana"/>
              </a:rPr>
              <a:t>Usuarios (modelo indire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C5AF-D262-48AB-B31C-71DE8CB4291D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jemplo: Portal (EMOL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133720" y="1523880"/>
            <a:ext cx="2209320" cy="1752480"/>
            <a:chOff x="2133720" y="1523880"/>
            <a:chExt cx="2209320" cy="1752480"/>
          </a:xfrm>
        </p:grpSpPr>
        <p:sp>
          <p:nvSpPr>
            <p:cNvPr id="1014" name=""/>
            <p:cNvSpPr/>
            <p:nvPr/>
          </p:nvSpPr>
          <p:spPr>
            <a:xfrm>
              <a:off x="2133720" y="1523880"/>
              <a:ext cx="1752480" cy="1295280"/>
            </a:xfrm>
            <a:prstGeom prst="rect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CONTEN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66880" y="2666880"/>
              <a:ext cx="609120" cy="609480"/>
            </a:xfrm>
            <a:prstGeom prst="ellipse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733560" y="1828440"/>
              <a:ext cx="609480" cy="609840"/>
            </a:xfrm>
            <a:prstGeom prst="ellipse">
              <a:avLst/>
            </a:prstGeom>
            <a:solidFill>
              <a:srgbClr val="faf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876920" y="1752480"/>
            <a:ext cx="1904760" cy="1447560"/>
            <a:chOff x="4876920" y="1752480"/>
            <a:chExt cx="1904760" cy="1447560"/>
          </a:xfrm>
        </p:grpSpPr>
        <p:sp>
          <p:nvSpPr>
            <p:cNvPr id="1018" name=""/>
            <p:cNvSpPr/>
            <p:nvPr/>
          </p:nvSpPr>
          <p:spPr>
            <a:xfrm>
              <a:off x="5029200" y="1752480"/>
              <a:ext cx="1752480" cy="1295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Verdana"/>
                </a:rPr>
                <a:t>$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38680" y="2590560"/>
              <a:ext cx="60984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76920" y="2057040"/>
              <a:ext cx="609480" cy="60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2819520" y="3733920"/>
            <a:ext cx="3504960" cy="1447200"/>
            <a:chOff x="2819520" y="3733920"/>
            <a:chExt cx="3504960" cy="1447200"/>
          </a:xfrm>
        </p:grpSpPr>
        <p:sp>
          <p:nvSpPr>
            <p:cNvPr id="1022" name=""/>
            <p:cNvSpPr/>
            <p:nvPr/>
          </p:nvSpPr>
          <p:spPr>
            <a:xfrm>
              <a:off x="2819520" y="3886200"/>
              <a:ext cx="3504960" cy="129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USU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00400" y="3733920"/>
              <a:ext cx="60912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81480" y="3733920"/>
              <a:ext cx="60912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5" name=""/>
          <p:cNvCxnSpPr>
            <a:stCxn id="1015" idx="5"/>
            <a:endCxn id="1023" idx="5"/>
          </p:cNvCxnSpPr>
          <p:nvPr/>
        </p:nvCxnSpPr>
        <p:spPr>
          <a:xfrm>
            <a:off x="3187440" y="3187440"/>
            <a:ext cx="533880" cy="106740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6" name=""/>
          <p:cNvCxnSpPr>
            <a:stCxn id="1016" idx="6"/>
            <a:endCxn id="1020" idx="6"/>
          </p:cNvCxnSpPr>
          <p:nvPr/>
        </p:nvCxnSpPr>
        <p:spPr>
          <a:xfrm>
            <a:off x="4343040" y="2133360"/>
            <a:ext cx="114372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27" name=""/>
          <p:cNvSpPr/>
          <p:nvPr/>
        </p:nvSpPr>
        <p:spPr>
          <a:xfrm>
            <a:off x="5791320" y="5384880"/>
            <a:ext cx="3352680" cy="6094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Hombres y mujeres 25 – 40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re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rincipalmente en la ofic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2280" y="2971800"/>
            <a:ext cx="2133720" cy="137160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El Mercurio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Noti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Tiempo 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Depo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Inter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E-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086600" y="1371600"/>
            <a:ext cx="1638360" cy="49536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876e7"/>
                </a:solidFill>
                <a:latin typeface="Verdana"/>
              </a:rPr>
              <a:t>Alt.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086600" y="2133720"/>
            <a:ext cx="1638360" cy="68580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876e7"/>
                </a:solidFill>
                <a:latin typeface="Verdana"/>
              </a:rPr>
              <a:t>Alt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Suscripciones y mktg. Rel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086600" y="2971800"/>
            <a:ext cx="1638360" cy="6094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6600"/>
                </a:solidFill>
                <a:latin typeface="Verdana"/>
              </a:rPr>
              <a:t>Alt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c6600"/>
                </a:solidFill>
                <a:latin typeface="Verdana"/>
              </a:rPr>
              <a:t>Acceso a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1431600">
            <a:off x="5517720" y="3276720"/>
            <a:ext cx="3319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2" idx="0"/>
            <a:endCxn id="1019" idx="7"/>
          </p:cNvCxnSpPr>
          <p:nvPr/>
        </p:nvCxnSpPr>
        <p:spPr>
          <a:xfrm flipV="1">
            <a:off x="5775120" y="2679120"/>
            <a:ext cx="384840" cy="61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34" name=""/>
          <p:cNvCxnSpPr>
            <a:stCxn id="1032" idx="4"/>
            <a:endCxn id="1024" idx="3"/>
          </p:cNvCxnSpPr>
          <p:nvPr/>
        </p:nvCxnSpPr>
        <p:spPr>
          <a:xfrm flipH="1">
            <a:off x="5269680" y="3713040"/>
            <a:ext cx="321480" cy="5421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09A7-899A-42CE-AAD9-D04F3C46785E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Ingres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ublicidad (modelo de ingreso indirect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Yahoo!, EMOL 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enta de productos, servicios o información (modelo direct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mazon, Chilevinos, Falabell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ntermediación de transa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chwab, eBay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uscrip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WSJ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arketing Relacional: híbrido entre suscripción y publicidad. El ingreso se puede generar online u 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NYTim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C0D2-0611-4712-9A3F-2FCDCB3C9EAA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delo de ingresos ligado a generación de flujo pero no necesariamente de util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odelos de estrategia de LP para generar util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“Blockbuster” de Disney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entradas al cin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explotación profunda de productos exitos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“Base y Continuación” de Gillett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áquinas de afeitar y repuest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lock-i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odelo de “metamercado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comisiones, margenes de venta o public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Apalanca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2B09-A4FD-4653-BF25-61439E1A684B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ema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comisio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Efectos de red, base de usuari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ategory-killer” (diferentes marcas de una misma categoría; ej. eToy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Margen de vent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Apalancamiento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ejor información (WSJ, Bloomberg, etc.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Suscripción, publicidad, comisio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Credibilidad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ás amplia variedad (CDNow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Valor: Precios premium por productos de difícil acceso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09C6-16AA-42ED-8194-525B6A3A2207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s de Valor para los accionis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ás bajo precio (buy.com y Wal-Mart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Volumen y eficienci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d de usuarios líder (ICQ, Real Networks, Napste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, publicidad, comis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Posibilidad de cobrar precios premium después de crear un standard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ejor experiencia (FAOSchwartz.com, Ashford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gresos: margen de vent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alor: Satisfacción del cli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8658-2513-4223-A49A-61184632B6B3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de Crecimien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Fuentes de crecimien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ofundizar penetración en mercado actu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nuevos productos (nuevos productos para mercados existentes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mercados (productos existentes para mercados nuevos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Desarrollo de nuevos productos para nuevos mercad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56C7-ED45-4430-80EE-6923EC29923F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46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19920" y="29718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019920" y="274284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19920" y="297180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501600" y="2590920"/>
            <a:ext cx="120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19920" y="19051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6019920" y="16761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19920" y="19051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64960" y="152388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Segmento obje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¿Por que mejor que otr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19920" y="39625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6019920" y="37335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19920" y="396252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547320" y="3581280"/>
            <a:ext cx="214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Beneficios cent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Capac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Link Recurso-capa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55555"/>
                </a:solidFill>
                <a:latin typeface="Verdana"/>
              </a:rPr>
              <a:t>Entrega y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19920" y="3962520"/>
            <a:ext cx="38088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5105520"/>
            <a:ext cx="457200" cy="609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6019920" y="4876560"/>
            <a:ext cx="457200" cy="228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19920" y="5105520"/>
            <a:ext cx="457200" cy="838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77120" y="4724280"/>
            <a:ext cx="2438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Pilares: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contenido 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ingr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Ingr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valor 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5555"/>
                </a:solidFill>
                <a:latin typeface="Verdana"/>
              </a:rPr>
              <a:t>Modelos de cr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019920" y="5105520"/>
            <a:ext cx="457200" cy="380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AF54-8991-4805-A578-068FEB11688E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faz de Usuario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7Cs o elementos de diseño gener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72" name=""/>
          <p:cNvSpPr/>
          <p:nvPr/>
        </p:nvSpPr>
        <p:spPr>
          <a:xfrm>
            <a:off x="228600" y="16416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Diseño y distribución de 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629400" y="16002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Texto, imágenes, sonidos y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29400" y="32004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o el sitio permite la comunicación entre usu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2940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ustom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apacidades de personalización del si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6716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un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ormas de comunicación sitio a usuario y usuario a si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28600" y="4952880"/>
            <a:ext cx="2209680" cy="110196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Links a y desde otros si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" y="3200400"/>
            <a:ext cx="2209680" cy="11016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Comer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apacidad para efectuar trans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7100-9507-4EBC-A646-A0CD21A036BF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Para qué sirve Internet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Herramienta de marketing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itios corporativ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ractu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mai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Cha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Mensajeros instantáne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-commerc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-procuremen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F29B-325B-475D-8D2E-238C5D7375B1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aracterísticas del diseñ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lineamento con el modelo: Capacidad de cada uno de los elementos para soportar el modelo de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olidez de diseño: grado de consistencia entre los diferentes ele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"/>
          <p:cNvSpPr/>
          <p:nvPr/>
        </p:nvSpPr>
        <p:spPr>
          <a:xfrm>
            <a:off x="11430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13372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ustom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0552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unic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0958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n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086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29000" y="3429000"/>
            <a:ext cx="228600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odelo de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0" name=""/>
          <p:cNvCxnSpPr>
            <a:endCxn id="1082" idx="0"/>
          </p:cNvCxnSpPr>
          <p:nvPr/>
        </p:nvCxnSpPr>
        <p:spPr>
          <a:xfrm flipH="1">
            <a:off x="1599480" y="3733560"/>
            <a:ext cx="1600920" cy="9910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1" name=""/>
          <p:cNvCxnSpPr>
            <a:endCxn id="1083" idx="0"/>
          </p:cNvCxnSpPr>
          <p:nvPr/>
        </p:nvCxnSpPr>
        <p:spPr>
          <a:xfrm flipH="1">
            <a:off x="2590560" y="3886200"/>
            <a:ext cx="91512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2" name=""/>
          <p:cNvCxnSpPr>
            <a:endCxn id="1084" idx="0"/>
          </p:cNvCxnSpPr>
          <p:nvPr/>
        </p:nvCxnSpPr>
        <p:spPr>
          <a:xfrm flipH="1">
            <a:off x="3580560" y="3886200"/>
            <a:ext cx="30564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3" name=""/>
          <p:cNvCxnSpPr>
            <a:endCxn id="1085" idx="0"/>
          </p:cNvCxnSpPr>
          <p:nvPr/>
        </p:nvCxnSpPr>
        <p:spPr>
          <a:xfrm>
            <a:off x="4571640" y="3886200"/>
            <a:ext cx="1080" cy="8388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4" name=""/>
          <p:cNvCxnSpPr/>
          <p:nvPr/>
        </p:nvCxnSpPr>
        <p:spPr>
          <a:xfrm>
            <a:off x="5943240" y="3886200"/>
            <a:ext cx="1600920" cy="9914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5" name=""/>
          <p:cNvCxnSpPr/>
          <p:nvPr/>
        </p:nvCxnSpPr>
        <p:spPr>
          <a:xfrm>
            <a:off x="5638680" y="4038120"/>
            <a:ext cx="915120" cy="839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96" name=""/>
          <p:cNvCxnSpPr/>
          <p:nvPr/>
        </p:nvCxnSpPr>
        <p:spPr>
          <a:xfrm>
            <a:off x="5257440" y="4038120"/>
            <a:ext cx="305640" cy="839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97" name=""/>
          <p:cNvSpPr/>
          <p:nvPr/>
        </p:nvSpPr>
        <p:spPr>
          <a:xfrm>
            <a:off x="3505320" y="4114800"/>
            <a:ext cx="2133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line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stCxn id="1082" idx="2"/>
            <a:endCxn id="1083" idx="2"/>
          </p:cNvCxnSpPr>
          <p:nvPr/>
        </p:nvCxnSpPr>
        <p:spPr>
          <a:xfrm flipH="1" rot="16200000">
            <a:off x="2094480" y="5143680"/>
            <a:ext cx="2520" cy="991440"/>
          </a:xfrm>
          <a:prstGeom prst="curvedConnector5">
            <a:avLst>
              <a:gd name="adj1" fmla="val 14400000"/>
              <a:gd name="adj2" fmla="val 49981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9" name=""/>
          <p:cNvCxnSpPr>
            <a:stCxn id="1083" idx="2"/>
            <a:endCxn id="1084" idx="2"/>
          </p:cNvCxnSpPr>
          <p:nvPr/>
        </p:nvCxnSpPr>
        <p:spPr>
          <a:xfrm flipH="1" rot="16200000">
            <a:off x="3084120" y="5144040"/>
            <a:ext cx="2520" cy="9910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0" name=""/>
          <p:cNvCxnSpPr/>
          <p:nvPr/>
        </p:nvCxnSpPr>
        <p:spPr>
          <a:xfrm flipH="1" rot="16200000">
            <a:off x="2589120" y="4875840"/>
            <a:ext cx="2160" cy="1981800"/>
          </a:xfrm>
          <a:prstGeom prst="curvedConnector5">
            <a:avLst>
              <a:gd name="adj1" fmla="val 16880000"/>
              <a:gd name="adj2" fmla="val 50000"/>
              <a:gd name="adj3" fmla="val 1688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1" name=""/>
          <p:cNvCxnSpPr>
            <a:stCxn id="1084" idx="2"/>
            <a:endCxn id="1085" idx="2"/>
          </p:cNvCxnSpPr>
          <p:nvPr/>
        </p:nvCxnSpPr>
        <p:spPr>
          <a:xfrm flipH="1" rot="16200000">
            <a:off x="4075560" y="5143680"/>
            <a:ext cx="2520" cy="991440"/>
          </a:xfrm>
          <a:prstGeom prst="curvedConnector5">
            <a:avLst>
              <a:gd name="adj1" fmla="val 14400000"/>
              <a:gd name="adj2" fmla="val 49981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2" name=""/>
          <p:cNvCxnSpPr/>
          <p:nvPr/>
        </p:nvCxnSpPr>
        <p:spPr>
          <a:xfrm flipH="1" rot="16200000">
            <a:off x="6056280" y="4305960"/>
            <a:ext cx="2160" cy="2972520"/>
          </a:xfrm>
          <a:prstGeom prst="curvedConnector5">
            <a:avLst>
              <a:gd name="adj1" fmla="val 19680000"/>
              <a:gd name="adj2" fmla="val 50000"/>
              <a:gd name="adj3" fmla="val 1968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3" name=""/>
          <p:cNvCxnSpPr>
            <a:stCxn id="1086" idx="2"/>
            <a:endCxn id="1087" idx="2"/>
          </p:cNvCxnSpPr>
          <p:nvPr/>
        </p:nvCxnSpPr>
        <p:spPr>
          <a:xfrm flipH="1" rot="16200000">
            <a:off x="6055920" y="5144040"/>
            <a:ext cx="2520" cy="99108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>
            <a:off x="3505320" y="58672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Sol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4484-B32C-48F7-B084-291615E9A7F6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os dimensiones de contex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uncionalidad (Google, Yahoo!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stétic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tructuración del sitio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ermitir el acceso a toda la información disponibl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cilidad de naveg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ementos a consid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ec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structura de link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Herramientas de naveg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edición y evaluación del contex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eloc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fiabil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dependencia de plataforma (Sistemas operativos y browser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2D78-BD7E-4D6D-A8EA-BABEC95817EB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ni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4 dimen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tos, servicios, informa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ensaje (appeal): foco comunicacion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gnitivo: foco en aspectos funciona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mocional: foco en humor, historias, etc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ix multimed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exto, imágenes, sonido y vide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Tipo de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60B9-D817-4A5D-B4C7-0FB63A958053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municación entre usu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no a un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no a much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lementos de una com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hesión: identidad de grupo y sentimiento individual de pertenenci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fectividad: impacto del grupo en la vida de los miembr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yuda: percepción de poder dar y pedir ayu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Lenguaj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utoregula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85F5-8E14-4487-85BF-923F9613717B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pos de comun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mistad: Yahoogroup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ntusiastas: grupos que comparten un interés especia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oporte: Alcoholicos anónim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Jueg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mer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Grado de participación de los miemb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asiv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otivador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termediar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5CD3-DB9F-4073-9D81-141406D64937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ustomiz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os tipos de personaliz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el usuar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utodefinición de Perfi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iseño de look-and-fee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el sit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asado en uso anterior del mismo usuar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asado en comportamiento de usuarios “similare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9DCC-158C-47D1-833A-747062EC1BA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c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ialogos iniciados por la organización, dentro del si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roadcast o unidirecc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mailing mas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Q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-mail newslette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ter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ialogo de e-commerce (intercambio de e-mails, confirmación de pedido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ustomer Service (customer care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Híbr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5B4D-4D47-4560-8DFB-5FD4CB6B4DE3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unic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riables a consider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ntidad de usuarios que ponen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uch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ntidad de usuarios que reciben conteni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uch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sibilidad de respuest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i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929A-903A-4B21-A506-9C0CFC1D7F6D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ex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omo se conecta el sitio con otros negoc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Link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Home site en backgroun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utsourcing de contenid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itios compuestos (</a:t>
            </a:r>
            <a:r>
              <a:rPr b="0" lang="es-MX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banco de chile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pos de si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Sitios de destino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exclusivamente contenido prop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Hub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Combinación de contenido propio y contenido seleccionado de otros siti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6876e7"/>
                </a:solidFill>
                <a:uFillTx/>
                <a:latin typeface="Verdana"/>
              </a:rPr>
              <a:t>Portales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: Casi exclusivamente contenido de tercer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C446-CBC4-49DA-AF52-555EC8FB043E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er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Modelos de  comer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tálog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ma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mates al revé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gregación de deman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fertas / contraofer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2789-2640-4CB8-BCC0-139AFFA64673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Matriz de Posicionamiento Estratégic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738920" cy="3938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96560" y="39625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Qué Es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81840" y="14479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Para qué utilizar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7DC4-D9C3-483C-8A1B-EEAB34F73F3E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mer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imensiones de la capacidad de comer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gistr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rro de compr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guridad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étodo de pag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eferencias (one-click-shopping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nfiguración tecnológic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guimiento de orde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Opciones de despach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5D79-7CF6-4C91-A995-0626488A9862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126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79280" y="2421000"/>
            <a:ext cx="4248360" cy="1439640"/>
          </a:xfrm>
          <a:prstGeom prst="ellipse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261D-16C4-4562-BA63-CC6F77D397B7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UNIVERSIDAD DE CHILE</a:t>
            </a:r>
            <a:br>
              <a:rPr sz="1300"/>
            </a:br>
            <a:r>
              <a:rPr b="1" lang="es-ES" sz="1300" spc="-1" strike="noStrike">
                <a:solidFill>
                  <a:srgbClr val="1822cd"/>
                </a:solidFill>
                <a:latin typeface="Times New Roman"/>
              </a:rPr>
              <a:t>FACULTAD DE CIENCIAS FÍSICAS Y MATEMÁTICAS</a:t>
            </a:r>
            <a:br>
              <a:rPr sz="1300"/>
            </a:br>
            <a:br>
              <a:rPr sz="1900"/>
            </a:br>
            <a:br>
              <a:rPr sz="19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Estrategias de Internet</a:t>
            </a:r>
            <a:br>
              <a:rPr sz="2100"/>
            </a:br>
            <a:r>
              <a:rPr b="1" lang="es-ES" sz="2100" spc="-1" strike="noStrike">
                <a:solidFill>
                  <a:srgbClr val="32323d"/>
                </a:solidFill>
                <a:latin typeface="Verdana"/>
              </a:rPr>
              <a:t>Comercio Electrónico y e-Business</a:t>
            </a:r>
            <a:endParaRPr b="0" lang="en-US" sz="2100" spc="-1" strike="noStrike">
              <a:solidFill>
                <a:srgbClr val="555555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Matriz de Posicionamiento Estratégico</a:t>
            </a:r>
            <a:br>
              <a:rPr sz="2600"/>
            </a:br>
            <a:r>
              <a:rPr b="0" lang="en-US" sz="2600" spc="-1" strike="noStrike">
                <a:solidFill>
                  <a:srgbClr val="555555"/>
                </a:solidFill>
                <a:latin typeface="Verdana"/>
              </a:rPr>
              <a:t>EJEMPLO</a:t>
            </a:r>
            <a:endParaRPr b="0" lang="en-US" sz="26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1490760"/>
          <a:ext cx="7867440" cy="4087800"/>
        </p:xfrm>
        <a:graphic>
          <a:graphicData uri="http://schemas.openxmlformats.org/drawingml/2006/table">
            <a:tbl>
              <a:tblPr/>
              <a:tblGrid>
                <a:gridCol w="1842840"/>
                <a:gridCol w="2021040"/>
                <a:gridCol w="1897200"/>
                <a:gridCol w="21063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 q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ctu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nolog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tafo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038760" y="3724560"/>
            <a:ext cx="1462680" cy="64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B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Sitio Forus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299680"/>
            <a:ext cx="1511280" cy="10328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ntegración con grandes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450160"/>
            <a:ext cx="2305080" cy="774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ntr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Reportes online de gestión, RRHH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AE85-E38D-4471-B519-E35422FD5AA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iferentes formas de utilizar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gún tipo de institu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mpresas y Corpor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Productivas, Comercio minorista y mayorista, Distribuidores, Servicios, Intermediarios, Telecomunicaci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Medios de comunicación tradicion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ducación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Gobiern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gún Á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RRHH (Intranet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Marketing, relación con cli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Oper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FEA2-F30F-4C94-A802-C6FB251B7CB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Información y los Negoci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la mayoría de los negocios la información juega un rol crít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mpras, relación con provee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entas, relación con clientes, publicidad y márketing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rganización interna, relaciones entre emplea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información domina los procesos como también los produc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información unifica la cadena de valor de cada nego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estión =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7AFD-2938-46E6-8189-2724458254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3AD3-2CDB-4455-8F7F-E1161B4D77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¿Nueva Economía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61960" y="1143000"/>
            <a:ext cx="6476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Por qué N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urva de demanda con pendiente positiv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ecisiones basadas en relación costo –beneficio (VP de los flujos sigue siendo “la” forma de evaluar proyecto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Por qué S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conomía tradicional se sustenta en la escasez; la información ya no es precisamente un recurso escas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La estructura económica pensada en la protección de derechos de propiedad no se ajusta a los requerimientos de la información digital (economías de informació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enso: el término “Nueva Economí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85800" y="1600200"/>
            <a:ext cx="0" cy="1447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895480"/>
            <a:ext cx="15242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2895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304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114300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6D17-2B78-415F-80F6-587E413007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Profesor: Luis Felipe Tronco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Académ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Ingeniero Civil Industrial, Universidad de Chile, 1995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MBA University of California at Berkeley, 2001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Profeci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2002 Forus S.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Gerente de Planificación y Sistem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2001 – 2002 El Mercurio On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Gerente Portal EMO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822cd"/>
                </a:solidFill>
                <a:latin typeface="Verdana"/>
              </a:rPr>
              <a:t>1995 – 1999 Costanera S.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Subgerente de Finanzas y Estud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tecedentes Doc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1994 – 1997 Area Investigación de Opera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2002 Area Marketing, Estrategia e Internet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niversidad Adolfo Ibañez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76e7"/>
                </a:solidFill>
                <a:latin typeface="Verdana"/>
              </a:rPr>
              <a:t>2002 Escuela de Negocios, MB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0DED-080C-42BD-87A8-A14287A75F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 Tra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dustrias dominadas por oligopol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Basada en economías de escal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 de la Infor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dustrias dominadas por monopolios tempor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Basada en economías de red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¿Nueva Economía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4047-ABBE-40F3-A21F-DCFD5A0D6B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Información (bienes de información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lquier cosa que puede ser digitalizad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Libros (textos), bases de datos, resultados deportivos, películas, música, cotizaciones de acciones, páginas web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or de la información está definido segú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u uso (para que se va a usa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entreteni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nego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Valor de poder (estar informado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El rol del usuario (quien lo va a usar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Padre de famili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Ejecut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Negociado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2B9D-E9AA-4EE8-B66C-581D74F270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conomías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s de Inform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structura de costos de bienes de información y fijación de prec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Bienes de experienci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conomías de ‘atención’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opiedad intelectual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s de 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Lock-in y costos de cambi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xternalidades de Red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Standard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33D1-6BAC-48C1-8594-17C5B1DE07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Estructura de costo de la inform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a de Produc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ata de reproduc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er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hundido, no se puede recuperar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unda y demás cop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variable pequeño (despreciable);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No existen restricciones de capac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Microsoft tiene un 92% de marge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marginal &lt; costo promed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osto promedio decreci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690080" y="123516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os costos f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jos costos marg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2193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87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BE01-CD63-4D5E-BFB8-BF3F70EFCD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Estructura de costo de la inform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icancias en la fijación de precios de bienes de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No existe competencia perfect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ólo 2 posibles estructuras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Monopol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Productos diferenciad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Precios se basan en el valor de la información para los consumidores y no en los costos de produc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Se generan incentivos para diferenciar precios o discriminar (extraer el máximo excedente de los consumidores posible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Identificación de merca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Crear diferentes versiones del mismo produc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Bundling” o “combos”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B777-C51E-47CE-A41C-19D9272256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nformación “Commodity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. Ante la sospecha, eliminar condi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uías de teléfono en CD-R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Nynex cobraba US$10.000 en 1986 por directorio de NY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US$3.50 diarios por trabajadores chin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10.000 registros/(trabajador-me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US$350 ciudad de 1.000.000 habita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Precio de CD-ROM partió en US$50 y terminó en US$3.0 en menos de 1 añ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tros ejemplos: precio de acciones; resultados deportiv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ategia en negocio commodity: reducir costo prome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íder en cost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Vender el mismo producto varias veces (Reuters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3269-7AFA-4157-B307-0A5F953A45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nformación “Diferenciable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mayoría. Si no, producir la diferenci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cios de acciones en tiempo real / desfas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entaja de ser el primero (first-mover advant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ocer al cliente (diferenciación a través de la experienc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egistro / suscrip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Seguimiento de su comportamiento (posible a través de la tecnología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CD54-A4AE-464A-83C0-6BC355056F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Bienes de ‘experiencia’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n aquellos en que el consumidor debe experimentarlos para valorizarl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i todo nuevo producto es un bien de experiencia, pero una vez que son probados, dejan de ser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información es un bien de experiencia cada vez que es consum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Un libro leído cuando niño y luego de adulto puede tener distinto valor para el lector, pero sólo lo sabrá cuando lo vuelva a leer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¿Cómo saber que El Mercurio de hoy ‘vale’ $300 antes de leerlo?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¿Cómo decidir que película ver en el teatro o la TV?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écnicas para persuadir a los clientes a pagar por informació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Muestras gratis: titulares del diario en los quioscos, sinopsis de películas, radios (como muestra del contenido de un CD);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76e7"/>
                </a:solidFill>
                <a:latin typeface="Verdana"/>
              </a:rPr>
              <a:t>Marcas: El Mercurio ‘garantiza’ cierto tipo y calidad de informa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6D90-D484-4BC9-A28E-DF6FDE3316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Las economías de ‘Atención’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riqueza de información crea pobreza de atención” – Herbert Simon (Premio Nobel de Economía 1978 por procesos de decis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problema de hoy no es el acceso a la información, sino la sobrecarga de ella. Cualquiera puede crear un sitio web, pero no es fácil comunicarle su existencia al público masiv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mazón pagó US$19MM a AOL para acceder a sus 10 millones de clientes. Esto no es adquisición de clientes, sino adquisición de la ‘atención’ de los cli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8017-7DBC-4641-966A-1E0C1AAF95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iedad intelect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tección a cambio de hacer público un  inven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omover el progreso de las ciencias y las artes úti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didas de protección tradicionales no garantizan el control de la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atentes, copyrights y trademarks buscan desincentivar la copi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ío consiste en buscar formas para maximizar el valor de la propiedad intelectual, no para maximizar la protección de la mis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Gestión de derechos sobre propiedad intelectua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4C4B-32F5-47F8-8790-952926E840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749160"/>
            <a:ext cx="6433920" cy="6088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Silicon Valley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466920" cy="698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09680" y="1484280"/>
            <a:ext cx="3200400" cy="2527200"/>
            <a:chOff x="2209680" y="1484280"/>
            <a:chExt cx="3200400" cy="2527200"/>
          </a:xfrm>
        </p:grpSpPr>
        <p:sp>
          <p:nvSpPr>
            <p:cNvPr id="56" name=""/>
            <p:cNvSpPr/>
            <p:nvPr/>
          </p:nvSpPr>
          <p:spPr>
            <a:xfrm>
              <a:off x="2209680" y="148428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71800" y="186516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00560" y="3214800"/>
              <a:ext cx="761760" cy="38232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0" y="3629160"/>
              <a:ext cx="762120" cy="38232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2514600"/>
              <a:ext cx="76176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67080" y="1981080"/>
              <a:ext cx="762120" cy="382680"/>
            </a:xfrm>
            <a:prstGeom prst="ellipse">
              <a:avLst/>
            </a:prstGeom>
            <a:noFill/>
            <a:ln w="25560">
              <a:solidFill>
                <a:srgbClr val="f14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EBD0-D852-429D-ABB9-CF5A2A8321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stos de producción y costos de distribu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a tecnología digital </a:t>
            </a:r>
            <a:r>
              <a:rPr b="0" lang="es-ES_tradnl" sz="1800" spc="-1" strike="noStrike" u="sng">
                <a:solidFill>
                  <a:srgbClr val="6876e7"/>
                </a:solidFill>
                <a:uFillTx/>
                <a:latin typeface="Verdana"/>
              </a:rPr>
              <a:t>cambia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 dos de los costos relevantes a la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Reduce dramáticamente los costos de hacer perfectas reproducciones y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Permite distribuir dichas reproducciones rápida y fácilmente, a un costo despreciable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tros adelantos tecnológicos han logrado cambios significativos en uno de los dos, pero el hecho de que cambien ambos crea oportunidades únicas de negoc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jemplo: grabador de cassettes disminuye 1, pero no 2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Una fotocopia de la mona lisa permite una distribución masiva de la obra, pero para apreciar toda su calidad es necesario visitar Paris (1 no, 2 si)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La radio AM permite una distribución barata de música, pero de baja calidad e impidiendo que el usuario controle la reproduc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F8DA-2677-43D8-9511-2D97DD2AE4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galar el contenido (alineado con característica de bienes de experiencia de la 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nsumidores no saben a priori cual es el valor de la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Muestras gratis son una vieja práctica que ha resultado muy útil para Internet, sobretodo porque se puede controlar el consum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jemplos: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ffline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ibrerías en US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nline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AMAZO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Importancia de los formatos y costumbres: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MOL no sustituye 100% al diario El Mercurio: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Disponibilidad de un libro online no necesariamente daña las ventas del mismo, sino que las increment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E61D-F7E1-4AE7-8AF8-989A436AD6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4540320" y="4329000"/>
            <a:ext cx="2465280" cy="2071800"/>
            <a:chOff x="4540320" y="4329000"/>
            <a:chExt cx="2465280" cy="20718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715000" y="4641840"/>
              <a:ext cx="1290600" cy="17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540320" y="4329000"/>
              <a:ext cx="2165400" cy="20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648360" y="1523880"/>
            <a:ext cx="766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manda por repeticiones (música, películas infanti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adio es de hecho una publicidad del contenido que transmite, pero en un empaque más conveni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CD es lo que en economía se denomina un “Option Value”: El propietario puede ejercer la opción de escuchar la canción que desee en el momento que dese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Los niños y el deseo de repetir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aso Barney vs. Disney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B91C-ACDC-4984-A4D7-0FB8E553D8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manda por bienes similares pero no idént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Revista Playboy: Los “lectores” se aburrirían rápido si siempre vinieran exactamente las mismas imágenes. Ello quieren variación… pero no tanto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Distribución digital de imágenes permite la incorporación de sellos de agua o incluso variaciones tecnológicas más relevantes (especie de encriptación gráfica, modificando brillo, contraste o colores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Distintas versiones del mismo softwar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3CA0-B51B-47F7-A75C-B0370A399E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mar ventaja de los bajos costos de distribución -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s Complement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Índices de contenido de reportes (consultoras, investment banks, etc.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Titulares y artículos básicos en diarios y revist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WSJ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52712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conomist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192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Contenido completo pero en formato incómodo  no imprimible (muchos links, mucha publicidad mezclada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Gestión de Propiedad Intelectu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646B-1B21-4310-BC6E-421E255445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 y 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mp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GM vs Toyot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C vs Mac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ock-in (amarre, cautiv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roovedores buscan amarrar a sus client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onsumidores evitan sentirse amarrad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CA82-9660-43C4-8186-50BFEEF899D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ras durables (Centrales teléfono, Iomega Zi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emplazo de eqipo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iende a decrecer lock-in con el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ambién disminuye cuando la depreciación es muy rápida (continuas mejoras tecnológicas) o si existe un mercado secundario (usados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ocimiento o entrenamiento específico de mar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endizaje de un nevo sistem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cluye costos directos y pérdida de productividad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Tiende a aumentar con el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 clásico: casi cualquier softwar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70F0-D773-454B-8DE0-3FDC36553A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formación y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HW y SW usado para almacenar inform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vertir data en un nuevo forma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iende a aumentar con el tempo al crecer la da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jemplos clásicos: Vinilo - CD; VHS - Laserdisc - DVD …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Books (adobe vs microsoft),  eMusic (Real vs microsoft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veedores especializ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Búsqueda de nuevos proveedores que cumplan requerimiento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s de búsque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romisos contractu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ultas o compensacion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gramas de fidelidad y lealtad de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Lock-in artificial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sto: necesidad de construir confianza como usuario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A6B7-1C8E-4390-B60C-48B89FAD15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El ciclo de Lock-i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057400"/>
            <a:ext cx="241632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572000"/>
            <a:ext cx="241632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ntrañ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348000"/>
            <a:ext cx="188280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Lock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3348000"/>
            <a:ext cx="1882800" cy="307080"/>
          </a:xfrm>
          <a:prstGeom prst="rect">
            <a:avLst/>
          </a:prstGeom>
          <a:solidFill>
            <a:srgbClr val="fafea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4" idx="3"/>
            <a:endCxn id="207" idx="0"/>
          </p:cNvCxnSpPr>
          <p:nvPr/>
        </p:nvCxnSpPr>
        <p:spPr>
          <a:xfrm>
            <a:off x="5769000" y="2212560"/>
            <a:ext cx="1116720" cy="11358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09" name=""/>
          <p:cNvCxnSpPr>
            <a:stCxn id="207" idx="2"/>
            <a:endCxn id="205" idx="3"/>
          </p:cNvCxnSpPr>
          <p:nvPr/>
        </p:nvCxnSpPr>
        <p:spPr>
          <a:xfrm rot="5400000">
            <a:off x="5791320" y="3634560"/>
            <a:ext cx="1070640" cy="111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205" idx="1"/>
            <a:endCxn id="206" idx="2"/>
          </p:cNvCxnSpPr>
          <p:nvPr/>
        </p:nvCxnSpPr>
        <p:spPr>
          <a:xfrm rot="10800000">
            <a:off x="2235960" y="3656880"/>
            <a:ext cx="1116720" cy="10706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206" idx="0"/>
            <a:endCxn id="204" idx="1"/>
          </p:cNvCxnSpPr>
          <p:nvPr/>
        </p:nvCxnSpPr>
        <p:spPr>
          <a:xfrm flipH="1" flipV="1" rot="5400000">
            <a:off x="2226960" y="2221920"/>
            <a:ext cx="1135800" cy="1116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DC6C-AF80-44F2-8CCB-164834BEDC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55555"/>
                </a:solidFill>
                <a:latin typeface="Verdana"/>
              </a:rPr>
              <a:t>Economías de Información:</a:t>
            </a:r>
            <a:br>
              <a:rPr sz="24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s de búsqueda (searching cost): costos de transacción de buscar un nuevo provee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sto de cambio = costo de búsqueda + costo de evaluación (para elegir) + costo de desechar proveedor ac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mplo: Reemplazo de VHS por DV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valuar razones por las que se desea / requiere el camb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prender sobre DVD (características, ventajas, etc.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prender sobre los distintos proveedores de DV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legir un proveedor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osiblemente comprar un nuevo TV por la conexión coaxial del antigu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342900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Dejar de ver algunas películas que sólo están disponibles en VHS (costo social de no poder opinar en alguna reunió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2E8A-95F5-4ABD-8B1F-09F29768B4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Objetivo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2520"/>
            <a:ext cx="77724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egar herramientas para el análisis formal de las diferentes opciones de uso de Internet en los negoci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Entender los cambios que Internet está causando en el mundo de los negoci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76e7"/>
                </a:solidFill>
                <a:latin typeface="Verdana"/>
              </a:rPr>
              <a:t>Permitir  la toma de decisiones de marketing estratégico en el uso de Internet en la empresa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FB1D-D93A-4E6C-835C-11E0C7B6423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jemplos de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ock-in y Costos de Camb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Bay, Half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istema de reputación de usuarios (rating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Bay: 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Half.com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maz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rvicio al cl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Uso de perfil de usuario y actividades pasadas para recomendacion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36F5-C450-4B32-BE82-3707EFB16C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ey de Metcalfe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el valor de una red es proporcional al cuadrado del número de usuarios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n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 usuar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: valor que tiene para un usuario cualquiera que haya otro usuario en la re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: Valor total de la re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 = (# usuarios)*(valor por usuario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por usuario = (n – 1)v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de la red = n(n-1) v = (n</a:t>
            </a:r>
            <a:r>
              <a:rPr b="0" lang="es-MX" sz="2000" spc="-1" strike="noStrike" baseline="30000">
                <a:solidFill>
                  <a:srgbClr val="6876e7"/>
                </a:solidFill>
                <a:latin typeface="Verdana"/>
              </a:rPr>
              <a:t>2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 – n)v ~ n</a:t>
            </a:r>
            <a:r>
              <a:rPr b="0" lang="es-MX" sz="2000" spc="-1" strike="noStrike" baseline="30000">
                <a:solidFill>
                  <a:srgbClr val="6876e7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438120" y="5867280"/>
            <a:ext cx="695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* F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dador de 3com e inventor del protocolo de comunicación de redes 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A60C-BE58-48D8-BF7A-31120E41B0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4190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V = número de comunicaciones que se pueden realizar en un r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n: número de usuarios de la r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333400" y="2576520"/>
            <a:ext cx="56268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09480" y="2590920"/>
          <a:ext cx="1524240" cy="259056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7694640" y="425304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42160" y="417672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7440" y="2347920"/>
            <a:ext cx="563400" cy="43380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1" idx="7"/>
            <a:endCxn id="225" idx="1"/>
          </p:cNvCxnSpPr>
          <p:nvPr/>
        </p:nvCxnSpPr>
        <p:spPr>
          <a:xfrm flipV="1">
            <a:off x="5811840" y="2418480"/>
            <a:ext cx="151056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3"/>
            <a:endCxn id="221" idx="5"/>
          </p:cNvCxnSpPr>
          <p:nvPr/>
        </p:nvCxnSpPr>
        <p:spPr>
          <a:xfrm flipH="1">
            <a:off x="5811480" y="2709360"/>
            <a:ext cx="1510560" cy="2293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1" idx="3"/>
            <a:endCxn id="224" idx="2"/>
          </p:cNvCxnSpPr>
          <p:nvPr/>
        </p:nvCxnSpPr>
        <p:spPr>
          <a:xfrm>
            <a:off x="5416560" y="2938320"/>
            <a:ext cx="527760" cy="14565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4" idx="1"/>
            <a:endCxn id="221" idx="4"/>
          </p:cNvCxnSpPr>
          <p:nvPr/>
        </p:nvCxnSpPr>
        <p:spPr>
          <a:xfrm flipH="1" flipV="1">
            <a:off x="5614560" y="2998440"/>
            <a:ext cx="411840" cy="12499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7"/>
            <a:endCxn id="223" idx="1"/>
          </p:cNvCxnSpPr>
          <p:nvPr/>
        </p:nvCxnSpPr>
        <p:spPr>
          <a:xfrm>
            <a:off x="6420960" y="4248000"/>
            <a:ext cx="1358280" cy="7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24" idx="5"/>
          </p:cNvCxnSpPr>
          <p:nvPr/>
        </p:nvCxnSpPr>
        <p:spPr>
          <a:xfrm flipH="1" flipV="1">
            <a:off x="6420600" y="4538520"/>
            <a:ext cx="1358280" cy="76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5" idx="5"/>
            <a:endCxn id="223" idx="0"/>
          </p:cNvCxnSpPr>
          <p:nvPr/>
        </p:nvCxnSpPr>
        <p:spPr>
          <a:xfrm>
            <a:off x="7716600" y="2709720"/>
            <a:ext cx="261000" cy="15552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3" idx="7"/>
            <a:endCxn id="225" idx="6"/>
          </p:cNvCxnSpPr>
          <p:nvPr/>
        </p:nvCxnSpPr>
        <p:spPr>
          <a:xfrm flipH="1" flipV="1">
            <a:off x="7798680" y="2565000"/>
            <a:ext cx="375480" cy="17596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1" idx="5"/>
            <a:endCxn id="223" idx="1"/>
          </p:cNvCxnSpPr>
          <p:nvPr/>
        </p:nvCxnSpPr>
        <p:spPr>
          <a:xfrm>
            <a:off x="5811840" y="2938320"/>
            <a:ext cx="1967760" cy="13867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3" idx="0"/>
            <a:endCxn id="221" idx="6"/>
          </p:cNvCxnSpPr>
          <p:nvPr/>
        </p:nvCxnSpPr>
        <p:spPr>
          <a:xfrm flipH="1" flipV="1">
            <a:off x="5893920" y="2793600"/>
            <a:ext cx="2083680" cy="14709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5" idx="3"/>
            <a:endCxn id="224" idx="0"/>
          </p:cNvCxnSpPr>
          <p:nvPr/>
        </p:nvCxnSpPr>
        <p:spPr>
          <a:xfrm flipH="1">
            <a:off x="6224040" y="2709720"/>
            <a:ext cx="1097640" cy="147888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4" idx="7"/>
            <a:endCxn id="225" idx="4"/>
          </p:cNvCxnSpPr>
          <p:nvPr/>
        </p:nvCxnSpPr>
        <p:spPr>
          <a:xfrm flipV="1">
            <a:off x="6421320" y="2769480"/>
            <a:ext cx="1099440" cy="147852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1607040" y="345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7040" y="3886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41160" y="432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29200" y="4743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8077320" y="60199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534520" y="60199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24BF-E24D-462D-A22E-F3CE4F4BBE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osto de adquisición de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Por qué pagar por adquirir un cliente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d de n-1 usuar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de la red para usuarios n: (n-1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Valor que aporta a la red el usuario n: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2n - 1 &gt; n – 1, entonc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l valor que agrega a la red la incorporación de un usuario es mayor que el valor que entrega la red a ese usuar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971800" y="3352680"/>
                <a:ext cx="29718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7C17-EA0D-40F6-B6D4-5AB59E8876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ey de disrup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“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Mientras no se alcance una masa crítica de usuarios, un cambio tecnológico sólo afecta la tecnología; cuando esa masa crítica se logra, se producen cambios en los sistemas económicos, políticos y sociales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FAFF-3CC0-45A6-BD84-0FB82E87DE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Teléfon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 o 2 usuarios son de dudosa util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urante mucho tiempo se mejoró la tecnología sobretodo para lograr la comunicación a través de los tableros de conex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ólo en 1931 se incorpora un discador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961 – 1993: desarrollo de tecnología y aplicaci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1993: 2.5 millones de hosts conectado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E205-1CEB-49E6-9A5E-CEEF09D548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ey de Metcalfe en rever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mpedir el crecimiento de la red para generar lock-i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AOL IM: evitar que usuarios de MS y Yahoo! Se comuniquen con clientes AOL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Universal Studios: prohibe que sitios de películas hagan links a sus sinópsis y contenid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iciativas de construir murallas alrededor debieran fracasar debido a la ley de Metcalf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Según esta ley, las redes grandes siempre ganarán a las pequeñas, aun cuando las pequeñas tengan una ventaja inicial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Internet, al ser la más grande de las redes, debiera ganar sobre cualquier otra red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C840-C3B4-4C47-8780-48545B67401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Uso de la ley en reversa para determinar el efecto de particionar 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alor de la red: V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Red se divide en N partes igua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w = Valor de cada mini-red: 1/N</a:t>
            </a:r>
            <a:r>
              <a:rPr b="0" lang="es-MX" sz="2400" spc="-1" strike="noStrike" baseline="30000">
                <a:solidFill>
                  <a:srgbClr val="6876e7"/>
                </a:solidFill>
                <a:latin typeface="Verdana"/>
              </a:rPr>
              <a:t>2 </a:t>
            </a: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eces V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Hay N mini-redes de igual valo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Valor total de las N mini-redes suma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d181e"/>
                </a:solidFill>
                <a:latin typeface="Verdana"/>
              </a:rPr>
              <a:t>N*(1/N</a:t>
            </a:r>
            <a:r>
              <a:rPr b="0" lang="es-MX" sz="2800" spc="-1" strike="noStrike" baseline="30000">
                <a:solidFill>
                  <a:srgbClr val="ed181e"/>
                </a:solidFill>
                <a:latin typeface="Verdana"/>
              </a:rPr>
              <a:t>2</a:t>
            </a:r>
            <a:r>
              <a:rPr b="0" lang="es-MX" sz="2800" spc="-1" strike="noStrike">
                <a:solidFill>
                  <a:srgbClr val="ed181e"/>
                </a:solidFill>
                <a:latin typeface="Verdana"/>
              </a:rPr>
              <a:t>)*V = (1/N) * V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C9B4-A606-46E3-94D6-83D17BD070C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mplo: Mensajeros Instantáne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 sólo provee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600.000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horro en teléfono:  $5 por cada mensaje eviado a otro 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da usuario envía mensaje sólo a 20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1 sólo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 = 600.000 X 5 X 20 = $60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i existen 5 proveedores no compatibles con 120.000 usuarios cada uno, con 1/5 de sus conocidos compartiendo la red )sólo puede enviar mesnaje a 4 de sus conoci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w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cada una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 = 120.000 X 5 X 4 = 2.4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V</a:t>
            </a:r>
            <a:r>
              <a:rPr b="0" lang="es-MX" sz="1800" spc="-1" strike="noStrike" baseline="-25000">
                <a:solidFill>
                  <a:srgbClr val="6876e7"/>
                </a:solidFill>
                <a:latin typeface="Verdana"/>
              </a:rPr>
              <a:t>de las 5 </a:t>
            </a: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= 5 x 2.400.000 = $12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érdida social: $48.000.000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4D24-5BC5-4740-9B26-E28CB79C606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Generalmente 2 sub-re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Usuarios, clientes o demandant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Provee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Radiotaxi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Compraventa de autos o propiedad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eMarketplac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afí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Capacidad de generar las 2 sub-redes simultáneamente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Escalabilidad y masa crític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51EE-3C72-4215-BEAF-A4AEEFBED06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eguntas que se podrán contestar al finalizar 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omo evaluar con rigurosidad y método los modelos de negocio de una compañía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Por qué y dónde fallaron los modelos de muchas compañías de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formas de comunicación son más apropiadas para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fijar precios de bienes digitales y de informac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diferenciarse en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Cómo lograr ventajas competitivas sustentables en Interne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tipos de conflictos pueden surgir con la implementación de modelos de Internet y cómo resolverl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2D88-A161-4585-B2F7-6E23974B1DA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xternalidades de redes y modelos de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so Zoomera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roducto: servicio para realizar encuestas con herramientas de análisis onlin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mpresas: Acceso a poblaciones muestrales con alto grado de perfilamient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Usuarios: Posibilidad de realizar encuestas sencillas a cambio de perfil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aso ZipRealty y Habit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Oferentes: sistema de Back-office y administración de propiedad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Demandantes: información útil para decidir sobre propiedades, asesoría inmobiliaria, servicio de visit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CC84-0310-4F52-ABC0-EC392CCAF8C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ejempl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spcAft>
                <a:spcPts val="451"/>
              </a:spcAft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otencial de negocio de los eMarketpl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Iconstruye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Secontruye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Senegocia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Artik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Merconet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Laboru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00"/>
              </a:spcBef>
              <a:spcAft>
                <a:spcPts val="400"/>
              </a:spcAft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876e7"/>
                </a:solidFill>
                <a:latin typeface="Verdana"/>
              </a:rPr>
              <a:t>Farox, AyL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Externalidades de Redes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Network Effects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63B9-4218-40E3-875C-04E9EE2C770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egunt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aprovechar las externalidades de red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comenzar el feedback positivo? 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romper la inercia de los consumidor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846000" indent="-33300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crear una buena razón para cambiar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5791320"/>
            <a:ext cx="177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Valor Agregado total a la 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343400"/>
            <a:ext cx="30477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3807360" y="4613760"/>
            <a:ext cx="18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Participación del Valor de la 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67640" y="404496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80720" y="549288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020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4280" y="579132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876e7"/>
                </a:solidFill>
                <a:latin typeface="Verdana"/>
              </a:rPr>
              <a:t>Desempe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680" y="4343400"/>
            <a:ext cx="30470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795960" y="4482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Compati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5760" y="40449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Ev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35960" y="549288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Rev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0840" y="45021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pt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800600"/>
            <a:ext cx="11430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62760" y="476712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7CA9-417A-4232-A865-CE7AC29D5B03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esempeño (performance) versus compat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strategia de Revolución asociada al desempeñ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Revolución ofrece mejoras en el desempeño / calidad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strategia de Evolución asociada a la compatibil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Evolución ofrece una ruta de migración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ertura versus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PC: IBM, Intel Pentium, Microsoft D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Beta versus VH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ecordar que el objetivo es maximizar el valor de la nueva tecnología y no el control sobre ell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F21C-3983-42EC-A334-F9E7D133214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des y feedback pos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2666880"/>
          <a:ext cx="8534160" cy="2424240"/>
        </p:xfrm>
        <a:graphic>
          <a:graphicData uri="http://schemas.openxmlformats.org/drawingml/2006/table">
            <a:tbl>
              <a:tblPr/>
              <a:tblGrid>
                <a:gridCol w="2590560"/>
                <a:gridCol w="3265560"/>
                <a:gridCol w="267804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er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ración control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Windows 98, Intel Pentium 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ración abie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modem y fa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emp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erforman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uesta al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Nintendo, Palm Pilot, Iomega ZI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ontin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ed181e"/>
                          </a:solidFill>
                          <a:latin typeface="Verdana"/>
                        </a:rPr>
                        <a:t>(CD, DV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785D-47C8-4754-89A9-E3D5BF3489E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Hacia la creación de un standar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os tácticas bás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nticipar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ovecar feedback positiv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prender por experiencia (curva de aprendizaje) reduce cos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xternalidades de redes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dministración de expectativ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laves cuando la decisión de compra depende de lo que los clientes esperan que suced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omunicacíon predatori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Lanzar a tiemp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1509-FCBE-48B8-8842-8AE190C47A8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447920" y="2666880"/>
          <a:ext cx="7162560" cy="2665440"/>
        </p:xfrm>
        <a:graphic>
          <a:graphicData uri="http://schemas.openxmlformats.org/drawingml/2006/table">
            <a:tbl>
              <a:tblPr/>
              <a:tblGrid>
                <a:gridCol w="2209680"/>
                <a:gridCol w="2705040"/>
                <a:gridCol w="2247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olución 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olución versus revolu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pat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ción versus Evolu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olución 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afea0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3657600" y="2181240"/>
            <a:ext cx="493704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cnología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20520" y="3925440"/>
            <a:ext cx="1981080" cy="825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cnología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Hacia la creación de un standar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37D6-B1C4-4E97-A82B-853B9187AF4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efinir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365760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4" y="0"/>
                </a:lnTo>
                <a:lnTo>
                  <a:pt x="21600" y="10800"/>
                </a:lnTo>
                <a:lnTo>
                  <a:pt x="20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1640" y="397656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de 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1640" y="4295880"/>
            <a:ext cx="6502680" cy="307080"/>
          </a:xfrm>
          <a:custGeom>
            <a:avLst/>
            <a:gdLst>
              <a:gd name="textAreaLeft" fmla="*/ 0 w 6502680"/>
              <a:gd name="textAreaRight" fmla="*/ 6503040 w 650268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40" y="0"/>
                </a:lnTo>
                <a:lnTo>
                  <a:pt x="21600" y="10800"/>
                </a:lnTo>
                <a:lnTo>
                  <a:pt x="206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 política y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1880" y="2739960"/>
            <a:ext cx="103320" cy="917640"/>
          </a:xfrm>
          <a:custGeom>
            <a:avLst/>
            <a:gdLst>
              <a:gd name="textAreaLeft" fmla="*/ 0 w 103320"/>
              <a:gd name="textAreaRight" fmla="*/ 37440 w 103320"/>
              <a:gd name="textAreaTop" fmla="*/ 23760 h 917640"/>
              <a:gd name="textAreaBottom" fmla="*/ 89388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11880" y="3654360"/>
            <a:ext cx="103320" cy="993960"/>
          </a:xfrm>
          <a:custGeom>
            <a:avLst/>
            <a:gdLst>
              <a:gd name="textAreaLeft" fmla="*/ 0 w 103320"/>
              <a:gd name="textAreaRight" fmla="*/ 37440 w 10332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28880" y="289548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0960" y="3863880"/>
            <a:ext cx="145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ra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70280" y="273672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neg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1640" y="2743200"/>
            <a:ext cx="1828800" cy="9208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846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omun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99080" y="2743200"/>
            <a:ext cx="1295280" cy="920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mp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nt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2743200"/>
            <a:ext cx="1295640" cy="9208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valu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1943280" y="876240"/>
            <a:ext cx="304560" cy="3276720"/>
          </a:xfrm>
          <a:custGeom>
            <a:avLst/>
            <a:gdLst>
              <a:gd name="textAreaLeft" fmla="*/ 0 w 304560"/>
              <a:gd name="textAreaRight" fmla="*/ 10980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5005440" y="1118880"/>
            <a:ext cx="276120" cy="2819160"/>
          </a:xfrm>
          <a:custGeom>
            <a:avLst/>
            <a:gdLst>
              <a:gd name="textAreaLeft" fmla="*/ 0 w 276120"/>
              <a:gd name="textAreaRight" fmla="*/ 99720 w 276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5520" y="1949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34000" y="1949400"/>
            <a:ext cx="26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tapa de 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2421000"/>
            <a:ext cx="4248360" cy="1439640"/>
          </a:xfrm>
          <a:prstGeom prst="ellipse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01FB-0400-4D10-BAA0-4B363BA995D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</a:t>
            </a: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para una estrategia de Internet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1763640" y="2276640"/>
            <a:ext cx="4500720" cy="1981080"/>
          </a:xfrm>
          <a:custGeom>
            <a:avLst/>
            <a:gdLst>
              <a:gd name="textAreaLeft" fmla="*/ 0 w 4500720"/>
              <a:gd name="textAreaRight" fmla="*/ 4501080 w 45007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lnTo>
                  <a:pt x="3900" y="108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(de mercad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mejo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cambi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 integ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E97D-C790-4713-B560-35CC94A9B31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a “2 bandas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3285360" y="1486080"/>
            <a:ext cx="2539800" cy="580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OPUESTA DE NEG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ELI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1413000"/>
            <a:ext cx="1944360" cy="211752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Set de beneficios para sub-red de of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77080" y="1413000"/>
            <a:ext cx="1944720" cy="2117520"/>
          </a:xfrm>
          <a:prstGeom prst="ellipse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Set de beneficios para sub-red de demand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9000000">
            <a:off x="2267640" y="1844280"/>
            <a:ext cx="790920" cy="360360"/>
          </a:xfrm>
          <a:custGeom>
            <a:avLst/>
            <a:gdLst>
              <a:gd name="textAreaLeft" fmla="*/ 98640 w 790920"/>
              <a:gd name="textAreaRight" fmla="*/ 692280 w 79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2400" y="3573360"/>
            <a:ext cx="140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Análisi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Lado de la of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2400" y="3573360"/>
            <a:ext cx="163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Análisi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Lado de la de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rot="12600000">
            <a:off x="6084000" y="1917360"/>
            <a:ext cx="791280" cy="360360"/>
          </a:xfrm>
          <a:custGeom>
            <a:avLst/>
            <a:gdLst>
              <a:gd name="textAreaLeft" fmla="*/ 98640 w 791280"/>
              <a:gd name="textAreaRight" fmla="*/ 692640 w 791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77960" y="3502080"/>
            <a:ext cx="2187720" cy="580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MODELO DE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(Propuesta de Val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3957120" y="2096280"/>
            <a:ext cx="1213560" cy="1365120"/>
          </a:xfrm>
          <a:custGeom>
            <a:avLst/>
            <a:gdLst>
              <a:gd name="textAreaLeft" fmla="*/ 151560 w 1213560"/>
              <a:gd name="textAreaRight" fmla="*/ 1062000 w 1213560"/>
              <a:gd name="textAreaTop" fmla="*/ 341280 h 1365120"/>
              <a:gd name="textAreaBottom" fmla="*/ 1023840 h 1365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Análisis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 rot="10800000">
            <a:off x="2267280" y="3643920"/>
            <a:ext cx="790920" cy="360360"/>
          </a:xfrm>
          <a:custGeom>
            <a:avLst/>
            <a:gdLst>
              <a:gd name="textAreaLeft" fmla="*/ 98640 w 790920"/>
              <a:gd name="textAreaRight" fmla="*/ 692280 w 79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 rot="10711800">
            <a:off x="6086520" y="3643920"/>
            <a:ext cx="790560" cy="360360"/>
          </a:xfrm>
          <a:custGeom>
            <a:avLst/>
            <a:gdLst>
              <a:gd name="textAreaLeft" fmla="*/ 98640 w 790560"/>
              <a:gd name="textAreaRight" fmla="*/ 691920 w 790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4920" y="5540400"/>
            <a:ext cx="2592360" cy="4809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Oferta ef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rot="16200000">
            <a:off x="3995640" y="3429000"/>
            <a:ext cx="1152720" cy="273672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684000 h 2736720"/>
              <a:gd name="textAreaBottom" fmla="*/ 20527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7B2B-2C27-47D6-B08A-2C5E493B6FF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reguntas que NO se podrán contestar con este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omo diseñar páginas web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significa web, http, ww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es o como se programa en html, java, flash, javascrip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diferencia hay entre Explorer o Netscap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Cómo decidir entre Microsoft, SUN, Oracle, Syba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as otras de corte tecnológ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D9FD-933D-49C8-B2B1-582385D9508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regunt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Qué modelo utilizar para el análisis de oportunidades (de mercado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Es el análisis diferente en la economía de la informac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¿Cómo identificamos necesidades no cubiertas o sub-satisfech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 donde provienen los recursos para entregar los beneficios de la oferta propuest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o determinamos el atractivo de la oportunida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36F6-A375-4D95-ACE4-484DB53FC86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odelo para diagnosticar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Oportunidades de Merca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630440" y="1523520"/>
            <a:ext cx="576108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oportunidad en sistema de valor existente o nue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39800" y="213696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Descubrir nucleo de la oportunidad: necesidades no cubiertas o sub-satisfec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39800" y="2976120"/>
            <a:ext cx="57657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segmento objetivo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39800" y="358488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Identificar los recursos de la compañía necesarios para tomar una posición ventaj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33680" y="4422960"/>
            <a:ext cx="5765760" cy="52020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Determinar atractivo competitivo, tecnológico y financiero de la oport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39800" y="5262120"/>
            <a:ext cx="576576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Tomar decisión de IR / NO 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0" idx="2"/>
            <a:endCxn id="331" idx="0"/>
          </p:cNvCxnSpPr>
          <p:nvPr/>
        </p:nvCxnSpPr>
        <p:spPr>
          <a:xfrm>
            <a:off x="4511160" y="1836360"/>
            <a:ext cx="11880" cy="2926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1" idx="2"/>
            <a:endCxn id="332" idx="0"/>
          </p:cNvCxnSpPr>
          <p:nvPr/>
        </p:nvCxnSpPr>
        <p:spPr>
          <a:xfrm>
            <a:off x="4522320" y="2665080"/>
            <a:ext cx="1080" cy="3056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2" idx="2"/>
            <a:endCxn id="333" idx="0"/>
          </p:cNvCxnSpPr>
          <p:nvPr/>
        </p:nvCxnSpPr>
        <p:spPr>
          <a:xfrm>
            <a:off x="4522320" y="3289320"/>
            <a:ext cx="1080" cy="2880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3" idx="2"/>
            <a:endCxn id="334" idx="0"/>
          </p:cNvCxnSpPr>
          <p:nvPr/>
        </p:nvCxnSpPr>
        <p:spPr>
          <a:xfrm flipH="1">
            <a:off x="4515840" y="4113000"/>
            <a:ext cx="6840" cy="3020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4" idx="2"/>
            <a:endCxn id="335" idx="0"/>
          </p:cNvCxnSpPr>
          <p:nvPr/>
        </p:nvCxnSpPr>
        <p:spPr>
          <a:xfrm>
            <a:off x="4516200" y="4951080"/>
            <a:ext cx="6840" cy="3056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40E8-1815-4EB2-A20C-84DF657E0D7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1. 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Identifica</a:t>
            </a: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ión de</a:t>
            </a:r>
            <a:r>
              <a:rPr b="0" lang="es-CL" sz="3000" spc="-1" strike="noStrike">
                <a:solidFill>
                  <a:srgbClr val="555555"/>
                </a:solidFill>
                <a:latin typeface="Verdana"/>
              </a:rPr>
              <a:t> oport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istema de valor es el campo de jue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Cadena completa de proveedores, distribuidores, competidores, compradores e intermediarios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Identificar oferta existente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Generalmente el punto de partida es la creencia o convencimiento de que algo puede ser reinventado o transformado.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ctividades económicas pueden ser redireccionadas o crea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8468-D7D4-4D77-B971-E772E92DC32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2. Descubrir núcleo de la oportunidad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umentar satisfacción de los cli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rear una nueva experi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Como sab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hacen los consumidores que les produce frustración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dejan de hacer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¿qué puede ser mejorado, aun cuando no sea percibido por los usuarios?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scubr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Necesidades no cubiertas o insatisfech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Necesidades pobremente servid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4675-750E-4958-A491-1D232B03491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3. Segmento obje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Identificación y elección de clientes priorit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ntendimiento preliminar del atractivo de la oport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ienes son? ¿qué los hace atractivos? ¿qué experiencias están buscand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é se les puede ofrec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qué cambios requeriría la organizació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3463-6CAF-4BC4-89B6-2A02798F7FF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4. Recursos de la compañí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xaminar las capacidades y actividades que la organización puede utilizar para lograr la oferta en una posición ventajo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¿Por qué se puede gan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iferenciar los recursos críticos de aquellos menos releva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9D76-417F-47AE-9CDF-07B72CE173C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5. Determinar atrac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nálisis de ambiente financiero, tecnológico y competitivo del merc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Atractivo económico de la oportun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3862-E247-4DB2-B6B1-E21E548F214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iferencias del análisis respecto a lo tradicion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etencia puede ocurrir a través de los límites de diferentes industr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Ejemplo: cars.com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ntes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Ahor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aración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vista especializad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Búsqued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lasificados de El Mercuri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resentante o automoto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Financiamient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Banco, financiera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Segur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ompañía de segur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uestos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Representante, taller, 10 de Julio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6876e7"/>
                </a:solidFill>
                <a:latin typeface="Verdana"/>
              </a:rPr>
              <a:t>cars.com</a:t>
            </a:r>
            <a:endParaRPr b="0" lang="en-US" sz="1400" spc="-1" strike="noStrike">
              <a:solidFill>
                <a:srgbClr val="6876e7"/>
              </a:solidFill>
              <a:latin typeface="Verdana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mpetencia a gran rapid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Mejoras constantes y lanzamientos inmedia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Rapidez de copia de buenas prácticas obliga a ser más innovadores y creativ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Éxito ligado a alianzas y colabo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8880" indent="-369720">
              <a:lnSpc>
                <a:spcPct val="8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ctr" pos="4762440"/>
                <a:tab algn="ctr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76e7"/>
                </a:solidFill>
                <a:latin typeface="Verdana"/>
              </a:rPr>
              <a:t>Cars.com no es capaz de hacer todo lo que ofrece sol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53D1-DD5C-41CB-A161-795DFF184C5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iferencias del análisis respecto a lo tradicional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umidores aún están en las primeras etapas de adop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rade-off entre facilidad de influenciarlos y resistencia al cambi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istemas de valor de las industrias se reconfiguran ráp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Senegocia.com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isco, DELL, Wal-Mart y su uso de Internet B2B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fomediación: 2 análisis en vez de un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876e7"/>
                </a:solidFill>
                <a:latin typeface="Verdana"/>
              </a:rPr>
              <a:t>lado de la ofer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876e7"/>
                </a:solidFill>
                <a:latin typeface="Verdana"/>
              </a:rPr>
              <a:t>lado de la demand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CEFC-552D-4FF9-9778-BCECBE1D3A4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Objetivo del análisis de mercad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dentificar fuentes de creación de valor o modificación (mejoramiento) de valor exist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Crear valor: “valor nuevo” en el mundo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Agregar valor: “valor atrapado”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EA48-A7D5-4514-BDF3-BFE5C3EA57E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Acerca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so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 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strateg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remos algunos conceptos de “estrategia corporativa” y “estrategias de negocios” para definir, evaluar e implementar “estrategias de Internet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foco estará en los aspectos comerciales  y de marketing y no tecnológic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emos la distinción entre estrategia y planific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8781-FDD9-4AB8-A49C-BF454AB4A42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negocios consisten en un conjunto discreto y finito de individuos y organizaciones que realizan actividades con el objeto de entregar algún beneficio a los consumidores a través de productos o servicios y así lucrar o no lucrar de el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as actividades integradas constituyen una “cadena de valor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5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s cadenas de valor que están ligadas a una industria se denomina “sistema de valor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d181e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ed181e"/>
                </a:solidFill>
                <a:latin typeface="Verdana"/>
              </a:rPr>
              <a:t>Sistema de Valor”: Interconexión de procesos y actividades dentro y a través de firmas que crean beneficios para intermediarios y consumidores fi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4A2F-96FF-4989-9A42-3B82BAE41FC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a firma y los 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1760" indent="-406440">
              <a:spcBef>
                <a:spcPts val="601"/>
              </a:spcBef>
              <a:buClr>
                <a:srgbClr val="333399"/>
              </a:buClr>
              <a:buFont typeface="Verdan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Serie de actividades, funciones y procedimientos que resultan en la creación de un producto o servicio final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(compra de materiales, producción, marketing, ventas, etc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333399"/>
              </a:buClr>
              <a:buFont typeface="Verdan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ctividades de soporte o complementarias para asegurar viavilidad y sustentabilidad </a:t>
            </a:r>
            <a:r>
              <a:rPr b="0" lang="es-MX" sz="2400" spc="-1" strike="noStrike">
                <a:solidFill>
                  <a:srgbClr val="b2b2b2"/>
                </a:solidFill>
                <a:latin typeface="Verdana"/>
              </a:rPr>
              <a:t>(planificación financiera, control de gestión reclutamiento, investigación y desarrollo, etc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901"/>
              </a:spcBef>
              <a:buClr>
                <a:srgbClr val="000000"/>
              </a:buClr>
              <a:buFont typeface="Verdana"/>
              <a:buChar char="=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d181e"/>
                </a:solidFill>
                <a:latin typeface="Verdana"/>
              </a:rPr>
              <a:t>Firma</a:t>
            </a:r>
            <a:endParaRPr b="0" lang="en-US" sz="3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7B65-1F70-405F-9746-CC0CE0AA1F8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La firma y los sistemas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l objetivo de la firma 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76e7"/>
                </a:solidFill>
                <a:latin typeface="Verdana"/>
              </a:rPr>
              <a:t>Reconfigurar cadenas de valor existentes para liberar Valor “Atrapado”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700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76e7"/>
                </a:solidFill>
                <a:latin typeface="Verdana"/>
              </a:rPr>
              <a:t>Crear beneficios inexistentes al introducir Valor “nuevo en el mundo”</a:t>
            </a:r>
            <a:endParaRPr b="0" lang="en-US" sz="2800" spc="-1" strike="noStrike">
              <a:solidFill>
                <a:srgbClr val="6876e7"/>
              </a:solidFill>
              <a:latin typeface="Verdana"/>
            </a:endParaRPr>
          </a:p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825F-3A24-41F7-BB2D-DC2BA3E4FF2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Valor “Atrapado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xistente en esencia, pero cerrado, atrapado por tradición, inercia, cultura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ene que ver con “Agregar val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4 tip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reación de mercados más eficie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disminuyendo costos de búsqueda y transacción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senegocia.com, Habitante, Autodi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reación de sistemas de valor más eficient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Disminución o eliminación de paso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GTNexus, FedEx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acilitar acces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Laborum.com, Guru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omper relaciones de poder de precios vig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Cambio de manos de los excedentes o márgen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Mysimon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3054-FF13-4019-9C74-927DD55DECF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Valor “Nuevo en el mundo”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Tiene que ver con “Crear Val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5 tip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Oferta personalizada (customizada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mi.XXX.com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Riqueza y alcance radicalmente extendi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onstrucción de comunidades (marketing viral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Chat rooms, virtualia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Permitir colaboración remo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Buzzsaw.com</a:t>
            </a:r>
            <a:r>
              <a:rPr b="0" lang="es-MX" sz="1600" spc="-1" strike="noStrike">
                <a:solidFill>
                  <a:srgbClr val="b2b2b2"/>
                </a:solidFill>
                <a:latin typeface="Verdana"/>
              </a:rPr>
              <a:t>, </a:t>
            </a:r>
            <a:r>
              <a:rPr b="0" lang="es-MX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lanOK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ntroducir nuevas funcionalidades o “experiencial”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876e7"/>
                </a:solidFill>
                <a:latin typeface="Verdana"/>
              </a:rPr>
              <a:t>Compartir fotografías o incluso películas familiares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62C1-B6C9-4688-A31E-F47415495F2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dentificación de necesidades no cubiertas o sub-satisfech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imero: examinar proceso de decisión de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Pasos que realiza hasta decidir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ién está involucrado y en que ro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iferentes patrones seguidos por diferentes consumidore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onde tiene lugar el proces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Tiempo total del proceso? ¿Tiempo de cada pad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Diferentes categorías y competidores considerad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Alternativas descartadas a priori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e consumidoresno participan? ¿Por que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En algunos casos, dos o más sets de consumidores: usuarios y clientes (EMOL, CNN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A719-10C0-45F9-9197-29C99043976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Revelando necesidades no cubiertas o sub-satisfech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Basado en el proceso de decisió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ómo sería la experiencia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uánto difiere (y cómo) la realidad de lo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uáles son los aspectos críticos de frustra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é comportamientos compensatorios identificamos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qué necesidades están siendo cubiertas pero pobremente (aunque el cliente no se de cuenta)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Existen grupos que por motivos de entorno experimenten diferentes grados de satisfac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¿Como puede ayudar Internet a disminuir la brecha entre la experiencia real y la ideal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579D-0948-4873-83B6-D604B436BBA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de Consumidores y Segment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¿Por que hacerl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Fundamental para desarrollar ventajas competitivas sustentable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Diferenciación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Bajos cost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Foco estratégic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Permite determinar los beneficios a ofrecer (modelo de negocio)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Ayuda a lograr una comunicación más efic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Lenguaj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Med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76e7"/>
                </a:solidFill>
                <a:latin typeface="Verdana"/>
              </a:rPr>
              <a:t>Frecuenci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1D75-3029-4A7C-9E05-FC0CEBADE3C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5555"/>
                </a:solidFill>
                <a:latin typeface="Verdana"/>
              </a:rPr>
              <a:t>Análisis de Consumidores y Segmentación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¿Cómo hacerl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El sentido común no siempre ayuda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Identificar tantas variables de segmentación como sea posibl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Descartar razonablemente las menos significativa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76e7"/>
                </a:solidFill>
                <a:latin typeface="Verdana"/>
              </a:rPr>
              <a:t>Realizar estudios cuantitativ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EE14-AF30-4049-AA2C-8181A654F88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y Targeting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ferenciación de consumidores respecto de variables determina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25320" y="1825560"/>
          <a:ext cx="7985160" cy="44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25560"/>
                    <a:ext cx="79851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7E28-A635-4C61-AAE4-50E9213E8E2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Contenidos del Curs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conomías de Inter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76e7"/>
                </a:solidFill>
                <a:latin typeface="Verdana"/>
              </a:rPr>
              <a:t>Análisis de Internet como plataforma de negocios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portunidades de merc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Modelos de Nego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586B-AD68-4B32-952A-DBC32C414B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querimientos para una segmentación efectiva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314280" y="150336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gnific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1440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Consumidores deben demostrar necesidades, aspiraciones o patrones de comportamiento que sean similares dentro de un mismo segmento y diferentes entre segmen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a distinción de segmentros entre sensibilidad al precio y buscador de calidad es significativa, pues ambos segmentos muestran un set de necesidades distinguibles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a compañía debe ser capaz de alcanzar consumidores dentro de cada segmento a través de un plan de márketing efectivo y focaliz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a segementación consistente en consumidores con ojos café no es accionable, pues es difícil identificar y alcanzar sólo esos consumidores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gmentos deben ser suficientemente grandes y rentables para justificar las inversiones necesarias en servirl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6876e7"/>
                </a:solidFill>
                <a:latin typeface="Verdana"/>
              </a:rPr>
              <a:t>Un sitio llamado myCFO.com está orientado a individuos con altos ingresos o riqueza, para manejar sus portafolios de inversión. Aún cuando el número de esos individuos no es muy grande, el tamaño en $ es considerable, constituyendo un segmento sustancial</a:t>
            </a: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Características básicas de los segmentos (tamaño, patrón de gasto, etc.) deben ser fáciles de me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314280" y="284796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ccio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960" y="4038480"/>
            <a:ext cx="159084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st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5362560"/>
            <a:ext cx="1590480" cy="596880"/>
          </a:xfrm>
          <a:prstGeom prst="rect">
            <a:avLst/>
          </a:prstGeom>
          <a:solidFill>
            <a:srgbClr val="f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ed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4C12-7A15-4DF1-B54A-4C0D5CEF21C4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basada en necesidad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sumidores y negocios compran bienes y servicios porque satisfacen sus neces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mismo producto puede satisfacer diferentes necesidades; una persona podría comprar pastillas de menta para refrescar su aliento, porque disfruta su sabor o porque le ayuda a dejar de fum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segmentación basada en necesidades busca entender por qué una compra es realizada (es decir, que necesidad está siendo satisfecha) y para dividir el mercado en grupos de compradores cuyas necesidades son homogé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segmentación basada en necesidades es particularmente útil para compañías de tecnología porque previene el desarrollo de nuevos productos o capacidades tecnológicas sólo porque es posible o porque son “cool”, pero posiblemente innecesari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5428-E838-48F7-B57F-E1309F04427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Determinación del atractivo competitiv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tensidad competi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Cantidad de competidor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Fortalezas y debilidades en la entrega de beneficio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inamicas de cli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insatisfacción de necesidad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Magnitud de las oportunidad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interacción entre segmentos principal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asa de crecimiento esperad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ulnerabilidad tecn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mpacto de penetración de tecnologías necesarias para la entrega de los beneficios de la oferta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Impacto de nuevas tecnologías en la propuesta de valor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spectos microeconó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Tamaño y volumen d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76e7"/>
                </a:solidFill>
                <a:latin typeface="Verdana"/>
              </a:rPr>
              <a:t>Nivel de rentabilidad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6B99-30DB-44AF-9C85-D9A862C09DE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Segmentación para el negocio de Viaje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39920" y="3132000"/>
            <a:ext cx="209736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 de ver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11640" y="2629080"/>
            <a:ext cx="102060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Otros 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3635280"/>
            <a:ext cx="1020600" cy="9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9F29-3B46-416C-A197-5EB584C1904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Número de Viajes / Segment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39920" y="3132000"/>
            <a:ext cx="2041560" cy="425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Estudiantes en </a:t>
            </a: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2629080"/>
            <a:ext cx="99036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 ingresos ot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ed /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11640" y="3635280"/>
            <a:ext cx="969840" cy="9255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6324480"/>
            <a:ext cx="228600" cy="152640"/>
          </a:xfrm>
          <a:prstGeom prst="rect">
            <a:avLst/>
          </a:prstGeom>
          <a:solidFill>
            <a:srgbClr val="00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6505560"/>
            <a:ext cx="22860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6686640"/>
            <a:ext cx="228600" cy="152280"/>
          </a:xfrm>
          <a:prstGeom prst="rect">
            <a:avLst/>
          </a:prstGeom>
          <a:solidFill>
            <a:srgbClr val="99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76920" y="624780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%±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35160" y="64285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0%±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35160" y="66096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0%±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513F-CAFC-498C-913C-09645213D22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Priorización de segmentos de Priceline</a:t>
            </a:r>
            <a:br>
              <a:rPr sz="3000"/>
            </a:b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(targeting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884160" y="1782720"/>
          <a:ext cx="795996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782720"/>
                    <a:ext cx="79599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3216240" y="180432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20040" y="1984320"/>
            <a:ext cx="107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01600" y="5572080"/>
            <a:ext cx="2100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Group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93680" y="3532320"/>
            <a:ext cx="898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bajos, No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93680" y="4535640"/>
            <a:ext cx="898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gresos medio-alto / Viajeros Frecu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6840" y="1817640"/>
            <a:ext cx="21081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89000" y="2585880"/>
            <a:ext cx="2131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89000" y="3075120"/>
            <a:ext cx="2131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11440" y="1798560"/>
            <a:ext cx="1449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pósito del Vi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2133720"/>
            <a:ext cx="8985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95480" y="2271600"/>
            <a:ext cx="900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Qu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39920" y="3132000"/>
            <a:ext cx="204156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Jub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80360" y="2604960"/>
            <a:ext cx="1001520" cy="343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30560" y="2627280"/>
            <a:ext cx="102384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studiantes en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30560" y="5670720"/>
            <a:ext cx="4184640" cy="4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en gru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24480" y="2619360"/>
            <a:ext cx="1020960" cy="29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Todos los 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30560" y="3638520"/>
            <a:ext cx="1020600" cy="42552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91120" y="2629080"/>
            <a:ext cx="990360" cy="4251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sita a papá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30560" y="4129200"/>
            <a:ext cx="1020600" cy="4251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ingresos ot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30560" y="4626000"/>
            <a:ext cx="10206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ed /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11640" y="3635280"/>
            <a:ext cx="969840" cy="92556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scapad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moción u of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65720" y="2619360"/>
            <a:ext cx="982800" cy="2936880"/>
          </a:xfrm>
          <a:prstGeom prst="rect">
            <a:avLst/>
          </a:prstGeom>
          <a:solidFill>
            <a:srgbClr val="6876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ltimo Min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(fiesta sorpres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uerte famil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41720" y="4627440"/>
            <a:ext cx="2097000" cy="933480"/>
          </a:xfrm>
          <a:custGeom>
            <a:avLst/>
            <a:gdLst/>
            <a:ahLst/>
            <a:rect l="l" t="t" r="r" b="b"/>
            <a:pathLst>
              <a:path w="1437" h="661">
                <a:moveTo>
                  <a:pt x="738" y="308"/>
                </a:moveTo>
                <a:lnTo>
                  <a:pt x="738" y="0"/>
                </a:lnTo>
                <a:lnTo>
                  <a:pt x="1437" y="0"/>
                </a:lnTo>
                <a:lnTo>
                  <a:pt x="1437" y="661"/>
                </a:lnTo>
                <a:lnTo>
                  <a:pt x="0" y="661"/>
                </a:lnTo>
                <a:lnTo>
                  <a:pt x="0" y="341"/>
                </a:lnTo>
                <a:lnTo>
                  <a:pt x="738" y="341"/>
                </a:lnTo>
                <a:lnTo>
                  <a:pt x="738" y="30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2577960"/>
            <a:ext cx="228600" cy="359424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-1098360" y="4244760"/>
            <a:ext cx="318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gmentación demográfica y condu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5592240" y="-1017360"/>
            <a:ext cx="180720" cy="5397480"/>
          </a:xfrm>
          <a:custGeom>
            <a:avLst/>
            <a:gdLst/>
            <a:ahLst/>
            <a:rect l="l" t="t" r="r" b="b"/>
            <a:pathLst>
              <a:path w="143" h="1026">
                <a:moveTo>
                  <a:pt x="37" y="511"/>
                </a:moveTo>
                <a:lnTo>
                  <a:pt x="48" y="511"/>
                </a:lnTo>
                <a:lnTo>
                  <a:pt x="55" y="507"/>
                </a:lnTo>
                <a:lnTo>
                  <a:pt x="61" y="500"/>
                </a:lnTo>
                <a:lnTo>
                  <a:pt x="65" y="491"/>
                </a:lnTo>
                <a:lnTo>
                  <a:pt x="69" y="477"/>
                </a:lnTo>
                <a:lnTo>
                  <a:pt x="71" y="458"/>
                </a:lnTo>
                <a:lnTo>
                  <a:pt x="71" y="404"/>
                </a:lnTo>
                <a:lnTo>
                  <a:pt x="70" y="303"/>
                </a:lnTo>
                <a:lnTo>
                  <a:pt x="71" y="237"/>
                </a:lnTo>
                <a:lnTo>
                  <a:pt x="72" y="168"/>
                </a:lnTo>
                <a:lnTo>
                  <a:pt x="80" y="103"/>
                </a:lnTo>
                <a:lnTo>
                  <a:pt x="93" y="50"/>
                </a:lnTo>
                <a:lnTo>
                  <a:pt x="102" y="28"/>
                </a:lnTo>
                <a:lnTo>
                  <a:pt x="113" y="13"/>
                </a:lnTo>
                <a:lnTo>
                  <a:pt x="127" y="2"/>
                </a:lnTo>
                <a:lnTo>
                  <a:pt x="142" y="0"/>
                </a:lnTo>
                <a:lnTo>
                  <a:pt x="123" y="1"/>
                </a:lnTo>
                <a:lnTo>
                  <a:pt x="107" y="6"/>
                </a:lnTo>
                <a:lnTo>
                  <a:pt x="93" y="17"/>
                </a:lnTo>
                <a:lnTo>
                  <a:pt x="82" y="30"/>
                </a:lnTo>
                <a:lnTo>
                  <a:pt x="71" y="47"/>
                </a:lnTo>
                <a:lnTo>
                  <a:pt x="64" y="67"/>
                </a:lnTo>
                <a:lnTo>
                  <a:pt x="54" y="115"/>
                </a:lnTo>
                <a:lnTo>
                  <a:pt x="49" y="175"/>
                </a:lnTo>
                <a:lnTo>
                  <a:pt x="47" y="245"/>
                </a:lnTo>
                <a:lnTo>
                  <a:pt x="47" y="404"/>
                </a:lnTo>
                <a:lnTo>
                  <a:pt x="46" y="433"/>
                </a:lnTo>
                <a:lnTo>
                  <a:pt x="43" y="458"/>
                </a:lnTo>
                <a:lnTo>
                  <a:pt x="38" y="477"/>
                </a:lnTo>
                <a:lnTo>
                  <a:pt x="33" y="491"/>
                </a:lnTo>
                <a:lnTo>
                  <a:pt x="26" y="500"/>
                </a:lnTo>
                <a:lnTo>
                  <a:pt x="18" y="507"/>
                </a:lnTo>
                <a:lnTo>
                  <a:pt x="9" y="511"/>
                </a:lnTo>
                <a:lnTo>
                  <a:pt x="0" y="511"/>
                </a:lnTo>
                <a:lnTo>
                  <a:pt x="9" y="513"/>
                </a:lnTo>
                <a:lnTo>
                  <a:pt x="18" y="516"/>
                </a:lnTo>
                <a:lnTo>
                  <a:pt x="26" y="522"/>
                </a:lnTo>
                <a:lnTo>
                  <a:pt x="33" y="533"/>
                </a:lnTo>
                <a:lnTo>
                  <a:pt x="38" y="547"/>
                </a:lnTo>
                <a:lnTo>
                  <a:pt x="43" y="566"/>
                </a:lnTo>
                <a:lnTo>
                  <a:pt x="46" y="590"/>
                </a:lnTo>
                <a:lnTo>
                  <a:pt x="47" y="619"/>
                </a:lnTo>
                <a:lnTo>
                  <a:pt x="47" y="779"/>
                </a:lnTo>
                <a:lnTo>
                  <a:pt x="49" y="848"/>
                </a:lnTo>
                <a:lnTo>
                  <a:pt x="54" y="908"/>
                </a:lnTo>
                <a:lnTo>
                  <a:pt x="64" y="957"/>
                </a:lnTo>
                <a:lnTo>
                  <a:pt x="71" y="977"/>
                </a:lnTo>
                <a:lnTo>
                  <a:pt x="82" y="994"/>
                </a:lnTo>
                <a:lnTo>
                  <a:pt x="93" y="1007"/>
                </a:lnTo>
                <a:lnTo>
                  <a:pt x="107" y="1017"/>
                </a:lnTo>
                <a:lnTo>
                  <a:pt x="123" y="1023"/>
                </a:lnTo>
                <a:lnTo>
                  <a:pt x="142" y="1025"/>
                </a:lnTo>
                <a:lnTo>
                  <a:pt x="133" y="1024"/>
                </a:lnTo>
                <a:lnTo>
                  <a:pt x="127" y="1021"/>
                </a:lnTo>
                <a:lnTo>
                  <a:pt x="119" y="1017"/>
                </a:lnTo>
                <a:lnTo>
                  <a:pt x="113" y="1012"/>
                </a:lnTo>
                <a:lnTo>
                  <a:pt x="102" y="995"/>
                </a:lnTo>
                <a:lnTo>
                  <a:pt x="93" y="974"/>
                </a:lnTo>
                <a:lnTo>
                  <a:pt x="86" y="949"/>
                </a:lnTo>
                <a:lnTo>
                  <a:pt x="80" y="920"/>
                </a:lnTo>
                <a:lnTo>
                  <a:pt x="72" y="856"/>
                </a:lnTo>
                <a:lnTo>
                  <a:pt x="71" y="787"/>
                </a:lnTo>
                <a:lnTo>
                  <a:pt x="70" y="721"/>
                </a:lnTo>
                <a:lnTo>
                  <a:pt x="71" y="619"/>
                </a:lnTo>
                <a:lnTo>
                  <a:pt x="71" y="566"/>
                </a:lnTo>
                <a:lnTo>
                  <a:pt x="65" y="533"/>
                </a:lnTo>
                <a:lnTo>
                  <a:pt x="61" y="522"/>
                </a:lnTo>
                <a:lnTo>
                  <a:pt x="55" y="516"/>
                </a:lnTo>
                <a:lnTo>
                  <a:pt x="48" y="513"/>
                </a:lnTo>
                <a:lnTo>
                  <a:pt x="37" y="51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2520" y="1370880"/>
            <a:ext cx="35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Oca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68320" y="5144400"/>
            <a:ext cx="136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iajes no famili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fin de semana larg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6324480"/>
            <a:ext cx="228600" cy="152640"/>
          </a:xfrm>
          <a:prstGeom prst="rect">
            <a:avLst/>
          </a:prstGeom>
          <a:solidFill>
            <a:srgbClr val="6876e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6505560"/>
            <a:ext cx="228600" cy="152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48120" y="624780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arget Pri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48480" y="64303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prox. 45% - 55% d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EAA4-2A10-4A54-85B2-D70F5524078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perfil competitivo de Price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1371600"/>
            <a:ext cx="7440480" cy="4694400"/>
          </a:xfrm>
          <a:prstGeom prst="ellipse">
            <a:avLst/>
          </a:prstGeom>
          <a:solidFill>
            <a:srgbClr val="fee1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04960" y="1968480"/>
            <a:ext cx="5556240" cy="3500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2492280"/>
            <a:ext cx="3711600" cy="245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1981080"/>
            <a:ext cx="690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2438280"/>
            <a:ext cx="672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2590920"/>
            <a:ext cx="70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t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00600" y="22860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19720" y="2057400"/>
            <a:ext cx="70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bi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2971800"/>
            <a:ext cx="939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05400" y="3568680"/>
            <a:ext cx="1028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etencia 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74080" y="4038480"/>
            <a:ext cx="1046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etencia In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2362320"/>
            <a:ext cx="976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, Un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34320" y="259092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 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324480" y="32004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16560" y="2147760"/>
            <a:ext cx="978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ras líneas ae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5562720"/>
            <a:ext cx="97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especializ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6560" y="2147760"/>
            <a:ext cx="978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ras líneas ae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685800" cy="4795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72080" y="32767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3581280" y="41911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5257800" y="39625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2819520" y="3581280"/>
            <a:ext cx="685800" cy="479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352680" y="2819520"/>
            <a:ext cx="685800" cy="4791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8"/>
          <a:stretch/>
        </p:blipFill>
        <p:spPr>
          <a:xfrm>
            <a:off x="4495680" y="4267080"/>
            <a:ext cx="685800" cy="4795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 rot="8069400">
            <a:off x="5676480" y="384768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8956400">
            <a:off x="3124080" y="335232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2785200">
            <a:off x="5676480" y="308592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230600">
            <a:off x="4800240" y="266688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20377800">
            <a:off x="3886200" y="266652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3919400">
            <a:off x="3238200" y="415224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1610000">
            <a:off x="4190760" y="4419360"/>
            <a:ext cx="304560" cy="228600"/>
          </a:xfrm>
          <a:custGeom>
            <a:avLst/>
            <a:gdLst>
              <a:gd name="textAreaLeft" fmla="*/ 3780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0069200">
            <a:off x="5028480" y="4343040"/>
            <a:ext cx="304920" cy="228600"/>
          </a:xfrm>
          <a:custGeom>
            <a:avLst/>
            <a:gdLst>
              <a:gd name="textAreaLeft" fmla="*/ 3816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afea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17680" y="3048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Financia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 propie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28520" y="38862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ue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16480" y="449568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ruce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27840" y="29052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tick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ere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37480" y="32004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Hote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358128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rrien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37360" y="4648320"/>
            <a:ext cx="71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Vac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71480" y="43434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Lar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i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63040" y="4419720"/>
            <a:ext cx="75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Net2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6000" y="4724280"/>
            <a:ext cx="4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7080" y="4876920"/>
            <a:ext cx="690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0" y="5181480"/>
            <a:ext cx="673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velo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5029200"/>
            <a:ext cx="9763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cias Off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51480" y="3733920"/>
            <a:ext cx="65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rs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05200" y="3962520"/>
            <a:ext cx="68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utobyt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79960" y="1828800"/>
            <a:ext cx="56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Ban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34040" y="2209680"/>
            <a:ext cx="103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tras financie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33480" y="3824280"/>
            <a:ext cx="58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a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E473-3EC7-48EB-99B4-28C71C2D84C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Mapa de desempeño competitivo por segmento para Price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68360" y="1341360"/>
            <a:ext cx="8292960" cy="4914720"/>
            <a:chOff x="468360" y="1341360"/>
            <a:chExt cx="8292960" cy="4914720"/>
          </a:xfrm>
        </p:grpSpPr>
        <p:graphicFrame>
          <p:nvGraphicFramePr>
            <p:cNvPr id="546" name=""/>
            <p:cNvGraphicFramePr/>
            <p:nvPr/>
          </p:nvGraphicFramePr>
          <p:xfrm>
            <a:off x="468360" y="1341360"/>
            <a:ext cx="8292960" cy="4914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341360"/>
                      <a:ext cx="8292960" cy="491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8" name=""/>
            <p:cNvGrpSpPr/>
            <p:nvPr/>
          </p:nvGrpSpPr>
          <p:grpSpPr>
            <a:xfrm>
              <a:off x="542880" y="6019560"/>
              <a:ext cx="2116080" cy="179280"/>
              <a:chOff x="542880" y="6019560"/>
              <a:chExt cx="2116080" cy="179280"/>
            </a:xfrm>
          </p:grpSpPr>
          <p:sp>
            <p:nvSpPr>
              <p:cNvPr id="549" name=""/>
              <p:cNvSpPr/>
              <p:nvPr/>
            </p:nvSpPr>
            <p:spPr>
              <a:xfrm>
                <a:off x="542880" y="6022440"/>
                <a:ext cx="172800" cy="17280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92376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alt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754440" y="3576600"/>
              <a:ext cx="320760" cy="320400"/>
            </a:xfrm>
            <a:prstGeom prst="ellipse">
              <a:avLst/>
            </a:prstGeom>
            <a:solidFill>
              <a:srgbClr val="000000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2170080" y="2300040"/>
              <a:ext cx="320760" cy="320760"/>
              <a:chOff x="2170080" y="2300040"/>
              <a:chExt cx="320760" cy="320760"/>
            </a:xfrm>
          </p:grpSpPr>
          <p:sp>
            <p:nvSpPr>
              <p:cNvPr id="553" name=""/>
              <p:cNvSpPr/>
              <p:nvPr/>
            </p:nvSpPr>
            <p:spPr>
              <a:xfrm>
                <a:off x="217008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7044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484440" y="6019560"/>
              <a:ext cx="2116080" cy="179280"/>
              <a:chOff x="3484440" y="6019560"/>
              <a:chExt cx="2116080" cy="17928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3484440" y="6024240"/>
                <a:ext cx="172800" cy="173160"/>
                <a:chOff x="3484440" y="6024240"/>
                <a:chExt cx="172800" cy="1731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484440" y="6024240"/>
                  <a:ext cx="172800" cy="173160"/>
                </a:xfrm>
                <a:prstGeom prst="ellipse">
                  <a:avLst/>
                </a:prstGeom>
                <a:solidFill>
                  <a:srgbClr val="ffffff"/>
                </a:solidFill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484800" y="6024240"/>
                  <a:ext cx="172080" cy="172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864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86471"/>
                    </a:path>
                  </a:pathLst>
                </a:custGeom>
                <a:solidFill>
                  <a:srgbClr val="000000"/>
                </a:solidFill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386532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medi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426000" y="6019560"/>
              <a:ext cx="2116080" cy="179280"/>
              <a:chOff x="6426000" y="6019560"/>
              <a:chExt cx="2116080" cy="179280"/>
            </a:xfrm>
          </p:grpSpPr>
          <p:sp>
            <p:nvSpPr>
              <p:cNvPr id="561" name=""/>
              <p:cNvSpPr/>
              <p:nvPr/>
            </p:nvSpPr>
            <p:spPr>
              <a:xfrm>
                <a:off x="6426000" y="6022440"/>
                <a:ext cx="172800" cy="1731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06880" y="6019560"/>
                <a:ext cx="173520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ivel bajo de desempeñ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754440" y="2300040"/>
              <a:ext cx="320760" cy="320760"/>
              <a:chOff x="3754440" y="2300040"/>
              <a:chExt cx="320760" cy="320760"/>
            </a:xfrm>
          </p:grpSpPr>
          <p:sp>
            <p:nvSpPr>
              <p:cNvPr id="564" name=""/>
              <p:cNvSpPr/>
              <p:nvPr/>
            </p:nvSpPr>
            <p:spPr>
              <a:xfrm>
                <a:off x="375444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5480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5348160" y="2300040"/>
              <a:ext cx="320760" cy="320760"/>
              <a:chOff x="5348160" y="2300040"/>
              <a:chExt cx="320760" cy="320760"/>
            </a:xfrm>
          </p:grpSpPr>
          <p:sp>
            <p:nvSpPr>
              <p:cNvPr id="567" name=""/>
              <p:cNvSpPr/>
              <p:nvPr/>
            </p:nvSpPr>
            <p:spPr>
              <a:xfrm>
                <a:off x="5348160" y="230004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48520" y="230004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937200" y="2300040"/>
              <a:ext cx="320400" cy="320400"/>
              <a:chOff x="6937200" y="2300040"/>
              <a:chExt cx="320400" cy="320400"/>
            </a:xfrm>
          </p:grpSpPr>
          <p:sp>
            <p:nvSpPr>
              <p:cNvPr id="570" name=""/>
              <p:cNvSpPr/>
              <p:nvPr/>
            </p:nvSpPr>
            <p:spPr>
              <a:xfrm>
                <a:off x="6937200" y="2300040"/>
                <a:ext cx="320400" cy="32040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37560" y="2300040"/>
                <a:ext cx="319680" cy="32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170080" y="3576600"/>
              <a:ext cx="320400" cy="320040"/>
              <a:chOff x="2170080" y="3576600"/>
              <a:chExt cx="320400" cy="320040"/>
            </a:xfrm>
          </p:grpSpPr>
          <p:sp>
            <p:nvSpPr>
              <p:cNvPr id="573" name=""/>
              <p:cNvSpPr/>
              <p:nvPr/>
            </p:nvSpPr>
            <p:spPr>
              <a:xfrm>
                <a:off x="2170080" y="357660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7044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5348160" y="3576600"/>
              <a:ext cx="320400" cy="320040"/>
              <a:chOff x="5348160" y="3576600"/>
              <a:chExt cx="320400" cy="320040"/>
            </a:xfrm>
          </p:grpSpPr>
          <p:sp>
            <p:nvSpPr>
              <p:cNvPr id="576" name=""/>
              <p:cNvSpPr/>
              <p:nvPr/>
            </p:nvSpPr>
            <p:spPr>
              <a:xfrm>
                <a:off x="5348160" y="357660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34852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348160" y="4913280"/>
              <a:ext cx="320400" cy="320040"/>
              <a:chOff x="5348160" y="4913280"/>
              <a:chExt cx="320400" cy="320040"/>
            </a:xfrm>
          </p:grpSpPr>
          <p:sp>
            <p:nvSpPr>
              <p:cNvPr id="579" name=""/>
              <p:cNvSpPr/>
              <p:nvPr/>
            </p:nvSpPr>
            <p:spPr>
              <a:xfrm>
                <a:off x="534816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348520" y="491328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864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86471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3754440" y="4913280"/>
              <a:ext cx="320760" cy="320400"/>
              <a:chOff x="3754440" y="4913280"/>
              <a:chExt cx="320760" cy="320400"/>
            </a:xfrm>
          </p:grpSpPr>
          <p:sp>
            <p:nvSpPr>
              <p:cNvPr id="582" name=""/>
              <p:cNvSpPr/>
              <p:nvPr/>
            </p:nvSpPr>
            <p:spPr>
              <a:xfrm>
                <a:off x="3754440" y="4913280"/>
                <a:ext cx="320760" cy="32040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54800" y="491328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937200" y="3576600"/>
              <a:ext cx="320760" cy="320400"/>
              <a:chOff x="6937200" y="3576600"/>
              <a:chExt cx="320760" cy="320400"/>
            </a:xfrm>
          </p:grpSpPr>
          <p:sp>
            <p:nvSpPr>
              <p:cNvPr id="585" name=""/>
              <p:cNvSpPr/>
              <p:nvPr/>
            </p:nvSpPr>
            <p:spPr>
              <a:xfrm>
                <a:off x="6937200" y="3576600"/>
                <a:ext cx="320760" cy="320400"/>
              </a:xfrm>
              <a:prstGeom prst="ellipse">
                <a:avLst/>
              </a:pr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37560" y="3576600"/>
                <a:ext cx="31968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70080" y="4913280"/>
              <a:ext cx="320400" cy="322920"/>
              <a:chOff x="2170080" y="4913280"/>
              <a:chExt cx="320400" cy="322920"/>
            </a:xfrm>
          </p:grpSpPr>
          <p:sp>
            <p:nvSpPr>
              <p:cNvPr id="588" name=""/>
              <p:cNvSpPr/>
              <p:nvPr/>
            </p:nvSpPr>
            <p:spPr>
              <a:xfrm>
                <a:off x="217008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73680" y="4913280"/>
                <a:ext cx="31608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937200" y="4913280"/>
              <a:ext cx="320400" cy="322920"/>
              <a:chOff x="6937200" y="4913280"/>
              <a:chExt cx="320400" cy="322920"/>
            </a:xfrm>
          </p:grpSpPr>
          <p:sp>
            <p:nvSpPr>
              <p:cNvPr id="591" name=""/>
              <p:cNvSpPr/>
              <p:nvPr/>
            </p:nvSpPr>
            <p:spPr>
              <a:xfrm>
                <a:off x="6937200" y="4913280"/>
                <a:ext cx="320400" cy="320040"/>
              </a:xfrm>
              <a:prstGeom prst="ellipse">
                <a:avLst/>
              </a:prstGeom>
              <a:solidFill>
                <a:srgbClr val="000000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40800" y="4913280"/>
                <a:ext cx="31608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9328-A130-4C14-90F0-5252FFBD321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Modelos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2700360" y="2133720"/>
            <a:ext cx="1608120" cy="942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¿Donde competirá el negoc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29160" y="4727520"/>
            <a:ext cx="1608120" cy="943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¿Como ganará el negoc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"/>
          <p:cNvCxnSpPr>
            <a:stCxn id="595" idx="1"/>
            <a:endCxn id="594" idx="2"/>
          </p:cNvCxnSpPr>
          <p:nvPr/>
        </p:nvCxnSpPr>
        <p:spPr>
          <a:xfrm rot="10800000">
            <a:off x="3504600" y="3075840"/>
            <a:ext cx="1024560" cy="212328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97" name=""/>
          <p:cNvCxnSpPr>
            <a:stCxn id="594" idx="3"/>
            <a:endCxn id="595" idx="0"/>
          </p:cNvCxnSpPr>
          <p:nvPr/>
        </p:nvCxnSpPr>
        <p:spPr>
          <a:xfrm>
            <a:off x="4308120" y="2604960"/>
            <a:ext cx="1026360" cy="2123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"/>
          <p:cNvSpPr/>
          <p:nvPr/>
        </p:nvSpPr>
        <p:spPr>
          <a:xfrm>
            <a:off x="1116000" y="1484280"/>
            <a:ext cx="160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álisis de oportunidad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27640" y="5661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os de Nego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62A7-6EED-4614-A0F6-C29652195794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¿Por que Modelos de Negocio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análisis de mercado debe responder la pregunta: ¿dónde competi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hora la pregunta es ¿cómo gan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iferencia de los modelos de empresas tradicionales, donde la respuesta está en el análisis interno, en Internet, tanto para empresas puras como para estrategias complementarias, todo modelo es nue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diseño racional y estructurado del modelo a implementar aumenta las probabilidades de éxi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EEE1-5117-4CC4-9AE8-E35BB915521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92000" y="6643800"/>
            <a:ext cx="28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Fuente: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http://www.zakon.org/robert/internet/timelin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598500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eonard Kleinrock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MI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escribe el primer paper sobre packet-switching (PS) theory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: "Information Flow in Large Communication Nets“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451480"/>
            <a:ext cx="80773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ARPA (Advanced Research Projects Agency) patrocina un estudio sobre redes corporativas para compartir computadores; Máquinas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TX-2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IT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N/FSQ-32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Santa M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ica, CA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son conectados via línea telefónica dedicada de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1200bp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. Posteriormente se suma el computador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DEC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ARPA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ara formar la “Red Experimental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51465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6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Lawrence G. Robert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del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IT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 escribe “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Towards a Cooperative Network of Time-Shared Computers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”, el primer plan para ARPA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6893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6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4 nodos son interconectados como parte del proyecto ARPANET a través de lineas de 50kbps de AT&amp;T: UCLA – Stanford – UCSB – University of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30848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0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imera publicación del protocolo ARPANET Host-H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512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1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11 nodos se unen a la red;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Ray Tomlinson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inventa un software para enviar emails a través de la red, utilizando como base un programa de email inter-máquinas (SENDMSG) y un programa experimental de transferencia (CPYNET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39408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2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Se modifica el programa de email para ARPANET y se incorpora el símbolo @ para identificar el Host de origen; Se realiza el primer chat computador a computa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0639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imera conexión internacional a ARPANET: University College of Lond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63196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4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Vint Cerf and Bob Kahn publi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"A Protocol for Packet Network Interconnection“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, especificando el diseño de un programa de control de transmisión 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(TCP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33208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5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John Vittal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sarroll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MSG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el primer programa de email completo, con capacidad de respuesta, re-envio y adjuntar archiv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05120"/>
            <a:ext cx="80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79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Kevin MacKenzie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ropone incluir emociones en los emails, utilizando el símbolo -) para denotar ironía. Esa nomenclatura se populariza rápidam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55555"/>
                </a:solidFill>
                <a:latin typeface="Verdana"/>
              </a:rPr>
              <a:t>Internet: Una historia de 4 década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371600"/>
            <a:ext cx="8077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Verdana"/>
              </a:rPr>
              <a:t>1983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ombre de servidores desarrollados en la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Univ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 Wisconsin, </a:t>
            </a:r>
            <a:r>
              <a:rPr b="0" lang="es-MX" sz="800" spc="-1" strike="noStrike">
                <a:solidFill>
                  <a:srgbClr val="000000"/>
                </a:solidFill>
                <a:latin typeface="Verdana"/>
              </a:rPr>
              <a:t>permite a los usuario interconectarse sin conocer la ruta exacta a otros sistemas. ARPANET se divide en ARPANET y MILNET; 68 de los 113 nodos existentes se van a MILNET. La interconección de ambas reder se denomina INTERN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7CED-D7C1-4744-B1D6-9EC855BE3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ar nacimiento de una empresa hace 20 años con la implementación de una estrategia de Intern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cional: De la realidad a la academ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: De la academia a la rea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1A43-C9E0-4D00-9543-0DEBCBA54BB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jemplo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Industria en USA de US$15.000 mill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Altamente fragmentado, sin marcas líderes, compleja distribución, calidad dispareja.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ualmente son vendidas 10 a 12 días después de su cosecha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60% compradas en las call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80% permanecen en el área donde fueron comprada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cado 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$350 millon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US$2.500 millones en 2004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76e7"/>
                </a:solidFill>
                <a:latin typeface="Verdana"/>
              </a:rPr>
              <a:t>Modelos muy simila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D8F9-D72C-44CD-B7F2-C6D697B73AA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jemplo: Flores online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es compet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FTD.com gasta US$6.1 mill mensuales y vende sólo US$2.2 mill (déficit de US$3.9 mill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1-800-flowers opera con un déficit mensual de US$22.4 mill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Gerald Stevens pierde US$17.7 mill mensualm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PC Flowers &amp; Gifts pierde US$326 mil mensulae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e anda ma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l análisis de mercado predice una tremenda oportunidad para la venta de flores online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CBD0-5651-4A6E-976C-1E091B52C06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mentos de un Modelo de Negocio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225960" y="171252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25960" y="27712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25960" y="380160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a de 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25960" y="4882680"/>
            <a:ext cx="2603520" cy="307080"/>
          </a:xfrm>
          <a:prstGeom prst="rect">
            <a:avLst/>
          </a:prstGeom>
          <a:solidFill>
            <a:srgbClr val="fafea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porte financiero_x001d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4289760" y="2292840"/>
            <a:ext cx="496800" cy="241560"/>
          </a:xfrm>
          <a:custGeom>
            <a:avLst/>
            <a:gdLst>
              <a:gd name="textAreaLeft" fmla="*/ 77400 w 496800"/>
              <a:gd name="textAreaRight" fmla="*/ 434880 w 496800"/>
              <a:gd name="textAreaTop" fmla="*/ 60480 h 241560"/>
              <a:gd name="textAreaBottom" fmla="*/ 181440 h 24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5400000">
            <a:off x="4291560" y="336456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5400000">
            <a:off x="4291560" y="4394880"/>
            <a:ext cx="497160" cy="241200"/>
          </a:xfrm>
          <a:custGeom>
            <a:avLst/>
            <a:gdLst>
              <a:gd name="textAreaLeft" fmla="*/ 77400 w 497160"/>
              <a:gd name="textAreaRight" fmla="*/ 435240 w 4971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01400" y="22287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REGLA Nº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D094-0970-42E4-A52E-D2B0A167282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Regla 1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s consumidores no les gusta el camb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son reacios al camb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nercia de los consumidores los hace contrarios al cambio (aunque no lo dig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consumidores cambian lentament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7B4F-A1A2-44C6-8B0F-7B2AA3FC152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Paso 1: Propuesta de Valor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trucción de la propuesta en 3 etap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lección del 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segmento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 objetivo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Debido a la capacidad de personalización de Internet, es posible elegir un “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cluster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” o grupo de segmentos objetivos en vez de uno solo (“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value-cluster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”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Elección del 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paquete de beneficios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 para los consumidore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Múltiples combinaciones de beneficios que pueden ser elegidos por los consumidores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82520" indent="-457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Preguntarse por qué la firma está mejor posicionada para entregar el paquete beneficios mejor que los competidores en el mismo espacio (</a:t>
            </a:r>
            <a:r>
              <a:rPr b="0" lang="es-ES_tradnl" sz="2000" spc="-1" strike="noStrike">
                <a:solidFill>
                  <a:srgbClr val="ed181e"/>
                </a:solidFill>
                <a:latin typeface="Verdana"/>
              </a:rPr>
              <a:t>capacidades únicas</a:t>
            </a: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577880" indent="-380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Que alianzas permiten a la firma y sus 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partners 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tregar</a:t>
            </a:r>
            <a:r>
              <a:rPr b="0" i="1" lang="es-ES_tradnl" sz="1800" spc="-1" strike="noStrike">
                <a:solidFill>
                  <a:srgbClr val="6876e7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los beneficios mejor que la competencia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9642-8671-4C95-B450-9AF16DCE880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Elección de Segmento(s) objetivos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ción a partir del análisis de oportunidad de merc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s for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Atractivo d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Habilidad de la firma para competir en el mercad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s críticas para determinar atractivo del merca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Tamaño del mercado y tasa de crecimient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Necesidades no cubiertas o insuficientemente servidas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76e7"/>
                </a:solidFill>
                <a:latin typeface="Verdana"/>
              </a:rPr>
              <a:t>Competencia débil o inexistente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86B9-1F33-49F4-9D09-7533177273D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Elección de paquete de beneficios:</a:t>
            </a:r>
            <a:br>
              <a:rPr sz="3000"/>
            </a:br>
            <a:r>
              <a:rPr b="0" lang="es-ES_tradnl" sz="3000" spc="-1" strike="noStrike">
                <a:solidFill>
                  <a:srgbClr val="555555"/>
                </a:solidFill>
                <a:latin typeface="Verdana"/>
              </a:rPr>
              <a:t>¿Propuesta simple o value-cluster?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puesta simple: foco en un benefici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Alineamiento de la organiz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Comunicar efectivamente al segmento objetiv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Otros beneficios también se entregan, pero no se hace hincapié en la comunicación.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o de beneficios (value-clus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Qué dicen los defensores de esta aproximación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Beneficio único es un legado del mundo offline que no tiene sentido en Internet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Una URL (vitrina) permite múltiples decoraciones para múltiples segmentos.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Tecnológicamente posible, pero que pasa con la comunicación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¿Como evaluar para tomar decisiones de largo plazo?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876e7"/>
                </a:solidFill>
                <a:latin typeface="Verdana"/>
              </a:rPr>
              <a:t>Ejemplo: Yahoo!</a:t>
            </a: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E558-4AB8-4D80-8DA9-A6918BF651F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e cualquier manera…</a:t>
            </a:r>
            <a:br>
              <a:rPr sz="3000"/>
            </a:b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(Regla 2)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700"/>
              </a:spcBef>
              <a:buClr>
                <a:srgbClr val="ed181e"/>
              </a:buClr>
              <a:buFont typeface="Wingdings" charset="2"/>
              <a:buChar char="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egir un único, simple beneficio crítico y focalizarse en é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Precio, Variedad, Despacho, Servicio al Cliente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60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876e7"/>
                </a:solidFill>
                <a:latin typeface="Verdana"/>
              </a:rPr>
              <a:t>Ejemplos offline:</a:t>
            </a:r>
            <a:endParaRPr b="0" lang="en-US" sz="24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Volvo: seguridad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Southwest: conveniencia y bajos precios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  <a:p>
            <a:pPr lvl="2" marL="1374840" indent="-228600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876e7"/>
                </a:solidFill>
                <a:latin typeface="Verdana"/>
              </a:rPr>
              <a:t>Hoteles Four Season: Servicio sobresaliente</a:t>
            </a:r>
            <a:endParaRPr b="0" lang="en-US" sz="2000" spc="-1" strike="noStrike">
              <a:solidFill>
                <a:srgbClr val="6876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11D7-7823-46E5-9DD6-E2EC51039DF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55"/>
                </a:solidFill>
                <a:latin typeface="Verdana"/>
              </a:rPr>
              <a:t>De cualquier manera…</a:t>
            </a:r>
            <a:endParaRPr b="0" lang="en-US" sz="3000" spc="-1" strike="noStrike">
              <a:solidFill>
                <a:srgbClr val="555555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ección de 2 beneficios críticos genera 2 problem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 el lado de la demanda: Confusión por mensaje ambiguo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lvl="1" marL="1031760" indent="-406440">
              <a:spcBef>
                <a:spcPts val="451"/>
              </a:spcBef>
              <a:buClr>
                <a:srgbClr val="ed181e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876e7"/>
                </a:solidFill>
                <a:latin typeface="Verdana"/>
              </a:rPr>
              <a:t>En el lado de la oferta: Diseño estratégico de sistemas para uno de los beneficios entra en conflicto con el segundo (bajo precio y rapidez de despacho)</a:t>
            </a:r>
            <a:endParaRPr b="0" lang="en-US" sz="1800" spc="-1" strike="noStrike">
              <a:solidFill>
                <a:srgbClr val="6876e7"/>
              </a:solidFill>
              <a:latin typeface="Verdana"/>
            </a:endParaRPr>
          </a:p>
          <a:p>
            <a:pPr marL="511200" indent="-511200">
              <a:spcBef>
                <a:spcPts val="499"/>
              </a:spcBef>
              <a:buClr>
                <a:srgbClr val="ed181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ecuencia: Sistema que entrega un promedio entre B1 y B2, dejando espacio para que 2 competidores se focalicen, uno en B1 y otro en B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893D-E17A-4D82-B22C-2F8CBD26E3F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03:23Z</dcterms:created>
  <dc:creator>Luis Felipe Troncoso</dc:creator>
  <dc:description/>
  <dc:language>en-US</dc:language>
  <cp:lastModifiedBy> </cp:lastModifiedBy>
  <dcterms:modified xsi:type="dcterms:W3CDTF">2004-03-17T19:14:50Z</dcterms:modified>
  <cp:revision>69</cp:revision>
  <dc:subject/>
  <dc:title>PowerPoint Presentation  -  IN-635 ESTRATEGIAS DE INTERNET: Un Enfoque Comercial</dc:title>
</cp:coreProperties>
</file>