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D473-AA3C-4257-B272-47950E18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B68-F1BD-4D1A-BCA1-C4BD39C5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950-6446-49F0-A892-0529F005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18DF-863D-4664-840A-2967CD96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95D6-5BAD-4EB5-AC94-130A531E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5673-7B64-4AAA-82F9-E9C7A408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4618-211E-4272-BEC7-B38FCC7F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CDD7-5391-4638-86C6-B97372E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938C-9BCB-4890-A2C5-56D1A665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65C2-A34A-4B02-8303-0211137D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C957-FE0F-4C64-B6F0-0FAD078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85A8-85A7-46BF-A7B9-CCBA0A8C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9DCB-EE6D-4F9C-8541-5C80ACF7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AC91-8221-4204-A3EA-90D24EA7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F609-5BBA-4ABE-8DD4-6CCBF361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9E54-E801-4BD3-8251-9D6E48FC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3E23-A340-4561-940E-AE7B8D8E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B35-6451-4A7F-A695-B97D09EB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498-0708-4FE9-A322-2DE40D42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29F-8337-42DE-8AA3-12EDEA82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92E-7294-4B81-BE96-47E4955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D99-5298-45FF-9397-EB3B5EC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1AA-28E5-4175-B9FA-541A4484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C0C-24C4-4BB4-B1DA-8702899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7EE1-C8E1-4B4A-B775-D256968F60A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4CF-8179-4A23-85ED-7BD0A36DA7B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ilusión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89CE-66ED-426A-BB85-D34364191F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lógica de ir contra el sentimiento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ntimiento del mercado es un indicador opuesto. El mercado sube a medida que los bears se convierten en bulls e invierten en el mercado. El mercado llega a su peak cuando no quedan bears y todos están invert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hartcraft recopila los pronósticos de las market newsletters y los publica en Investor Intelligence.Los clasifica en tres grupos: bulls, bears y chick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alcula el Bullish sentiment index: bulls/(bulls+bears). Dado que la mayoría de los consejeros son seguidores de tendencia, son bearish en los market bottoms y menos en los markets top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A7D-6E2C-426F-9BBB-0D7FE66EC5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La evidenci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jo bullish sentimiento es seguido en igual proporción por subidas y bajadas.No sirve como indicador acerca del rendimiento futuro del mer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sigue usando por que los inversionistas solo buscan evidencia a favor e ignoran la contr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3CC-A52E-486A-A797-0EFD1D33FE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Sesgo de validez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mayoría de las afirmaciones son: si ocurre P sucede Q. La mayoría de la gente busca evidencia donde esto pasa, en vez de buscar evidencia contraria, es decir : si P ocurre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sucede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Q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B6D-8562-4874-B980-FA7D5FE661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Metodologí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401920" y="2292480"/>
          <a:ext cx="6270480" cy="406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2292480"/>
                    <a:ext cx="6270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84400" y="2235240"/>
          <a:ext cx="6083280" cy="390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2235240"/>
                    <a:ext cx="60832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557440" y="2225520"/>
          <a:ext cx="6270480" cy="406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7440" y="2225520"/>
                    <a:ext cx="627048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523880" y="1752480"/>
          <a:ext cx="7162920" cy="4572000"/>
        </p:xfrm>
        <a:graphic>
          <a:graphicData uri="http://schemas.openxmlformats.org/drawingml/2006/table">
            <a:tbl>
              <a:tblPr/>
              <a:tblGrid>
                <a:gridCol w="2387880"/>
                <a:gridCol w="2387520"/>
                <a:gridCol w="238752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sube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 mercado baja con posteriori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ba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timiento bullish al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so posi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ierto negat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6C4-CF5A-4E5B-B7A0-2F8D077295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Extrapolación ingenu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única conexión entre el sentimiento y el mercado es que bullishness aumenta después que el mercado ha subido y bearishness aumenta después que el mercado ha bajado. El índice hace un buen trabajo prediciendo el pasado. Es un espejo retrovisor y no un parabri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técnicos siguen creyendo en el por que su lógica es convincente ( la tendencia es su amigo), porque otros creen, porque la prensa perpetua el mito, porque son persuasivos y no validan sus opin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4BA-18F2-4030-B5F5-31078A03B1A7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2-02-27T20:48:35Z</dcterms:modified>
  <cp:revision>31</cp:revision>
  <dc:subject/>
  <dc:title>Presentación de PowerPoint</dc:title>
</cp:coreProperties>
</file>