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E7AE-DB37-406C-9EE1-7BC2FE1C0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6EA4-45E2-43DC-8389-22DB9EF20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9250-6C1B-4A59-8DCE-A61462A46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B887-4E17-4437-BBDA-789D0D274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9BC80-0F86-459E-B682-1D4822D25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D5FD9-643D-41AA-8DD7-508DEFD00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7F70E-CE2D-4F5C-AED7-0AED4A3F1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18E4C-BCD6-4986-8976-A84F94B08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9DC93-01C8-4761-BBDB-CAEF3D154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6B076-1688-496C-BA78-C0868FBBF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1F183-FCD4-458F-928D-676A448B0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BCBD-DE6F-4823-9A5C-FB4B4A13A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3B2E2-6E76-49AB-BBC1-16D991C87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FE53C-7F08-4000-A4BC-1AC15FF00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9B9AF-2A8E-4C56-9A90-54FD29209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223C5-D718-4948-B441-BA98B4596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1D966-EC42-4E7F-9FFA-D7ED8C195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F0C5-DECE-4D1E-8F76-6CAFE5BCE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E441-DB4C-45CA-9297-54368FD3E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14FF-2835-4A22-A1EA-86BBC2C2D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1A5B-5925-40A4-B3C0-E3BFA3826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A9E2-8E1A-4CC3-9BA1-69B30F7BA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526D-6667-48E1-A906-2C5790CBA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66D9-FE63-4D22-BD76-C8DEF3B9D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D71C4-13D3-40DD-BFF8-84A183A0BE13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DE7E0-3723-42E9-9473-D65B2DB35F83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cc"/>
                </a:solidFill>
                <a:latin typeface="Arial Narrow"/>
              </a:rPr>
              <a:t>La ilusión de validez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A06C5-D203-442B-98AB-84BFF6FF688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cc"/>
                </a:solidFill>
                <a:latin typeface="Arial Narrow"/>
              </a:rPr>
              <a:t>La lógica de ir contra el sentimiento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l sentimiento del mercado es un indicador opuesto. El mercado sube a medida que los bears se convierten en bulls e invierten en el mercado. El mercado llega a su peak cuando no quedan bears y todos están invertid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hartcraft recopila los pronósticos de las market newsletters y los publica en Investor Intelligence.Los clasifica en tres grupos: bulls, bears y chicke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calcula el Bullish sentiment index: bulls/(bulls+bears). Dado que la mayoría de los consejeros son seguidores de tendencia, son bearish en los market bottoms y menos en los markets top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5A32-043B-41EA-B255-A1B60938668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cc"/>
                </a:solidFill>
                <a:latin typeface="Arial Narrow"/>
              </a:rPr>
              <a:t>La evidencia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Bajo bullish sentimiento es seguido en igual proporción por subidas y bajadas.No sirve como indicador acerca del rendimiento futuro del mercad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e sigue usando por que los inversionistas solo buscan evidencia a favor e ignoran la contrari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DFB0-7733-4465-A00E-C936AC682B6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cc"/>
                </a:solidFill>
                <a:latin typeface="Arial Narrow"/>
              </a:rPr>
              <a:t>Sesgo de validez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La mayoría de las afirmaciones son: si ocurre P sucede Q. La mayoría de la gente busca evidencia donde esto pasa, en vez de buscar evidencia contraria, es decir : si P ocurre </a:t>
            </a:r>
            <a:r>
              <a:rPr b="0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no sucede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Q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7545-01C0-4E6D-BDA9-7E7C70A8911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cc"/>
                </a:solidFill>
                <a:latin typeface="Arial Narrow"/>
              </a:rPr>
              <a:t>Metodología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401920" y="2292480"/>
          <a:ext cx="6270480" cy="4062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01920" y="2292480"/>
                    <a:ext cx="6270480" cy="40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2084400" y="2235240"/>
          <a:ext cx="6083280" cy="39085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84400" y="2235240"/>
                    <a:ext cx="6083280" cy="390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2557440" y="2225520"/>
          <a:ext cx="6270480" cy="40626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57440" y="2225520"/>
                    <a:ext cx="6270480" cy="40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1523880" y="1752480"/>
          <a:ext cx="7162920" cy="4572000"/>
        </p:xfrm>
        <a:graphic>
          <a:graphicData uri="http://schemas.openxmlformats.org/drawingml/2006/table">
            <a:tbl>
              <a:tblPr/>
              <a:tblGrid>
                <a:gridCol w="2387880"/>
                <a:gridCol w="2387520"/>
                <a:gridCol w="2387520"/>
              </a:tblGrid>
              <a:tr h="128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 mercado sube con posteriorida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 mercado baja con posteriorida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4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ntimiento bullish baj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ierto positiv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lso negativ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ntimiento bullish alt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lso positiv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ierto negativ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4728-A514-4801-A702-EF905E8CDFD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cc"/>
                </a:solidFill>
                <a:latin typeface="Arial Narrow"/>
              </a:rPr>
              <a:t>Extrapolación ingenua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única conexión entre el sentimiento y el mercado es que bullishness aumenta después que el mercado ha subido y bearishness aumenta después que el mercado ha bajado. El índice hace un buen trabajo prediciendo el pasado. Es un espejo retrovisor y no un parabris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os técnicos siguen creyendo en el por que su lógica es convincente ( la tendencia es su amigo), porque otros creen, porque la prensa perpetua el mito, porque son persuasivos y no validan sus opinio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EF37-66E6-4F0E-B153-5C3E9032BE41}" type="slidenum">
              <a:t>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02-02-27T20:48:35Z</dcterms:modified>
  <cp:revision>31</cp:revision>
  <dc:subject/>
  <dc:title>Presentación de PowerPoint</dc:title>
</cp:coreProperties>
</file>