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80D-82BF-45BC-97A7-C432DE77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EA5-2F22-40B7-9FC6-D2E0DBBC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10C-E308-4AB7-AF9F-02F9B64F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A2B3-D595-4C33-BDC6-DD3DDDB4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0731-164C-4C40-9699-BACC7084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FB5E-4930-44B5-81B3-CB5796D5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F27D-8BBA-4D81-90B3-D7AD4FE4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706E-AE00-4F2A-A623-1F764ECD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EDB6-7458-4099-93AE-9DD9C067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BF14-CB97-4C4A-AC0F-A8BAB1DF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9C48-EF2B-45E1-A5A7-BC28F395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21B-0FF6-4820-BF8E-C75DC9D5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F368-D5AC-47F5-AE4A-CC0D1E87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4DF0-86EA-48CB-9FD6-3B820D98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A127-32C1-4A20-B7DD-F66D16EF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CFF1-CDCB-490F-BFBF-2ADBC9D3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91E8-59E3-466D-8B90-E25A71C2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6FEC-70B1-40C1-8C0A-98E5413C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C5A-D005-4006-8510-EA914DC1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D7B-0977-4E09-8653-C73E7B0B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4C2-082A-4250-B395-336374F6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82D-4030-40BB-885D-CD3FDDBE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F714-6E46-4F1A-82CE-53D5EBE7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A8E-36E9-49E1-AF8B-19AEF266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522C-306E-45BC-A045-6F63B0B8D94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2A3B-2065-4E19-A73A-49A17E29474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ilusión de validez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824C-6CB9-459B-8310-08F575BD15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lógica de ir contra el sentimiento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ntimiento del mercado es un indicador opuesto. El mercado sube a medida que los bears se convierten en bulls e invierten en el mercado. El mercado llega a su peak cuando no quedan bears y todos están invert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hartcraft recopila los pronósticos de las market newsletters y los publica en Investor Intelligence.Los clasifica en tres grupos: bulls, bears y chick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alcula el Bullish sentiment index: bulls/(bulls+bears). Dado que la mayoría de los consejeros son seguidores de tendencia, son bearish en los market bottoms y menos en los markets top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770-8FCB-4BA7-AB0D-2BD57D10F49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evidenci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ajo bullish sentimiento es seguido en igual proporción por subidas y bajadas.No sirve como indicador acerca del rendimiento futuro del merc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sigue usando por que los inversionistas solo buscan evidencia a favor e ignoran la contrar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C28-C36F-4664-80DC-9A3DB22F5AD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Sesgo de validez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mayoría de las afirmaciones son: si ocurre P sucede Q. La mayoría de la gente busca evidencia donde esto pasa, en vez de buscar evidencia contraria, es decir : si P ocurre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no sucede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Q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6DE9-18C0-4D4A-8EE8-A8B3E4A4639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Metodologí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401920" y="2292480"/>
          <a:ext cx="6270480" cy="406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2292480"/>
                    <a:ext cx="627048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084400" y="2235240"/>
          <a:ext cx="6083280" cy="3908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4400" y="2235240"/>
                    <a:ext cx="608328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557440" y="2225520"/>
          <a:ext cx="6270480" cy="4062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7440" y="2225520"/>
                    <a:ext cx="627048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523880" y="1752480"/>
          <a:ext cx="7162920" cy="4572000"/>
        </p:xfrm>
        <a:graphic>
          <a:graphicData uri="http://schemas.openxmlformats.org/drawingml/2006/table">
            <a:tbl>
              <a:tblPr/>
              <a:tblGrid>
                <a:gridCol w="2387880"/>
                <a:gridCol w="2387520"/>
                <a:gridCol w="238752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 mercado sube con posteriori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 mercado baja con posteriori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timiento bullish ba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erto posi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o nega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timiento bullish al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o posi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erto nega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FCC-9CAA-4EF3-84D3-43BAD0817F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Extrapolación ingenu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única conexión entre el sentimiento y el mercado es que bullishness aumenta después que el mercado ha subido y bearishness aumenta después que el mercado ha bajado. El índice hace un buen trabajo prediciendo el pasado. Es un espejo retrovisor y no un parabri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técnicos siguen creyendo en el por que su lógica es convincente ( la tendencia es su amigo), porque otros creen, porque la prensa perpetua el mito, porque son persuasivos y no validan sus opin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A5B-09EA-4461-8678-756945622AB7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2-02-27T20:48:35Z</dcterms:modified>
  <cp:revision>31</cp:revision>
  <dc:subject/>
  <dc:title>Presentación de PowerPoint</dc:title>
</cp:coreProperties>
</file>