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D6A-7271-443D-9670-3F2C6253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0E3-F394-4E3A-86E0-1E922F45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C50-16BF-4808-8AB8-27DD424A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CC4-29A0-49B1-B23B-44683D51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70C5-E92C-4303-9C9B-EDCD950D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7F37-8500-4632-B93F-F4931C86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D84C-9EB3-442C-A9A8-2656DF85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8810-56E1-4467-A799-369723FE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B329-EF60-415B-9747-99893DC5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B467-E3DC-4D8F-B289-98542DAF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535A-BBEB-4E77-8ED8-DBC10DCD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CF5-3B53-4796-B148-D4D1EDC5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D082-25E6-4FE5-8E07-64A57BD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9C67-B126-4177-B68D-4B44E9EA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88EC-4C5C-4984-B1B7-D451B706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DB16-F085-498A-BDD4-20A1FF75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19A3-5C32-419C-9E2E-5001DEA8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D1F-BC53-445E-8FEE-06F58C07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83E-77B3-4DCF-BB43-C204F293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7AC5-3870-4D70-87DB-84889F19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7CB-925A-4CD6-AF20-34DB8B84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05B-A572-48A0-9E8F-E649E618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4D2-9373-4879-A448-2E8FDE95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2B90-312A-4F0B-879C-9EA790B9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2593-A055-4BFC-A2EF-A2068566D68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2AFC-9F36-432C-B7E2-C778DEF8EA8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ilusión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D5DA-2B2E-4DF7-95D7-E094C2C76B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lógica de ir contra el sentimient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ntimiento del mercado es un indicador opuesto. El mercado sube a medida que los bears se convierten en bulls e invierten en el mercado. El mercado llega a su peak cuando no quedan bears y todos están invert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hartcraft recopila los pronósticos de las market newsletters y los publica en Investor Intelligence.Los clasifica en tres grupos: bulls, bears y chick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alcula el Bullish sentiment index: bulls/(bulls+bears). Dado que la mayoría de los consejeros son seguidores de tendencia, son bearish en los market bottoms y menos en los markets top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F5D-A166-4121-B198-B603535E8BF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evidenci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jo bullish sentimiento es seguido en igual proporción por subidas y bajadas.No sirve como indicador acerca del rendimiento futuro del mer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igue usando por que los inversionistas solo buscan evidencia a favor e ignoran la contr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B7F-6A8C-4A6A-9D67-5A51B13D7DE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Sesgo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mayoría de las afirmaciones son: si ocurre P sucede Q. La mayoría de la gente busca evidencia donde esto pasa, en vez de buscar evidencia contraria, es decir : si P ocurre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suced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Q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8EC-D066-4914-B6C2-3768C5C195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Metodologí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01920" y="2292480"/>
          <a:ext cx="6270480" cy="40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2292480"/>
                    <a:ext cx="62704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084400" y="2235240"/>
          <a:ext cx="6083280" cy="390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2235240"/>
                    <a:ext cx="60832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57440" y="2225520"/>
          <a:ext cx="6270480" cy="4062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7440" y="2225520"/>
                    <a:ext cx="627048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23880" y="1752480"/>
          <a:ext cx="7162920" cy="457200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sube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baja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ba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al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4E4-AA0C-44C6-9014-22FC4535E18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Extrapolación ingenu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única conexión entre el sentimiento y el mercado es que bullishness aumenta después que el mercado ha subido y bearishness aumenta después que el mercado ha bajado. El índice hace un buen trabajo prediciendo el pasado. Es un espejo retrovisor y no un parabri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técnicos siguen creyendo en el por que su lógica es convincente ( la tendencia es su amigo), porque otros creen, porque la prensa perpetua el mito, porque son persuasivos y no validan sus opin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FE7-343C-4B4B-B1BA-613C7E1F346A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2-02-27T20:48:35Z</dcterms:modified>
  <cp:revision>31</cp:revision>
  <dc:subject/>
  <dc:title>Presentación de PowerPoint</dc:title>
</cp:coreProperties>
</file>