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48E-B452-42BF-A07D-807978A2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486-8EB3-42B3-BCA5-DD0F2D61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11E-7171-4386-9851-5F4D737F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7CA-BED6-4329-B59F-967A2BC5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0325-3C3C-4DF0-B9E2-FB346804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574A-DF83-4A36-A01E-699B874D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CD5F-62B1-4C0E-AAF1-033E91A0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8074-164A-4D20-8E52-B907DEA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11F0-DE8A-4A1F-A02F-563900CC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E3B4-2945-4A18-A172-895A926C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C095-485B-46AD-BD7E-E9706EA7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9C0-04D7-4021-9E7A-F5E7BFAB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341D-7447-4CB3-81D2-91783A2F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913B-F448-4C73-8BD8-74BA79E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B10-2C66-4F3B-A5D8-8E9075A9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005E-28D0-4E05-A312-9A0BFCD9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4BC0-3256-4A84-863A-B7118F31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B76-EB49-4CFA-9095-7EA599E1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DEA-A9A4-4801-AAAE-C6F00B5B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DB0-9C0D-48E6-AB59-FEC9EB04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AA2-33A7-41CC-B7C4-89FEF4EC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FEC-F8B1-4BA7-A2C4-002294D7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A6E-EFE2-4681-8397-ECCEE6B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7FF-3DA5-4A35-93AC-D40A724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C803-402D-400A-9D27-7362BB3572C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CB92-2B5F-4CFD-B59C-0A381BE243A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ilusión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CD2D-6ED5-41E9-B250-E6D9133045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lógica de ir contra el sentimient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ntimiento del mercado es un indicador opuesto. El mercado sube a medida que los bears se convierten en bulls e invierten en el mercado. El mercado llega a su peak cuando no quedan bears y todos están invert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hartcraft recopila los pronósticos de las market newsletters y los publica en Investor Intelligence.Los clasifica en tres grupos: bulls, bears y chick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alcula el Bullish sentiment index: bulls/(bulls+bears). Dado que la mayoría de los consejeros son seguidores de tendencia, son bearish en los market bottoms y menos en los markets top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B5B-16C2-496A-A093-09482BECA3B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evidenci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jo bullish sentimiento es seguido en igual proporción por subidas y bajadas.No sirve como indicador acerca del rendimiento futuro del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igue usando por que los inversionistas solo buscan evidencia a favor e ignoran la contr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944-C555-40BE-8785-7C98941DD4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Sesgo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mayoría de las afirmaciones son: si ocurre P sucede Q. La mayoría de la gente busca evidencia donde esto pasa, en vez de buscar evidencia contraria, es decir : si P ocurre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suce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Q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5C4-449F-4FEC-A722-9BCD5C3943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Metodologí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01920" y="2292480"/>
          <a:ext cx="62704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2292480"/>
                    <a:ext cx="6270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84400" y="2235240"/>
          <a:ext cx="6083280" cy="390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2235240"/>
                    <a:ext cx="60832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57440" y="2225520"/>
          <a:ext cx="6270480" cy="406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7440" y="2225520"/>
                    <a:ext cx="627048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3880" y="1752480"/>
          <a:ext cx="7162920" cy="4572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sube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baja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ba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al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B82-BD55-4783-BBCA-8572996F4B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Extrapolación ingenu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única conexión entre el sentimiento y el mercado es que bullishness aumenta después que el mercado ha subido y bearishness aumenta después que el mercado ha bajado. El índice hace un buen trabajo prediciendo el pasado. Es un espejo retrovisor y no un parabri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técnicos siguen creyendo en el por que su lógica es convincente ( la tendencia es su amigo), porque otros creen, porque la prensa perpetua el mito, porque son persuasivos y no validan sus opin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A7F-25B8-4BB7-9268-2A1CF1841DC5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2-02-27T20:48:35Z</dcterms:modified>
  <cp:revision>31</cp:revision>
  <dc:subject/>
  <dc:title>Presentación de PowerPoint</dc:title>
</cp:coreProperties>
</file>