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9424-6F60-4138-8789-F98E0A7FA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D62E-C991-4866-BC77-0457FB23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262-58B3-497F-BA25-716EE0EC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372-5C8C-4E5C-B992-2F39C770A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C23D-C2A1-4771-9514-E07058B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2E6E-A0F5-4119-9E5A-03700EC8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6E5B-EEBE-477B-B73B-9BACC171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84B6-6CEC-4F12-B889-EFDB9D04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7ED6E-7A91-4722-8D47-2ABF2E69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FE67-51FB-46D1-A338-30392D2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8A15-3453-4D95-8018-0218443C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A3D-E2D0-4BEA-AE68-A4F881465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91EC-DE1B-48FC-808A-E1235B06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F7356-71AB-45C0-A84C-542B2B8B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7C6A-81A5-440C-8DAA-14E56329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18B7-0946-479B-B021-E1CE9F3F8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B421-562D-4AC6-A598-1C219D414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0F8A-A838-46A1-8732-C75D5365A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2302-071F-4024-A3B1-46F775D9B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6266-1C55-4C74-8EA5-2E87A8C8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2846-BBA4-461E-824F-D89F55A5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EA98-63FC-4C04-AC2A-94BF24DA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66DC-ABDF-4E64-ADDA-07AD43BE6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A63CE-EBCE-4C1C-A945-A1A3E2F3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83C0-07D3-4397-94FE-4D2C177791F4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5EAC-8197-44E1-8037-1719D3769915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b9efee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ccff66"/>
              </a:buClr>
              <a:buFont typeface="Garamond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9efee"/>
                </a:solidFill>
                <a:latin typeface="Garamond"/>
              </a:rPr>
              <a:t>A SURVEY OF BEHAVIORAL FINANCE</a:t>
            </a:r>
            <a:endParaRPr b="1" lang="en-US" sz="4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tegrantes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laudio Breems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Rodrigo Barrer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Guillermo Irarrázab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Inclusión En Índice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cciones subieron 3,5%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videncia de arbitraje limit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ise trade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Wurgler and Zhuravskaya (2002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lm/3Com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3Com y Palm Inc: después de la OPA, un accionista de 3Com era dueño indirecto de 1,5 acciones de Pal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ecio de 3Com: $81, de Palm: $9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Problemas: Costos de Implementac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ostos de Arbitraj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55640" y="1913040"/>
            <a:ext cx="712944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ff99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ree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n componente crucial de todo modelo de mercados financieros es una especificación de cómo la gente parece formar creencias en la práct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ceso de Confianz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gente es presumida en sus juici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Intervalos de Confianza estrecho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Mal cálculo de Probabilidade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ptim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Visión poco realista de capacidades y perspectiv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256400" indent="-369360">
              <a:lnSpc>
                <a:spcPct val="90000"/>
              </a:lnSpc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Error Sistemático de Planteamient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Representatividad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hneman y Tversky) Las personas recurren a la Representatividad Heurística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evalúa la probabilidad por el grado en que el dato refleja las características esenciales del modelo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lanza una moneda 6 veces (Ley de los números pequeños)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1: 3 bolitas azules, 7 roja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Urna 2: 7 bolitas azules, 3 rojas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sacan al azar 12 bolitas con reemplazo, obteniéndose 8 rojas y 4 azules. ¿Prob de que sean de urna 1?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usual: 0.7 aproximadamente. 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Conservadurism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Respuesta real: 0.97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La gente recarga un poco el 0.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Perseveran las cre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ferrarse a las opin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2 efectos: Renuencia a busca evidencia contraria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scepticismo excesivo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Anclaje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(Kanheman y tversky) La gente estima partiendo de un valor arbitrario y se aleja de és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videncia experimental: ajuste insuficiente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ancla en el valor inicial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reenci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Disponibilidad de Influencias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Busca en la memoria información relevante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No todos los recuerdos son igualmente recuperables o disponibles (Kanheman y tversky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Acontecimientos recientes y notables desvían las estimacion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8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efee"/>
                </a:solidFill>
                <a:latin typeface="Garamond"/>
              </a:rPr>
              <a:t>Busca entender los mercados financieros usando modelos en  los cuales los agentes son “RACIONALES”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36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¿Qué es racionalidad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uando los agentes reciben nueva información, ellos actualizan su información correctamente, en la manera descrita por la LEY DE BAY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ada esa información, ellos realizan opciones que son normativamente aceptables (SEU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100240"/>
            <a:ext cx="298440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sicologí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2. Aversión a la Ambigüe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Las prob rara vez se conocen objetivament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Garamond"/>
              </a:rPr>
              <a:t>Savage (1964) desarrolla la Utilidad Esperada Subjetiva SEU (Subjective Expected Utility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Bajo ciertos axiomas, las preferencias pueden ser representadas por la esperanza de una función de utilidad, compensada por la evaluación subjetiva de la probabilidad de un individuo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-27720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2  urnas: la primera con 100 bolitas rojas y azules (proporción desconocida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La otra con 50 rojas y 50 azules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08440" indent="-22140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1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1: se saca una bolita de la urna 1. $100 si es roja, $0 si es azu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51960" indent="-22140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2: se saca una bolita de la urna 2. $100 si es roja, $0 si es azul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Juego 2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1: se saca una bolita de la urna 1. $100 si es azul, $0 si es roj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536120" indent="-219240"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2: se saca una bolita de la urna 2. $100 si es azul, $0 si es roja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Usualmente A2 es preferida a A1 y B2 es preferida a B1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097280" indent="-219240">
              <a:spcBef>
                <a:spcPts val="499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gún SEU, hay contradicción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versión a la Ambigüedad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Experimento clásico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A2 asigna una prob &lt; 0.5 a sacar una bolita roja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B2 asigna una prob &lt; 0.5 a sacar una bolita azul de la urna 1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l experimento sugiere que las personas no gustan de situaciones dónde la distr de prob de un juego es inciert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51"/>
              </a:spcBef>
              <a:buClr>
                <a:srgbClr val="b9efee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aramond"/>
              </a:rPr>
              <a:t>Este disguste se conoce como Aversión a la Ambigüedad.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" y="1654200"/>
            <a:ext cx="4033800" cy="43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9efee"/>
                </a:solidFill>
                <a:latin typeface="Garamond"/>
              </a:rPr>
              <a:t>¿Qué argumenta esta teoría?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217840" y="1600200"/>
            <a:ext cx="3468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 términos generales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rgumenta que algun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fenómenos financier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pueden ser mej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ntendidos  usand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modelos en los cu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lgunos agentes no son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otalment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acionales......”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685800" y="2438280"/>
            <a:ext cx="335268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Algunas Denominaciones Comunes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040" y="2433600"/>
            <a:ext cx="4519800" cy="26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ARBITRAJIS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NOISE TRADER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410080" y="2362320"/>
            <a:ext cx="29242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Eficiencias de Mercado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Hipótes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os actuales precios reflejan el valor funda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ices are right”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“no free lunch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¿ es válido el inverso de lo anterior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9efee"/>
                </a:solidFill>
                <a:latin typeface="Garamond"/>
              </a:rPr>
              <a:t>Límites para el Arbitraje.....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eoría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.-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iesgo de los “noise traders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ostos de implementación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Evidencia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écnicamente: arbitraje proceso riesgoso y de efectividad limitad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ama (1970) “hipótesis conjunta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Tres ejempl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Acciones gemel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Inclusión en Índices (S&amp;P500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Palm/3Com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Acciones Gemelas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oyal Dutch y Shell Transpor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Fusión 60:4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n valor fundamental 1,5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Riesgo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funda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No costos de implementació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Costo del Noise trader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b9efee"/>
                </a:solidFill>
                <a:latin typeface="Garamond"/>
              </a:rPr>
              <a:t>Paridad Royal Dutch/Shel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5200" y="1687680"/>
            <a:ext cx="71672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9T19:37:25Z</dcterms:created>
  <dc:creator>Claudio Breems H</dc:creator>
  <dc:description/>
  <dc:language>en-US</dc:language>
  <cp:lastModifiedBy> Arturo Gutierrez</cp:lastModifiedBy>
  <dcterms:modified xsi:type="dcterms:W3CDTF">2005-09-02T16:00:33Z</dcterms:modified>
  <cp:revision>14</cp:revision>
  <dc:subject/>
  <dc:title>A SURVEY OF BEHAVIORAL FINANCE</dc:title>
</cp:coreProperties>
</file>