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EC7-561D-4FA2-9765-81A9F7F2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B3F-3E1E-47A1-8D29-DDAC4AE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15A-6204-4582-B1EF-832C7B98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E82-0782-493D-9E7D-8A4440EC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C57B-0758-4388-8F34-01CC7EE5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A557-4B15-49CC-B09B-429644FD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74A-8FF9-4A91-B724-BF759BE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F0BF-940C-4C6D-A5B9-7612E9A9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F9E5-2F6D-4C90-9D9F-9303006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9D76-B85B-4A4A-8D69-79FD01C5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FDBC-9DEB-4639-9B08-0235271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398-1A13-4AC7-ACBF-F1664677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D983-25B4-43CB-BFB9-54D5B62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A5EE-2240-49D5-9D22-E754BB2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B0AB-88C6-49C4-9E1C-7E72B642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9574-CCAC-4CF2-84BD-9FBFA87B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02F-142E-44E5-96BC-310F96FB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825-6D37-4BE5-AA71-788F67A2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719-3BA9-40CD-8364-86D357CD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5E1-3D30-40D8-81EB-444D21EE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3B4-6A07-4AE9-A485-1AE0982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7BB-E907-4CCA-BED4-48F9C92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89E-54B2-4941-9AF9-953A3826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19A-72FF-46A9-BD54-5AC54DD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3053-E3F2-4886-98F4-0111756CF271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6DA7-EFFF-4D67-BED2-280A5D8BE5F9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 SURVEY OF BEHAVIORAL FINANCE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gra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audio Breem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drigo Barre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uillermo Irarrázab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clusión En Índi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ciones subieron 3,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idencia de arbitraje limi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ise tra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Wurgler and Zhuravskaya (200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lm/3Co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Com y Palm Inc: después de la OPA, un accionista de 3Com era dueño indirecto de 1,5 acciones de P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cio de 3Com: $81, de Palm: $9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blemas: Costos de Implement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stos de Arbitra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913040"/>
            <a:ext cx="7129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componente crucial de todo modelo de mercados financieros es una especificación de cómo la gente parece formar creencias en la prác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ceso de Confianz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gente es presumida en sus juici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valos de Confianza estrech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l cálculo de Probabilida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ón poco realista de capacidades y perspec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ror Sistemático de Planteamien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presentativida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hneman y Tversky) Las personas recurren a la Representatividad Heuríst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evalúa la probabilidad por el grado en que el dato refleja las características esenciales del model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lanza una moneda 6 veces (Ley de los números pequeño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1: 3 bolitas azules, 7 roja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2: 7 bolitas azules, 3 roj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sacan al azar 12 bolitas con reemplazo, obteniéndose 8 rojas y 4 azules. ¿Prob de que sean de urna 1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usual: 0.7 aproximadamente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real: 0.9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 gente recarga un poco el 0.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erseveran las cre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ferrarse a las opin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2 efectos: Renuencia a busca evidencia contr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scepticismo excesiv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Anclaj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nheman y tversky) La gente estima partiendo de un valor arbitrario y se aleja de és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videncia experimental: ajuste insufici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ancla en el valor inici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isponibilidad de Influ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Busca en la memoria información releva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todos los recuerdos son igualmente recuperables o disponibles (Kanheman y tversky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ontecimientos recientes y notables desvían las estimac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Busca entender los mercados financieros usando modelos en  los cuales los agentes son “RACIONALES”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é es racional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ando los agentes reciben nueva información, ellos actualizan su información correctamente, en la manera descrita por la LEY DE BAY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da esa información, ellos realizan opciones que son normativamente aceptables (SEU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100240"/>
            <a:ext cx="29844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Aversión a la Ambigü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s prob rara vez se conocen objetivam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avage (1964) desarrolla la Utilidad Esperada Subjetiva SEU (Subjective Expected Utility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jo ciertos axiomas, las preferencias pueden ser representadas por la esperanza de una función de utilidad, compensada por la evaluación subjetiva de la probabilidad de un individu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  urnas: la primera con 100 bolitas rojas y azules (proporción desconocid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otra con 50 rojas y 50 az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1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1: se saca una bolita de la urna 1. $100 si es roja, $0 si es azu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2: se saca una bolita de la urna 2. $100 si es roja, $0 si es az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2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1: se saca una bolita de la urna 1. $100 si es azul, $0 si es ro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2: se saca una bolita de la urna 2. $100 si es azul, $0 si es roj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ualmente A2 es preferida a A1 y B2 es preferida a B1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gún SEU, hay contradicció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2 asigna una prob &lt; 0.5 a sacar una bolita roja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2 asigna una prob &lt; 0.5 a sacar una bolita azul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l experimento sugiere que las personas no gustan de situaciones dónde la distr de prob de un juego es incier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ste disguste se conoce como Aversión a la Ambigüedad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¿Qué argumenta esta teoría?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7840" y="1600200"/>
            <a:ext cx="3468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 términos generale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gumenta que algun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nómenos financier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eden ser mej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tendidos  usand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os en los cu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gunos agentes no s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m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onales.....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352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lgunas Denominaciones Comunes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040" y="2433600"/>
            <a:ext cx="4519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RBITRAJ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NOISE TRADER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2924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ficiencias de Merca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ipóte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os actuales precios reflejan el valor fundament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ces are right”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no free lunch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¿ es válido el inverso de lo anterio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orí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de los “noise trader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os de implement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vid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écnicamente: arbitraje proceso riesgoso y de efectividad limi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ama (1970) “hipótesis conjunt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es ejempl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ciones gemel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sión en Índices (S&amp;P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lm/3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ciones Gemel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yal Dutch y Shell Tran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usión 60: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valor fundamental 1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costos de implemen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sto del Noise trad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ridad Royal Dutch/Shel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5200" y="1687680"/>
            <a:ext cx="7167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9:37:25Z</dcterms:created>
  <dc:creator>Claudio Breems H</dc:creator>
  <dc:description/>
  <dc:language>en-US</dc:language>
  <cp:lastModifiedBy> Arturo Gutierrez</cp:lastModifiedBy>
  <dcterms:modified xsi:type="dcterms:W3CDTF">2005-09-02T16:00:33Z</dcterms:modified>
  <cp:revision>14</cp:revision>
  <dc:subject/>
  <dc:title>A SURVEY OF BEHAVIORAL FINANCE</dc:title>
</cp:coreProperties>
</file>