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03B-D437-45FF-B807-F38E069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B67-E5C9-4290-88D1-333E3888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826-1BC3-4CFE-83F2-689A2876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D63-7AD5-4138-8F56-68B2E6C5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E82-CB3D-41AD-B579-0FFDC2F8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418C-44CC-40D6-90A3-B82142D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13B4-DAB6-4E5B-A734-69A53EB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6E01-EF41-49DE-B78A-33383DE6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4EA-1E75-4E7D-AEFD-A1F94ADF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B566-9FD2-44CB-A251-FFDB948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042D-E4C5-43C8-B6BD-6EAD947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C3B-F8F0-4EC4-BEEE-32CC809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7A91-B8D4-4E44-AAC8-B32A32B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A1E0-F5FE-432E-B0F0-6015782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9830-0B80-42F5-8C9A-44C5D3BA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8667-53C9-45BC-89D3-DCCAADF8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3E2A-96FA-41E3-B542-AE0BEA01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ECA-264D-43F8-AFE1-8A51CB6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B01-2F70-46D1-917C-F4A596E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571-C57D-40C4-AC1F-8A4F920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B4F-C3B8-46F1-BB6F-76044FF9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469-842A-4FBC-BE2A-B964551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2F4-CA44-468D-A0CB-2097413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4E3-1B81-4241-BF89-88A9A23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F908-68DC-4AE6-A783-6C1E2713F7DE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576C-9265-4CDE-B9A5-AB634CDDE1C5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20000"/>
                </a:solidFill>
                <a:latin typeface="Arial"/>
              </a:rPr>
              <a:t>Pauta de Presentació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Arial"/>
              </a:rPr>
              <a:t>IN55A - Primavera 200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iempo de presentación: 15 minuto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remos muy estrictos en este aspect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Acá se evalúa la capacidad de síntesis del grup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Habrá también 5 minutos de pregunta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ta: individual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odos los integrantes del grupo deberán presentar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buenas preguntas de otros alumnos tendrán un bon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Vestimenta: adecuad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terno y corbat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short y poler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Puntualidad: importa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presentaciones empezarán puntualme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 sugiere llegar unos minutos antes para cargar y probar la presentación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os grupos deberán permanecer en la sala hasta que todos hayan presentad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Aspectos a evalu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Contenido (7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Cada integrante deberá abarcar contenidos relevante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Los contenidos de cada presentación son acorde al avance del informe respectivo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Forma (3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z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Gesto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Agilida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nsejos práctico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Tomar nota de los comentarios que se les hagan. Estos serán considerados en la corrección del inform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Evita justificarte ante comentarios de la audiencia, después el grupo podrá decidir si los consideran relevantes o no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Al presentar, ubícate en un lugar visible y no olvides que tienes una audiencia a quien le estás hablando (no al pizarrón)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8-08T03:13:26Z</dcterms:modified>
  <cp:revision>12</cp:revision>
  <dc:subject/>
  <dc:title>Presentación Final: Condiciones</dc:title>
</cp:coreProperties>
</file>