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12B7-19C6-4DA1-B15A-2DD25650A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381F-9821-4135-9B14-58F7F3E0B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25C4-7C97-42B0-9439-1F1E9FC9A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DEDC-FED1-48FA-8CF9-5B055C0EC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8C135-3E09-4383-84F5-42AF5B35E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54DCE-AEF5-4783-9F67-8D16B6A49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1AB11-36B4-485D-BB1F-8AB69761C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51589-C716-4959-92B4-6B65FAE46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E0037-3C99-42EF-B20E-387C0781D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A237B-7B34-404C-A1C7-16CFBDA22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262BE-5E2E-4AAB-882A-380CD4EF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7DD1-4EDA-429C-AAFD-56330DB39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B4F6C-6707-43BC-A772-082D1380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8C01D-5140-4D5F-9264-87148AE1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1BBC7-F3C9-465B-8F97-FCAC97DED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4A3A0-9FAE-47C3-A44B-9B7FEEE72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FAFEB-F14C-4BBF-9C55-E8E499A0A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D0AD-9D98-4D0E-9BDD-FB8E2EA05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20F2-4EF4-4379-9BEF-A6D6D412D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49B1-C2E0-47E4-BA5A-73177FBBB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F703-4C81-4AE8-9602-F9A169822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41FA-C718-4B84-966A-10BE9634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A000-513D-4F62-9958-475CD482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3DF9-D6DF-4440-9476-0063181E6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35A8D-822D-45AC-A810-D215BF4070D5}" type="slidenum">
              <a: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DFC55-859C-4258-80BF-D0D3006EB68B}" type="slidenum">
              <a: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20000"/>
                </a:solidFill>
                <a:latin typeface="Arial"/>
              </a:rPr>
              <a:t>Pauta de Presentación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0000"/>
                </a:solidFill>
                <a:latin typeface="Arial"/>
              </a:rPr>
              <a:t>IN55A - Primavera 2005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20000"/>
                </a:solidFill>
                <a:latin typeface="Arial"/>
              </a:rPr>
              <a:t>Condiciones básica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SzPct val="1496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330000"/>
                </a:solidFill>
                <a:latin typeface="Arial"/>
              </a:rPr>
              <a:t>Tiempo de presentación: 15 minutos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330000"/>
                </a:solidFill>
                <a:latin typeface="Arial"/>
              </a:rPr>
              <a:t>Seremos muy estrictos en este aspecto.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330000"/>
                </a:solidFill>
                <a:latin typeface="Arial"/>
              </a:rPr>
              <a:t>Acá se evalúa la capacidad de síntesis del grupo.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330000"/>
                </a:solidFill>
                <a:latin typeface="Arial"/>
              </a:rPr>
              <a:t>Habrá también 5 minutos de preguntas.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 algn="just">
              <a:lnSpc>
                <a:spcPct val="160000"/>
              </a:lnSpc>
              <a:spcBef>
                <a:spcPts val="550"/>
              </a:spcBef>
              <a:buSzPct val="1496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330000"/>
                </a:solidFill>
                <a:latin typeface="Arial"/>
              </a:rPr>
              <a:t>Nota: individual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330000"/>
                </a:solidFill>
                <a:latin typeface="Arial"/>
              </a:rPr>
              <a:t>Todos los integrantes del grupo deberán presentar.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330000"/>
                </a:solidFill>
                <a:latin typeface="Arial"/>
              </a:rPr>
              <a:t>Las buenas preguntas de otros alumnos tendrán un bonus.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20000"/>
                </a:solidFill>
                <a:latin typeface="Arial"/>
              </a:rPr>
              <a:t>Condiciones básica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 algn="just">
              <a:lnSpc>
                <a:spcPct val="160000"/>
              </a:lnSpc>
              <a:spcBef>
                <a:spcPts val="550"/>
              </a:spcBef>
              <a:buSzPct val="1496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330000"/>
                </a:solidFill>
                <a:latin typeface="Arial"/>
              </a:rPr>
              <a:t>Vestimenta: adecuada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330000"/>
                </a:solidFill>
                <a:latin typeface="Arial"/>
              </a:rPr>
              <a:t>No es terno y corbata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330000"/>
                </a:solidFill>
                <a:latin typeface="Arial"/>
              </a:rPr>
              <a:t>No es short y polera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 algn="just">
              <a:lnSpc>
                <a:spcPct val="160000"/>
              </a:lnSpc>
              <a:spcBef>
                <a:spcPts val="550"/>
              </a:spcBef>
              <a:buSzPct val="1496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330000"/>
                </a:solidFill>
                <a:latin typeface="Arial"/>
              </a:rPr>
              <a:t>Puntualidad: importante.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330000"/>
                </a:solidFill>
                <a:latin typeface="Arial"/>
              </a:rPr>
              <a:t>Las presentaciones empezarán puntualmente.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330000"/>
                </a:solidFill>
                <a:latin typeface="Arial"/>
              </a:rPr>
              <a:t>Se sugiere llegar unos minutos antes para cargar y probar la presentación.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330000"/>
                </a:solidFill>
                <a:latin typeface="Arial"/>
              </a:rPr>
              <a:t>Los grupos deberán permanecer en la sala hasta que todos hayan presentado.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20000"/>
                </a:solidFill>
                <a:latin typeface="Arial"/>
              </a:rPr>
              <a:t>Aspectos a evaluar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0000"/>
                </a:solidFill>
                <a:latin typeface="Arial"/>
              </a:rPr>
              <a:t>Contenido (70%):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0000"/>
                </a:solidFill>
                <a:latin typeface="Arial"/>
              </a:rPr>
              <a:t>Cada integrante deberá abarcar contenidos relevantes.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0000"/>
                </a:solidFill>
                <a:latin typeface="Arial"/>
              </a:rPr>
              <a:t>Los contenidos de cada presentación son acorde al avance del informe respectivo.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0000"/>
                </a:solidFill>
                <a:latin typeface="Arial"/>
              </a:rPr>
              <a:t>Forma (30%):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0000"/>
                </a:solidFill>
                <a:latin typeface="Arial"/>
              </a:rPr>
              <a:t>Voz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0000"/>
                </a:solidFill>
                <a:latin typeface="Arial"/>
              </a:rPr>
              <a:t>Gestos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0000"/>
                </a:solidFill>
                <a:latin typeface="Arial"/>
              </a:rPr>
              <a:t>Agilidad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0000"/>
                </a:solidFill>
                <a:latin typeface="Arial"/>
              </a:rPr>
              <a:t>Vocabulario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0000"/>
                </a:solidFill>
                <a:latin typeface="Arial"/>
                <a:ea typeface="ＭＳ Ｐゴシック"/>
              </a:rPr>
              <a:t>Consejos prácticos</a:t>
            </a: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0000"/>
                </a:solidFill>
                <a:latin typeface="Arial"/>
                <a:ea typeface="ＭＳ Ｐゴシック"/>
              </a:rPr>
              <a:t>Tomar nota de los comentarios que se les hagan. Estos serán considerados en la corrección del informe.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0000"/>
                </a:solidFill>
                <a:latin typeface="Arial"/>
                <a:ea typeface="ＭＳ Ｐゴシック"/>
              </a:rPr>
              <a:t>Evita justificarte ante comentarios de la audiencia, después el grupo podrá decidir si los consideran relevantes o no.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0000"/>
                </a:solidFill>
                <a:latin typeface="Arial"/>
                <a:ea typeface="ＭＳ Ｐゴシック"/>
              </a:rPr>
              <a:t>Al presentar, ubícate en un lugar visible y no olvides que tienes una audiencia a quien le estás hablando (no al pizarrón).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6T19:24:19Z</dcterms:created>
  <dc:creator>usuario</dc:creator>
  <dc:description/>
  <dc:language>en-US</dc:language>
  <cp:lastModifiedBy>Angela Ulloa</cp:lastModifiedBy>
  <dcterms:modified xsi:type="dcterms:W3CDTF">2005-08-08T03:13:26Z</dcterms:modified>
  <cp:revision>12</cp:revision>
  <dc:subject/>
  <dc:title>Presentación Final: Condiciones</dc:title>
</cp:coreProperties>
</file>