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537-4D08-46E7-9980-70BE03A6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C02-E603-4D70-A1B2-3C3FFF36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B1C-0BB6-44DB-B625-192B6D50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707-8581-4D23-B20D-2933E464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65A7-6F05-4C04-A8F4-536338C4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ED55-2D25-41BC-82DD-B4FD79CA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8F06-09AE-4D8A-B03F-2E5ADB88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00E9-E189-4CF0-8387-539F27B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F0F5-6130-4FA9-9895-3F85F336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F3B0-91BF-43F5-979C-6F44709C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EE6B-AB4E-4B1B-ABE3-F478AE25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71D-A0E4-426C-95F0-DDF6EBE3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279-244A-4FAC-B955-8AEB69B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4C65-AB78-495A-AFF7-9823B838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3D4C-0F58-4F2C-BD28-06F08DF3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7453-EFBE-4F39-94CD-107AF503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BB9E-5F59-486D-9ED0-366E3E45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BB2-DF4A-4A31-AE94-09F09D94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ECE-8298-4177-B2FD-91A53656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470-0517-48EF-854C-8CE0AD7E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52C-0FE6-417B-A442-655BA417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638-AA9B-45CD-AD40-DA84963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3AC-54E5-4F57-A700-463681A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0BD-3E6D-4A25-B821-30352468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C58D-B357-4B39-8D4A-080A3EA841D7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3891-54E5-4170-8056-F45A16E99C3A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20000"/>
                </a:solidFill>
                <a:latin typeface="Arial"/>
              </a:rPr>
              <a:t>Pauta de Presentació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Arial"/>
              </a:rPr>
              <a:t>IN55A - Primavera 200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iempo de presentación: 15 minuto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remos muy estrictos en este aspect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Acá se evalúa la capacidad de síntesis del grup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Habrá también 5 minutos de pregunta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ta: individual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Todos los integrantes del grupo deberán presentar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buenas preguntas de otros alumnos tendrán un bonu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Condiciones básica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Vestimenta: adecuad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terno y corbat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No es short y poler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Puntualidad: importa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as presentaciones empezarán puntualmente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Se sugiere llegar unos minutos antes para cargar y probar la presentación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00"/>
                </a:solidFill>
                <a:latin typeface="Arial"/>
              </a:rPr>
              <a:t>Los grupos deberán permanecer en la sala hasta que todos hayan presentado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20000"/>
                </a:solidFill>
                <a:latin typeface="Arial"/>
              </a:rPr>
              <a:t>Aspectos a evalua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Contenido (7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Cada integrante deberá abarcar contenidos relevante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Los contenidos de cada presentación son acorde al avance del informe respectivo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</a:rPr>
              <a:t>Forma (30%)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z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Gesto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Agilidad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00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Consejos práctico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Tomar nota de los comentarios que se les hagan. Estos serán considerados en la corrección del inform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Evita justificarte ante comentarios de la audiencia, después el grupo podrá decidir si los consideran relevantes o no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Al presentar, ubícate en un lugar visible y no olvides que tienes una audiencia a quien le estás hablando (no al pizarrón)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8-08T03:13:26Z</dcterms:modified>
  <cp:revision>12</cp:revision>
  <dc:subject/>
  <dc:title>Presentación Final: Condiciones</dc:title>
</cp:coreProperties>
</file>