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6781-51AE-4A3A-A56B-37403D350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555E-E66D-41FD-9DBE-2AD96301C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3D26-9D32-4781-8A5D-17D4F8343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2343-A717-4C3E-ADAE-6B37DC277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D900B-0E45-4CA3-A925-6692DFFC1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0721B-0E28-4121-9462-448286EE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BEE48-C9EF-4F4C-9E5D-70041754A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652DC-F543-4E10-B149-1C5F8DFF3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09DFB-76D6-41B7-B384-58DB07B08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2AF1F-B77F-426C-866B-75F0A1C8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157BE-4673-4D54-8BB8-FEC433F6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98BB-4EF4-4BE5-A0AB-4A5367A45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E5575-82A6-4C22-8B15-8C6E6877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1A397-62F0-4749-B72A-0B50C7A9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1B514-A4C0-4A18-8AE8-61CEBFCA5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7CCA5-4F39-4CB9-A0FC-F4914BFDA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250E7-6495-4CBB-B122-043DB20E5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9B1E-455C-4A04-AC4F-7D27547A0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3BED-7339-4BFC-876A-932C44FCE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BD04-95C6-41A6-9657-9AECF33C4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44B4-CA68-45BE-9D58-28632AF03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E168-6D99-42E6-8538-B09903C6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FF0B-6F47-4A4A-8FA5-6D506F54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0802-76C5-44AA-98DE-EEE75A8A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E2616-6457-4FA9-B3DC-2C1D17F33906}" type="slidenum">
              <a: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7BAEA-9568-4534-AAB1-EED374F28F09}" type="slidenum">
              <a: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20000"/>
                </a:solidFill>
                <a:latin typeface="Arial"/>
              </a:rPr>
              <a:t>Pauta de Presentació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0000"/>
                </a:solidFill>
                <a:latin typeface="Arial"/>
              </a:rPr>
              <a:t>IN55A - Primavera 2005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20000"/>
                </a:solidFill>
                <a:latin typeface="Arial"/>
              </a:rPr>
              <a:t>Condiciones básica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SzPct val="1496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330000"/>
                </a:solidFill>
                <a:latin typeface="Arial"/>
              </a:rPr>
              <a:t>Tiempo de presentación: 15 minutos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330000"/>
                </a:solidFill>
                <a:latin typeface="Arial"/>
              </a:rPr>
              <a:t>Seremos muy estrictos en este aspecto.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330000"/>
                </a:solidFill>
                <a:latin typeface="Arial"/>
              </a:rPr>
              <a:t>Acá se evalúa la capacidad de síntesis del grupo.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330000"/>
                </a:solidFill>
                <a:latin typeface="Arial"/>
              </a:rPr>
              <a:t>Habrá también 5 minutos de preguntas.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 algn="just">
              <a:lnSpc>
                <a:spcPct val="160000"/>
              </a:lnSpc>
              <a:spcBef>
                <a:spcPts val="550"/>
              </a:spcBef>
              <a:buSzPct val="1496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330000"/>
                </a:solidFill>
                <a:latin typeface="Arial"/>
              </a:rPr>
              <a:t>Nota: individual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330000"/>
                </a:solidFill>
                <a:latin typeface="Arial"/>
              </a:rPr>
              <a:t>Todos los integrantes del grupo deberán presentar.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330000"/>
                </a:solidFill>
                <a:latin typeface="Arial"/>
              </a:rPr>
              <a:t>Las buenas preguntas de otros alumnos tendrán un bonus.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20000"/>
                </a:solidFill>
                <a:latin typeface="Arial"/>
              </a:rPr>
              <a:t>Condiciones básica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 algn="just">
              <a:lnSpc>
                <a:spcPct val="160000"/>
              </a:lnSpc>
              <a:spcBef>
                <a:spcPts val="550"/>
              </a:spcBef>
              <a:buSzPct val="1496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330000"/>
                </a:solidFill>
                <a:latin typeface="Arial"/>
              </a:rPr>
              <a:t>Vestimenta: adecuada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330000"/>
                </a:solidFill>
                <a:latin typeface="Arial"/>
              </a:rPr>
              <a:t>No es terno y corbata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330000"/>
                </a:solidFill>
                <a:latin typeface="Arial"/>
              </a:rPr>
              <a:t>No es short y polera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 algn="just">
              <a:lnSpc>
                <a:spcPct val="160000"/>
              </a:lnSpc>
              <a:spcBef>
                <a:spcPts val="550"/>
              </a:spcBef>
              <a:buSzPct val="1496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330000"/>
                </a:solidFill>
                <a:latin typeface="Arial"/>
              </a:rPr>
              <a:t>Puntualidad: importante.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330000"/>
                </a:solidFill>
                <a:latin typeface="Arial"/>
              </a:rPr>
              <a:t>Las presentaciones empezarán puntualmente.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330000"/>
                </a:solidFill>
                <a:latin typeface="Arial"/>
              </a:rPr>
              <a:t>Se sugiere llegar unos minutos antes para cargar y probar la presentación.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330000"/>
                </a:solidFill>
                <a:latin typeface="Arial"/>
              </a:rPr>
              <a:t>Los grupos deberán permanecer en la sala hasta que todos hayan presentado.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20000"/>
                </a:solidFill>
                <a:latin typeface="Arial"/>
              </a:rPr>
              <a:t>Aspectos a evaluar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0000"/>
                </a:solidFill>
                <a:latin typeface="Arial"/>
              </a:rPr>
              <a:t>Contenido (70%):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0000"/>
                </a:solidFill>
                <a:latin typeface="Arial"/>
              </a:rPr>
              <a:t>Cada integrante deberá abarcar contenidos relevantes.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0000"/>
                </a:solidFill>
                <a:latin typeface="Arial"/>
              </a:rPr>
              <a:t>Los contenidos de cada presentación son acorde al avance del informe respectivo.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0000"/>
                </a:solidFill>
                <a:latin typeface="Arial"/>
              </a:rPr>
              <a:t>Forma (30%):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0000"/>
                </a:solidFill>
                <a:latin typeface="Arial"/>
              </a:rPr>
              <a:t>Voz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0000"/>
                </a:solidFill>
                <a:latin typeface="Arial"/>
              </a:rPr>
              <a:t>Gestos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0000"/>
                </a:solidFill>
                <a:latin typeface="Arial"/>
              </a:rPr>
              <a:t>Agilidad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0000"/>
                </a:solidFill>
                <a:latin typeface="Arial"/>
              </a:rPr>
              <a:t>Vocabulario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0000"/>
                </a:solidFill>
                <a:latin typeface="Arial"/>
                <a:ea typeface="ＭＳ Ｐゴシック"/>
              </a:rPr>
              <a:t>Consejos prácticos</a:t>
            </a: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0000"/>
                </a:solidFill>
                <a:latin typeface="Arial"/>
                <a:ea typeface="ＭＳ Ｐゴシック"/>
              </a:rPr>
              <a:t>Tomar nota de los comentarios que se les hagan. Estos serán considerados en la corrección del informe.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0000"/>
                </a:solidFill>
                <a:latin typeface="Arial"/>
                <a:ea typeface="ＭＳ Ｐゴシック"/>
              </a:rPr>
              <a:t>Evita justificarte ante comentarios de la audiencia, después el grupo podrá decidir si los consideran relevantes o no.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0000"/>
                </a:solidFill>
                <a:latin typeface="Arial"/>
                <a:ea typeface="ＭＳ Ｐゴシック"/>
              </a:rPr>
              <a:t>Al presentar, ubícate en un lugar visible y no olvides que tienes una audiencia a quien le estás hablando (no al pizarrón).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19:24:19Z</dcterms:created>
  <dc:creator>usuario</dc:creator>
  <dc:description/>
  <dc:language>en-US</dc:language>
  <cp:lastModifiedBy>Angela Ulloa</cp:lastModifiedBy>
  <dcterms:modified xsi:type="dcterms:W3CDTF">2005-08-08T03:13:26Z</dcterms:modified>
  <cp:revision>12</cp:revision>
  <dc:subject/>
  <dc:title>Presentación Final: Condiciones</dc:title>
</cp:coreProperties>
</file>