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650-2233-4454-B580-A0EB2062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990-6626-42DD-825D-FBD531FB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2E2-9F86-4860-9BEB-44E2451F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047-E735-4C83-8FF8-BF5EDF90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D55B-B9D6-421B-8149-F376BF6F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DB0D-B2E6-42DE-AAB0-49C141A5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BF72-17A2-409D-8FE1-AE56FD28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AA2C-0227-47B2-B676-8F78F55D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86E3-0BC0-4445-8972-68508DD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9FB1-E807-456C-8F20-591CEC8E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E88D-B29E-4D49-863E-621A149E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1E3-8015-46E9-8C59-36D054D6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43B4-7CF9-4E43-9FC3-7C85CB0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4823-48E3-472B-957F-74BD117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9469-6A32-4542-9CA2-F5FB2791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DE87-EC9D-44A2-8BBA-8656C561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426F-BE68-4C3E-8D50-35DF9B5A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5EE-72AB-4043-9D54-6EF9DEC1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450-7B30-48B7-9974-10E512B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DC0-8DDD-4D6C-B4D5-9D2F0A49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FA5-78F6-4808-A2F5-7F5CCD93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5CD-457F-4EC1-9F45-2999E28F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F16-B790-4793-8C41-B1FCF14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8BC-2E8F-4F6B-B06B-2F83024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3C02-77C8-4987-ADD2-D6998CCCC7A7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848C-AD7D-45F5-BE31-F8DC330C07AA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20000"/>
                </a:solidFill>
                <a:latin typeface="Arial"/>
              </a:rPr>
              <a:t>Pauta de Presentació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Arial"/>
              </a:rPr>
              <a:t>IN55A - Primavera 200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iempo de presentación: 15 minuto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remos muy estrictos en este aspect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Acá se evalúa la capacidad de síntesis del grup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Habrá también 5 minutos de pregunta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ta: individual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odos los integrantes del grupo deberán presentar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buenas preguntas de otros alumnos tendrán un bonu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Vestimenta: adecuad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terno y corbat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short y poler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Puntualidad: importa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presentaciones empezarán puntualme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 sugiere llegar unos minutos antes para cargar y probar la presentación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os grupos deberán permanecer en la sala hasta que todos hayan presentad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Aspectos a evalua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Contenido (7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Cada integrante deberá abarcar contenidos relevante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Los contenidos de cada presentación son acorde al avance del informe respectivo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Forma (3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z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Gesto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Agilidad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cabulari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Consejos práctico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Tomar nota de los comentarios que se les hagan. Estos serán considerados en la corrección del inform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Evita justificarte ante comentarios de la audiencia, después el grupo podrá decidir si los consideran relevantes o no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Al presentar, ubícate en un lugar visible y no olvides que tienes una audiencia a quien le estás hablando (no al pizarrón)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8-08T03:13:26Z</dcterms:modified>
  <cp:revision>12</cp:revision>
  <dc:subject/>
  <dc:title>Presentación Final: Condiciones</dc:title>
</cp:coreProperties>
</file>