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7DED-77F3-4811-B0F9-0223CE86921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7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PlaceHolder 1"/>
          <p:cNvSpPr>
            <a:spLocks noGrp="1"/>
          </p:cNvSpPr>
          <p:nvPr>
            <p:ph type="sldImg"/>
          </p:nvPr>
        </p:nvSpPr>
        <p:spPr>
          <a:xfrm>
            <a:off x="114444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1" name="PlaceHolder 2"/>
          <p:cNvSpPr>
            <a:spLocks noGrp="1"/>
          </p:cNvSpPr>
          <p:nvPr>
            <p:ph type="body"/>
          </p:nvPr>
        </p:nvSpPr>
        <p:spPr>
          <a:xfrm>
            <a:off x="762120" y="3878280"/>
            <a:ext cx="586728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ity Advisor Mid Cap Fund gives your clients exposure to the mid-cap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Star Overall Morningstar Rating for Class T as of 6/30/0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 Stars out of 322 Mid-Cap Growth Funds 5-Year Morningstar Rating, 6/30/02 –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 You may have a gain or loss when you sell your sha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Stars out of 475 Mid-Cap Growth Funds 3-Year Morningstar Rating, 6/30/02 – 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invest in growth or value st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ach fund with at least a three-year history, Morningstar calculates a Morningstar Rating (based on a Morningstar Risk-Adjusted Return measure that accounts for variation in a funds monthly performance (including the effects of sales charges, loads and redemption fees), placing more emphasis on downward variations and rewarding consistent performance. The top 10% of funds in each category receive 5 stars, the next 22.5% receive 4 stars, the next 35% receive 3 stars, the next 22.5% receive 2 stars and the bottom 10% receive 1 star. (Each share class is counted as a fraction of one fund within this scale and rated separately, which may cause slight variations in the distribution percentages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provided by Morningstar, Inc.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2002. All rights reserved. The information contained herein: (1) is proprietary to Morningstar and/or its affiliates; (2) may not be copied or redistributed; (3) is not warranted to accurate, complete, or timely. Neither Morningstar nor its content providers are responsible for any damages or losses arising from any use of this information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96F-1943-4830-B432-33B27499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360-0189-415D-9AB6-8CD5B328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8F6-B0C9-4E1B-ACEF-E2C9E7AE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0F6-0EEC-4D6F-9A41-1C1921DA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3F1-3F83-4D3F-84F3-49C3059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542-E900-4B1F-9D2A-21015048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5D2-BDD9-43AF-B477-A4DE15D6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3E5-0E4D-4471-9D8C-D03BFABA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5A6-A484-4007-81B4-74A29848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DBB-06D3-44B5-AF1A-80768690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20A-6575-451C-9B64-08F41BF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A68-CDEF-48B2-B532-2247B99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7DF9-1A06-439F-BB6A-79139DD984A3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600" spc="-1" strike="noStrike">
                <a:solidFill>
                  <a:srgbClr val="ff3300"/>
                </a:solidFill>
                <a:latin typeface="Arial"/>
              </a:rPr>
              <a:t>Mercado de capitales en Chil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3976560" y="41688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4613400" y="4470480"/>
            <a:ext cx="5634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396400" y="246384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483240" y="2751120"/>
            <a:ext cx="5605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567480" y="157320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594560" y="1870200"/>
            <a:ext cx="80496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221440" y="331632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700600" y="3611520"/>
            <a:ext cx="29232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055520" y="1998720"/>
            <a:ext cx="7589880" cy="3389400"/>
            <a:chOff x="1055520" y="1998720"/>
            <a:chExt cx="7589880" cy="3389400"/>
          </a:xfrm>
        </p:grpSpPr>
        <p:sp>
          <p:nvSpPr>
            <p:cNvPr id="3720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0" y="45"/>
                  </a:moveTo>
                  <a:lnTo>
                    <a:pt x="59" y="0"/>
                  </a:lnTo>
                  <a:lnTo>
                    <a:pt x="4781" y="0"/>
                  </a:lnTo>
                  <a:lnTo>
                    <a:pt x="472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4781" y="0"/>
                  </a:moveTo>
                  <a:lnTo>
                    <a:pt x="4722" y="45"/>
                  </a:lnTo>
                  <a:lnTo>
                    <a:pt x="0" y="45"/>
                  </a:lnTo>
                  <a:lnTo>
                    <a:pt x="59" y="0"/>
                  </a:lnTo>
                  <a:lnTo>
                    <a:pt x="47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160640" y="5340240"/>
              <a:ext cx="108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17144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1844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556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0636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19320" y="534024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30480" y="534024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12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5244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6540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2762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8736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300320" y="534024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064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42704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438200" y="534024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45080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46196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473120" y="5340240"/>
              <a:ext cx="129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48608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968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508040" y="534024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2100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180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54296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54120" y="534024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5667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7788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42704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9380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064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71756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72872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7398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75248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76364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77480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874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9856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80972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822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3348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4464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69380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9880" y="532764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5248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364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7480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8740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9380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798560" y="53276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693800" y="5351400"/>
              <a:ext cx="1260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706400" y="535140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71756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728720" y="535140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739880" y="53514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7524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6364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774800" y="5351400"/>
              <a:ext cx="1260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78740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69380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9380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2872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9380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0640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71756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728720" y="53276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39880" y="53276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75248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76364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7480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740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9856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80972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822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83348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84464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69380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96056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97316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4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9548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00808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01924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03040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0415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05416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06532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7648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89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10024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11140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96056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00808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01924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03040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04156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6532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6056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7648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60560" y="5351400"/>
              <a:ext cx="1260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73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84320" y="53514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95480" y="5351400"/>
              <a:ext cx="1260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0080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1960560" y="5268960"/>
            <a:ext cx="963720" cy="106200"/>
            <a:chOff x="1960560" y="5268960"/>
            <a:chExt cx="963720" cy="106200"/>
          </a:xfrm>
        </p:grpSpPr>
        <p:sp>
          <p:nvSpPr>
            <p:cNvPr id="3921" name=""/>
            <p:cNvSpPr/>
            <p:nvPr/>
          </p:nvSpPr>
          <p:spPr>
            <a:xfrm>
              <a:off x="201924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0400" y="53514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41560" y="5351400"/>
              <a:ext cx="1260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054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6532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0560" y="53514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6056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9548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6056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7316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84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95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808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1924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3040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4156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5416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6532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076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08908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0024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11140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6056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2732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399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51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6224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7484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860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971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0976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092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3320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34468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5584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670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37816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2732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44680" y="5327640"/>
              <a:ext cx="11160" cy="47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5584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6700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78160" y="5327640"/>
              <a:ext cx="12600" cy="47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344680" y="53276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3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227320" y="5351400"/>
              <a:ext cx="12600" cy="126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39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25108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26224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27484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600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716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976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320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332080" y="5351400"/>
              <a:ext cx="126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227320" y="5351400"/>
              <a:ext cx="1173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27320" y="5327640"/>
              <a:ext cx="126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23992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5108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2240" y="532764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4840" y="532764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8600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97160" y="53276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309760" y="53276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32092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32080" y="532764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344680" y="532764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35584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36700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78160" y="532764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2732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44680" y="530388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5584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36700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378160" y="5303880"/>
              <a:ext cx="1260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344680" y="5303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227320" y="5340240"/>
              <a:ext cx="12600" cy="111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39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51080" y="5340240"/>
              <a:ext cx="11160" cy="111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6224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7484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600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29716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09760" y="5340240"/>
              <a:ext cx="11160" cy="111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320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2080" y="534024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7320" y="5340240"/>
              <a:ext cx="1173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27320" y="530388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23992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5108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62240" y="530388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74840" y="530388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28600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297160" y="53038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09760" y="53038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32092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32080" y="530388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4680" y="530388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5584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6700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78160" y="530388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27320" y="530388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4" y="23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50668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1784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53044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4160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552760" y="534024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3920" y="534024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57652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876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598840" y="534024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1144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226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63376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4636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0668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11440" y="531648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622600" y="531648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33760" y="531648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46360" y="531648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1144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06680" y="5340240"/>
              <a:ext cx="111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17840" y="534024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3044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541600" y="534024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52760" y="534024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63920" y="534024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7652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587680" y="534024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98840" y="5340240"/>
              <a:ext cx="126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506680" y="534024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6680" y="531648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1784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3044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54160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52760" y="531648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563920" y="5316480"/>
              <a:ext cx="1260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7652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58768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98840" y="531648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1144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2260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3376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531648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53164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611440" y="5268960"/>
              <a:ext cx="11160" cy="82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22600" y="5268960"/>
              <a:ext cx="1116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633760" y="5268960"/>
              <a:ext cx="1260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46360" y="5268960"/>
              <a:ext cx="11160" cy="82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611440" y="526896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506680" y="530388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17840" y="530388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53044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41600" y="530388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552760" y="530388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63920" y="530388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57652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87680" y="530388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598840" y="530388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06680" y="530388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06680" y="52689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1784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53044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4160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52760" y="52689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52689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57652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8768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598840" y="52689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1144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2260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3376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46360" y="526896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506680" y="5268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878200" y="5316480"/>
              <a:ext cx="11160" cy="586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889360" y="5316480"/>
              <a:ext cx="1116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00520" y="5316480"/>
              <a:ext cx="1260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13120" y="5316480"/>
              <a:ext cx="11160" cy="586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7820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73440" y="5351400"/>
              <a:ext cx="11160" cy="12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784600" y="5351400"/>
              <a:ext cx="1260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9720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808360" y="5351400"/>
              <a:ext cx="11160" cy="12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819520" y="5351400"/>
              <a:ext cx="1260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32120" y="5351400"/>
              <a:ext cx="1116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84328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54440" y="5351400"/>
              <a:ext cx="1116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865600" y="5351400"/>
              <a:ext cx="12600" cy="1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7344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773440" y="531648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8460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9720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80836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1952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832120" y="53164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444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86560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2773440" y="5245200"/>
            <a:ext cx="684000" cy="129960"/>
            <a:chOff x="2773440" y="5245200"/>
            <a:chExt cx="684000" cy="129960"/>
          </a:xfrm>
        </p:grpSpPr>
        <p:sp>
          <p:nvSpPr>
            <p:cNvPr id="4122" name=""/>
            <p:cNvSpPr/>
            <p:nvPr/>
          </p:nvSpPr>
          <p:spPr>
            <a:xfrm>
              <a:off x="287820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8936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052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913120" y="53164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773440" y="53164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878200" y="529272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889360" y="529272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900520" y="5292720"/>
              <a:ext cx="1260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13120" y="5292720"/>
              <a:ext cx="1116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878200" y="5292720"/>
              <a:ext cx="3492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773440" y="5316480"/>
              <a:ext cx="11160" cy="34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84600" y="5316480"/>
              <a:ext cx="1260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9720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808360" y="5316480"/>
              <a:ext cx="11160" cy="34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819520" y="5316480"/>
              <a:ext cx="1260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832120" y="5316480"/>
              <a:ext cx="1116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84328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854440" y="5316480"/>
              <a:ext cx="1116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865600" y="5316480"/>
              <a:ext cx="12600" cy="3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773440" y="5316480"/>
              <a:ext cx="104760" cy="34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73440" y="5292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8460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9720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80836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832120" y="5292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84328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85444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6560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87820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936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0052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13120" y="52927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73440" y="52927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878200" y="5256360"/>
              <a:ext cx="1116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889360" y="52563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900520" y="5256360"/>
              <a:ext cx="1260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913120" y="5256360"/>
              <a:ext cx="1116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878200" y="52563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773440" y="528012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784600" y="528012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9720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528012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819520" y="528012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832120" y="528012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84328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54440" y="528012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65600" y="528012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773440" y="528012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773440" y="525636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78460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9720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8083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81952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83212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328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8544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86560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7820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893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90052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91312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77344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44960" y="5303880"/>
              <a:ext cx="11160" cy="71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56120" y="5303880"/>
              <a:ext cx="1260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68720" y="5303880"/>
              <a:ext cx="1116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9880" y="5303880"/>
              <a:ext cx="11160" cy="71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44960" y="53038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040200" y="5327640"/>
              <a:ext cx="10800" cy="36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051000" y="5327640"/>
              <a:ext cx="1296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6396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75120" y="5327640"/>
              <a:ext cx="11160" cy="36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086280" y="5327640"/>
              <a:ext cx="1260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098880" y="5327640"/>
              <a:ext cx="1116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1004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21200" y="5327640"/>
              <a:ext cx="1260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33800" y="5327640"/>
              <a:ext cx="11160" cy="36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40200" y="532764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040200" y="53038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051000" y="5303880"/>
              <a:ext cx="129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063960" y="53038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07512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086280" y="53038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098880" y="53038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10040" y="53038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21200" y="53038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33800" y="53038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4496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6120" y="53038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68720" y="53038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179880" y="53038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040200" y="5303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144960" y="5280120"/>
              <a:ext cx="11160" cy="60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156120" y="5280120"/>
              <a:ext cx="1260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168720" y="5280120"/>
              <a:ext cx="1116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179880" y="5280120"/>
              <a:ext cx="11160" cy="60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144960" y="52801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040200" y="5303880"/>
              <a:ext cx="108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51000" y="530388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6396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75120" y="530388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86280" y="530388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98880" y="530388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11004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121200" y="530388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133800" y="530388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40200" y="53038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40200" y="5280120"/>
              <a:ext cx="108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51000" y="5280120"/>
              <a:ext cx="129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63960" y="52801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7512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86280" y="52801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98880" y="52801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10040" y="52801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21200" y="52801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33800" y="52801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4496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156120" y="52801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168720" y="52801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79880" y="52801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040200" y="52801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144960" y="525636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156120" y="525636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168720" y="525636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79880" y="525636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44960" y="52563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40200" y="5280120"/>
              <a:ext cx="1080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51000" y="528012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6396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75120" y="528012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086280" y="5280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098880" y="5280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11004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121200" y="528012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133800" y="5280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402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040200" y="525636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051000" y="525636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639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7512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8628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9888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1100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121200" y="5256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133800" y="52563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1449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6120" y="525636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68720" y="52563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17988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4020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411360" y="5280120"/>
              <a:ext cx="11160" cy="950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422520" y="5280120"/>
              <a:ext cx="129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35480" y="5280120"/>
              <a:ext cx="111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446640" y="5280120"/>
              <a:ext cx="10800" cy="95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11360" y="5280120"/>
              <a:ext cx="35280" cy="838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306600" y="5303880"/>
              <a:ext cx="12960" cy="60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319560" y="5303880"/>
              <a:ext cx="111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330720" y="5303880"/>
              <a:ext cx="1080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341520" y="5303880"/>
              <a:ext cx="11160" cy="60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352680" y="5303880"/>
              <a:ext cx="1296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365640" y="5303880"/>
              <a:ext cx="1080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376440" y="5303880"/>
              <a:ext cx="1116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87600" y="5303880"/>
              <a:ext cx="129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400560" y="5303880"/>
              <a:ext cx="1080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306600" y="5303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306600" y="52801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1956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30720" y="5280120"/>
              <a:ext cx="108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34152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352680" y="528012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365640" y="5280120"/>
              <a:ext cx="1080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376440" y="52801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87600" y="5280120"/>
              <a:ext cx="129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400560" y="52801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41136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422520" y="52801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43548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446640" y="5280120"/>
              <a:ext cx="108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6600" y="528012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411360" y="524520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22520" y="5245200"/>
              <a:ext cx="129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435480" y="524520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46640" y="5245200"/>
              <a:ext cx="1080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411360" y="5245200"/>
              <a:ext cx="3528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06600" y="528012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528012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30720" y="5280120"/>
              <a:ext cx="108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41520" y="528012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52680" y="5280120"/>
              <a:ext cx="129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65640" y="528012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76440" y="528012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87600" y="528012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400560" y="5280120"/>
              <a:ext cx="108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066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52680" y="524520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65640" y="5245200"/>
              <a:ext cx="108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3306600" y="5219640"/>
            <a:ext cx="685800" cy="155520"/>
            <a:chOff x="3306600" y="5219640"/>
            <a:chExt cx="685800" cy="155520"/>
          </a:xfrm>
        </p:grpSpPr>
        <p:sp>
          <p:nvSpPr>
            <p:cNvPr id="4323" name=""/>
            <p:cNvSpPr/>
            <p:nvPr/>
          </p:nvSpPr>
          <p:spPr>
            <a:xfrm>
              <a:off x="3376440" y="5245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87600" y="524520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00560" y="524520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06600" y="5245200"/>
              <a:ext cx="14004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411360" y="524520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06600" y="5268960"/>
              <a:ext cx="129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19560" y="5268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30720" y="5268960"/>
              <a:ext cx="108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41520" y="5268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52680" y="5268960"/>
              <a:ext cx="129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5640" y="5268960"/>
              <a:ext cx="108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6440" y="5268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7600" y="5268960"/>
              <a:ext cx="129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0560" y="5268960"/>
              <a:ext cx="108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06600" y="5268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06600" y="5245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1520" y="5245200"/>
              <a:ext cx="1051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06600" y="524520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1956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30720" y="5245200"/>
              <a:ext cx="108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4152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52680" y="524520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65640" y="5245200"/>
              <a:ext cx="1080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76440" y="524520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87600" y="524520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00560" y="5245200"/>
              <a:ext cx="108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1136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22520" y="524520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3548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46640" y="5245200"/>
              <a:ext cx="108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06600" y="524520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678120" y="5268960"/>
              <a:ext cx="11160" cy="106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689280" y="5268960"/>
              <a:ext cx="1260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01880" y="5268960"/>
              <a:ext cx="1116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713040" y="5268960"/>
              <a:ext cx="11160" cy="106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78120" y="5268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573360" y="5292720"/>
              <a:ext cx="12960" cy="71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58632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597120" y="5292720"/>
              <a:ext cx="111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08280" y="5292720"/>
              <a:ext cx="12960" cy="71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21240" y="5292720"/>
              <a:ext cx="1080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632040" y="5292720"/>
              <a:ext cx="1116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643200" y="5292720"/>
              <a:ext cx="129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5616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666960" y="5292720"/>
              <a:ext cx="11160" cy="71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73360" y="52927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573360" y="5268960"/>
              <a:ext cx="129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586320" y="5268960"/>
              <a:ext cx="108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597120" y="52689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608280" y="5268960"/>
              <a:ext cx="129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621240" y="5268960"/>
              <a:ext cx="108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32040" y="526896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43200" y="526896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656160" y="526896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66960" y="52689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78120" y="52689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689280" y="526896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701880" y="526896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3040" y="52689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73360" y="52689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678120" y="524520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89280" y="524520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701880" y="524520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713040" y="524520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78120" y="524520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573360" y="526896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58632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597120" y="52689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608280" y="5268960"/>
              <a:ext cx="129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621240" y="526896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632040" y="52689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643200" y="5268960"/>
              <a:ext cx="129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65616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666960" y="52689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573360" y="52689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73360" y="5245200"/>
              <a:ext cx="129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586320" y="5245200"/>
              <a:ext cx="108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597120" y="524520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608280" y="5245200"/>
              <a:ext cx="129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621240" y="5245200"/>
              <a:ext cx="108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32040" y="524520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43200" y="52452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56160" y="52452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6960" y="524520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678120" y="524520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89280" y="524520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701880" y="524520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713040" y="52452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73360" y="52452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573360" y="5232240"/>
              <a:ext cx="129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586320" y="5232240"/>
              <a:ext cx="108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597120" y="523224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608280" y="5232240"/>
              <a:ext cx="129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621240" y="5232240"/>
              <a:ext cx="108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32040" y="523224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643200" y="5232240"/>
              <a:ext cx="129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656160" y="5232240"/>
              <a:ext cx="1080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66960" y="5232240"/>
              <a:ext cx="1116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678120" y="523224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689280" y="5232240"/>
              <a:ext cx="1260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701880" y="5232240"/>
              <a:ext cx="1116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713040" y="523224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73360" y="52322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944880" y="5256360"/>
              <a:ext cx="12600" cy="1188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95748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96864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979800" y="5256360"/>
              <a:ext cx="12600" cy="118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944880" y="5256360"/>
              <a:ext cx="34920" cy="10764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840120" y="5280120"/>
              <a:ext cx="12600" cy="83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5272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863880" y="5280120"/>
              <a:ext cx="1116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875040" y="5280120"/>
              <a:ext cx="12600" cy="83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88764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89880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09960" y="5280120"/>
              <a:ext cx="1260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2256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933720" y="5280120"/>
              <a:ext cx="11160" cy="83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40120" y="5280120"/>
              <a:ext cx="104760" cy="83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40120" y="525636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5272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8638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87504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88764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898800" y="52563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909960" y="52563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922560" y="52563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93372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94488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9574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96864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979800" y="525636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4012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944880" y="5219640"/>
              <a:ext cx="1260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95748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96864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979800" y="521964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944880" y="52196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840120" y="5256360"/>
              <a:ext cx="126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85272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863880" y="52563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875040" y="5256360"/>
              <a:ext cx="1260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88764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89880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09960" y="5256360"/>
              <a:ext cx="126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92256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933720" y="52563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840120" y="52563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88764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898800" y="52196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09960" y="52196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922560" y="52196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93372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840120" y="5219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94488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840120" y="5245200"/>
              <a:ext cx="1260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85272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863880" y="524520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875040" y="5245200"/>
              <a:ext cx="1260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88764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89880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909960" y="524520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92256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933720" y="5245200"/>
              <a:ext cx="1116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840120" y="524520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4012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875040" y="5219640"/>
              <a:ext cx="1047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840120" y="5219640"/>
              <a:ext cx="1260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85272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8638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7504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88764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898800" y="521964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3840120" y="5124600"/>
            <a:ext cx="963720" cy="250560"/>
            <a:chOff x="3840120" y="5124600"/>
            <a:chExt cx="963720" cy="250560"/>
          </a:xfrm>
        </p:grpSpPr>
        <p:sp>
          <p:nvSpPr>
            <p:cNvPr id="4524" name=""/>
            <p:cNvSpPr/>
            <p:nvPr/>
          </p:nvSpPr>
          <p:spPr>
            <a:xfrm>
              <a:off x="3909960" y="521964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922560" y="52196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3372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94488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9574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96864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79800" y="52196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840120" y="5219640"/>
              <a:ext cx="139680" cy="2556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66" y="16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11640" y="5219640"/>
              <a:ext cx="12600" cy="1555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22424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23540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246560" y="5219640"/>
              <a:ext cx="12600" cy="1555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211640" y="521964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76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08320" y="5245200"/>
              <a:ext cx="11160" cy="11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1948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13064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143240" y="5245200"/>
              <a:ext cx="11160" cy="11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15440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16556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17672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18932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00480" y="5245200"/>
              <a:ext cx="11160" cy="11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108320" y="5245200"/>
              <a:ext cx="103320" cy="11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108320" y="521964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11948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0640" y="521964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143240" y="521964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15440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65560" y="521964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176720" y="52196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189320" y="52196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0048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211640" y="521964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24240" y="521964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3540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246560" y="521964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108320" y="521964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5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11640" y="5184720"/>
              <a:ext cx="12600" cy="71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22424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3540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246560" y="5184720"/>
              <a:ext cx="12600" cy="71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211640" y="518472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8320" y="5208480"/>
              <a:ext cx="11160" cy="367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11948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13064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143240" y="5208480"/>
              <a:ext cx="11160" cy="367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5440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6556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17672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18932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200480" y="5208480"/>
              <a:ext cx="111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108320" y="5208480"/>
              <a:ext cx="103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08320" y="5184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11948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130640" y="5184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3240" y="5184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5440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165560" y="5184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176720" y="51847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189320" y="5184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0048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11640" y="51847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224240" y="5184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23540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246560" y="5184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108320" y="5184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211640" y="517212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22424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3540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46560" y="517212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211640" y="51721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108320" y="5195880"/>
              <a:ext cx="1116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11948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13064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143240" y="519588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15440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16556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17672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18932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200480" y="519588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108320" y="5195880"/>
              <a:ext cx="103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8320" y="517212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11948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130640" y="517212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143240" y="517212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15440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165560" y="517212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176720" y="517212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189320" y="517212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20048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211640" y="517212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224240" y="517212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23540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246560" y="517212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108320" y="51721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479840" y="5184720"/>
              <a:ext cx="11160" cy="19044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491000" y="5184720"/>
              <a:ext cx="11160" cy="19044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502160" y="5184720"/>
              <a:ext cx="1116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513320" y="5184720"/>
              <a:ext cx="1260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525920" y="5184720"/>
              <a:ext cx="11160" cy="190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479840" y="518472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375080" y="5219640"/>
              <a:ext cx="11160" cy="144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38624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397400" y="5219640"/>
              <a:ext cx="1260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410000" y="5219640"/>
              <a:ext cx="11160" cy="144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421160" y="5219640"/>
              <a:ext cx="1116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2320" y="5219640"/>
              <a:ext cx="1260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444920" y="5219640"/>
              <a:ext cx="1116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5608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67240" y="5219640"/>
              <a:ext cx="1260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375080" y="5219640"/>
              <a:ext cx="104760" cy="144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375080" y="51847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386240" y="518472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397400" y="518472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410000" y="518472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42116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43232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4492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5608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46724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47984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491000" y="518472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502160" y="5184720"/>
              <a:ext cx="1116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513320" y="5184720"/>
              <a:ext cx="1260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525920" y="518472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375080" y="518472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479840" y="5137200"/>
              <a:ext cx="11160" cy="950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491000" y="5137200"/>
              <a:ext cx="11160" cy="950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502160" y="5137200"/>
              <a:ext cx="1116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513320" y="5137200"/>
              <a:ext cx="1260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525920" y="5137200"/>
              <a:ext cx="11160" cy="95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479840" y="51372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375080" y="5172120"/>
              <a:ext cx="11160" cy="47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38624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397400" y="5172120"/>
              <a:ext cx="1260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410000" y="5172120"/>
              <a:ext cx="11160" cy="47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21160" y="5172120"/>
              <a:ext cx="1116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32320" y="5172120"/>
              <a:ext cx="1260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444920" y="5172120"/>
              <a:ext cx="1116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5608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467240" y="5172120"/>
              <a:ext cx="126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375080" y="5172120"/>
              <a:ext cx="1047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375080" y="513720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386240" y="513720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397400" y="513720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410000" y="513720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42116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43232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44492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45608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6724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7984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491000" y="513720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02160" y="513720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13320" y="513720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25920" y="513720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508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79840" y="5124600"/>
              <a:ext cx="11160" cy="601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91000" y="5124600"/>
              <a:ext cx="11160" cy="601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502160" y="512460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513320" y="512460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525920" y="512460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479840" y="5124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375080" y="5160960"/>
              <a:ext cx="111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8624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97400" y="516096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410000" y="5160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421160" y="516096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432320" y="5160960"/>
              <a:ext cx="126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444920" y="5160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45608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467240" y="516096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5080" y="5160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5080" y="512460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86240" y="512460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97400" y="512460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410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2116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3232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4492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5608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6724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7984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91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502160" y="512460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513320" y="512460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525920" y="5124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375080" y="512460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746600" y="5137200"/>
              <a:ext cx="11160" cy="23796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757760" y="5137200"/>
              <a:ext cx="11160" cy="23796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68920" y="5137200"/>
              <a:ext cx="1260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81520" y="5137200"/>
              <a:ext cx="1116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792680" y="5137200"/>
              <a:ext cx="11160" cy="237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746600" y="5137200"/>
              <a:ext cx="46080" cy="226800"/>
            </a:xfrm>
            <a:custGeom>
              <a:avLst/>
              <a:gdLst/>
              <a:ahLst/>
              <a:rect l="l" t="t" r="r" b="b"/>
              <a:pathLst>
                <a:path w="29" h="143">
                  <a:moveTo>
                    <a:pt x="0" y="14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28"/>
                  </a:lnTo>
                  <a:lnTo>
                    <a:pt x="0" y="1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641840" y="5172120"/>
              <a:ext cx="11160" cy="19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65300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664160" y="5172120"/>
              <a:ext cx="1260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676760" y="5172120"/>
              <a:ext cx="11160" cy="19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687920" y="5172120"/>
              <a:ext cx="1116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699080" y="5172120"/>
              <a:ext cx="1260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4641840" y="4994280"/>
            <a:ext cx="428760" cy="380880"/>
            <a:chOff x="4641840" y="4994280"/>
            <a:chExt cx="428760" cy="380880"/>
          </a:xfrm>
        </p:grpSpPr>
        <p:sp>
          <p:nvSpPr>
            <p:cNvPr id="4725" name=""/>
            <p:cNvSpPr/>
            <p:nvPr/>
          </p:nvSpPr>
          <p:spPr>
            <a:xfrm>
              <a:off x="4711680" y="5172120"/>
              <a:ext cx="1116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2284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34000" y="5172120"/>
              <a:ext cx="12600" cy="19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41840" y="5172120"/>
              <a:ext cx="104760" cy="19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41840" y="513720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5300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6416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676760" y="513720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68792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69908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71168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2284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3400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4660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757760" y="513720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76892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8152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792680" y="513720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4184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46600" y="5076720"/>
              <a:ext cx="11160" cy="1080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57760" y="5076720"/>
              <a:ext cx="11160" cy="1080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68920" y="5076720"/>
              <a:ext cx="1260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5076720"/>
              <a:ext cx="1116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792680" y="5076720"/>
              <a:ext cx="11160" cy="10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746600" y="5076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6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41840" y="5113440"/>
              <a:ext cx="11160" cy="586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5300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64160" y="5113440"/>
              <a:ext cx="1260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76760" y="5113440"/>
              <a:ext cx="11160" cy="586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87920" y="5113440"/>
              <a:ext cx="1116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699080" y="5113440"/>
              <a:ext cx="1260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11680" y="5113440"/>
              <a:ext cx="1116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2284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34000" y="5113440"/>
              <a:ext cx="12600" cy="5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641840" y="5113440"/>
              <a:ext cx="104760" cy="5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641840" y="5076720"/>
              <a:ext cx="1116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65300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66416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676760" y="507672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68792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69908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71168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72284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73400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74660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57760" y="507672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6892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8152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792680" y="507672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641840" y="507672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46600" y="5065560"/>
              <a:ext cx="11160" cy="59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757760" y="5065560"/>
              <a:ext cx="11160" cy="59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768920" y="5065560"/>
              <a:ext cx="1260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781520" y="5065560"/>
              <a:ext cx="1116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92680" y="5065560"/>
              <a:ext cx="11160" cy="59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46600" y="506556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1840" y="508968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5300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64160" y="508968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76760" y="508968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87920" y="508968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99080" y="508968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11680" y="508968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72284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734000" y="508968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41840" y="50896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41840" y="50655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5300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6416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76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8792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9908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71168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72284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73400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74660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757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76892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78152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92680" y="50655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641840" y="5065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024520" y="5089680"/>
              <a:ext cx="11160" cy="285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035680" y="5089680"/>
              <a:ext cx="1260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048280" y="5089680"/>
              <a:ext cx="1116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059440" y="5089680"/>
              <a:ext cx="11160" cy="28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024520" y="5089680"/>
              <a:ext cx="34920" cy="27432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908600" y="5113440"/>
              <a:ext cx="11160" cy="250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919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932360" y="5113440"/>
              <a:ext cx="11160" cy="250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94352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4954680" y="5113440"/>
              <a:ext cx="1260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967280" y="5113440"/>
              <a:ext cx="1116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97844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989600" y="5113440"/>
              <a:ext cx="11160" cy="250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000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013360" y="5113440"/>
              <a:ext cx="11160" cy="25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908600" y="5113440"/>
              <a:ext cx="115920" cy="25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908600" y="50896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919760" y="508968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932360" y="508968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943520" y="508968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954680" y="508968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967280" y="508968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7844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98960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00760" y="5089680"/>
              <a:ext cx="126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13360" y="508968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024520" y="508968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35680" y="508968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48280" y="508968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059440" y="50896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908600" y="5089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24520" y="5018040"/>
              <a:ext cx="11160" cy="106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035680" y="5018040"/>
              <a:ext cx="1260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048280" y="5018040"/>
              <a:ext cx="1116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059440" y="5018040"/>
              <a:ext cx="11160" cy="10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024520" y="50180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08600" y="5041800"/>
              <a:ext cx="11160" cy="71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9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3236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94352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954680" y="5041800"/>
              <a:ext cx="1260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967280" y="5041800"/>
              <a:ext cx="1116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97844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98960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00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013360" y="5041800"/>
              <a:ext cx="111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908600" y="5041800"/>
              <a:ext cx="11592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908600" y="501804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919760" y="5018040"/>
              <a:ext cx="126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932360" y="501804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943520" y="501804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954680" y="5018040"/>
              <a:ext cx="126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967280" y="501804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97844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98960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000760" y="5018040"/>
              <a:ext cx="1260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013360" y="501804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024520" y="5018040"/>
              <a:ext cx="1116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035680" y="5018040"/>
              <a:ext cx="1260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48280" y="501804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059440" y="501804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908600" y="5018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024520" y="500544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035680" y="5005440"/>
              <a:ext cx="1260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048280" y="50054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059440" y="5005440"/>
              <a:ext cx="1116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024520" y="50054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08600" y="5029200"/>
              <a:ext cx="1116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19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932360" y="50292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94352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954680" y="50292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967280" y="50292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97844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989600" y="5029200"/>
              <a:ext cx="1116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000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5013360" y="50292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08600" y="50292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908600" y="500544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919760" y="500544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932360" y="50054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943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54680" y="50054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4967280" y="50054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97844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498960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00760" y="500544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13360" y="50054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24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35680" y="500544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48280" y="50054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59440" y="5005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4908600" y="50054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24520" y="4994280"/>
              <a:ext cx="11160" cy="47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35680" y="4994280"/>
              <a:ext cx="1260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48280" y="4994280"/>
              <a:ext cx="1116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59440" y="4994280"/>
              <a:ext cx="11160" cy="47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24520" y="499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908600" y="5018040"/>
              <a:ext cx="11160" cy="111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919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932360" y="5018040"/>
              <a:ext cx="11160" cy="111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94352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954680" y="5018040"/>
              <a:ext cx="1260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67280" y="5018040"/>
              <a:ext cx="1116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97844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989600" y="5018040"/>
              <a:ext cx="11160" cy="111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00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13360" y="5018040"/>
              <a:ext cx="11160" cy="1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908600" y="5018040"/>
              <a:ext cx="11592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908600" y="4994280"/>
              <a:ext cx="1116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919760" y="4994280"/>
              <a:ext cx="1260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932360" y="4994280"/>
              <a:ext cx="1116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943520" y="499428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954680" y="499428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967280" y="499428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97844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98960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00760" y="4994280"/>
              <a:ext cx="1260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13360" y="4994280"/>
              <a:ext cx="1116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4908600" y="4587840"/>
            <a:ext cx="696960" cy="787320"/>
            <a:chOff x="4908600" y="4587840"/>
            <a:chExt cx="696960" cy="787320"/>
          </a:xfrm>
        </p:grpSpPr>
        <p:sp>
          <p:nvSpPr>
            <p:cNvPr id="4926" name=""/>
            <p:cNvSpPr/>
            <p:nvPr/>
          </p:nvSpPr>
          <p:spPr>
            <a:xfrm>
              <a:off x="5024520" y="499428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035680" y="499428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5048280" y="499428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5059440" y="499428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908600" y="49942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291280" y="4970520"/>
              <a:ext cx="12600" cy="404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0388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31504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26200" y="4970520"/>
              <a:ext cx="10800" cy="404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91280" y="4970520"/>
              <a:ext cx="34920" cy="393480"/>
            </a:xfrm>
            <a:custGeom>
              <a:avLst/>
              <a:gdLst/>
              <a:ahLst/>
              <a:rect l="l" t="t" r="r" b="b"/>
              <a:pathLst>
                <a:path w="22" h="248">
                  <a:moveTo>
                    <a:pt x="0" y="24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3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5360" y="4994280"/>
              <a:ext cx="11160" cy="3697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86520" y="4994280"/>
              <a:ext cx="1260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99120" y="4994280"/>
              <a:ext cx="11160" cy="3697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21028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221440" y="4994280"/>
              <a:ext cx="1260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234040" y="4994280"/>
              <a:ext cx="1116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24520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6360" y="4994280"/>
              <a:ext cx="12600" cy="3697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68960" y="4994280"/>
              <a:ext cx="1116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280120" y="4994280"/>
              <a:ext cx="11160" cy="36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5175360" y="4994280"/>
              <a:ext cx="115920" cy="369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5175360" y="497052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186520" y="497052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9912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0280" y="497052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21440" y="497052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3404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497052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56360" y="497052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6896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80120" y="497052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91280" y="497052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30388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315040" y="497052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326200" y="497052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175360" y="497052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5291280" y="4862520"/>
              <a:ext cx="12600" cy="142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30388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31504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326200" y="4862520"/>
              <a:ext cx="10800" cy="142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291280" y="4862520"/>
              <a:ext cx="34920" cy="13176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0" y="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5175360" y="4898880"/>
              <a:ext cx="11160" cy="954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186520" y="4898880"/>
              <a:ext cx="1260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99120" y="4898880"/>
              <a:ext cx="1116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21028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21440" y="4898880"/>
              <a:ext cx="1260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234040" y="4898880"/>
              <a:ext cx="1116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24520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56360" y="4898880"/>
              <a:ext cx="1260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268960" y="4898880"/>
              <a:ext cx="1116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280120" y="4898880"/>
              <a:ext cx="11160" cy="9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175360" y="4898880"/>
              <a:ext cx="115920" cy="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75360" y="486252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186520" y="486252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19912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210280" y="486252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221440" y="486252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23404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245200" y="486252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56360" y="486252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896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80120" y="486252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291280" y="486252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30388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315040" y="486252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326200" y="486252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75360" y="48625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291280" y="4838760"/>
              <a:ext cx="1260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30388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31504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326200" y="4838760"/>
              <a:ext cx="1080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291280" y="48387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175360" y="4875120"/>
              <a:ext cx="11160" cy="237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6520" y="4875120"/>
              <a:ext cx="1260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199120" y="4875120"/>
              <a:ext cx="11160" cy="237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521028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221440" y="4875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234040" y="4875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24520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256360" y="4875120"/>
              <a:ext cx="12600" cy="237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268960" y="4875120"/>
              <a:ext cx="1116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280120" y="4875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75360" y="4875120"/>
              <a:ext cx="11592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175360" y="483876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186520" y="483876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19912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483876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21440" y="483876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23404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245200" y="48387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256360" y="483876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26896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280120" y="483876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291280" y="483876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30388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5315040" y="483876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5326200" y="483876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5175360" y="483876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291280" y="4815000"/>
              <a:ext cx="12600" cy="71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30388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31504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326200" y="4815000"/>
              <a:ext cx="10800" cy="71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91280" y="481500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175360" y="4849920"/>
              <a:ext cx="11160" cy="2520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186520" y="4849920"/>
              <a:ext cx="1260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199120" y="4849920"/>
              <a:ext cx="11160" cy="2520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1028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221440" y="4849920"/>
              <a:ext cx="1260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234040" y="4849920"/>
              <a:ext cx="1116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4520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256360" y="4849920"/>
              <a:ext cx="12600" cy="2520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268960" y="4849920"/>
              <a:ext cx="1116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280120" y="4849920"/>
              <a:ext cx="11160" cy="25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175360" y="4849920"/>
              <a:ext cx="11592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175360" y="481500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186520" y="481500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9912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210280" y="481500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221440" y="481500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23404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245200" y="481500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256360" y="481500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26896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280120" y="481500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91280" y="4815000"/>
              <a:ext cx="1260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30388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315040" y="481500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326200" y="4815000"/>
              <a:ext cx="108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75360" y="48150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557680" y="4778280"/>
              <a:ext cx="12960" cy="5968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570640" y="4778280"/>
              <a:ext cx="1116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81800" y="4778280"/>
              <a:ext cx="1080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592600" y="4778280"/>
              <a:ext cx="12960" cy="5968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557680" y="4778280"/>
              <a:ext cx="34920" cy="585720"/>
            </a:xfrm>
            <a:custGeom>
              <a:avLst/>
              <a:gdLst/>
              <a:ahLst/>
              <a:rect l="l" t="t" r="r" b="b"/>
              <a:pathLst>
                <a:path w="22" h="369">
                  <a:moveTo>
                    <a:pt x="0" y="3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54"/>
                  </a:lnTo>
                  <a:lnTo>
                    <a:pt x="0" y="3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454720" y="4815000"/>
              <a:ext cx="11160" cy="5490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46588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77040" y="4815000"/>
              <a:ext cx="1080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87840" y="4815000"/>
              <a:ext cx="12960" cy="5490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500800" y="4815000"/>
              <a:ext cx="1116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11960" y="4815000"/>
              <a:ext cx="1080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22760" y="4815000"/>
              <a:ext cx="1296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572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46880" y="4815000"/>
              <a:ext cx="10800" cy="54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454720" y="4815000"/>
              <a:ext cx="102960" cy="54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454720" y="477828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465880" y="477828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477040" y="4778280"/>
              <a:ext cx="108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48784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500800" y="477828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511960" y="4778280"/>
              <a:ext cx="1080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522760" y="477828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535720" y="477828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546880" y="4778280"/>
              <a:ext cx="108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55768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5570640" y="477828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581800" y="4778280"/>
              <a:ext cx="108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592600" y="4778280"/>
              <a:ext cx="129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454720" y="477828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57680" y="4635360"/>
              <a:ext cx="12960" cy="190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570640" y="4635360"/>
              <a:ext cx="1116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81800" y="4635360"/>
              <a:ext cx="1080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592600" y="4635360"/>
              <a:ext cx="12960" cy="190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557680" y="4635360"/>
              <a:ext cx="34920" cy="17964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0" y="11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454720" y="4672080"/>
              <a:ext cx="11160" cy="142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46588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477040" y="4672080"/>
              <a:ext cx="1080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487840" y="4672080"/>
              <a:ext cx="12960" cy="142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500800" y="4672080"/>
              <a:ext cx="1116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511960" y="4672080"/>
              <a:ext cx="1080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22760" y="4672080"/>
              <a:ext cx="1296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53572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546880" y="4672080"/>
              <a:ext cx="1080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454720" y="4672080"/>
              <a:ext cx="1029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454720" y="463536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465880" y="4635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477040" y="4635360"/>
              <a:ext cx="108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8784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500800" y="4635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511960" y="4635360"/>
              <a:ext cx="1080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522760" y="4635360"/>
              <a:ext cx="129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5535720" y="4635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546880" y="463536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555768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570640" y="4635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581800" y="463536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592600" y="4635360"/>
              <a:ext cx="129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54720" y="463536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557680" y="4587840"/>
              <a:ext cx="12960" cy="95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570640" y="4587840"/>
              <a:ext cx="1116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581800" y="4587840"/>
              <a:ext cx="1080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592600" y="4587840"/>
              <a:ext cx="12960" cy="95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557680" y="45878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454720" y="4624560"/>
              <a:ext cx="1116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46588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477040" y="4624560"/>
              <a:ext cx="108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487840" y="4624560"/>
              <a:ext cx="1296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500800" y="462456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511960" y="4624560"/>
              <a:ext cx="1080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522760" y="4624560"/>
              <a:ext cx="129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53572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5454720" y="4349880"/>
            <a:ext cx="684000" cy="1025280"/>
            <a:chOff x="5454720" y="4349880"/>
            <a:chExt cx="684000" cy="1025280"/>
          </a:xfrm>
        </p:grpSpPr>
        <p:sp>
          <p:nvSpPr>
            <p:cNvPr id="5127" name=""/>
            <p:cNvSpPr/>
            <p:nvPr/>
          </p:nvSpPr>
          <p:spPr>
            <a:xfrm>
              <a:off x="5546880" y="4624560"/>
              <a:ext cx="108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454720" y="4624560"/>
              <a:ext cx="1029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557680" y="4540320"/>
              <a:ext cx="12960" cy="950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570640" y="4540320"/>
              <a:ext cx="1116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581800" y="4540320"/>
              <a:ext cx="1080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592600" y="4540320"/>
              <a:ext cx="12960" cy="950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557680" y="45403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454720" y="4564080"/>
              <a:ext cx="111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46588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477040" y="4564080"/>
              <a:ext cx="1080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487840" y="4564080"/>
              <a:ext cx="1296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500800" y="456408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511960" y="4564080"/>
              <a:ext cx="108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522760" y="4564080"/>
              <a:ext cx="129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53572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546880" y="4564080"/>
              <a:ext cx="1080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454720" y="4564080"/>
              <a:ext cx="1029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454720" y="454032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465880" y="45403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477040" y="454032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8784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00800" y="45403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511960" y="4540320"/>
              <a:ext cx="108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5522760" y="4540320"/>
              <a:ext cx="129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5535720" y="45403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546880" y="454032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55768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570640" y="45403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581800" y="454032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592600" y="454032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454720" y="4540320"/>
              <a:ext cx="13788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824440" y="4648320"/>
              <a:ext cx="12960" cy="726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837400" y="4648320"/>
              <a:ext cx="1080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848200" y="4648320"/>
              <a:ext cx="1116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59360" y="4648320"/>
              <a:ext cx="12960" cy="726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824440" y="464832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436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21480" y="4683240"/>
              <a:ext cx="11160" cy="6807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3264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43440" y="4683240"/>
              <a:ext cx="129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756400" y="4683240"/>
              <a:ext cx="11160" cy="6807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767560" y="4683240"/>
              <a:ext cx="1080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778360" y="4683240"/>
              <a:ext cx="1296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791320" y="4683240"/>
              <a:ext cx="111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80248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13280" y="4683240"/>
              <a:ext cx="11160" cy="680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21480" y="4683240"/>
              <a:ext cx="102960" cy="68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721480" y="46483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732640" y="4648320"/>
              <a:ext cx="108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43440" y="4648320"/>
              <a:ext cx="129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756400" y="464832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67560" y="4648320"/>
              <a:ext cx="108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778360" y="4648320"/>
              <a:ext cx="129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791320" y="46483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02480" y="4648320"/>
              <a:ext cx="108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13280" y="464832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24440" y="4648320"/>
              <a:ext cx="129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37400" y="4648320"/>
              <a:ext cx="108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48200" y="464832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859360" y="4648320"/>
              <a:ext cx="129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721480" y="464832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824440" y="4468680"/>
              <a:ext cx="12960" cy="227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837400" y="4468680"/>
              <a:ext cx="1080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848200" y="4468680"/>
              <a:ext cx="1116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859360" y="4468680"/>
              <a:ext cx="12960" cy="227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824440" y="44686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0" y="13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3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721480" y="4492800"/>
              <a:ext cx="11160" cy="19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73264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743440" y="4492800"/>
              <a:ext cx="129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56400" y="4492800"/>
              <a:ext cx="11160" cy="19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767560" y="4492800"/>
              <a:ext cx="1080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778360" y="4492800"/>
              <a:ext cx="1296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791320" y="4492800"/>
              <a:ext cx="111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0248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13280" y="4492800"/>
              <a:ext cx="11160" cy="19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721480" y="4492800"/>
              <a:ext cx="102960" cy="19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721480" y="44686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732640" y="446868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743440" y="446868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756400" y="4468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767560" y="4468680"/>
              <a:ext cx="108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778360" y="4468680"/>
              <a:ext cx="129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791320" y="4468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802480" y="4468680"/>
              <a:ext cx="108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813280" y="4468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824440" y="44686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837400" y="44686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48200" y="4468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859360" y="4468680"/>
              <a:ext cx="129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721480" y="4468680"/>
              <a:ext cx="13788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824440" y="4408560"/>
              <a:ext cx="129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837400" y="4408560"/>
              <a:ext cx="108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848200" y="440856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859360" y="4408560"/>
              <a:ext cx="1296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824440" y="44085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21480" y="4444920"/>
              <a:ext cx="11160" cy="478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73264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743440" y="4444920"/>
              <a:ext cx="129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756400" y="4444920"/>
              <a:ext cx="11160" cy="478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767560" y="4444920"/>
              <a:ext cx="1080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778360" y="4444920"/>
              <a:ext cx="1296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791320" y="4444920"/>
              <a:ext cx="111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80248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13280" y="4444920"/>
              <a:ext cx="11160" cy="47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721480" y="4444920"/>
              <a:ext cx="1029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824440" y="4349880"/>
              <a:ext cx="129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837400" y="4349880"/>
              <a:ext cx="108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848200" y="434988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859360" y="4349880"/>
              <a:ext cx="129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824440" y="43498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21480" y="4384800"/>
              <a:ext cx="11160" cy="601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73264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743440" y="4384800"/>
              <a:ext cx="129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756400" y="4384800"/>
              <a:ext cx="11160" cy="601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5767560" y="4384800"/>
              <a:ext cx="1080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78360" y="4384800"/>
              <a:ext cx="1296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791320" y="4384800"/>
              <a:ext cx="111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580248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5813280" y="4384800"/>
              <a:ext cx="11160" cy="60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5721480" y="4384800"/>
              <a:ext cx="1029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1480" y="434988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2640" y="434988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743440" y="434988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756400" y="43498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767560" y="4349880"/>
              <a:ext cx="108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778360" y="4349880"/>
              <a:ext cx="129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791320" y="43498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802480" y="43498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813280" y="43498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24440" y="4349880"/>
              <a:ext cx="129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837400" y="4349880"/>
              <a:ext cx="108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8200" y="43498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9360" y="4349880"/>
              <a:ext cx="129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721480" y="434988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93000" y="4456080"/>
              <a:ext cx="10800" cy="919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10380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11496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126120" y="4456080"/>
              <a:ext cx="12600" cy="919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093000" y="4456080"/>
              <a:ext cx="33120" cy="907920"/>
            </a:xfrm>
            <a:custGeom>
              <a:avLst/>
              <a:gdLst/>
              <a:ahLst/>
              <a:rect l="l" t="t" r="r" b="b"/>
              <a:pathLst>
                <a:path w="21" h="572">
                  <a:moveTo>
                    <a:pt x="0" y="572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21" y="557"/>
                  </a:lnTo>
                  <a:lnTo>
                    <a:pt x="0" y="5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987880" y="4481640"/>
              <a:ext cx="11160" cy="88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99904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010200" y="4481640"/>
              <a:ext cx="126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022800" y="4481640"/>
              <a:ext cx="11160" cy="88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033960" y="4481640"/>
              <a:ext cx="111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045120" y="4481640"/>
              <a:ext cx="129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5987880" y="3657600"/>
            <a:ext cx="417600" cy="1717560"/>
            <a:chOff x="5987880" y="3657600"/>
            <a:chExt cx="417600" cy="1717560"/>
          </a:xfrm>
        </p:grpSpPr>
        <p:sp>
          <p:nvSpPr>
            <p:cNvPr id="5328" name=""/>
            <p:cNvSpPr/>
            <p:nvPr/>
          </p:nvSpPr>
          <p:spPr>
            <a:xfrm>
              <a:off x="6058080" y="4481640"/>
              <a:ext cx="108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06888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080040" y="4481640"/>
              <a:ext cx="12960" cy="88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987880" y="4481640"/>
              <a:ext cx="105120" cy="88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987880" y="445608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99904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010200" y="445608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022800" y="445608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033960" y="445608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45120" y="4456080"/>
              <a:ext cx="129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058080" y="4456080"/>
              <a:ext cx="108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068880" y="445608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080040" y="4456080"/>
              <a:ext cx="129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093000" y="4456080"/>
              <a:ext cx="108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03800" y="445608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1496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26120" y="445608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987880" y="445608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6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93000" y="4230720"/>
              <a:ext cx="10800" cy="262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0380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611496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126120" y="4230720"/>
              <a:ext cx="12600" cy="262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093000" y="4230720"/>
              <a:ext cx="33120" cy="250920"/>
            </a:xfrm>
            <a:custGeom>
              <a:avLst/>
              <a:gdLst/>
              <a:ahLst/>
              <a:rect l="l" t="t" r="r" b="b"/>
              <a:pathLst>
                <a:path w="21" h="158">
                  <a:moveTo>
                    <a:pt x="0" y="158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142"/>
                  </a:lnTo>
                  <a:lnTo>
                    <a:pt x="0" y="15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987880" y="4254480"/>
              <a:ext cx="11160" cy="227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99904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010200" y="4254480"/>
              <a:ext cx="126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022800" y="4254480"/>
              <a:ext cx="11160" cy="227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033960" y="4254480"/>
              <a:ext cx="111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045120" y="4254480"/>
              <a:ext cx="129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058080" y="4254480"/>
              <a:ext cx="108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06888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080040" y="4254480"/>
              <a:ext cx="12960" cy="22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987880" y="4254480"/>
              <a:ext cx="105120" cy="227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987880" y="4230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99904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010200" y="4230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022800" y="4230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033960" y="4230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045120" y="4230720"/>
              <a:ext cx="129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058080" y="423072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068880" y="4230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080040" y="4230720"/>
              <a:ext cx="129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093000" y="4230720"/>
              <a:ext cx="108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103800" y="4230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1496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126120" y="4230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987880" y="4230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3000" y="4159080"/>
              <a:ext cx="10800" cy="106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10380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11496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126120" y="4159080"/>
              <a:ext cx="12600" cy="106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93000" y="4159080"/>
              <a:ext cx="33120" cy="954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60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987880" y="4183200"/>
              <a:ext cx="11160" cy="71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99904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10200" y="4183200"/>
              <a:ext cx="126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22800" y="4183200"/>
              <a:ext cx="11160" cy="71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033960" y="4183200"/>
              <a:ext cx="111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045120" y="4183200"/>
              <a:ext cx="129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058080" y="4183200"/>
              <a:ext cx="108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6888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080040" y="4183200"/>
              <a:ext cx="12960" cy="71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987880" y="4183200"/>
              <a:ext cx="1051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987880" y="4159080"/>
              <a:ext cx="111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99904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010200" y="4159080"/>
              <a:ext cx="126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022800" y="415908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033960" y="415908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045120" y="4159080"/>
              <a:ext cx="129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058080" y="41590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068880" y="41590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080040" y="415908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093000" y="4159080"/>
              <a:ext cx="108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103800" y="415908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11496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126120" y="4159080"/>
              <a:ext cx="126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987880" y="4159080"/>
              <a:ext cx="13824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987880" y="414648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599904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010200" y="41464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022800" y="41464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033960" y="41464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45120" y="414648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058080" y="414648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68880" y="41464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080040" y="4146480"/>
              <a:ext cx="129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093000" y="4146480"/>
              <a:ext cx="108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103800" y="41464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11496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126120" y="414648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87880" y="414648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093000" y="4062240"/>
              <a:ext cx="10800" cy="1317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10380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11496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126120" y="4062240"/>
              <a:ext cx="12600" cy="1317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093000" y="4062240"/>
              <a:ext cx="33120" cy="12096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0" y="76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53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987880" y="4098960"/>
              <a:ext cx="11160" cy="842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599904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010200" y="4098960"/>
              <a:ext cx="126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22800" y="4098960"/>
              <a:ext cx="11160" cy="842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033960" y="4098960"/>
              <a:ext cx="111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045120" y="4098960"/>
              <a:ext cx="129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058080" y="4098960"/>
              <a:ext cx="108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06888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080040" y="4098960"/>
              <a:ext cx="12960" cy="84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987880" y="4098960"/>
              <a:ext cx="10512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987880" y="406224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99904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010200" y="4062240"/>
              <a:ext cx="1260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022800" y="406224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033960" y="4062240"/>
              <a:ext cx="111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045120" y="4062240"/>
              <a:ext cx="129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58080" y="4062240"/>
              <a:ext cx="1080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068880" y="406224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080040" y="4062240"/>
              <a:ext cx="129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093000" y="4062240"/>
              <a:ext cx="1080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103800" y="406224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11496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26120" y="4062240"/>
              <a:ext cx="1260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987880" y="406224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359400" y="4111560"/>
              <a:ext cx="11160" cy="1263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370560" y="4111560"/>
              <a:ext cx="1116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381720" y="4111560"/>
              <a:ext cx="1260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394320" y="4111560"/>
              <a:ext cx="11160" cy="1263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359400" y="4111560"/>
              <a:ext cx="34920" cy="1252440"/>
            </a:xfrm>
            <a:custGeom>
              <a:avLst/>
              <a:gdLst/>
              <a:ahLst/>
              <a:rect l="l" t="t" r="r" b="b"/>
              <a:pathLst>
                <a:path w="22" h="789">
                  <a:moveTo>
                    <a:pt x="0" y="78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74"/>
                  </a:lnTo>
                  <a:lnTo>
                    <a:pt x="0" y="78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254640" y="4135320"/>
              <a:ext cx="11160" cy="1228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265800" y="4135320"/>
              <a:ext cx="1260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7840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89560" y="4135320"/>
              <a:ext cx="11160" cy="1228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300720" y="4135320"/>
              <a:ext cx="1116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11880" y="4135320"/>
              <a:ext cx="1260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32448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335640" y="4135320"/>
              <a:ext cx="1116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346800" y="4135320"/>
              <a:ext cx="12600" cy="122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254640" y="4135320"/>
              <a:ext cx="104760" cy="122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54640" y="411156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26580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27840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28956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300720" y="41115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311880" y="411156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32448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33564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346800" y="411156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35940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37056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38172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394320" y="41115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254640" y="41115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59400" y="3776760"/>
              <a:ext cx="11160" cy="3697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70560" y="3776760"/>
              <a:ext cx="1116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81720" y="3776760"/>
              <a:ext cx="1260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94320" y="3776760"/>
              <a:ext cx="11160" cy="36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59400" y="3776760"/>
              <a:ext cx="34920" cy="358560"/>
            </a:xfrm>
            <a:custGeom>
              <a:avLst/>
              <a:gdLst/>
              <a:ahLst/>
              <a:rect l="l" t="t" r="r" b="b"/>
              <a:pathLst>
                <a:path w="22" h="226">
                  <a:moveTo>
                    <a:pt x="0" y="22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254640" y="3813120"/>
              <a:ext cx="11160" cy="322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265800" y="3813120"/>
              <a:ext cx="1260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627840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289560" y="3813120"/>
              <a:ext cx="11160" cy="322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00720" y="3813120"/>
              <a:ext cx="1116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1880" y="3813120"/>
              <a:ext cx="1260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2448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35640" y="3813120"/>
              <a:ext cx="1116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46800" y="3813120"/>
              <a:ext cx="12600" cy="32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6254640" y="3813120"/>
              <a:ext cx="1047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254640" y="37767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26580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27840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28956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00720" y="37767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11880" y="377676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2448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3564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46800" y="37767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5940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7056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8172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4320" y="37767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6254640" y="37767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59400" y="3657600"/>
              <a:ext cx="11160" cy="166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70560" y="3657600"/>
              <a:ext cx="1116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81720" y="3657600"/>
              <a:ext cx="1260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94320" y="3657600"/>
              <a:ext cx="11160" cy="166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59400" y="365760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0" y="9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254640" y="3693960"/>
              <a:ext cx="11160" cy="119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265800" y="3693960"/>
              <a:ext cx="1260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27840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289560" y="3693960"/>
              <a:ext cx="11160" cy="119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00720" y="3693960"/>
              <a:ext cx="1116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11880" y="3693960"/>
              <a:ext cx="1260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2448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35640" y="3693960"/>
              <a:ext cx="1116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6800" y="3693960"/>
              <a:ext cx="12600" cy="11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254640" y="3693960"/>
              <a:ext cx="104760" cy="119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254640" y="365760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26580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27840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8956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0720" y="365760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11880" y="365760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2448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3564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254640" y="3251160"/>
            <a:ext cx="417600" cy="2124000"/>
            <a:chOff x="6254640" y="3251160"/>
            <a:chExt cx="417600" cy="2124000"/>
          </a:xfrm>
        </p:grpSpPr>
        <p:sp>
          <p:nvSpPr>
            <p:cNvPr id="5529" name=""/>
            <p:cNvSpPr/>
            <p:nvPr/>
          </p:nvSpPr>
          <p:spPr>
            <a:xfrm>
              <a:off x="6346800" y="365760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940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7056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8172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394320" y="3657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254640" y="36576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9400" y="3645000"/>
              <a:ext cx="11160" cy="601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70560" y="3645000"/>
              <a:ext cx="1116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81720" y="3645000"/>
              <a:ext cx="1260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94320" y="3645000"/>
              <a:ext cx="11160" cy="601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9400" y="364500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6254640" y="3668760"/>
              <a:ext cx="11160" cy="2520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265800" y="3668760"/>
              <a:ext cx="1260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27840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289560" y="3668760"/>
              <a:ext cx="11160" cy="2520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00720" y="3668760"/>
              <a:ext cx="1116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11880" y="3668760"/>
              <a:ext cx="1260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2448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35640" y="3668760"/>
              <a:ext cx="1116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800" y="3668760"/>
              <a:ext cx="126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54640" y="3668760"/>
              <a:ext cx="1047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254640" y="36450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26580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7840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8956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00720" y="36450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11880" y="364500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2448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3564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46800" y="364500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5940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056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8172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394320" y="364500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54640" y="36450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59400" y="352584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0560" y="352584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81720" y="352584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94320" y="352584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59400" y="3525840"/>
              <a:ext cx="34920" cy="14292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0" y="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254640" y="3562200"/>
              <a:ext cx="11160" cy="106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265800" y="3562200"/>
              <a:ext cx="1260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27840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289560" y="3562200"/>
              <a:ext cx="11160" cy="106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00720" y="3562200"/>
              <a:ext cx="1116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11880" y="3562200"/>
              <a:ext cx="1260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2448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35640" y="3562200"/>
              <a:ext cx="1116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346800" y="3562200"/>
              <a:ext cx="12600" cy="106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254640" y="3562200"/>
              <a:ext cx="104760" cy="10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254640" y="352584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26580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27840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28956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00720" y="352584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311880" y="3525840"/>
              <a:ext cx="1260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2448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3564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46800" y="352584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5940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7056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8172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394320" y="352584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54640" y="35258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626160" y="3943440"/>
              <a:ext cx="11160" cy="1431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637320" y="3943440"/>
              <a:ext cx="1116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648480" y="3943440"/>
              <a:ext cx="1260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661080" y="3943440"/>
              <a:ext cx="11160" cy="1431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626160" y="3943440"/>
              <a:ext cx="34920" cy="1420560"/>
            </a:xfrm>
            <a:custGeom>
              <a:avLst/>
              <a:gdLst/>
              <a:ahLst/>
              <a:rect l="l" t="t" r="r" b="b"/>
              <a:pathLst>
                <a:path w="22" h="895">
                  <a:moveTo>
                    <a:pt x="0" y="89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880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521400" y="3979800"/>
              <a:ext cx="11160" cy="1384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532560" y="3979800"/>
              <a:ext cx="1260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4516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556320" y="3979800"/>
              <a:ext cx="11160" cy="1384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567480" y="3979800"/>
              <a:ext cx="1260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580080" y="3979800"/>
              <a:ext cx="1116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59124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602400" y="3979800"/>
              <a:ext cx="1116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13560" y="3979800"/>
              <a:ext cx="12600" cy="1384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521400" y="3979800"/>
              <a:ext cx="104760" cy="138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521400" y="394344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53256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4516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55632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748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80080" y="394344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59124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60240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61356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62616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3732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64848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661080" y="394344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521400" y="39434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626160" y="3549600"/>
              <a:ext cx="11160" cy="441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637320" y="3549600"/>
              <a:ext cx="1116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648480" y="3549600"/>
              <a:ext cx="1260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661080" y="3549600"/>
              <a:ext cx="11160" cy="441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626160" y="3549600"/>
              <a:ext cx="34920" cy="43020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27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48"/>
                  </a:lnTo>
                  <a:lnTo>
                    <a:pt x="0" y="27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521400" y="3573360"/>
              <a:ext cx="11160" cy="406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532560" y="3573360"/>
              <a:ext cx="1260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54516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556320" y="3573360"/>
              <a:ext cx="11160" cy="406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567480" y="3573360"/>
              <a:ext cx="1260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580080" y="3573360"/>
              <a:ext cx="1116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59124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6602400" y="3573360"/>
              <a:ext cx="1116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613560" y="3573360"/>
              <a:ext cx="12600" cy="40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521400" y="3573360"/>
              <a:ext cx="104760" cy="406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521400" y="354960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53256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54516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55632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56748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580080" y="3549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59124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60240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61356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62616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63732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64848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661080" y="3549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521400" y="35496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626160" y="3406680"/>
              <a:ext cx="11160" cy="179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637320" y="3406680"/>
              <a:ext cx="1116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648480" y="3406680"/>
              <a:ext cx="1260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661080" y="3406680"/>
              <a:ext cx="11160" cy="179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626160" y="340668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0" y="10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6521400" y="3443400"/>
              <a:ext cx="11160" cy="129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532560" y="3443400"/>
              <a:ext cx="1260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54516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556320" y="3443400"/>
              <a:ext cx="11160" cy="129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567480" y="3443400"/>
              <a:ext cx="1260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580080" y="3443400"/>
              <a:ext cx="1116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59124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602400" y="3443400"/>
              <a:ext cx="1116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613560" y="3443400"/>
              <a:ext cx="126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521400" y="3443400"/>
              <a:ext cx="104760" cy="12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521400" y="3406680"/>
              <a:ext cx="111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53256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54516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55632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56748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580080" y="340668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59124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60240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61356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62616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63732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4848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661080" y="340668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21400" y="340668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6160" y="3359160"/>
              <a:ext cx="11160" cy="954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637320" y="3359160"/>
              <a:ext cx="1116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648480" y="3359160"/>
              <a:ext cx="1260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661080" y="3359160"/>
              <a:ext cx="11160" cy="954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626160" y="33591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521400" y="3395520"/>
              <a:ext cx="11160" cy="478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6532560" y="3395520"/>
              <a:ext cx="1260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54516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6556320" y="3395520"/>
              <a:ext cx="11160" cy="478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6567480" y="3395520"/>
              <a:ext cx="1260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6580080" y="3395520"/>
              <a:ext cx="1116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659124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6602400" y="3395520"/>
              <a:ext cx="1116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613560" y="3395520"/>
              <a:ext cx="12600" cy="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6521400" y="339552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6521400" y="33591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653256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654516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655632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656748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6580080" y="33591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59124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660240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661356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662616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663732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64848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6661080" y="33591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652140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626160" y="325116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6637320" y="325116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6648480" y="325116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6661080" y="325116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6626160" y="325116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521400" y="328788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6532560" y="328788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654516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6556320" y="3287880"/>
              <a:ext cx="1116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6567480" y="328788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580080" y="328788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59124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6602400" y="328788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613560" y="328788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521400" y="3287880"/>
              <a:ext cx="10476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521400" y="325116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53256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54516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55632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56748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9" name=""/>
          <p:cNvGrpSpPr/>
          <p:nvPr/>
        </p:nvGrpSpPr>
        <p:grpSpPr>
          <a:xfrm>
            <a:off x="6521400" y="3073320"/>
            <a:ext cx="684360" cy="2301840"/>
            <a:chOff x="6521400" y="3073320"/>
            <a:chExt cx="684360" cy="2301840"/>
          </a:xfrm>
        </p:grpSpPr>
        <p:sp>
          <p:nvSpPr>
            <p:cNvPr id="5730" name=""/>
            <p:cNvSpPr/>
            <p:nvPr/>
          </p:nvSpPr>
          <p:spPr>
            <a:xfrm>
              <a:off x="6580080" y="3251160"/>
              <a:ext cx="111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59124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660240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661356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62616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63732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64848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6661080" y="3251160"/>
              <a:ext cx="1116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6521400" y="325116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892920" y="3836880"/>
              <a:ext cx="11160" cy="1538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6904080" y="3836880"/>
              <a:ext cx="1260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6916680" y="3836880"/>
              <a:ext cx="1116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6927840" y="3836880"/>
              <a:ext cx="11160" cy="153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6892920" y="3836880"/>
              <a:ext cx="34920" cy="1527120"/>
            </a:xfrm>
            <a:custGeom>
              <a:avLst/>
              <a:gdLst/>
              <a:ahLst/>
              <a:rect l="l" t="t" r="r" b="b"/>
              <a:pathLst>
                <a:path w="22" h="962">
                  <a:moveTo>
                    <a:pt x="0" y="96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47"/>
                  </a:lnTo>
                  <a:lnTo>
                    <a:pt x="0" y="9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6788160" y="3860640"/>
              <a:ext cx="11160" cy="1503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679932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681192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823080" y="3860640"/>
              <a:ext cx="11160" cy="1503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834240" y="3860640"/>
              <a:ext cx="1260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846840" y="3860640"/>
              <a:ext cx="1116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85800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86916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881760" y="3860640"/>
              <a:ext cx="11160" cy="150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788160" y="3860640"/>
              <a:ext cx="104760" cy="1503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788160" y="38368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799320" y="383688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811920" y="383688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82308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834240" y="383688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846840" y="383688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858000" y="38368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869160" y="383688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881760" y="383688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89292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904080" y="383688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916680" y="383688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927840" y="38368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788160" y="3836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892920" y="3359160"/>
              <a:ext cx="11160" cy="51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904080" y="3359160"/>
              <a:ext cx="1260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916680" y="3359160"/>
              <a:ext cx="1116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27840" y="3359160"/>
              <a:ext cx="11160" cy="51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892920" y="3359160"/>
              <a:ext cx="34920" cy="501480"/>
            </a:xfrm>
            <a:custGeom>
              <a:avLst/>
              <a:gdLst/>
              <a:ahLst/>
              <a:rect l="l" t="t" r="r" b="b"/>
              <a:pathLst>
                <a:path w="22" h="316">
                  <a:moveTo>
                    <a:pt x="0" y="31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1"/>
                  </a:lnTo>
                  <a:lnTo>
                    <a:pt x="0" y="3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788160" y="3395520"/>
              <a:ext cx="11160" cy="4651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79932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81192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823080" y="3395520"/>
              <a:ext cx="11160" cy="4651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834240" y="3395520"/>
              <a:ext cx="1260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846840" y="3395520"/>
              <a:ext cx="1116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85800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86916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881760" y="3395520"/>
              <a:ext cx="11160" cy="465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788160" y="3395520"/>
              <a:ext cx="10476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788160" y="33591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799320" y="33591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811920" y="33591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82308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834240" y="33591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846840" y="335916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858000" y="33591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869160" y="33591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881760" y="33591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89292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904080" y="335916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916680" y="335916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927840" y="33591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78816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892920" y="3203640"/>
              <a:ext cx="11160" cy="2030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904080" y="3203640"/>
              <a:ext cx="1260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916680" y="3203640"/>
              <a:ext cx="1116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927840" y="3203640"/>
              <a:ext cx="11160" cy="203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892920" y="3203640"/>
              <a:ext cx="34920" cy="191880"/>
            </a:xfrm>
            <a:custGeom>
              <a:avLst/>
              <a:gdLst/>
              <a:ahLst/>
              <a:rect l="l" t="t" r="r" b="b"/>
              <a:pathLst>
                <a:path w="22" h="121">
                  <a:moveTo>
                    <a:pt x="0" y="12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8"/>
                  </a:lnTo>
                  <a:lnTo>
                    <a:pt x="0" y="12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788160" y="3240000"/>
              <a:ext cx="11160" cy="155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79932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81192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823080" y="3240000"/>
              <a:ext cx="11160" cy="155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834240" y="3240000"/>
              <a:ext cx="1260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846840" y="3240000"/>
              <a:ext cx="1116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5800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916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81760" y="3240000"/>
              <a:ext cx="11160" cy="155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788160" y="3240000"/>
              <a:ext cx="104760" cy="1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788160" y="32036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799320" y="320364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811920" y="3203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82308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834240" y="320364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846840" y="3203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858000" y="3203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869160" y="32036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881760" y="32036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89292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904080" y="320364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916680" y="32036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927840" y="3203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788160" y="3203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892920" y="314496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904080" y="314496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916680" y="314496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927840" y="314496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892920" y="3144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88160" y="3179880"/>
              <a:ext cx="1116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9932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81192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823080" y="317988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834240" y="317988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846840" y="317988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85800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6916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881760" y="317988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788160" y="3179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8160" y="31449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799320" y="31449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811920" y="31449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82308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834240" y="31449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846840" y="31449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858000" y="31449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869160" y="314496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881760" y="31449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89292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904080" y="314496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916680" y="31449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27840" y="31449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788160" y="3144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892920" y="3073320"/>
              <a:ext cx="11160" cy="119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904080" y="3073320"/>
              <a:ext cx="1260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916680" y="3073320"/>
              <a:ext cx="1116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927840" y="3073320"/>
              <a:ext cx="11160" cy="119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892920" y="3073320"/>
              <a:ext cx="34920" cy="1065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0" y="6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788160" y="3097080"/>
              <a:ext cx="11160" cy="82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79932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81192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823080" y="3097080"/>
              <a:ext cx="11160" cy="82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834240" y="3097080"/>
              <a:ext cx="1260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846840" y="3097080"/>
              <a:ext cx="1116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85800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86916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881760" y="3097080"/>
              <a:ext cx="11160" cy="82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788160" y="3097080"/>
              <a:ext cx="104760" cy="8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788160" y="3073320"/>
              <a:ext cx="111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799320" y="307332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811920" y="307332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82308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834240" y="307332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46840" y="307332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58000" y="307332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869160" y="307332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881760" y="307332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89292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04080" y="307332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16680" y="307332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927840" y="307332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88160" y="30733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159680" y="3645000"/>
              <a:ext cx="11160" cy="17301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170840" y="3645000"/>
              <a:ext cx="1260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83440" y="3645000"/>
              <a:ext cx="1116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194600" y="3645000"/>
              <a:ext cx="11160" cy="1730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159680" y="3645000"/>
              <a:ext cx="34920" cy="1719000"/>
            </a:xfrm>
            <a:custGeom>
              <a:avLst/>
              <a:gdLst/>
              <a:ahLst/>
              <a:rect l="l" t="t" r="r" b="b"/>
              <a:pathLst>
                <a:path w="22" h="1083">
                  <a:moveTo>
                    <a:pt x="0" y="10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068"/>
                  </a:lnTo>
                  <a:lnTo>
                    <a:pt x="0" y="10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054920" y="3681360"/>
              <a:ext cx="12600" cy="1682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7520" y="3681360"/>
              <a:ext cx="1116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07868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89840" y="3681360"/>
              <a:ext cx="12600" cy="1682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0244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11360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12476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135920" y="3681360"/>
              <a:ext cx="1260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148520" y="3681360"/>
              <a:ext cx="11160" cy="1682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54920" y="3681360"/>
              <a:ext cx="104760" cy="16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054920" y="364500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06752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078680" y="364500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089840" y="364500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10244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113600" y="3645000"/>
              <a:ext cx="1116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124760" y="364500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135920" y="364500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14852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159680" y="364500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170840" y="364500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344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194600" y="3645000"/>
              <a:ext cx="11160" cy="489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054920" y="36450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159680" y="3097080"/>
              <a:ext cx="11160" cy="5968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170840" y="3097080"/>
              <a:ext cx="1260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183440" y="3097080"/>
              <a:ext cx="1116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194600" y="3097080"/>
              <a:ext cx="11160" cy="5968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159680" y="3097080"/>
              <a:ext cx="34920" cy="584280"/>
            </a:xfrm>
            <a:custGeom>
              <a:avLst/>
              <a:gdLst/>
              <a:ahLst/>
              <a:rect l="l" t="t" r="r" b="b"/>
              <a:pathLst>
                <a:path w="22" h="368">
                  <a:moveTo>
                    <a:pt x="0" y="36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45"/>
                  </a:lnTo>
                  <a:lnTo>
                    <a:pt x="0" y="3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054920" y="3132000"/>
              <a:ext cx="12600" cy="549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067520" y="3132000"/>
              <a:ext cx="1116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07868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089840" y="3132000"/>
              <a:ext cx="12600" cy="549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10244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11360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12476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135920" y="3132000"/>
              <a:ext cx="1260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148520" y="3132000"/>
              <a:ext cx="111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054920" y="3132000"/>
              <a:ext cx="104760" cy="54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054920" y="309708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06752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0" name=""/>
          <p:cNvGrpSpPr/>
          <p:nvPr/>
        </p:nvGrpSpPr>
        <p:grpSpPr>
          <a:xfrm>
            <a:off x="7054920" y="2727360"/>
            <a:ext cx="430200" cy="2647800"/>
            <a:chOff x="7054920" y="2727360"/>
            <a:chExt cx="430200" cy="2647800"/>
          </a:xfrm>
        </p:grpSpPr>
        <p:sp>
          <p:nvSpPr>
            <p:cNvPr id="5931" name=""/>
            <p:cNvSpPr/>
            <p:nvPr/>
          </p:nvSpPr>
          <p:spPr>
            <a:xfrm>
              <a:off x="7078680" y="309708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089840" y="309708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10244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113600" y="309708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124760" y="309708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135920" y="309708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14852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159680" y="309708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170840" y="309708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18344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194600" y="309708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54920" y="30970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159680" y="2870280"/>
              <a:ext cx="11160" cy="274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170840" y="2870280"/>
              <a:ext cx="1260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183440" y="2870280"/>
              <a:ext cx="1116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194600" y="2870280"/>
              <a:ext cx="11160" cy="274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159680" y="2870280"/>
              <a:ext cx="34920" cy="26172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16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43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054920" y="2894040"/>
              <a:ext cx="12600" cy="237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067520" y="2894040"/>
              <a:ext cx="1116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07868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089840" y="2894040"/>
              <a:ext cx="12600" cy="237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10244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11360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12476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135920" y="2894040"/>
              <a:ext cx="1260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148520" y="2894040"/>
              <a:ext cx="11160" cy="237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054920" y="2894040"/>
              <a:ext cx="104760" cy="23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054920" y="287028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06752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078680" y="287028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89840" y="287028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10244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113600" y="2870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124760" y="2870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135920" y="2870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14852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159680" y="2870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170840" y="2870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18344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194600" y="2870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054920" y="28702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159680" y="2798640"/>
              <a:ext cx="11160" cy="1080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170840" y="2798640"/>
              <a:ext cx="1260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83440" y="279864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94600" y="2798640"/>
              <a:ext cx="1116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159680" y="27986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54920" y="2822400"/>
              <a:ext cx="12600" cy="7164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67520" y="2822400"/>
              <a:ext cx="1116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7868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089840" y="2822400"/>
              <a:ext cx="12600" cy="7164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10244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11360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12476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135920" y="2822400"/>
              <a:ext cx="1260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148520" y="2822400"/>
              <a:ext cx="1116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054920" y="2822400"/>
              <a:ext cx="10476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054920" y="2798640"/>
              <a:ext cx="1260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6752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078680" y="27986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089840" y="27986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10244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113600" y="27986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124760" y="27986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135920" y="27986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714852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159680" y="27986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170840" y="2798640"/>
              <a:ext cx="1260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8344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94600" y="27986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054920" y="27986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159680" y="2727360"/>
              <a:ext cx="111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170840" y="2727360"/>
              <a:ext cx="126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183440" y="272736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194600" y="2727360"/>
              <a:ext cx="111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159680" y="27273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054920" y="2751120"/>
              <a:ext cx="12600" cy="712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067520" y="2751120"/>
              <a:ext cx="1116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07868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089840" y="2751120"/>
              <a:ext cx="12600" cy="712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0244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11360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12476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7135920" y="2751120"/>
              <a:ext cx="1260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148520" y="2751120"/>
              <a:ext cx="11160" cy="71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054920" y="27511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054920" y="2727360"/>
              <a:ext cx="1260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06752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078680" y="272736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089840" y="272736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710244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7113600" y="272736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124760" y="2727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135920" y="2727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14852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159680" y="272736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170840" y="272736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8344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94600" y="2727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054920" y="2727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426440" y="3633840"/>
              <a:ext cx="11160" cy="174132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437600" y="3633840"/>
              <a:ext cx="12600" cy="174132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45020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746136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2520" y="3633840"/>
              <a:ext cx="12600" cy="17413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426440" y="3633840"/>
              <a:ext cx="46080" cy="1730160"/>
            </a:xfrm>
            <a:custGeom>
              <a:avLst/>
              <a:gdLst/>
              <a:ahLst/>
              <a:rect l="l" t="t" r="r" b="b"/>
              <a:pathLst>
                <a:path w="29" h="1090">
                  <a:moveTo>
                    <a:pt x="0" y="109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1075"/>
                  </a:lnTo>
                  <a:lnTo>
                    <a:pt x="0" y="10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7321680" y="3657600"/>
              <a:ext cx="12600" cy="17064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33428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345440" y="3657600"/>
              <a:ext cx="1116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56600" y="3657600"/>
              <a:ext cx="12600" cy="17064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6920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8036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391520" y="3657600"/>
              <a:ext cx="1260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40412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415280" y="3657600"/>
              <a:ext cx="11160" cy="1706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321680" y="3657600"/>
              <a:ext cx="104760" cy="170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321680" y="36338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33428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34544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356600" y="36338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36920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38036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91520" y="36338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404120" y="36338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1528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42644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437600" y="36338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45020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46136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472520" y="36338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7321680" y="36338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7426440" y="3049560"/>
              <a:ext cx="11160" cy="6192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7437600" y="3049560"/>
              <a:ext cx="12600" cy="6192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745020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746136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7472520" y="3049560"/>
              <a:ext cx="12600" cy="61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426440" y="3049560"/>
              <a:ext cx="46080" cy="60804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38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68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321680" y="3073320"/>
              <a:ext cx="12600" cy="584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733428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45440" y="3073320"/>
              <a:ext cx="1116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7356600" y="3073320"/>
              <a:ext cx="12600" cy="584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36920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38036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391520" y="3073320"/>
              <a:ext cx="1260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40412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7415280" y="3073320"/>
              <a:ext cx="11160" cy="58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321680" y="3073320"/>
              <a:ext cx="104760" cy="58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21680" y="3049560"/>
              <a:ext cx="1260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33428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34544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356600" y="3049560"/>
              <a:ext cx="1260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6920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8036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391520" y="304956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404120" y="304956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41528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42644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437600" y="3049560"/>
              <a:ext cx="126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45020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46136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472520" y="304956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7321680" y="3049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7426440" y="2894040"/>
              <a:ext cx="11160" cy="1904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7437600" y="2894040"/>
              <a:ext cx="12600" cy="1904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745020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746136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7472520" y="2894040"/>
              <a:ext cx="12600" cy="190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426440" y="289404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321680" y="2930400"/>
              <a:ext cx="12600" cy="1429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33428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7345440" y="2930400"/>
              <a:ext cx="1116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7356600" y="2930400"/>
              <a:ext cx="12600" cy="1429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36920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38036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391520" y="2930400"/>
              <a:ext cx="1260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40412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415280" y="2930400"/>
              <a:ext cx="11160" cy="14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7321680" y="2930400"/>
              <a:ext cx="1047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7321680" y="289404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733428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34544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7356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736920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738036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7391520" y="28940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7404120" y="28940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741528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742644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7437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745020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746136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472520" y="28940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321680" y="28940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426440" y="2833560"/>
              <a:ext cx="11160" cy="108000"/>
            </a:xfrm>
            <a:prstGeom prst="rect">
              <a:avLst/>
            </a:prstGeom>
            <a:solidFill>
              <a:srgbClr val="7f7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437600" y="2833560"/>
              <a:ext cx="12600" cy="108000"/>
            </a:xfrm>
            <a:prstGeom prst="rect">
              <a:avLst/>
            </a:prstGeom>
            <a:solidFill>
              <a:srgbClr val="797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45020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46136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472520" y="2833560"/>
              <a:ext cx="1260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426440" y="283356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61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321680" y="2857680"/>
              <a:ext cx="12600" cy="727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3428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1" name=""/>
          <p:cNvGrpSpPr/>
          <p:nvPr/>
        </p:nvGrpSpPr>
        <p:grpSpPr>
          <a:xfrm>
            <a:off x="7321680" y="2500200"/>
            <a:ext cx="430200" cy="2874960"/>
            <a:chOff x="7321680" y="2500200"/>
            <a:chExt cx="430200" cy="2874960"/>
          </a:xfrm>
        </p:grpSpPr>
        <p:sp>
          <p:nvSpPr>
            <p:cNvPr id="6132" name=""/>
            <p:cNvSpPr/>
            <p:nvPr/>
          </p:nvSpPr>
          <p:spPr>
            <a:xfrm>
              <a:off x="7345440" y="2857680"/>
              <a:ext cx="1116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356600" y="2857680"/>
              <a:ext cx="12600" cy="727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36920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38036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391520" y="2857680"/>
              <a:ext cx="1260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40412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415280" y="2857680"/>
              <a:ext cx="111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21680" y="2857680"/>
              <a:ext cx="104760" cy="72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321680" y="283356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33428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34544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356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36920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38036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7391520" y="28335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404120" y="28335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41528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742644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7437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745020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746136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7472520" y="283356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73216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426440" y="2786040"/>
              <a:ext cx="11160" cy="8424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437600" y="2786040"/>
              <a:ext cx="12600" cy="8424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745020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46136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472520" y="2786040"/>
              <a:ext cx="1260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426440" y="278604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7321680" y="2809800"/>
              <a:ext cx="12600" cy="478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733428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7345440" y="2809800"/>
              <a:ext cx="1116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7356600" y="2809800"/>
              <a:ext cx="12600" cy="478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736920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38036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7391520" y="2809800"/>
              <a:ext cx="1260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740412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415280" y="2809800"/>
              <a:ext cx="11160" cy="47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321680" y="280980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321680" y="2786040"/>
              <a:ext cx="126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733428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734544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7356600" y="278604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36920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38036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7391520" y="27860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404120" y="27860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741528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742644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7437600" y="278604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745020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746136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7472520" y="278604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7321680" y="2786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705800" y="3454560"/>
              <a:ext cx="11160" cy="1920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7716960" y="3454560"/>
              <a:ext cx="1116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28120" y="3454560"/>
              <a:ext cx="1260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740720" y="3454560"/>
              <a:ext cx="11160" cy="1920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705800" y="3454560"/>
              <a:ext cx="34920" cy="1909440"/>
            </a:xfrm>
            <a:custGeom>
              <a:avLst/>
              <a:gdLst/>
              <a:ahLst/>
              <a:rect l="l" t="t" r="r" b="b"/>
              <a:pathLst>
                <a:path w="22" h="1203">
                  <a:moveTo>
                    <a:pt x="0" y="120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88"/>
                  </a:lnTo>
                  <a:lnTo>
                    <a:pt x="0" y="120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89880" y="3478320"/>
              <a:ext cx="11160" cy="18856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601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612200" y="3478320"/>
              <a:ext cx="10800" cy="18856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623000" y="3478320"/>
              <a:ext cx="1296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763596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764712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658280" y="3478320"/>
              <a:ext cx="1260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7670880" y="3478320"/>
              <a:ext cx="11160" cy="18856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82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93200" y="3478320"/>
              <a:ext cx="12600" cy="1885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7589880" y="3478320"/>
              <a:ext cx="115920" cy="18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7589880" y="34545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7601040" y="345456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7612200" y="3454560"/>
              <a:ext cx="108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7623000" y="3454560"/>
              <a:ext cx="129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7635960" y="345456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764712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7658280" y="34545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7670880" y="34545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768204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7693200" y="345456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7705800" y="345456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716960" y="345456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7728120" y="3454560"/>
              <a:ext cx="1260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740720" y="34545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7589880" y="3454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705800" y="2833560"/>
              <a:ext cx="11160" cy="657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7716960" y="2833560"/>
              <a:ext cx="1116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7728120" y="2833560"/>
              <a:ext cx="1260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7740720" y="2833560"/>
              <a:ext cx="11160" cy="6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7705800" y="2833560"/>
              <a:ext cx="34920" cy="644760"/>
            </a:xfrm>
            <a:custGeom>
              <a:avLst/>
              <a:gdLst/>
              <a:ahLst/>
              <a:rect l="l" t="t" r="r" b="b"/>
              <a:pathLst>
                <a:path w="22" h="406">
                  <a:moveTo>
                    <a:pt x="0" y="40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91"/>
                  </a:lnTo>
                  <a:lnTo>
                    <a:pt x="0" y="4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7589880" y="2857680"/>
              <a:ext cx="11160" cy="620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7601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12200" y="2857680"/>
              <a:ext cx="1080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623000" y="2857680"/>
              <a:ext cx="1296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63596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64712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58280" y="2857680"/>
              <a:ext cx="1260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670880" y="2857680"/>
              <a:ext cx="1116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682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693200" y="2857680"/>
              <a:ext cx="12600" cy="620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589880" y="2857680"/>
              <a:ext cx="1159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589880" y="283356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601040" y="283356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612200" y="2833560"/>
              <a:ext cx="108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23000" y="2833560"/>
              <a:ext cx="129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35960" y="2833560"/>
              <a:ext cx="1116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64712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658280" y="28335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670880" y="28335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8204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3200" y="283356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05800" y="283356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716960" y="2833560"/>
              <a:ext cx="1116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728120" y="2833560"/>
              <a:ext cx="1260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740720" y="283356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898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705800" y="2631960"/>
              <a:ext cx="11160" cy="238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716960" y="2631960"/>
              <a:ext cx="1116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728120" y="2631960"/>
              <a:ext cx="1260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740720" y="2631960"/>
              <a:ext cx="11160" cy="238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705800" y="2631960"/>
              <a:ext cx="34920" cy="22572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0" y="14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7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9880" y="2655720"/>
              <a:ext cx="11160" cy="2019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601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12200" y="2655720"/>
              <a:ext cx="10800" cy="2019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623000" y="2655720"/>
              <a:ext cx="1296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63596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64712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658280" y="2655720"/>
              <a:ext cx="1260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670880" y="2655720"/>
              <a:ext cx="11160" cy="2019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682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693200" y="2655720"/>
              <a:ext cx="12600" cy="20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589880" y="2655720"/>
              <a:ext cx="115920" cy="201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589880" y="26319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601040" y="26319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612200" y="2631960"/>
              <a:ext cx="108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623000" y="2631960"/>
              <a:ext cx="129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635960" y="26319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64712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658280" y="263196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670880" y="26319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68204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693200" y="2631960"/>
              <a:ext cx="126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705800" y="26319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716960" y="263196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728120" y="263196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740720" y="26319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589880" y="26319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705800" y="256068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716960" y="256068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728120" y="256068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740720" y="256068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05800" y="25606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89880" y="258444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601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612200" y="2584440"/>
              <a:ext cx="1080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23000" y="258444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63596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64712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658280" y="2584440"/>
              <a:ext cx="126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670880" y="258444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682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693200" y="2584440"/>
              <a:ext cx="126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589880" y="258444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589880" y="256068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601040" y="256068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612200" y="2560680"/>
              <a:ext cx="108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623000" y="2560680"/>
              <a:ext cx="129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635960" y="256068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4712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7658280" y="256068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7670880" y="256068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68204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693200" y="256068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7705800" y="256068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7716960" y="256068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728120" y="256068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740720" y="256068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7589880" y="2560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705800" y="2500200"/>
              <a:ext cx="11160" cy="954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716960" y="2500200"/>
              <a:ext cx="1116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728120" y="2500200"/>
              <a:ext cx="1260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740720" y="2500200"/>
              <a:ext cx="11160" cy="954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705800" y="25002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589880" y="2536920"/>
              <a:ext cx="11160" cy="475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601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12200" y="2536920"/>
              <a:ext cx="10800" cy="475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623000" y="2536920"/>
              <a:ext cx="1296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3596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64712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658280" y="2536920"/>
              <a:ext cx="1260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670880" y="2536920"/>
              <a:ext cx="11160" cy="475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682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693200" y="253692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89880" y="2536920"/>
              <a:ext cx="11592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589880" y="2500200"/>
              <a:ext cx="11160" cy="4788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601040" y="2500200"/>
              <a:ext cx="1116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12200" y="2500200"/>
              <a:ext cx="1080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623000" y="2500200"/>
              <a:ext cx="12960" cy="4788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635960" y="2500200"/>
              <a:ext cx="1116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4712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2" name=""/>
          <p:cNvGrpSpPr/>
          <p:nvPr/>
        </p:nvGrpSpPr>
        <p:grpSpPr>
          <a:xfrm>
            <a:off x="7589880" y="2344680"/>
            <a:ext cx="695160" cy="3030480"/>
            <a:chOff x="7589880" y="2344680"/>
            <a:chExt cx="695160" cy="3030480"/>
          </a:xfrm>
        </p:grpSpPr>
        <p:sp>
          <p:nvSpPr>
            <p:cNvPr id="6333" name=""/>
            <p:cNvSpPr/>
            <p:nvPr/>
          </p:nvSpPr>
          <p:spPr>
            <a:xfrm>
              <a:off x="7658280" y="250020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7670880" y="250020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768204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7693200" y="2500200"/>
              <a:ext cx="1260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7705800" y="2500200"/>
              <a:ext cx="11160" cy="4788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7716960" y="2500200"/>
              <a:ext cx="1116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7728120" y="2500200"/>
              <a:ext cx="1260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7740720" y="250020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7589880" y="250020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7972560" y="3371760"/>
              <a:ext cx="10800" cy="20034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983360" y="3371760"/>
              <a:ext cx="111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94520" y="3371760"/>
              <a:ext cx="129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007480" y="3371760"/>
              <a:ext cx="11160" cy="20034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972560" y="3371760"/>
              <a:ext cx="34920" cy="1992240"/>
            </a:xfrm>
            <a:custGeom>
              <a:avLst/>
              <a:gdLst/>
              <a:ahLst/>
              <a:rect l="l" t="t" r="r" b="b"/>
              <a:pathLst>
                <a:path w="22" h="1255">
                  <a:moveTo>
                    <a:pt x="0" y="125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40"/>
                  </a:lnTo>
                  <a:lnTo>
                    <a:pt x="0" y="125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7856640" y="3406680"/>
              <a:ext cx="11160" cy="19573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867800" y="3406680"/>
              <a:ext cx="1080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878600" y="3406680"/>
              <a:ext cx="12960" cy="19573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891560" y="3406680"/>
              <a:ext cx="111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902720" y="3406680"/>
              <a:ext cx="1080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913520" y="3406680"/>
              <a:ext cx="1116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924680" y="3406680"/>
              <a:ext cx="129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937640" y="3406680"/>
              <a:ext cx="10800" cy="19573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948440" y="3406680"/>
              <a:ext cx="1116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959600" y="3406680"/>
              <a:ext cx="12960" cy="1957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856640" y="3406680"/>
              <a:ext cx="115920" cy="1957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856640" y="337176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867800" y="3371760"/>
              <a:ext cx="108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878600" y="337176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891560" y="3371760"/>
              <a:ext cx="1116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902720" y="337176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91352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924680" y="337176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7937640" y="337176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94844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7959600" y="3371760"/>
              <a:ext cx="129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7972560" y="3371760"/>
              <a:ext cx="1080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7983360" y="337176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7994520" y="3371760"/>
              <a:ext cx="129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007480" y="337176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7856640" y="337176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972560" y="2703600"/>
              <a:ext cx="10800" cy="7160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983360" y="2703600"/>
              <a:ext cx="111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994520" y="2703600"/>
              <a:ext cx="129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007480" y="2703600"/>
              <a:ext cx="11160" cy="716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972560" y="2703600"/>
              <a:ext cx="34920" cy="703080"/>
            </a:xfrm>
            <a:custGeom>
              <a:avLst/>
              <a:gdLst/>
              <a:ahLst/>
              <a:rect l="l" t="t" r="r" b="b"/>
              <a:pathLst>
                <a:path w="22" h="443">
                  <a:moveTo>
                    <a:pt x="0" y="44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1"/>
                  </a:lnTo>
                  <a:lnTo>
                    <a:pt x="0" y="4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856640" y="2727360"/>
              <a:ext cx="1116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867800" y="2727360"/>
              <a:ext cx="1080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78600" y="2727360"/>
              <a:ext cx="1296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891560" y="272736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7902720" y="2727360"/>
              <a:ext cx="108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13520" y="272736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7924680" y="2727360"/>
              <a:ext cx="129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937640" y="2727360"/>
              <a:ext cx="108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948440" y="272736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959600" y="2727360"/>
              <a:ext cx="1296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856640" y="2727360"/>
              <a:ext cx="11592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856640" y="270360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867800" y="2703600"/>
              <a:ext cx="108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878600" y="2703600"/>
              <a:ext cx="129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891560" y="270360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902720" y="2703600"/>
              <a:ext cx="108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91352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924680" y="27036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937640" y="27036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94844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959600" y="2703600"/>
              <a:ext cx="129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972560" y="2703600"/>
              <a:ext cx="108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83360" y="270360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994520" y="2703600"/>
              <a:ext cx="129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8007480" y="27036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856640" y="27036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972560" y="2452680"/>
              <a:ext cx="10800" cy="285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983360" y="2452680"/>
              <a:ext cx="111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4520" y="2452680"/>
              <a:ext cx="129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007480" y="2452680"/>
              <a:ext cx="11160" cy="285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7972560" y="2452680"/>
              <a:ext cx="34920" cy="27468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7856640" y="2476440"/>
              <a:ext cx="11160" cy="25092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867800" y="2476440"/>
              <a:ext cx="1080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878600" y="2476440"/>
              <a:ext cx="12960" cy="25092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891560" y="2476440"/>
              <a:ext cx="111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902720" y="2476440"/>
              <a:ext cx="1080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913520" y="2476440"/>
              <a:ext cx="1116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924680" y="2476440"/>
              <a:ext cx="129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937640" y="2476440"/>
              <a:ext cx="10800" cy="25092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948440" y="2476440"/>
              <a:ext cx="1116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959600" y="2476440"/>
              <a:ext cx="12960" cy="250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856640" y="2476440"/>
              <a:ext cx="115920" cy="250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7856640" y="245268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7867800" y="2452680"/>
              <a:ext cx="108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787860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78915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90272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791352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7924680" y="245268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79376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794844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959600" y="2452680"/>
              <a:ext cx="129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7256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98336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7994520" y="2452680"/>
              <a:ext cx="129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0074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856640" y="2452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7972560" y="2381400"/>
              <a:ext cx="1080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798336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7994520" y="2381400"/>
              <a:ext cx="129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80074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9725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856640" y="240516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867800" y="2405160"/>
              <a:ext cx="1080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87860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891560" y="2405160"/>
              <a:ext cx="111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902720" y="2405160"/>
              <a:ext cx="1080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9135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924680" y="240516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937640" y="2405160"/>
              <a:ext cx="1080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94844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959600" y="2405160"/>
              <a:ext cx="129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856640" y="240516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856640" y="238140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7867800" y="2381400"/>
              <a:ext cx="108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87860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78915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90272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91352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7924680" y="2381400"/>
              <a:ext cx="129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79376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94844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959600" y="2381400"/>
              <a:ext cx="129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97256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98336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7994520" y="2381400"/>
              <a:ext cx="129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0074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856640" y="23814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7972560" y="2344680"/>
              <a:ext cx="1080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98336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994520" y="2344680"/>
              <a:ext cx="129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0074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9725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856640" y="2368440"/>
              <a:ext cx="11160" cy="367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867800" y="2368440"/>
              <a:ext cx="1080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878600" y="2368440"/>
              <a:ext cx="12960" cy="367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891560" y="2368440"/>
              <a:ext cx="111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902720" y="2368440"/>
              <a:ext cx="1080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913520" y="2368440"/>
              <a:ext cx="1116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924680" y="2368440"/>
              <a:ext cx="129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937640" y="2368440"/>
              <a:ext cx="10800" cy="367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7948440" y="2368440"/>
              <a:ext cx="1116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959600" y="2368440"/>
              <a:ext cx="12960" cy="36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56640" y="2368440"/>
              <a:ext cx="1159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856640" y="2344680"/>
              <a:ext cx="11160" cy="367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867800" y="2344680"/>
              <a:ext cx="1080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878600" y="2344680"/>
              <a:ext cx="129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891560" y="2344680"/>
              <a:ext cx="11160" cy="367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902720" y="2344680"/>
              <a:ext cx="1080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91352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24680" y="2344680"/>
              <a:ext cx="129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37640" y="2344680"/>
              <a:ext cx="108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4844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59600" y="2344680"/>
              <a:ext cx="1296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972560" y="2344680"/>
              <a:ext cx="10800" cy="367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983360" y="2344680"/>
              <a:ext cx="111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4520" y="2344680"/>
              <a:ext cx="1296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8007480" y="234468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7856640" y="2344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823896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825012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82612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827388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823896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8123400" y="3430440"/>
              <a:ext cx="10800" cy="1933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8134200" y="3430440"/>
              <a:ext cx="111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8145360" y="3430440"/>
              <a:ext cx="12960" cy="1933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815832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816912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180280" y="3430440"/>
              <a:ext cx="129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819324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8204040" y="3430440"/>
              <a:ext cx="11160" cy="1933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8215200" y="3430440"/>
              <a:ext cx="129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8228160" y="3430440"/>
              <a:ext cx="1080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8123400" y="3430440"/>
              <a:ext cx="1155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8123400" y="3395520"/>
              <a:ext cx="1080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8134200" y="3395520"/>
              <a:ext cx="111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8145360" y="339552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8158320" y="3395520"/>
              <a:ext cx="1080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8169120" y="3395520"/>
              <a:ext cx="111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818028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193240" y="339552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820404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821520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8228160" y="339552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8238960" y="3395520"/>
              <a:ext cx="1116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8250120" y="339552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261280" y="3395520"/>
              <a:ext cx="126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27388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123400" y="3395520"/>
              <a:ext cx="15048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8238960" y="2714760"/>
              <a:ext cx="11160" cy="728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8250120" y="2714760"/>
              <a:ext cx="1116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8261280" y="2714760"/>
              <a:ext cx="1260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273880" y="2714760"/>
              <a:ext cx="11160" cy="72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8238960" y="271476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9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8123400" y="2344680"/>
            <a:ext cx="428400" cy="3030480"/>
            <a:chOff x="8123400" y="2344680"/>
            <a:chExt cx="428400" cy="3030480"/>
          </a:xfrm>
        </p:grpSpPr>
        <p:sp>
          <p:nvSpPr>
            <p:cNvPr id="6534" name=""/>
            <p:cNvSpPr/>
            <p:nvPr/>
          </p:nvSpPr>
          <p:spPr>
            <a:xfrm>
              <a:off x="8123400" y="2738520"/>
              <a:ext cx="10800" cy="6919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8134200" y="2738520"/>
              <a:ext cx="111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8145360" y="2738520"/>
              <a:ext cx="129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815832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8169120" y="2738520"/>
              <a:ext cx="111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8180280" y="2738520"/>
              <a:ext cx="129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819324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8204040" y="2738520"/>
              <a:ext cx="111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215200" y="2738520"/>
              <a:ext cx="129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8228160" y="2738520"/>
              <a:ext cx="10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8123400" y="2738520"/>
              <a:ext cx="115560" cy="69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123400" y="271476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134200" y="271476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145360" y="2714760"/>
              <a:ext cx="129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58320" y="2714760"/>
              <a:ext cx="108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69120" y="271476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18028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193240" y="2714760"/>
              <a:ext cx="108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204040" y="271476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21520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28160" y="2714760"/>
              <a:ext cx="108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238960" y="271476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250120" y="271476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61280" y="271476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273880" y="271476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123400" y="271476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38960" y="2452680"/>
              <a:ext cx="11160" cy="298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250120" y="2452680"/>
              <a:ext cx="1116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1280" y="2452680"/>
              <a:ext cx="1260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273880" y="2452680"/>
              <a:ext cx="11160" cy="298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238960" y="2452680"/>
              <a:ext cx="34920" cy="285840"/>
            </a:xfrm>
            <a:custGeom>
              <a:avLst/>
              <a:gdLst/>
              <a:ahLst/>
              <a:rect l="l" t="t" r="r" b="b"/>
              <a:pathLst>
                <a:path w="22" h="180">
                  <a:moveTo>
                    <a:pt x="0" y="18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5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23400" y="2476440"/>
              <a:ext cx="10800" cy="26208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134200" y="2476440"/>
              <a:ext cx="111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145360" y="2476440"/>
              <a:ext cx="12960" cy="26208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15832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69120" y="2476440"/>
              <a:ext cx="111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180280" y="2476440"/>
              <a:ext cx="129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9324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204040" y="2476440"/>
              <a:ext cx="11160" cy="26208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215200" y="2476440"/>
              <a:ext cx="129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228160" y="2476440"/>
              <a:ext cx="10800" cy="262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123400" y="2476440"/>
              <a:ext cx="115560" cy="26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123400" y="2452680"/>
              <a:ext cx="1080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134200" y="245268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14536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15832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8169120" y="245268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818028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81932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8204040" y="24526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821520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822816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82389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825012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8261280" y="245268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82738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8123400" y="245268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8238960" y="238140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825012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8261280" y="238140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82738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82389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123400" y="2405160"/>
              <a:ext cx="1080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813420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14536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815832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81691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8180280" y="2405160"/>
              <a:ext cx="129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819324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8204040" y="240516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8215200" y="2405160"/>
              <a:ext cx="129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8228160" y="2405160"/>
              <a:ext cx="108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8123400" y="2405160"/>
              <a:ext cx="1155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8123400" y="2381400"/>
              <a:ext cx="1080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8134200" y="238140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814536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815832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8169120" y="238140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818028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81932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8204040" y="238140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21520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822816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82389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825012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261280" y="238140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82738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123400" y="238140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238960" y="23446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25012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261280" y="23446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2738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82389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8123400" y="2381400"/>
              <a:ext cx="10800" cy="237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134200" y="2381400"/>
              <a:ext cx="111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145360" y="2381400"/>
              <a:ext cx="12960" cy="237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15832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8169120" y="238140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8180280" y="2381400"/>
              <a:ext cx="129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819324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8204040" y="2381400"/>
              <a:ext cx="11160" cy="237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215200" y="2381400"/>
              <a:ext cx="129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228160" y="2381400"/>
              <a:ext cx="1080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8123400" y="2381400"/>
              <a:ext cx="115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123400" y="2344680"/>
              <a:ext cx="1080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134200" y="234468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145360" y="2344680"/>
              <a:ext cx="129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8158320" y="2344680"/>
              <a:ext cx="1080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169120" y="234468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18028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8193240" y="23446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04040" y="23446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21520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228160" y="2344680"/>
              <a:ext cx="108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238960" y="234468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250120" y="234468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1280" y="234468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273880" y="23446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123400" y="2344680"/>
              <a:ext cx="15048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50572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5168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52948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54064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50572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8400960" y="3430440"/>
              <a:ext cx="11160" cy="1933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41212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2472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435880" y="3430440"/>
              <a:ext cx="11160" cy="1933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447040" y="3430440"/>
              <a:ext cx="1260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45964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847080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48196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8494560" y="3430440"/>
              <a:ext cx="1116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8400960" y="3430440"/>
              <a:ext cx="1047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8400960" y="339552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412120" y="3395520"/>
              <a:ext cx="126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8424720" y="339552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843588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8447040" y="3395520"/>
              <a:ext cx="126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8459640" y="3395520"/>
              <a:ext cx="1116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47080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8481960" y="3395520"/>
              <a:ext cx="126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494560" y="339552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850572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8516880" y="3395520"/>
              <a:ext cx="126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529480" y="339552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54064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400960" y="339552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8505720" y="2690640"/>
              <a:ext cx="11160" cy="752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8516880" y="2690640"/>
              <a:ext cx="1260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8529480" y="2690640"/>
              <a:ext cx="1116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8540640" y="2690640"/>
              <a:ext cx="11160" cy="752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505720" y="2690640"/>
              <a:ext cx="34920" cy="739800"/>
            </a:xfrm>
            <a:custGeom>
              <a:avLst/>
              <a:gdLst/>
              <a:ahLst/>
              <a:rect l="l" t="t" r="r" b="b"/>
              <a:pathLst>
                <a:path w="22" h="466">
                  <a:moveTo>
                    <a:pt x="0" y="46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44"/>
                  </a:lnTo>
                  <a:lnTo>
                    <a:pt x="0" y="46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8400960" y="2727360"/>
              <a:ext cx="11160" cy="703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841212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842472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8435880" y="2727360"/>
              <a:ext cx="11160" cy="703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447040" y="2727360"/>
              <a:ext cx="1260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8459640" y="2727360"/>
              <a:ext cx="1116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847080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848196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494560" y="2727360"/>
              <a:ext cx="11160" cy="70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400960" y="2727360"/>
              <a:ext cx="104760" cy="70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400960" y="269064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412120" y="269064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424720" y="269064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43588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447040" y="269064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459640" y="269064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8470800" y="269064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481960" y="269064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494560" y="269064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50572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516880" y="269064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529480" y="269064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540640" y="269064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400960" y="2690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505720" y="2344680"/>
              <a:ext cx="11160" cy="393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516880" y="2344680"/>
              <a:ext cx="1260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529480" y="2344680"/>
              <a:ext cx="1116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540640" y="2344680"/>
              <a:ext cx="11160" cy="393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505720" y="234468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24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8"/>
                  </a:lnTo>
                  <a:lnTo>
                    <a:pt x="0" y="24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400960" y="2381400"/>
              <a:ext cx="11160" cy="345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41212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42472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435880" y="2381400"/>
              <a:ext cx="11160" cy="345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447040" y="2381400"/>
              <a:ext cx="1260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459640" y="2381400"/>
              <a:ext cx="1116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47080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48196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494560" y="2381400"/>
              <a:ext cx="11160" cy="345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400960" y="2381400"/>
              <a:ext cx="104760" cy="34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400960" y="234468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412120" y="234468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424720" y="23446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435880" y="23446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447040" y="23446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459640" y="23446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470800" y="23446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481960" y="23446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94560" y="2344680"/>
            <a:ext cx="11160" cy="4752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8505720" y="2344680"/>
            <a:ext cx="11160" cy="4752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8516880" y="2344680"/>
            <a:ext cx="12600" cy="4752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529480" y="2344680"/>
            <a:ext cx="11160" cy="4752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540640" y="2344680"/>
            <a:ext cx="11160" cy="4752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8400960" y="234468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505720" y="2273400"/>
            <a:ext cx="11160" cy="11880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8516880" y="2273400"/>
            <a:ext cx="1260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8529480" y="2273400"/>
            <a:ext cx="1116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540640" y="2273400"/>
            <a:ext cx="11160" cy="1188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505720" y="2273400"/>
            <a:ext cx="34920" cy="108000"/>
          </a:xfrm>
          <a:custGeom>
            <a:avLst/>
            <a:gdLst/>
            <a:ahLst/>
            <a:rect l="l" t="t" r="r" b="b"/>
            <a:pathLst>
              <a:path w="22" h="68">
                <a:moveTo>
                  <a:pt x="0" y="68"/>
                </a:moveTo>
                <a:lnTo>
                  <a:pt x="0" y="23"/>
                </a:lnTo>
                <a:lnTo>
                  <a:pt x="22" y="0"/>
                </a:lnTo>
                <a:lnTo>
                  <a:pt x="22" y="45"/>
                </a:lnTo>
                <a:lnTo>
                  <a:pt x="0" y="6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400960" y="2309760"/>
            <a:ext cx="11160" cy="7164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41212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42472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435880" y="2309760"/>
            <a:ext cx="11160" cy="7164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447040" y="2309760"/>
            <a:ext cx="1260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459640" y="2309760"/>
            <a:ext cx="1116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47080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48196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94560" y="2309760"/>
            <a:ext cx="1116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8400960" y="2309760"/>
            <a:ext cx="104760" cy="71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8400960" y="2273400"/>
            <a:ext cx="11160" cy="4752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8412120" y="2273400"/>
            <a:ext cx="1260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8424720" y="2273400"/>
            <a:ext cx="1116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843588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47040" y="2273400"/>
            <a:ext cx="1260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8459640" y="2273400"/>
            <a:ext cx="11160" cy="4752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8470800" y="2273400"/>
            <a:ext cx="1116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8481960" y="2273400"/>
            <a:ext cx="1260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8494560" y="2273400"/>
            <a:ext cx="1116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850572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8516880" y="2273400"/>
            <a:ext cx="1260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8529480" y="2273400"/>
            <a:ext cx="1116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8540640" y="2273400"/>
            <a:ext cx="11160" cy="4752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8400960" y="227340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8505720" y="2249640"/>
            <a:ext cx="11160" cy="7128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8516880" y="2249640"/>
            <a:ext cx="1260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8529480" y="2249640"/>
            <a:ext cx="1116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8540640" y="2249640"/>
            <a:ext cx="11160" cy="7128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8505720" y="224964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0" y="23"/>
                </a:lnTo>
                <a:lnTo>
                  <a:pt x="22" y="0"/>
                </a:lnTo>
                <a:lnTo>
                  <a:pt x="22" y="15"/>
                </a:lnTo>
                <a:lnTo>
                  <a:pt x="0" y="3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8400960" y="2286000"/>
            <a:ext cx="11160" cy="237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841212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842472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8435880" y="2286000"/>
            <a:ext cx="11160" cy="237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>
            <a:off x="8447040" y="2286000"/>
            <a:ext cx="1260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>
            <a:off x="8459640" y="2286000"/>
            <a:ext cx="1116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847080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848196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8494560" y="2286000"/>
            <a:ext cx="11160" cy="2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8400960" y="2286000"/>
            <a:ext cx="104760" cy="23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8400960" y="2249640"/>
            <a:ext cx="11160" cy="4752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412120" y="2249640"/>
            <a:ext cx="1260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8424720" y="2249640"/>
            <a:ext cx="1116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843588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8447040" y="2249640"/>
            <a:ext cx="1260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8459640" y="2249640"/>
            <a:ext cx="11160" cy="4752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8470800" y="2249640"/>
            <a:ext cx="1116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8481960" y="2249640"/>
            <a:ext cx="1260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8494560" y="2249640"/>
            <a:ext cx="1116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850572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8516880" y="2249640"/>
            <a:ext cx="1260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8529480" y="2249640"/>
            <a:ext cx="1116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8540640" y="2249640"/>
            <a:ext cx="11160" cy="4752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8400960" y="224964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 flipV="1">
            <a:off x="1055520" y="2069640"/>
            <a:ext cx="1800" cy="3318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H="1">
            <a:off x="1009440" y="538812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 flipH="1">
            <a:off x="1009440" y="48387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 flipH="1">
            <a:off x="1009440" y="427824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>
            <a:off x="1009440" y="372888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009440" y="317988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 flipH="1">
            <a:off x="1009440" y="26193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 flipH="1">
            <a:off x="1009440" y="207000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9428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587880" y="47433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87880" y="41832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587880" y="36338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587880" y="308448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587880" y="2523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587880" y="1974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1055520" y="5388120"/>
            <a:ext cx="7496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10555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13222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589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18572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124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3907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26575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29242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31910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3470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3736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00356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2703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45370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48038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50706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5337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56055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58723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1498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>
            <a:off x="64166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6683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69501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72183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74851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77518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80186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8285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8551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rot="16200000">
            <a:off x="10094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rot="16200000">
            <a:off x="12762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rot="16200000">
            <a:off x="1542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1822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rot="16200000">
            <a:off x="20890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2355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rot="16200000">
            <a:off x="2622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rot="16200000">
            <a:off x="28890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rot="16200000">
            <a:off x="31557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rot="16200000">
            <a:off x="3423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rot="16200000">
            <a:off x="3690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rot="16200000">
            <a:off x="39574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rot="16200000">
            <a:off x="4224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rot="16200000">
            <a:off x="4501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16200000">
            <a:off x="4768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rot="16200000">
            <a:off x="5037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rot="16200000">
            <a:off x="53035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rot="16200000">
            <a:off x="5570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rot="16200000">
            <a:off x="58370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rot="16200000">
            <a:off x="6103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rot="16200000">
            <a:off x="6370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rot="16200000">
            <a:off x="6637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rot="16200000">
            <a:off x="6903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rot="16200000">
            <a:off x="7172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rot="16200000">
            <a:off x="7449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rot="16200000">
            <a:off x="77166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rot="16200000">
            <a:off x="79833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rot="16200000">
            <a:off x="8250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1900800" y="457200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44600" y="228600"/>
            <a:ext cx="8699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US$ MM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3886200" y="480060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Arial"/>
              </a:rPr>
              <a:t>AFPs en el Mdo Capitales Chileno</a:t>
            </a:r>
            <a:br>
              <a:rPr sz="3600"/>
            </a:b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Diciembre 2002 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-1080" y="1173240"/>
            <a:ext cx="3896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17.311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290160" y="1781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3079440" y="23986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064120" y="1160640"/>
            <a:ext cx="417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Bco y Letras Hipotec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8.358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5313240" y="170964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8070480" y="29894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713160" y="4238640"/>
            <a:ext cx="2259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7.39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504720" y="4967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571480" y="64166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647400" y="4235400"/>
            <a:ext cx="1877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US$47.017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5773680" y="487980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7903800" y="64342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2795400" y="324792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6332040" y="365292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4012920" y="2749680"/>
            <a:ext cx="1537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21.97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0" name="" descr=""/>
          <p:cNvPicPr/>
          <p:nvPr/>
        </p:nvPicPr>
        <p:blipFill>
          <a:blip r:embed="rId1"/>
          <a:stretch/>
        </p:blipFill>
        <p:spPr>
          <a:xfrm>
            <a:off x="-31680" y="1882800"/>
            <a:ext cx="3324240" cy="1557360"/>
          </a:xfrm>
          <a:prstGeom prst="rect">
            <a:avLst/>
          </a:prstGeom>
          <a:ln w="0">
            <a:noFill/>
          </a:ln>
        </p:spPr>
      </p:pic>
      <p:pic>
        <p:nvPicPr>
          <p:cNvPr id="6891" name="" descr=""/>
          <p:cNvPicPr/>
          <p:nvPr/>
        </p:nvPicPr>
        <p:blipFill>
          <a:blip r:embed="rId2"/>
          <a:stretch/>
        </p:blipFill>
        <p:spPr>
          <a:xfrm>
            <a:off x="5467320" y="1771560"/>
            <a:ext cx="3429000" cy="1476360"/>
          </a:xfrm>
          <a:prstGeom prst="rect">
            <a:avLst/>
          </a:prstGeom>
          <a:ln w="0">
            <a:noFill/>
          </a:ln>
        </p:spPr>
      </p:pic>
      <p:pic>
        <p:nvPicPr>
          <p:cNvPr id="6892" name="" descr=""/>
          <p:cNvPicPr/>
          <p:nvPr/>
        </p:nvPicPr>
        <p:blipFill>
          <a:blip r:embed="rId3"/>
          <a:stretch/>
        </p:blipFill>
        <p:spPr>
          <a:xfrm>
            <a:off x="3021120" y="3340080"/>
            <a:ext cx="3389040" cy="1569960"/>
          </a:xfrm>
          <a:prstGeom prst="rect">
            <a:avLst/>
          </a:prstGeom>
          <a:ln w="0">
            <a:noFill/>
          </a:ln>
        </p:spPr>
      </p:pic>
      <p:pic>
        <p:nvPicPr>
          <p:cNvPr id="6893" name="" descr=""/>
          <p:cNvPicPr/>
          <p:nvPr/>
        </p:nvPicPr>
        <p:blipFill>
          <a:blip r:embed="rId4"/>
          <a:stretch/>
        </p:blipFill>
        <p:spPr>
          <a:xfrm>
            <a:off x="5727600" y="5070600"/>
            <a:ext cx="3416400" cy="1323720"/>
          </a:xfrm>
          <a:prstGeom prst="rect">
            <a:avLst/>
          </a:prstGeom>
          <a:ln w="0">
            <a:noFill/>
          </a:ln>
        </p:spPr>
      </p:pic>
      <p:pic>
        <p:nvPicPr>
          <p:cNvPr id="6894" name="" descr=""/>
          <p:cNvPicPr/>
          <p:nvPr/>
        </p:nvPicPr>
        <p:blipFill>
          <a:blip r:embed="rId5"/>
          <a:stretch/>
        </p:blipFill>
        <p:spPr>
          <a:xfrm>
            <a:off x="144360" y="5143680"/>
            <a:ext cx="333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ligaciones a más de un año (mediano y largo plazo) que contrae el emisor con el poseedor del instru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 fuente de financiamiento utilizada por el Gobierno, empresas y el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7% montos transados (2003) en el mercado chileno, bajo los 42% IIF. Acciones son sólo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nta fij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nco Central: PRC’s, BCU, BC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tras Hipotec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onos Corpo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resas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resa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resas privadas con garantía est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onos Securi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onos Tesorería: BTU, B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C: Pagaré Re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6,5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ón y amortizaciones se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4, 8, 10, 12, 14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UF500, UF1.000, UF5.000 y UF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29000" cy="2962440"/>
          </a:xfrm>
          <a:prstGeom prst="rect">
            <a:avLst/>
          </a:prstGeom>
          <a:ln w="0">
            <a:noFill/>
          </a:ln>
        </p:spPr>
      </p:pic>
      <p:pic>
        <p:nvPicPr>
          <p:cNvPr id="6903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89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D: Pagaré Reajustable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6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2,3 y 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CU: Bonos del BC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5,10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CP: Bonos del BC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8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, 50, 100 millones de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junto de instituciones, instrumentos y canales que hace posible el flujo de capitales desde las personas que ahorran a las que invi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Bolsa es el lugar que reune a ambos agentes para que realicen transacciones, a través de los corr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248080" cy="3819600"/>
          </a:xfrm>
          <a:prstGeom prst="rect">
            <a:avLst/>
          </a:prstGeom>
          <a:ln w="0">
            <a:noFill/>
          </a:ln>
        </p:spPr>
      </p:pic>
      <p:pic>
        <p:nvPicPr>
          <p:cNvPr id="6911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2387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CD: Bonos del BC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ro: Cupones de emisión reajustables opcionales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pón: sin cu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Amortización a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mite por canje de cupones P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Variable según plazo residual de los cupones PRC a canj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0, 1.000, 5.000,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Letras Hipotec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H: Letras de Crédito Hipotec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objetivo es el financiamiento de viviendas y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: Cupones trimestrales de interés y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tes: 10, 20, 50, 100, 500 y 1.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4343400"/>
          </a:xfrm>
          <a:prstGeom prst="rect">
            <a:avLst/>
          </a:prstGeom>
          <a:ln w="0">
            <a:noFill/>
          </a:ln>
        </p:spPr>
      </p:pic>
      <p:pic>
        <p:nvPicPr>
          <p:cNvPr id="6919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3762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Bonos Corpo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objetivo es el financiamiento de proyectos o refinanciamiento de pa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eda: UF, $, US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tes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76880" cy="3867120"/>
          </a:xfrm>
          <a:prstGeom prst="rect">
            <a:avLst/>
          </a:prstGeom>
          <a:ln w="0">
            <a:noFill/>
          </a:ln>
        </p:spPr>
      </p:pic>
      <p:pic>
        <p:nvPicPr>
          <p:cNvPr id="6923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528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TU: Bonos de la Tesorería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emisión: 4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TP: Bonos de la Tesorería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emisión: 7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s: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es: 5, 50, 100 y 200 millones d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8" name="" descr=""/>
          <p:cNvPicPr/>
          <p:nvPr/>
        </p:nvPicPr>
        <p:blipFill>
          <a:blip r:embed="rId1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Un poco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840: Primeros intentos por crear una bo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884: 160 S.A.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893: Se funda la Bolsa de Comercio de Santiago con 329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989: Se funda la Bols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001: Reforma al MK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003 Proyecto de Reforma al MK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termedi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de corto plazo, menores a un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 de financiamiento de CP o para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C: PRBC, P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ósitos a plaz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DBC:Pagaré Descon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zo: Entre 1 y 3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tes: 5, 50, 100, 20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BC:Pagaré Reajus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tación por remate hol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zo: Hasta 5 años (descontin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tes: 500, 1000, 5000, 10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Efectos de Come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 para financiar Capital de trabajo frente a las líneas de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cimiento de hasta 36 meses por un período máximo de 10 años contados desde su inscripción en el Registro de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ientado a SA de tamaño mediano a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pread es mayor al que dan los bancos para = clasificación de riesgo. (no es bancar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77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48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600" y="38160"/>
            <a:ext cx="869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ca5f"/>
                </a:solidFill>
                <a:latin typeface="Arial"/>
              </a:rPr>
              <a:t>Grandes Hitos del Mdo de Capitale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B REAL EN (MM$) Fuente: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880" y="4516560"/>
            <a:ext cx="214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974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lización de tasas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3855960"/>
            <a:ext cx="256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ersión Extranjera: DL 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Bcos e Inst.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Orgánica Banco Cent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6240" y="3525840"/>
            <a:ext cx="29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Administradoras de Fondos Mut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5040" y="3246480"/>
            <a:ext cx="168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tad Mdo Asegu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7400" y="2637000"/>
            <a:ext cx="24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A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ndo de Pensiones: DL 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560" y="219240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Mercad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de Sociedades Anón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026800" y="3997080"/>
            <a:ext cx="42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HILE: PIB Real (MM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5280" y="3843360"/>
            <a:ext cx="192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ivativaciones (1995-19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eso Mdo Accionario AF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ía privatiz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3960" y="3525840"/>
            <a:ext cx="184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va Ley General de Ban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3080" y="3059280"/>
            <a:ext cx="170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lasificadoras de Ries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tonomía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3880" y="2795760"/>
            <a:ext cx="151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cación ADR: C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5880" y="2567160"/>
            <a:ext cx="150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isión Bono En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3800" y="2389320"/>
            <a:ext cx="10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3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D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2000" y="1963800"/>
            <a:ext cx="21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4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ificación Mk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a Seg. &amp; AFPs aut. Inv. Ex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03080" y="53164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6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reación de FI Interna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040" y="4802040"/>
            <a:ext cx="107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8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Reducción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mp. Gan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4297320"/>
            <a:ext cx="76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0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Ley 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Bo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4120" y="386856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1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4120" y="348768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3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7040" y="2751120"/>
            <a:ext cx="487296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eríodo Privatizaciones (1985-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eso Mdo Accionario AFPs vía privatizaciones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a Comisión Clasificadora de Riesgo (19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Ley General de Bancos (19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de Riesgo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nomía del Banco Central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os FICE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0280" y="2095560"/>
            <a:ext cx="4745160" cy="286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74-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alización de Tasas de Interés (19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Regulatorio Inversión Extranjera DL 600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Bcos e Inst. Financiera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Orgánica Banco Central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ivatizaciones (1974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dministradoras de Fondos Mutuos (19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 Mercado Asegurador (1979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Valores y Seguros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AFP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: DL 3500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Mercado de Valore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Sociedades Anónima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0080" y="1852560"/>
            <a:ext cx="4271040" cy="32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cer Período Privatizaciones: Infraestructur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itarias (1990-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cación primer ADR: CTC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sión de Bono Internacional: Endesa (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CV (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ificación Mdo de Capitales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. Institucionales autorizados invertir en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ior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Fondos de Inversión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Impuesto Ganancia de Capital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OPA y Gob. Corporativos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Bolsa Offshore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forma de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sregulación de los fondos de inver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ificación de los límites de inversión de las A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reación de los Fondos de Inversión de Crédito Securitiz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Ley de Opa del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de las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ción de régimenes de gobierno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tés de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rificación de conflictos de interés de dir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jora calidad de información para quienes quieren hacer una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forma MK I del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 corta de acciones y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ación del impto. A la ganancia de capital (acciones alta pres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olsa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baja de impuestos a los intereses de los inversionistas extran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regula la industria de seguros y 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fecciona la Ley de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exibilización de mecanismos para 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ultifondos de AFP..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otras refor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Proyect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eforma al MK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centivos para el desarrollo de la industria del Capital de Riesgo: Garantías, Incentivo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ucción de Costos de transacción y contratatción comercial (Sociedades de Responsabilidad Limitada por Ac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talecimiento APV: EEUU 401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a la fiscalización, control, sanción y coordinación (Inver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COMO % DEL PIB 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8160" y="37926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094280"/>
            <a:ext cx="56376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3600" y="235440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660760"/>
            <a:ext cx="574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2092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4200" y="1717560"/>
            <a:ext cx="8046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0920" y="293040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225960"/>
            <a:ext cx="2923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03320" y="1994040"/>
            <a:ext cx="7550280" cy="3373200"/>
            <a:chOff x="1003320" y="1994040"/>
            <a:chExt cx="7550280" cy="3373200"/>
          </a:xfrm>
        </p:grpSpPr>
        <p:sp>
          <p:nvSpPr>
            <p:cNvPr id="96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0" y="46"/>
                  </a:moveTo>
                  <a:lnTo>
                    <a:pt x="52" y="0"/>
                  </a:lnTo>
                  <a:lnTo>
                    <a:pt x="4756" y="0"/>
                  </a:lnTo>
                  <a:lnTo>
                    <a:pt x="470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4756" y="0"/>
                  </a:moveTo>
                  <a:lnTo>
                    <a:pt x="4704" y="46"/>
                  </a:lnTo>
                  <a:lnTo>
                    <a:pt x="0" y="46"/>
                  </a:lnTo>
                  <a:lnTo>
                    <a:pt x="52" y="0"/>
                  </a:lnTo>
                  <a:lnTo>
                    <a:pt x="475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952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20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184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44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5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68560" y="5318280"/>
              <a:ext cx="10800" cy="36360"/>
            </a:xfrm>
            <a:prstGeom prst="rect">
              <a:avLst/>
            </a:prstGeom>
            <a:solidFill>
              <a:srgbClr val="5d5d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936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2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3480" y="5318280"/>
              <a:ext cx="1260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1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0952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5234040"/>
              <a:ext cx="11160" cy="120600"/>
            </a:xfrm>
            <a:prstGeom prst="rect">
              <a:avLst/>
            </a:prstGeom>
            <a:solidFill>
              <a:srgbClr val="7c1b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240" y="5234040"/>
              <a:ext cx="1116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8400" y="5234040"/>
              <a:ext cx="1260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1000" y="5234040"/>
              <a:ext cx="11160" cy="1206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6080" y="5234040"/>
              <a:ext cx="34920" cy="10944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6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9520" y="5257800"/>
              <a:ext cx="11160" cy="8568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1840" y="5257800"/>
              <a:ext cx="1260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4440" y="5257800"/>
              <a:ext cx="11160" cy="8568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600" y="5257800"/>
              <a:ext cx="1296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8560" y="5257800"/>
              <a:ext cx="1080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9360" y="5257800"/>
              <a:ext cx="1296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232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3480" y="5257800"/>
              <a:ext cx="126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9520" y="5257800"/>
              <a:ext cx="106560" cy="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1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ac69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1161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6f8d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b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b9b9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610f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8663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836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0960" y="5318280"/>
              <a:ext cx="1116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212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3280" y="5318280"/>
              <a:ext cx="12600" cy="36360"/>
            </a:xfrm>
            <a:prstGeom prst="rect">
              <a:avLst/>
            </a:prstGeom>
            <a:solidFill>
              <a:srgbClr val="4444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318280"/>
              <a:ext cx="129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00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760" y="5318280"/>
              <a:ext cx="111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92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6080" y="5318280"/>
              <a:ext cx="12600" cy="36360"/>
            </a:xfrm>
            <a:prstGeom prst="rect">
              <a:avLst/>
            </a:prstGeom>
            <a:solidFill>
              <a:srgbClr val="444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868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9840" y="5318280"/>
              <a:ext cx="1260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8360" y="53182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4920" y="5257800"/>
              <a:ext cx="11160" cy="96840"/>
            </a:xfrm>
            <a:prstGeom prst="rect">
              <a:avLst/>
            </a:prstGeom>
            <a:solidFill>
              <a:srgbClr val="7d161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5257800"/>
              <a:ext cx="12600" cy="96840"/>
            </a:xfrm>
            <a:prstGeom prst="rect">
              <a:avLst/>
            </a:prstGeom>
            <a:solidFill>
              <a:srgbClr val="6e3b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8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9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4920" y="525780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54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836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09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2120" y="5281560"/>
              <a:ext cx="1116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281560"/>
              <a:ext cx="12600" cy="6192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588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000" y="5281560"/>
              <a:ext cx="1080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0800" y="5281560"/>
              <a:ext cx="129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376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8360" y="5257800"/>
              <a:ext cx="12600" cy="36360"/>
            </a:xfrm>
            <a:prstGeom prst="rect">
              <a:avLst/>
            </a:prstGeom>
            <a:solidFill>
              <a:srgbClr val="be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5257800"/>
              <a:ext cx="1116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212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3280" y="5257800"/>
              <a:ext cx="12600" cy="36360"/>
            </a:xfrm>
            <a:prstGeom prst="rect">
              <a:avLst/>
            </a:prstGeom>
            <a:solidFill>
              <a:srgbClr val="b5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588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7040" y="5257800"/>
              <a:ext cx="129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5257800"/>
              <a:ext cx="1080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50800" y="525780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3760" y="5257800"/>
              <a:ext cx="111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492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6080" y="5257800"/>
              <a:ext cx="12600" cy="36360"/>
            </a:xfrm>
            <a:prstGeom prst="rect">
              <a:avLst/>
            </a:prstGeom>
            <a:solidFill>
              <a:srgbClr val="b5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868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9840" y="5257800"/>
              <a:ext cx="1260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8360" y="525780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67" y="15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4920" y="5245200"/>
              <a:ext cx="11160" cy="48960"/>
            </a:xfrm>
            <a:prstGeom prst="rect">
              <a:avLst/>
            </a:prstGeom>
            <a:solidFill>
              <a:srgbClr val="1742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6080" y="5245200"/>
              <a:ext cx="12600" cy="48960"/>
            </a:xfrm>
            <a:prstGeom prst="rect">
              <a:avLst/>
            </a:prstGeom>
            <a:solidFill>
              <a:srgbClr val="3e52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98680" y="5245200"/>
              <a:ext cx="1116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9840" y="5245200"/>
              <a:ext cx="1260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2440" y="5245200"/>
              <a:ext cx="11160" cy="48960"/>
            </a:xfrm>
            <a:prstGeom prst="rect">
              <a:avLst/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4920" y="524520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8360" y="5270400"/>
              <a:ext cx="12600" cy="11160"/>
            </a:xfrm>
            <a:prstGeom prst="rect">
              <a:avLst/>
            </a:prstGeom>
            <a:solidFill>
              <a:srgbClr val="1d83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0960" y="5270400"/>
              <a:ext cx="111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5270400"/>
              <a:ext cx="1116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3280" y="5270400"/>
              <a:ext cx="12600" cy="11160"/>
            </a:xfrm>
            <a:prstGeom prst="rect">
              <a:avLst/>
            </a:prstGeom>
            <a:solidFill>
              <a:srgbClr val="90c5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5880" y="5270400"/>
              <a:ext cx="111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040" y="5270400"/>
              <a:ext cx="129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0000" y="5270400"/>
              <a:ext cx="1080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50800" y="5270400"/>
              <a:ext cx="129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3760" y="5270400"/>
              <a:ext cx="11160" cy="11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5270400"/>
              <a:ext cx="1065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1061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beb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610e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764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76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9800" y="5318280"/>
              <a:ext cx="129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52760" y="5318280"/>
              <a:ext cx="108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639800" y="5257800"/>
            <a:ext cx="554040" cy="96840"/>
            <a:chOff x="1639800" y="5257800"/>
            <a:chExt cx="554040" cy="96840"/>
          </a:xfrm>
        </p:grpSpPr>
        <p:sp>
          <p:nvSpPr>
            <p:cNvPr id="297" name=""/>
            <p:cNvSpPr/>
            <p:nvPr/>
          </p:nvSpPr>
          <p:spPr>
            <a:xfrm>
              <a:off x="166356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472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768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848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144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36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5752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0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128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980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6360" y="5270400"/>
              <a:ext cx="1116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752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012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1280" y="5270400"/>
              <a:ext cx="1260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46360" y="527040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5307120"/>
              <a:ext cx="12960" cy="36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307120"/>
              <a:ext cx="108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6356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4720" y="5307120"/>
              <a:ext cx="12960" cy="36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7680" y="5307120"/>
              <a:ext cx="1080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8480" y="5307120"/>
              <a:ext cx="1296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1144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2600" y="5307120"/>
              <a:ext cx="126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5200" y="5307120"/>
              <a:ext cx="11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9800" y="5307120"/>
              <a:ext cx="1065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5270400"/>
              <a:ext cx="129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52760" y="527040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3560" y="527040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4720" y="527040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87680" y="527040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98480" y="5270400"/>
              <a:ext cx="129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11440" y="527040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2600" y="527040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527040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6360" y="527040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520" y="527040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527040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5270400"/>
              <a:ext cx="1260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2704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6360" y="525780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520" y="525780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525780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1280" y="5257800"/>
              <a:ext cx="1260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46360" y="5257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281560"/>
              <a:ext cx="12960" cy="255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281560"/>
              <a:ext cx="108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56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4720" y="5281560"/>
              <a:ext cx="12960" cy="255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7680" y="5281560"/>
              <a:ext cx="1080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8480" y="5281560"/>
              <a:ext cx="1296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144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2600" y="5281560"/>
              <a:ext cx="126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35200" y="5281560"/>
              <a:ext cx="1116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9800" y="5281560"/>
              <a:ext cx="10656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124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500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616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12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992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404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780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896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272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281560"/>
              <a:ext cx="1116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8960" y="5281560"/>
              <a:ext cx="1260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1560" y="528156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52720" y="528156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7800" y="528156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1240" y="5318280"/>
              <a:ext cx="11160" cy="25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2400" y="5318280"/>
              <a:ext cx="126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500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6160" y="5318280"/>
              <a:ext cx="12960" cy="25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59120" y="5318280"/>
              <a:ext cx="1080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9920" y="5318280"/>
              <a:ext cx="1296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288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94040" y="5318280"/>
              <a:ext cx="108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4840" y="5318280"/>
              <a:ext cx="1296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124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1240" y="528156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22400" y="528156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528156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528156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59120" y="5281560"/>
              <a:ext cx="108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9920" y="5281560"/>
              <a:ext cx="129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528156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5281560"/>
              <a:ext cx="108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4840" y="5281560"/>
              <a:ext cx="129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528156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8960" y="528156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1560" y="528156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2720" y="528156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1240" y="52815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7800" y="5257800"/>
              <a:ext cx="11160" cy="730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28960" y="5257800"/>
              <a:ext cx="1260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41560" y="5257800"/>
              <a:ext cx="1116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257800"/>
              <a:ext cx="12600" cy="730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17800" y="525780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1240" y="5281560"/>
              <a:ext cx="111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2400" y="52815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500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6160" y="5281560"/>
              <a:ext cx="129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9120" y="52815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9920" y="52815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288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4040" y="52815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4840" y="5281560"/>
              <a:ext cx="129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52815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1880" y="53182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2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71880" y="5160960"/>
            <a:ext cx="660240" cy="193680"/>
            <a:chOff x="2171880" y="5160960"/>
            <a:chExt cx="660240" cy="193680"/>
          </a:xfrm>
        </p:grpSpPr>
        <p:sp>
          <p:nvSpPr>
            <p:cNvPr id="498" name=""/>
            <p:cNvSpPr/>
            <p:nvPr/>
          </p:nvSpPr>
          <p:spPr>
            <a:xfrm>
              <a:off x="219384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680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17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172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4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548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664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9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00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3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71880" y="53182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76640" y="5270400"/>
              <a:ext cx="1260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924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0040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3000" y="5270400"/>
              <a:ext cx="1116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640" y="527040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1880" y="5294160"/>
              <a:ext cx="10800" cy="493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8268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93840" y="5294160"/>
              <a:ext cx="1296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06800" y="5294160"/>
              <a:ext cx="10800" cy="493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7600" y="5294160"/>
              <a:ext cx="129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30560" y="5294160"/>
              <a:ext cx="111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41720" y="5294160"/>
              <a:ext cx="1260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432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5480" y="5294160"/>
              <a:ext cx="1116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1880" y="5294160"/>
              <a:ext cx="10476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1880" y="52704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2680" y="52704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3840" y="52704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6800" y="5270400"/>
              <a:ext cx="108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7600" y="5270400"/>
              <a:ext cx="129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30560" y="52704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1720" y="52704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4320" y="52704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5480" y="52704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76640" y="52704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9240" y="52704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0400" y="52704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3000" y="52704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52704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6640" y="522144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9240" y="522144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00400" y="5221440"/>
              <a:ext cx="1260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13000" y="5221440"/>
              <a:ext cx="1116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76640" y="5221440"/>
              <a:ext cx="3636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5245200"/>
              <a:ext cx="1080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268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93840" y="5245200"/>
              <a:ext cx="129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6800" y="5245200"/>
              <a:ext cx="1080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17600" y="5245200"/>
              <a:ext cx="129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30560" y="524520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41720" y="524520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5432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65480" y="5245200"/>
              <a:ext cx="1116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5245200"/>
              <a:ext cx="10476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4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528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824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200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576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3692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4808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6068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184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4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1520" y="531828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5257800"/>
              <a:ext cx="12600" cy="968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60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71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84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48080" y="525780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152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412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65280" y="5281560"/>
              <a:ext cx="1296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8240" y="5281560"/>
              <a:ext cx="10800" cy="61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9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200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160" y="5281560"/>
              <a:ext cx="1260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257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692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1520" y="5257800"/>
              <a:ext cx="126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54120" y="525780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5280" y="525780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78240" y="5257800"/>
              <a:ext cx="108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89040" y="5257800"/>
              <a:ext cx="129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2000" y="525780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52578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5760" y="52578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920" y="525780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48080" y="525780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60680" y="525780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1840" y="525780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84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1520" y="52578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8080" y="5160960"/>
              <a:ext cx="12600" cy="1332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60680" y="51609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51609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4440" y="5160960"/>
              <a:ext cx="1116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8080" y="516096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0" y="7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1520" y="5184720"/>
              <a:ext cx="1260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412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280" y="5184720"/>
              <a:ext cx="129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8240" y="5184720"/>
              <a:ext cx="1080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9040" y="5184720"/>
              <a:ext cx="129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2000" y="51847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1847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2576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6920" y="5184720"/>
              <a:ext cx="1116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41520" y="518472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8360" y="5281560"/>
              <a:ext cx="11160" cy="730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5281560"/>
              <a:ext cx="12600" cy="730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701800" y="4991040"/>
            <a:ext cx="425520" cy="363600"/>
            <a:chOff x="2701800" y="4991040"/>
            <a:chExt cx="425520" cy="363600"/>
          </a:xfrm>
        </p:grpSpPr>
        <p:sp>
          <p:nvSpPr>
            <p:cNvPr id="699" name=""/>
            <p:cNvSpPr/>
            <p:nvPr/>
          </p:nvSpPr>
          <p:spPr>
            <a:xfrm>
              <a:off x="2832120" y="5281560"/>
              <a:ext cx="1116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5281560"/>
              <a:ext cx="1260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55880" y="5281560"/>
              <a:ext cx="11160" cy="73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8360" y="528156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01800" y="5318280"/>
              <a:ext cx="11160" cy="25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2960" y="5318280"/>
              <a:ext cx="1260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556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6720" y="5318280"/>
              <a:ext cx="12960" cy="25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49680" y="5318280"/>
              <a:ext cx="1116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60840" y="5318280"/>
              <a:ext cx="1260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7344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4600" y="5318280"/>
              <a:ext cx="1116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5760" y="5318280"/>
              <a:ext cx="12600" cy="25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0180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1800" y="528156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296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6720" y="5281560"/>
              <a:ext cx="12960" cy="493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968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7344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8460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576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836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9520" y="5281560"/>
              <a:ext cx="12600" cy="493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212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4328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5880" y="528156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01800" y="5281560"/>
              <a:ext cx="15408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08360" y="5221440"/>
              <a:ext cx="11160" cy="1094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9520" y="5221440"/>
              <a:ext cx="12600" cy="1094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2120" y="5221440"/>
              <a:ext cx="1116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43280" y="5221440"/>
              <a:ext cx="1260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55880" y="5221440"/>
              <a:ext cx="11160" cy="109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8360" y="522144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1800" y="5257800"/>
              <a:ext cx="11160" cy="604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12960" y="5257800"/>
              <a:ext cx="1260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556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6720" y="5257800"/>
              <a:ext cx="12960" cy="604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5257800"/>
              <a:ext cx="1116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5257800"/>
              <a:ext cx="1260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84600" y="5257800"/>
              <a:ext cx="1116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5760" y="5257800"/>
              <a:ext cx="1260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01800" y="5257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01800" y="5221440"/>
              <a:ext cx="11160" cy="489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296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2556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6720" y="5221440"/>
              <a:ext cx="12960" cy="489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968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6084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7344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8460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9576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0836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9520" y="5221440"/>
              <a:ext cx="12600" cy="489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3212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328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5880" y="5221440"/>
              <a:ext cx="11160" cy="489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1800" y="522144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08360" y="5148360"/>
              <a:ext cx="11160" cy="122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19520" y="5148360"/>
              <a:ext cx="12600" cy="122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2120" y="5148360"/>
              <a:ext cx="1116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5148360"/>
              <a:ext cx="1260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5880" y="5148360"/>
              <a:ext cx="11160" cy="122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08360" y="514836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46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01800" y="5184720"/>
              <a:ext cx="11160" cy="730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12960" y="5184720"/>
              <a:ext cx="1260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556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36720" y="5184720"/>
              <a:ext cx="12960" cy="730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9680" y="5184720"/>
              <a:ext cx="1116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60840" y="5184720"/>
              <a:ext cx="1260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7344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4600" y="5184720"/>
              <a:ext cx="1116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95760" y="5184720"/>
              <a:ext cx="12600" cy="7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1800" y="5184720"/>
              <a:ext cx="1065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79800" y="5184720"/>
              <a:ext cx="11160" cy="1699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0960" y="5184720"/>
              <a:ext cx="1260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03560" y="5184720"/>
              <a:ext cx="1116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14720" y="5184720"/>
              <a:ext cx="12600" cy="16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79800" y="5184720"/>
              <a:ext cx="34920" cy="15876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0" y="10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4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5210280"/>
              <a:ext cx="11160" cy="133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4400" y="5210280"/>
              <a:ext cx="129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97360" y="5210280"/>
              <a:ext cx="1080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08160" y="5210280"/>
              <a:ext cx="12960" cy="133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21120" y="5210280"/>
              <a:ext cx="1116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32280" y="5210280"/>
              <a:ext cx="1260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44880" y="5210280"/>
              <a:ext cx="1116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6040" y="5210280"/>
              <a:ext cx="111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7200" y="5210280"/>
              <a:ext cx="12600" cy="133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73240" y="5210280"/>
              <a:ext cx="106560" cy="133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3240" y="518472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4400" y="518472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97360" y="5184720"/>
              <a:ext cx="108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8160" y="5184720"/>
              <a:ext cx="129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1120" y="518472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32280" y="518472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488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604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67200" y="518472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9800" y="518472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0960" y="518472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3560" y="518472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14720" y="518472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73240" y="518472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79800" y="5087880"/>
              <a:ext cx="11160" cy="133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90960" y="5087880"/>
              <a:ext cx="1260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03560" y="5087880"/>
              <a:ext cx="1116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4720" y="5087880"/>
              <a:ext cx="12600" cy="133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9800" y="5087880"/>
              <a:ext cx="34920" cy="12240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0" y="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3240" y="5111640"/>
              <a:ext cx="11160" cy="986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84400" y="5111640"/>
              <a:ext cx="129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97360" y="5111640"/>
              <a:ext cx="1080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08160" y="5111640"/>
              <a:ext cx="12960" cy="986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21120" y="5111640"/>
              <a:ext cx="1116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2280" y="5111640"/>
              <a:ext cx="1260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4880" y="5111640"/>
              <a:ext cx="1116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5111640"/>
              <a:ext cx="111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67200" y="5111640"/>
              <a:ext cx="12600" cy="9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3240" y="5111640"/>
              <a:ext cx="106560" cy="9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73240" y="50878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08788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97360" y="50878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08160" y="50878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21120" y="50878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2280" y="508788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488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5604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67200" y="50878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79800" y="50878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90960" y="50878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3560" y="50878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14720" y="508788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3240" y="508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9800" y="4991040"/>
              <a:ext cx="11160" cy="133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0960" y="4991040"/>
              <a:ext cx="1260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03560" y="4991040"/>
              <a:ext cx="1116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4720" y="4991040"/>
              <a:ext cx="12600" cy="133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9800" y="4991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73240" y="501480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4400" y="5014800"/>
              <a:ext cx="129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97360" y="5014800"/>
              <a:ext cx="108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08160" y="5014800"/>
              <a:ext cx="129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21120" y="501480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32280" y="501480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4880" y="501480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56040" y="501480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501480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7324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973240" y="4894200"/>
            <a:ext cx="684360" cy="460440"/>
            <a:chOff x="2973240" y="4894200"/>
            <a:chExt cx="684360" cy="460440"/>
          </a:xfrm>
        </p:grpSpPr>
        <p:sp>
          <p:nvSpPr>
            <p:cNvPr id="900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51240" y="5075280"/>
              <a:ext cx="11160" cy="279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62400" y="5075280"/>
              <a:ext cx="1260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75000" y="5075280"/>
              <a:ext cx="1116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86160" y="5075280"/>
              <a:ext cx="11160" cy="279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1240" y="507528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0" y="1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44680" y="5111640"/>
              <a:ext cx="11160" cy="2318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55840" y="5111640"/>
              <a:ext cx="129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8800" y="5111640"/>
              <a:ext cx="108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9600" y="5111640"/>
              <a:ext cx="12960" cy="2318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372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5111640"/>
              <a:ext cx="126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7480" y="5111640"/>
              <a:ext cx="111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38640" y="5111640"/>
              <a:ext cx="126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44680" y="5111640"/>
              <a:ext cx="106560" cy="23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44680" y="507528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55840" y="5075280"/>
              <a:ext cx="129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800" y="5075280"/>
              <a:ext cx="108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9600" y="5075280"/>
              <a:ext cx="129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92560" y="507528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03720" y="507528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14880" y="507528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27480" y="507528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38640" y="507528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51240" y="507528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62400" y="507528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75000" y="507528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86160" y="507528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4680" y="507528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51240" y="4978440"/>
              <a:ext cx="11160" cy="146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62400" y="4978440"/>
              <a:ext cx="1260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75000" y="4978440"/>
              <a:ext cx="1116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86160" y="4978440"/>
              <a:ext cx="11160" cy="146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51240" y="497844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4680" y="5014800"/>
              <a:ext cx="11160" cy="96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55840" y="5014800"/>
              <a:ext cx="129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68800" y="5014800"/>
              <a:ext cx="108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5014800"/>
              <a:ext cx="12960" cy="96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256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372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14880" y="5014800"/>
              <a:ext cx="126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27480" y="5014800"/>
              <a:ext cx="111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8640" y="5014800"/>
              <a:ext cx="12600" cy="9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4468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4680" y="497844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55840" y="4978440"/>
              <a:ext cx="129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68800" y="4978440"/>
              <a:ext cx="108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9600" y="497844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92560" y="49784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03720" y="49784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14880" y="49784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7480" y="49784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38640" y="497844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1240" y="497844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62400" y="497844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75000" y="49784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86160" y="4978440"/>
              <a:ext cx="111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4680" y="497844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51240" y="496728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2400" y="496728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75000" y="496728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6160" y="496728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1240" y="49672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4680" y="499104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5840" y="499104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8800" y="4991040"/>
              <a:ext cx="108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79600" y="4991040"/>
              <a:ext cx="129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9256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372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4880" y="499104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27480" y="499104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8640" y="499104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44680" y="499104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10080" y="5014800"/>
              <a:ext cx="12600" cy="339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22680" y="5014800"/>
              <a:ext cx="1116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33840" y="5014800"/>
              <a:ext cx="1260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46440" y="5014800"/>
              <a:ext cx="11160" cy="339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10080" y="5014800"/>
              <a:ext cx="36360" cy="32868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0" y="207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91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03520" y="5040360"/>
              <a:ext cx="12960" cy="303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16480" y="5040360"/>
              <a:ext cx="108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27280" y="5040360"/>
              <a:ext cx="129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40240" y="5040360"/>
              <a:ext cx="11160" cy="303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51400" y="5040360"/>
              <a:ext cx="1260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64000" y="5040360"/>
              <a:ext cx="1116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75160" y="5040360"/>
              <a:ext cx="111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6320" y="5040360"/>
              <a:ext cx="126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98920" y="5040360"/>
              <a:ext cx="1116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03520" y="5040360"/>
              <a:ext cx="106560" cy="303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3520" y="5014800"/>
              <a:ext cx="129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16480" y="501480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7280" y="501480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40240" y="50148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51400" y="50148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4000" y="501480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5160" y="50148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6320" y="50148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98920" y="50148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50148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22680" y="50148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33840" y="50148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46440" y="501480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03520" y="501480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0080" y="4894200"/>
              <a:ext cx="12600" cy="157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2680" y="4894200"/>
              <a:ext cx="1116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33840" y="4894200"/>
              <a:ext cx="1260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6440" y="4894200"/>
              <a:ext cx="11160" cy="157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0080" y="489420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0" y="92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76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03520" y="4917960"/>
              <a:ext cx="12960" cy="1224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16480" y="4917960"/>
              <a:ext cx="108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27280" y="4917960"/>
              <a:ext cx="129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40240" y="4917960"/>
              <a:ext cx="11160" cy="1224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51400" y="4917960"/>
              <a:ext cx="1260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64000" y="4917960"/>
              <a:ext cx="1116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5160" y="4917960"/>
              <a:ext cx="111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86320" y="4917960"/>
              <a:ext cx="126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98920" y="4917960"/>
              <a:ext cx="111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03520" y="4917960"/>
              <a:ext cx="106560" cy="12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520" y="489420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16480" y="489420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27280" y="48942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40240" y="48942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51400" y="48942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03520" y="4772160"/>
            <a:ext cx="696960" cy="582480"/>
            <a:chOff x="3503520" y="4772160"/>
            <a:chExt cx="696960" cy="582480"/>
          </a:xfrm>
        </p:grpSpPr>
        <p:sp>
          <p:nvSpPr>
            <p:cNvPr id="1101" name=""/>
            <p:cNvSpPr/>
            <p:nvPr/>
          </p:nvSpPr>
          <p:spPr>
            <a:xfrm>
              <a:off x="3564000" y="48942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75160" y="4894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6320" y="4894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98920" y="48942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10080" y="48942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22680" y="48942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33840" y="48942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46440" y="48942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3520" y="48942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10080" y="4870440"/>
              <a:ext cx="1260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22680" y="487044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33840" y="487044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46440" y="487044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10080" y="48704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3520" y="4894200"/>
              <a:ext cx="129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16480" y="4894200"/>
              <a:ext cx="108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7280" y="4894200"/>
              <a:ext cx="129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40240" y="489420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51400" y="489420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4000" y="489420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75160" y="489420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6320" y="489420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98920" y="489420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3520" y="489420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1520" y="4930920"/>
              <a:ext cx="12600" cy="423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4120" y="4930920"/>
              <a:ext cx="1116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05280" y="4930920"/>
              <a:ext cx="1260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17880" y="4930920"/>
              <a:ext cx="11160" cy="423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1520" y="4930920"/>
              <a:ext cx="36360" cy="412560"/>
            </a:xfrm>
            <a:custGeom>
              <a:avLst/>
              <a:gdLst/>
              <a:ahLst/>
              <a:rect l="l" t="t" r="r" b="b"/>
              <a:pathLst>
                <a:path w="23" h="260">
                  <a:moveTo>
                    <a:pt x="0" y="26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44"/>
                  </a:lnTo>
                  <a:lnTo>
                    <a:pt x="0" y="2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74960" y="4954680"/>
              <a:ext cx="12960" cy="38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7920" y="4954680"/>
              <a:ext cx="108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8720" y="4954680"/>
              <a:ext cx="129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11680" y="4954680"/>
              <a:ext cx="11160" cy="38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954680"/>
              <a:ext cx="1080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33640" y="4954680"/>
              <a:ext cx="1296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46600" y="4954680"/>
              <a:ext cx="111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57760" y="4954680"/>
              <a:ext cx="126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70360" y="4954680"/>
              <a:ext cx="11160" cy="38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74960" y="4954680"/>
              <a:ext cx="106560" cy="38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74960" y="49309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87920" y="4930920"/>
              <a:ext cx="108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98720" y="49309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1680" y="49309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2840" y="49309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33640" y="493092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46600" y="49309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7760" y="493092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70360" y="493092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1520" y="493092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94120" y="493092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5280" y="493092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7880" y="493092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74960" y="493092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1520" y="4797360"/>
              <a:ext cx="12600" cy="169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94120" y="4797360"/>
              <a:ext cx="1116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05280" y="4797360"/>
              <a:ext cx="1260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17880" y="4797360"/>
              <a:ext cx="11160" cy="169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1520" y="4797360"/>
              <a:ext cx="36360" cy="15732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74960" y="4834080"/>
              <a:ext cx="12960" cy="120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87920" y="4834080"/>
              <a:ext cx="108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8720" y="4834080"/>
              <a:ext cx="129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11680" y="4834080"/>
              <a:ext cx="11160" cy="120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22840" y="4834080"/>
              <a:ext cx="1080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3640" y="4834080"/>
              <a:ext cx="1296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46600" y="4834080"/>
              <a:ext cx="111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57760" y="4834080"/>
              <a:ext cx="126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0360" y="4834080"/>
              <a:ext cx="11160" cy="12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74960" y="4834080"/>
              <a:ext cx="10656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4960" y="479736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7920" y="4797360"/>
              <a:ext cx="108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98720" y="479736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11680" y="47973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22840" y="479736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33640" y="4797360"/>
              <a:ext cx="129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6600" y="47973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7760" y="47973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70360" y="47973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81520" y="479736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94120" y="47973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05280" y="47973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17880" y="47973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74960" y="4797360"/>
              <a:ext cx="14292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81520" y="4772160"/>
              <a:ext cx="12600" cy="727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4120" y="4772160"/>
              <a:ext cx="1116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5280" y="4772160"/>
              <a:ext cx="1260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17880" y="4772160"/>
              <a:ext cx="11160" cy="727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81520" y="4772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9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74960" y="479736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87920" y="47973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98720" y="4797360"/>
              <a:ext cx="129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11680" y="479736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2840" y="47973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640" y="47973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46600" y="47973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57760" y="47973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0360" y="479736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4960" y="47973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41800" y="4857840"/>
              <a:ext cx="11160" cy="49680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52960" y="4857840"/>
              <a:ext cx="12600" cy="49680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672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87880" y="4857840"/>
              <a:ext cx="12600" cy="496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41800" y="4857840"/>
              <a:ext cx="46080" cy="485640"/>
            </a:xfrm>
            <a:custGeom>
              <a:avLst/>
              <a:gdLst/>
              <a:ahLst/>
              <a:rect l="l" t="t" r="r" b="b"/>
              <a:pathLst>
                <a:path w="29" h="306">
                  <a:moveTo>
                    <a:pt x="0" y="306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29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5600" y="4881600"/>
              <a:ext cx="10800" cy="46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46400" y="4881600"/>
              <a:ext cx="129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360" y="4881600"/>
              <a:ext cx="1116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70520" y="4881600"/>
              <a:ext cx="12600" cy="46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312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9428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05440" y="4881600"/>
              <a:ext cx="1260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8040" y="4881600"/>
              <a:ext cx="111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29200" y="4881600"/>
              <a:ext cx="12600" cy="46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5600" y="4881600"/>
              <a:ext cx="106200" cy="46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35600" y="485784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46400" y="4857840"/>
              <a:ext cx="129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035600" y="4591080"/>
            <a:ext cx="423720" cy="763560"/>
            <a:chOff x="4035600" y="4591080"/>
            <a:chExt cx="423720" cy="763560"/>
          </a:xfrm>
        </p:grpSpPr>
        <p:sp>
          <p:nvSpPr>
            <p:cNvPr id="1302" name=""/>
            <p:cNvSpPr/>
            <p:nvPr/>
          </p:nvSpPr>
          <p:spPr>
            <a:xfrm>
              <a:off x="4070520" y="4857840"/>
              <a:ext cx="1260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8312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94280" y="485784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05440" y="485784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18040" y="485784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0" y="4857840"/>
              <a:ext cx="1260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4180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52960" y="4857840"/>
              <a:ext cx="1260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655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6720" y="485784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87880" y="485784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5600" y="485784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41800" y="4711680"/>
              <a:ext cx="11160" cy="18252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2960" y="4711680"/>
              <a:ext cx="12600" cy="18252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56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672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87880" y="4711680"/>
              <a:ext cx="12600" cy="18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41800" y="47116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0" y="107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5600" y="4735440"/>
              <a:ext cx="10800" cy="146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46400" y="4735440"/>
              <a:ext cx="129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59360" y="4735440"/>
              <a:ext cx="1116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70520" y="4735440"/>
              <a:ext cx="12600" cy="146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8312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428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05440" y="4735440"/>
              <a:ext cx="1260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18040" y="4735440"/>
              <a:ext cx="111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29200" y="4735440"/>
              <a:ext cx="12600" cy="146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5600" y="47354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5600" y="471168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6400" y="4711680"/>
              <a:ext cx="129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593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70520" y="471168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8312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94280" y="471168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05440" y="47116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18040" y="47116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29200" y="471168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4180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52960" y="4711680"/>
              <a:ext cx="1260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55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6720" y="471168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87880" y="47116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5600" y="471168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41800" y="4664160"/>
              <a:ext cx="11160" cy="8388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2960" y="4664160"/>
              <a:ext cx="12600" cy="8388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556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7672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87880" y="4664160"/>
              <a:ext cx="12600" cy="83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41800" y="4664160"/>
              <a:ext cx="4608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35600" y="4687920"/>
              <a:ext cx="1080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0" y="4687920"/>
              <a:ext cx="129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9360" y="4687920"/>
              <a:ext cx="111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0520" y="4687920"/>
              <a:ext cx="1260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312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9428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05440" y="4687920"/>
              <a:ext cx="126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8040" y="468792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9200" y="4687920"/>
              <a:ext cx="126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5600" y="468792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3240" y="4797360"/>
              <a:ext cx="11160" cy="557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4400" y="4797360"/>
              <a:ext cx="1260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7000" y="4797360"/>
              <a:ext cx="1116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48160" y="4797360"/>
              <a:ext cx="11160" cy="557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3240" y="4797360"/>
              <a:ext cx="34920" cy="546120"/>
            </a:xfrm>
            <a:custGeom>
              <a:avLst/>
              <a:gdLst/>
              <a:ahLst/>
              <a:rect l="l" t="t" r="r" b="b"/>
              <a:pathLst>
                <a:path w="22" h="344">
                  <a:moveTo>
                    <a:pt x="0" y="34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28"/>
                  </a:lnTo>
                  <a:lnTo>
                    <a:pt x="0" y="34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4821120"/>
              <a:ext cx="10800" cy="52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7840" y="4821120"/>
              <a:ext cx="129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0800" y="4821120"/>
              <a:ext cx="1116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1960" y="4821120"/>
              <a:ext cx="12600" cy="52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5456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6572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6880" y="4821120"/>
              <a:ext cx="1260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89480" y="4821120"/>
              <a:ext cx="111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0640" y="4821120"/>
              <a:ext cx="12600" cy="52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7040" y="4821120"/>
              <a:ext cx="106200" cy="52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07040" y="4797360"/>
              <a:ext cx="108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17840" y="479736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30800" y="47973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41960" y="47973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54560" y="47973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65720" y="47973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6880" y="47973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7973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00640" y="47973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7973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24400" y="47973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7000" y="47973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48160" y="47973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307040" y="47973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13240" y="4638600"/>
              <a:ext cx="11160" cy="1954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24400" y="4638600"/>
              <a:ext cx="1260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37000" y="4638600"/>
              <a:ext cx="1116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48160" y="4638600"/>
              <a:ext cx="11160" cy="19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13240" y="463860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07040" y="4664160"/>
              <a:ext cx="10800" cy="156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17840" y="4664160"/>
              <a:ext cx="129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4664160"/>
              <a:ext cx="1116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41960" y="4664160"/>
              <a:ext cx="12600" cy="156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456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6572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76880" y="4664160"/>
              <a:ext cx="1260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9480" y="4664160"/>
              <a:ext cx="111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00640" y="4664160"/>
              <a:ext cx="12600" cy="15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07040" y="4664160"/>
              <a:ext cx="106200" cy="156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07040" y="46386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17840" y="463860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30800" y="4638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1960" y="46386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54560" y="46386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65720" y="4638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76880" y="46386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89480" y="4638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00640" y="4638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13240" y="4638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24400" y="463860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37000" y="46386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48160" y="4638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307040" y="46386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3240" y="459108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24400" y="459108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37000" y="459108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8160" y="459108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3240" y="459108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7040" y="4627440"/>
              <a:ext cx="1080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17840" y="4627440"/>
              <a:ext cx="129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30800" y="462744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1960" y="4627440"/>
              <a:ext cx="1260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456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6572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76880" y="462744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89480" y="462744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00640" y="4627440"/>
              <a:ext cx="1260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07040" y="4627440"/>
              <a:ext cx="10620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07040" y="4408560"/>
            <a:ext cx="684000" cy="946080"/>
            <a:chOff x="4307040" y="4408560"/>
            <a:chExt cx="684000" cy="946080"/>
          </a:xfrm>
        </p:grpSpPr>
        <p:sp>
          <p:nvSpPr>
            <p:cNvPr id="1503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84680" y="4772160"/>
              <a:ext cx="11160" cy="582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95840" y="4772160"/>
              <a:ext cx="1116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07000" y="4772160"/>
              <a:ext cx="1260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19600" y="4772160"/>
              <a:ext cx="11160" cy="582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84680" y="4772160"/>
              <a:ext cx="34920" cy="5713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6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44"/>
                  </a:lnTo>
                  <a:lnTo>
                    <a:pt x="0" y="3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78480" y="4797360"/>
              <a:ext cx="11160" cy="546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89640" y="4797360"/>
              <a:ext cx="1260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2240" y="4797360"/>
              <a:ext cx="1116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13400" y="4797360"/>
              <a:ext cx="11160" cy="546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24560" y="4797360"/>
              <a:ext cx="1260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37160" y="4797360"/>
              <a:ext cx="1116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48320" y="4797360"/>
              <a:ext cx="1260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0920" y="4797360"/>
              <a:ext cx="1116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72080" y="4797360"/>
              <a:ext cx="12600" cy="54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78480" y="4797360"/>
              <a:ext cx="106200" cy="546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8480" y="47721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8964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022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61340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2456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37160" y="47721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48320" y="47721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60920" y="47721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7208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8468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58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700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9600" y="47721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578480" y="477216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4680" y="4602240"/>
              <a:ext cx="11160" cy="206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5840" y="4602240"/>
              <a:ext cx="1116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07000" y="4602240"/>
              <a:ext cx="1260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19600" y="4602240"/>
              <a:ext cx="11160" cy="206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684680" y="4602240"/>
              <a:ext cx="34920" cy="19512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0" y="1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7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78480" y="4627440"/>
              <a:ext cx="11160" cy="169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89640" y="4627440"/>
              <a:ext cx="1260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2240" y="4627440"/>
              <a:ext cx="1116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13400" y="4627440"/>
              <a:ext cx="11160" cy="169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24560" y="4627440"/>
              <a:ext cx="1260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37160" y="4627440"/>
              <a:ext cx="1116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8320" y="4627440"/>
              <a:ext cx="1260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60920" y="4627440"/>
              <a:ext cx="1116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72080" y="4627440"/>
              <a:ext cx="12600" cy="169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8480" y="4627440"/>
              <a:ext cx="106200" cy="16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78480" y="46022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964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022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340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2456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37160" y="46022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48320" y="46022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60920" y="46022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7208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468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958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0700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9600" y="46022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78480" y="460224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4680" y="455436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95840" y="455436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07000" y="455436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19600" y="455436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84680" y="45543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8480" y="4578480"/>
              <a:ext cx="1116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89640" y="4578480"/>
              <a:ext cx="1260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02240" y="4578480"/>
              <a:ext cx="111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13400" y="4578480"/>
              <a:ext cx="1116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4560" y="4578480"/>
              <a:ext cx="1260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37160" y="457848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48320" y="457848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60920" y="457848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72080" y="4578480"/>
              <a:ext cx="1260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78480" y="4578480"/>
              <a:ext cx="10620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43520" y="4651200"/>
              <a:ext cx="12600" cy="703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95612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6728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78440" y="4651200"/>
              <a:ext cx="12600" cy="703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43520" y="4651200"/>
              <a:ext cx="34920" cy="692280"/>
            </a:xfrm>
            <a:custGeom>
              <a:avLst/>
              <a:gdLst/>
              <a:ahLst/>
              <a:rect l="l" t="t" r="r" b="b"/>
              <a:pathLst>
                <a:path w="22" h="436">
                  <a:moveTo>
                    <a:pt x="0" y="43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20"/>
                  </a:lnTo>
                  <a:lnTo>
                    <a:pt x="0" y="4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6960" y="4687920"/>
              <a:ext cx="12960" cy="655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9920" y="4687920"/>
              <a:ext cx="1116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1080" y="4687920"/>
              <a:ext cx="1260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73680" y="4687920"/>
              <a:ext cx="11160" cy="655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84840" y="4687920"/>
              <a:ext cx="1116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6000" y="4687920"/>
              <a:ext cx="1260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08600" y="4687920"/>
              <a:ext cx="1116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9760" y="4687920"/>
              <a:ext cx="1260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2360" y="4687920"/>
              <a:ext cx="11160" cy="655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36960" y="4687920"/>
              <a:ext cx="106560" cy="65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36960" y="4651200"/>
              <a:ext cx="129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4992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61080" y="46512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873680" y="46512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8484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96000" y="465120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08600" y="46512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9760" y="46512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3236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46512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56120" y="46512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6728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78440" y="465120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36960" y="46512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4457880"/>
              <a:ext cx="12600" cy="24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5612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6728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8440" y="4457880"/>
              <a:ext cx="12600" cy="24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43520" y="44578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14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2"/>
                  </a:lnTo>
                  <a:lnTo>
                    <a:pt x="0" y="1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36960" y="4481640"/>
              <a:ext cx="12960" cy="206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49920" y="4481640"/>
              <a:ext cx="1116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61080" y="4481640"/>
              <a:ext cx="1260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73680" y="4481640"/>
              <a:ext cx="11160" cy="206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84840" y="4481640"/>
              <a:ext cx="1116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6000" y="4481640"/>
              <a:ext cx="1260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08600" y="4481640"/>
              <a:ext cx="1116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760" y="4481640"/>
              <a:ext cx="1260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32360" y="4481640"/>
              <a:ext cx="111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836960" y="4481640"/>
              <a:ext cx="10656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36960" y="4457880"/>
              <a:ext cx="129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4992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861080" y="445788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3680" y="445788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8484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96000" y="4457880"/>
              <a:ext cx="1260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08600" y="44578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19760" y="44578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3236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43520" y="445788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956120" y="445788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6728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8440" y="44578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36960" y="445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43520" y="440856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5612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6728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78440" y="4408560"/>
              <a:ext cx="1260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43520" y="44085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36960" y="444492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49920" y="444492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61080" y="444492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836960" y="4056120"/>
            <a:ext cx="696960" cy="1298520"/>
            <a:chOff x="4836960" y="4056120"/>
            <a:chExt cx="696960" cy="1298520"/>
          </a:xfrm>
        </p:grpSpPr>
        <p:sp>
          <p:nvSpPr>
            <p:cNvPr id="1704" name=""/>
            <p:cNvSpPr/>
            <p:nvPr/>
          </p:nvSpPr>
          <p:spPr>
            <a:xfrm>
              <a:off x="4873680" y="444492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84840" y="444492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6000" y="4444920"/>
              <a:ext cx="126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08600" y="444492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19760" y="444492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32360" y="444492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36960" y="444492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3520" y="4395960"/>
              <a:ext cx="12600" cy="619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5612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6728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78440" y="4395960"/>
              <a:ext cx="12600" cy="619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43520" y="439596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36960" y="4421160"/>
              <a:ext cx="12960" cy="237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49920" y="4421160"/>
              <a:ext cx="1116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61080" y="4421160"/>
              <a:ext cx="1260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3680" y="4421160"/>
              <a:ext cx="11160" cy="237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84840" y="442116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96000" y="4421160"/>
              <a:ext cx="1260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8600" y="4421160"/>
              <a:ext cx="1116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9760" y="4421160"/>
              <a:ext cx="1260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32360" y="4421160"/>
              <a:ext cx="1116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6960" y="442116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36960" y="43959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992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61080" y="43959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73680" y="43959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8484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96000" y="439596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395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19760" y="4395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236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43520" y="4395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56120" y="4395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6728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78440" y="43959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36960" y="43959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14960" y="4421160"/>
              <a:ext cx="11160" cy="933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6120" y="4421160"/>
              <a:ext cx="1260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38720" y="4421160"/>
              <a:ext cx="1116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9880" y="4421160"/>
              <a:ext cx="12600" cy="933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4960" y="4421160"/>
              <a:ext cx="34920" cy="922320"/>
            </a:xfrm>
            <a:custGeom>
              <a:avLst/>
              <a:gdLst/>
              <a:ahLst/>
              <a:rect l="l" t="t" r="r" b="b"/>
              <a:pathLst>
                <a:path w="22" h="581">
                  <a:moveTo>
                    <a:pt x="0" y="58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565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08400" y="4457880"/>
              <a:ext cx="12960" cy="885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21360" y="4457880"/>
              <a:ext cx="1116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252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43680" y="4457880"/>
              <a:ext cx="12600" cy="885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56280" y="4457880"/>
              <a:ext cx="1116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67440" y="4457880"/>
              <a:ext cx="1260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004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4457880"/>
              <a:ext cx="1260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03800" y="4457880"/>
              <a:ext cx="11160" cy="885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8400" y="4457880"/>
              <a:ext cx="106560" cy="88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8400" y="4421160"/>
              <a:ext cx="129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2136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32520" y="442116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43680" y="442116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5628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67440" y="4421160"/>
              <a:ext cx="1260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80040" y="442116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1200" y="442116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0380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14960" y="442116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26120" y="442116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3872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49880" y="4421160"/>
              <a:ext cx="1260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8400" y="44211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14960" y="4178160"/>
              <a:ext cx="11160" cy="290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4178160"/>
              <a:ext cx="1260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4178160"/>
              <a:ext cx="1116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49880" y="4178160"/>
              <a:ext cx="12600" cy="290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4960" y="4178160"/>
              <a:ext cx="34920" cy="279720"/>
            </a:xfrm>
            <a:custGeom>
              <a:avLst/>
              <a:gdLst/>
              <a:ahLst/>
              <a:rect l="l" t="t" r="r" b="b"/>
              <a:pathLst>
                <a:path w="22" h="176">
                  <a:moveTo>
                    <a:pt x="0" y="1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08400" y="4202280"/>
              <a:ext cx="12960" cy="255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4202280"/>
              <a:ext cx="1116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3252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43680" y="4202280"/>
              <a:ext cx="12600" cy="255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56280" y="4202280"/>
              <a:ext cx="1116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7440" y="4202280"/>
              <a:ext cx="1260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8004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1200" y="4202280"/>
              <a:ext cx="1260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3800" y="4202280"/>
              <a:ext cx="11160" cy="25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08400" y="4202280"/>
              <a:ext cx="106560" cy="25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400" y="417816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2136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32520" y="417816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43680" y="417816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5628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67440" y="417816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80040" y="41781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91200" y="41781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380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14960" y="417816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26120" y="417816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3872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49880" y="417816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08400" y="4178160"/>
              <a:ext cx="14148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14960" y="4118040"/>
              <a:ext cx="111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26120" y="4118040"/>
              <a:ext cx="126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411804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49880" y="4118040"/>
              <a:ext cx="1260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14960" y="41180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8400" y="4141800"/>
              <a:ext cx="12960" cy="604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21360" y="4141800"/>
              <a:ext cx="1116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252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3680" y="4141800"/>
              <a:ext cx="12600" cy="604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6280" y="4141800"/>
              <a:ext cx="1116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67440" y="4141800"/>
              <a:ext cx="1260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8004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1200" y="4141800"/>
              <a:ext cx="1260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03800" y="4141800"/>
              <a:ext cx="11160" cy="6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08400" y="4141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14960" y="4056120"/>
              <a:ext cx="11160" cy="98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26120" y="4056120"/>
              <a:ext cx="1260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8720" y="4056120"/>
              <a:ext cx="1116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9880" y="4056120"/>
              <a:ext cx="12600" cy="98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4960" y="405612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08400" y="4081320"/>
              <a:ext cx="129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21360" y="408132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252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3680" y="4081320"/>
              <a:ext cx="1260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56280" y="408132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4081320"/>
              <a:ext cx="126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8004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91200" y="4081320"/>
              <a:ext cx="1260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03800" y="4081320"/>
              <a:ext cx="1116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8400" y="408132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8400" y="405612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2136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2520" y="40561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43680" y="405612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5628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440" y="405612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80040" y="40561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91200" y="405612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0380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4960" y="405612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26120" y="405612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3872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49880" y="405612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108400" y="405612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75240" y="4178160"/>
              <a:ext cx="11160" cy="11764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6400" y="4178160"/>
              <a:ext cx="11160" cy="11764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9756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51016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21320" y="4178160"/>
              <a:ext cx="1260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75240" y="4178160"/>
              <a:ext cx="46080" cy="1165320"/>
            </a:xfrm>
            <a:custGeom>
              <a:avLst/>
              <a:gdLst/>
              <a:ahLst/>
              <a:rect l="l" t="t" r="r" b="b"/>
              <a:pathLst>
                <a:path w="29" h="734">
                  <a:moveTo>
                    <a:pt x="0" y="734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69040" y="3668760"/>
            <a:ext cx="423720" cy="1685880"/>
            <a:chOff x="5369040" y="3668760"/>
            <a:chExt cx="423720" cy="1685880"/>
          </a:xfrm>
        </p:grpSpPr>
        <p:sp>
          <p:nvSpPr>
            <p:cNvPr id="1905" name=""/>
            <p:cNvSpPr/>
            <p:nvPr/>
          </p:nvSpPr>
          <p:spPr>
            <a:xfrm>
              <a:off x="536904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0200" y="4202280"/>
              <a:ext cx="126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2800" y="4202280"/>
              <a:ext cx="111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396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512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2772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888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264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6904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904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80200" y="4178160"/>
              <a:ext cx="1260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92800" y="4178160"/>
              <a:ext cx="1116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03960" y="417816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15120" y="417816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27720" y="417816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3888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5148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62640" y="4178160"/>
              <a:ext cx="1260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475240" y="4178160"/>
              <a:ext cx="1116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86400" y="417816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7560" y="417816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10160" y="417816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21320" y="417816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369040" y="417816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5240" y="3886200"/>
              <a:ext cx="11160" cy="32868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6400" y="3886200"/>
              <a:ext cx="11160" cy="32868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7560" y="3886200"/>
              <a:ext cx="1260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510160" y="3886200"/>
              <a:ext cx="1116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521320" y="3886200"/>
              <a:ext cx="12600" cy="32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3886200"/>
              <a:ext cx="46080" cy="31608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0" y="199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184"/>
                  </a:lnTo>
                  <a:lnTo>
                    <a:pt x="0" y="1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69040" y="3911760"/>
              <a:ext cx="11160" cy="290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0200" y="3911760"/>
              <a:ext cx="1260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2800" y="3911760"/>
              <a:ext cx="1116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03960" y="3911760"/>
              <a:ext cx="11160" cy="290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15120" y="3911760"/>
              <a:ext cx="1260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27720" y="3911760"/>
              <a:ext cx="1116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38880" y="3911760"/>
              <a:ext cx="1260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1480" y="3911760"/>
              <a:ext cx="1116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62640" y="3911760"/>
              <a:ext cx="1260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69040" y="3911760"/>
              <a:ext cx="106200" cy="2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69040" y="3886200"/>
              <a:ext cx="1116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80200" y="388620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92800" y="388620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03960" y="3886200"/>
              <a:ext cx="1116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15120" y="388620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27720" y="388620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8880" y="38862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1480" y="38862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62640" y="388620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75240" y="388620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86400" y="388620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7560" y="3886200"/>
              <a:ext cx="1260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10160" y="388620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21320" y="388620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9040" y="388620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75240" y="3789360"/>
              <a:ext cx="11160" cy="13320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86400" y="3789360"/>
              <a:ext cx="11160" cy="13320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97560" y="37893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0160" y="37893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21320" y="3789360"/>
              <a:ext cx="1260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75240" y="378936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7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69040" y="381492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80200" y="3814920"/>
              <a:ext cx="1260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92800" y="381492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03960" y="3814920"/>
              <a:ext cx="111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15120" y="381492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27720" y="38149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8880" y="38149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51480" y="38149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62640" y="381492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9040" y="38149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378936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80200" y="378936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92800" y="37893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0396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5120" y="378936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7720" y="37893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38880" y="3789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51480" y="3789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62640" y="37893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75240" y="37893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8640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97560" y="378936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510160" y="37893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521320" y="37893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69040" y="378936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69040" y="3778200"/>
              <a:ext cx="11160" cy="475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80200" y="3778200"/>
              <a:ext cx="1260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92800" y="3778200"/>
              <a:ext cx="1116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396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15120" y="3778200"/>
              <a:ext cx="1260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7720" y="3778200"/>
              <a:ext cx="1116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8880" y="377820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51480" y="377820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62640" y="3778200"/>
              <a:ext cx="1260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75240" y="3778200"/>
              <a:ext cx="1116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640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97560" y="3778200"/>
              <a:ext cx="1260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10160" y="3778200"/>
              <a:ext cx="1116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1320" y="377820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69040" y="3778200"/>
              <a:ext cx="152280" cy="367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475240" y="3668760"/>
              <a:ext cx="11160" cy="15696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86400" y="3668760"/>
              <a:ext cx="11160" cy="15696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97560" y="3668760"/>
              <a:ext cx="1260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0160" y="3668760"/>
              <a:ext cx="1116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21320" y="3668760"/>
              <a:ext cx="12600" cy="1569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75240" y="3668760"/>
              <a:ext cx="46080" cy="14616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0" y="92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69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69040" y="3705120"/>
              <a:ext cx="11160" cy="109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0200" y="3705120"/>
              <a:ext cx="1260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92800" y="3705120"/>
              <a:ext cx="1116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03960" y="3705120"/>
              <a:ext cx="11160" cy="109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15120" y="3705120"/>
              <a:ext cx="1260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27720" y="3705120"/>
              <a:ext cx="1116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38880" y="3705120"/>
              <a:ext cx="1260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451480" y="3705120"/>
              <a:ext cx="1116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462640" y="3705120"/>
              <a:ext cx="12600" cy="109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69040" y="3705120"/>
              <a:ext cx="106200" cy="10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69040" y="366876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380200" y="366876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92800" y="366876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3960" y="366876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15120" y="366876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27720" y="366876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43888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5148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62640" y="3668760"/>
              <a:ext cx="1260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75240" y="366876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86400" y="366876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7560" y="3668760"/>
              <a:ext cx="1260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10160" y="366876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21320" y="3668760"/>
              <a:ext cx="126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9040" y="366876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6680" y="4178160"/>
              <a:ext cx="11160" cy="1176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5784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6900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81600" y="4178160"/>
              <a:ext cx="1116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46680" y="4178160"/>
              <a:ext cx="34920" cy="1165320"/>
            </a:xfrm>
            <a:custGeom>
              <a:avLst/>
              <a:gdLst/>
              <a:ahLst/>
              <a:rect l="l" t="t" r="r" b="b"/>
              <a:pathLst>
                <a:path w="22" h="734">
                  <a:moveTo>
                    <a:pt x="0" y="73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64048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651640" y="4202280"/>
              <a:ext cx="108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662440" y="4202280"/>
              <a:ext cx="129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7540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8656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69916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1032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292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3408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4048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4048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51640" y="417816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62440" y="417816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540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8656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99160" y="41781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1032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2292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3408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74668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757840" y="41781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69000" y="41781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81600" y="41781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40480" y="4178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46680" y="3862440"/>
              <a:ext cx="11160" cy="352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57840" y="3862440"/>
              <a:ext cx="1116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69000" y="3862440"/>
              <a:ext cx="1260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1600" y="3862440"/>
              <a:ext cx="11160" cy="352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6680" y="3862440"/>
              <a:ext cx="34920" cy="339840"/>
            </a:xfrm>
            <a:custGeom>
              <a:avLst/>
              <a:gdLst/>
              <a:ahLst/>
              <a:rect l="l" t="t" r="r" b="b"/>
              <a:pathLst>
                <a:path w="22" h="214">
                  <a:moveTo>
                    <a:pt x="0" y="21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99"/>
                  </a:lnTo>
                  <a:lnTo>
                    <a:pt x="0" y="2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40480" y="3886200"/>
              <a:ext cx="11160" cy="316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51640" y="3886200"/>
              <a:ext cx="1080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2440" y="3886200"/>
              <a:ext cx="1296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5400" y="3886200"/>
              <a:ext cx="11160" cy="316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86560" y="3886200"/>
              <a:ext cx="1260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99160" y="3886200"/>
              <a:ext cx="1116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10320" y="3886200"/>
              <a:ext cx="1260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22920" y="3886200"/>
              <a:ext cx="1116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34080" y="3886200"/>
              <a:ext cx="1260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640480" y="3886200"/>
              <a:ext cx="106200" cy="31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640480" y="38624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651640" y="3862440"/>
              <a:ext cx="108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62440" y="386244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7540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68656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99160" y="38624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710320" y="38624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22920" y="38624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3408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4668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57840" y="38624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69000" y="38624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81600" y="38624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3862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46680" y="3778200"/>
              <a:ext cx="11160" cy="1206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57840" y="3778200"/>
              <a:ext cx="1116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69000" y="3778200"/>
              <a:ext cx="1260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81600" y="3778200"/>
              <a:ext cx="11160" cy="120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46680" y="3778200"/>
              <a:ext cx="34920" cy="1080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0480" y="3801960"/>
              <a:ext cx="11160" cy="842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651640" y="3801960"/>
              <a:ext cx="1080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801960"/>
              <a:ext cx="1296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5400" y="3801960"/>
              <a:ext cx="11160" cy="842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640480" y="3305160"/>
            <a:ext cx="684000" cy="2049480"/>
            <a:chOff x="5640480" y="3305160"/>
            <a:chExt cx="684000" cy="2049480"/>
          </a:xfrm>
        </p:grpSpPr>
        <p:sp>
          <p:nvSpPr>
            <p:cNvPr id="2106" name=""/>
            <p:cNvSpPr/>
            <p:nvPr/>
          </p:nvSpPr>
          <p:spPr>
            <a:xfrm>
              <a:off x="5686560" y="3801960"/>
              <a:ext cx="1260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699160" y="3801960"/>
              <a:ext cx="1116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10320" y="3801960"/>
              <a:ext cx="1260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22920" y="3801960"/>
              <a:ext cx="1116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34080" y="3801960"/>
              <a:ext cx="12600" cy="84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640480" y="3801960"/>
              <a:ext cx="10620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40480" y="377820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1640" y="3778200"/>
              <a:ext cx="108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662440" y="3778200"/>
              <a:ext cx="129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7540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8656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99160" y="377820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10320" y="3778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22920" y="3778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408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4668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57840" y="377820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69000" y="377820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81600" y="3778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4048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0480" y="3765600"/>
              <a:ext cx="111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51640" y="3765600"/>
              <a:ext cx="108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2440" y="3765600"/>
              <a:ext cx="129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7540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8656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9160" y="376560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0320" y="376560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22920" y="376560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3408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4668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57840" y="376560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69000" y="376560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81600" y="376560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40480" y="376560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46680" y="366876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57840" y="366876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69000" y="366876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81600" y="3668760"/>
              <a:ext cx="1116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46680" y="366876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40480" y="3705120"/>
              <a:ext cx="11160" cy="968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51640" y="3705120"/>
              <a:ext cx="1080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62440" y="3705120"/>
              <a:ext cx="1296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75400" y="3705120"/>
              <a:ext cx="11160" cy="968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686560" y="3705120"/>
              <a:ext cx="1260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99160" y="3705120"/>
              <a:ext cx="1116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0320" y="3705120"/>
              <a:ext cx="1260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722920" y="3705120"/>
              <a:ext cx="1116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34080" y="3705120"/>
              <a:ext cx="12600" cy="96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0480" y="37051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0480" y="366876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51640" y="366876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62440" y="366876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7540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8656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99160" y="366876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71032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72292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3408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74668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757840" y="366876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69000" y="366876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81600" y="366876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0480" y="36687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6680" y="3922560"/>
              <a:ext cx="12600" cy="143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29280" y="3922560"/>
              <a:ext cx="1116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0440" y="3922560"/>
              <a:ext cx="1260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3040" y="3922560"/>
              <a:ext cx="11160" cy="143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16680" y="3922560"/>
              <a:ext cx="36360" cy="1420920"/>
            </a:xfrm>
            <a:custGeom>
              <a:avLst/>
              <a:gdLst/>
              <a:ahLst/>
              <a:rect l="l" t="t" r="r" b="b"/>
              <a:pathLst>
                <a:path w="23" h="895">
                  <a:moveTo>
                    <a:pt x="0" y="895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879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11920" y="3948120"/>
              <a:ext cx="11160" cy="1395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2308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3424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46840" y="3948120"/>
              <a:ext cx="11160" cy="1395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58000" y="3948120"/>
              <a:ext cx="1260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0600" y="3948120"/>
              <a:ext cx="1116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8176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9436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05520" y="3948120"/>
              <a:ext cx="11160" cy="1395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11920" y="3948120"/>
              <a:ext cx="104760" cy="1395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11920" y="39225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23080" y="39225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34240" y="39225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46840" y="39225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958000" y="39225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70600" y="39225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1760" y="39225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4360" y="39225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05520" y="39225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16680" y="39225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29280" y="39225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40440" y="39225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053040" y="39225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11920" y="392256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16680" y="3559320"/>
              <a:ext cx="12600" cy="3999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029280" y="3559320"/>
              <a:ext cx="1116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040440" y="3559320"/>
              <a:ext cx="1260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053040" y="3559320"/>
              <a:ext cx="11160" cy="399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16680" y="3559320"/>
              <a:ext cx="36360" cy="388800"/>
            </a:xfrm>
            <a:custGeom>
              <a:avLst/>
              <a:gdLst/>
              <a:ahLst/>
              <a:rect l="l" t="t" r="r" b="b"/>
              <a:pathLst>
                <a:path w="23" h="245">
                  <a:moveTo>
                    <a:pt x="0" y="245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29"/>
                  </a:lnTo>
                  <a:lnTo>
                    <a:pt x="0" y="2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1920" y="3583080"/>
              <a:ext cx="11160" cy="3650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2308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3424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6840" y="3583080"/>
              <a:ext cx="11160" cy="3650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8000" y="3583080"/>
              <a:ext cx="1260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3583080"/>
              <a:ext cx="1116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176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9436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05520" y="3583080"/>
              <a:ext cx="11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11920" y="3583080"/>
              <a:ext cx="104760" cy="3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11920" y="355932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3080" y="35593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34240" y="35593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46840" y="35593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5593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70600" y="35593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81760" y="35593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994360" y="35593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35593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16680" y="355932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29280" y="35593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40440" y="355932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53040" y="35593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11920" y="35593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6680" y="3449520"/>
              <a:ext cx="12600" cy="1461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29280" y="3449520"/>
              <a:ext cx="1116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40440" y="3449520"/>
              <a:ext cx="1260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3040" y="3449520"/>
              <a:ext cx="11160" cy="1461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16680" y="3449520"/>
              <a:ext cx="36360" cy="1335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84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11920" y="3475080"/>
              <a:ext cx="11160" cy="1080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2308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3424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46840" y="3475080"/>
              <a:ext cx="11160" cy="1080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58000" y="3475080"/>
              <a:ext cx="1260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70600" y="3475080"/>
              <a:ext cx="1116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8176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9436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5520" y="3475080"/>
              <a:ext cx="11160" cy="10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11920" y="3475080"/>
              <a:ext cx="104760" cy="10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11920" y="344952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3080" y="344952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34240" y="344952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46840" y="344952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58000" y="344952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70600" y="344952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81760" y="344952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94360" y="344952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05520" y="344952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16680" y="344952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9280" y="344952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40440" y="344952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53040" y="344952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11920" y="344952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11920" y="3438360"/>
              <a:ext cx="1116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23080" y="343836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34240" y="343836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46840" y="343836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58000" y="343836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70600" y="343836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81760" y="343836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94360" y="343836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5520" y="343836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16680" y="343836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29280" y="343836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40440" y="343836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53040" y="343836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11920" y="343836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6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16680" y="3305160"/>
              <a:ext cx="1260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29280" y="3305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0440" y="3305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53040" y="3305160"/>
              <a:ext cx="1116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6680" y="3305160"/>
              <a:ext cx="36360" cy="16992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0" y="107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11920" y="3328920"/>
              <a:ext cx="11160" cy="1461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308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3424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46840" y="3328920"/>
              <a:ext cx="11160" cy="1461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58000" y="3328920"/>
              <a:ext cx="1260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970600" y="3328920"/>
              <a:ext cx="1116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98176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9436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005520" y="3328920"/>
              <a:ext cx="11160" cy="146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911920" y="3328920"/>
              <a:ext cx="10476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11920" y="330516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23080" y="33051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34240" y="33051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946840" y="3305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58000" y="330516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70600" y="33051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1760" y="3305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94360" y="3305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5520" y="3305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16680" y="3305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9280" y="3305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40440" y="3305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53040" y="3305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11920" y="33051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76960" y="3778200"/>
              <a:ext cx="11160" cy="1576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8120" y="3778200"/>
              <a:ext cx="1260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300720" y="3778200"/>
              <a:ext cx="1116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311880" y="3778200"/>
              <a:ext cx="12600" cy="1576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76960" y="3778200"/>
              <a:ext cx="34920" cy="1565280"/>
            </a:xfrm>
            <a:custGeom>
              <a:avLst/>
              <a:gdLst/>
              <a:ahLst/>
              <a:rect l="l" t="t" r="r" b="b"/>
              <a:pathLst>
                <a:path w="22" h="986">
                  <a:moveTo>
                    <a:pt x="0" y="98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70"/>
                  </a:lnTo>
                  <a:lnTo>
                    <a:pt x="0" y="98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170760" y="3801960"/>
              <a:ext cx="12600" cy="15415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83360" y="3801960"/>
              <a:ext cx="1116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170760" y="3062160"/>
            <a:ext cx="425160" cy="2292480"/>
            <a:chOff x="6170760" y="3062160"/>
            <a:chExt cx="425160" cy="2292480"/>
          </a:xfrm>
        </p:grpSpPr>
        <p:sp>
          <p:nvSpPr>
            <p:cNvPr id="2307" name=""/>
            <p:cNvSpPr/>
            <p:nvPr/>
          </p:nvSpPr>
          <p:spPr>
            <a:xfrm>
              <a:off x="619452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205680" y="3801960"/>
              <a:ext cx="12600" cy="15415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8280" y="3801960"/>
              <a:ext cx="1116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229440" y="3801960"/>
              <a:ext cx="1260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4204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53200" y="3801960"/>
              <a:ext cx="1260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65800" y="3801960"/>
              <a:ext cx="11160" cy="1541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0760" y="3801960"/>
              <a:ext cx="106200" cy="154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70760" y="377820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8336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94520" y="3778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05680" y="3778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21828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29440" y="3778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42040" y="3778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53200" y="37782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6580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6960" y="3778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288120" y="3778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0072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311880" y="377820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076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76960" y="3365640"/>
              <a:ext cx="11160" cy="449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88120" y="3365640"/>
              <a:ext cx="1260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00720" y="3365640"/>
              <a:ext cx="1116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11880" y="3365640"/>
              <a:ext cx="12600" cy="44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276960" y="3365640"/>
              <a:ext cx="34920" cy="436320"/>
            </a:xfrm>
            <a:custGeom>
              <a:avLst/>
              <a:gdLst/>
              <a:ahLst/>
              <a:rect l="l" t="t" r="r" b="b"/>
              <a:pathLst>
                <a:path w="22" h="275">
                  <a:moveTo>
                    <a:pt x="0" y="27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7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70760" y="3402000"/>
              <a:ext cx="12600" cy="399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83360" y="3402000"/>
              <a:ext cx="1116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452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05680" y="3402000"/>
              <a:ext cx="12600" cy="399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3402000"/>
              <a:ext cx="1116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229440" y="3402000"/>
              <a:ext cx="1260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24204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53200" y="3402000"/>
              <a:ext cx="1260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265800" y="3402000"/>
              <a:ext cx="11160" cy="39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170760" y="3402000"/>
              <a:ext cx="106200" cy="39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70760" y="3365640"/>
              <a:ext cx="126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18336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94520" y="3365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05680" y="336564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1828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229440" y="336564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2040" y="3365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53200" y="3365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26580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76960" y="336564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288120" y="336564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0072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11880" y="3365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70760" y="33656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276960" y="321948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88120" y="321948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00720" y="321948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1880" y="321948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76960" y="321948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70760" y="3255840"/>
              <a:ext cx="12600" cy="146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83360" y="3255840"/>
              <a:ext cx="1116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9452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05680" y="3255840"/>
              <a:ext cx="12600" cy="146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218280" y="3255840"/>
              <a:ext cx="1116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229440" y="3255840"/>
              <a:ext cx="1260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24204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253200" y="3255840"/>
              <a:ext cx="1260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65800" y="3255840"/>
              <a:ext cx="11160" cy="146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70760" y="32558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076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18336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1945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0568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1828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29440" y="321948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204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320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26580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27696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28812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007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11880" y="321948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70760" y="32194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276960" y="3206880"/>
              <a:ext cx="11160" cy="619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88120" y="3206880"/>
              <a:ext cx="1260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00720" y="3206880"/>
              <a:ext cx="1116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11880" y="3206880"/>
              <a:ext cx="12600" cy="619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276960" y="32068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70760" y="3232080"/>
              <a:ext cx="12600" cy="2376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183360" y="3232080"/>
              <a:ext cx="1116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9452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205680" y="3232080"/>
              <a:ext cx="12600" cy="23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18280" y="3232080"/>
              <a:ext cx="1116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29440" y="3232080"/>
              <a:ext cx="1260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4204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253200" y="3232080"/>
              <a:ext cx="1260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65800" y="3232080"/>
              <a:ext cx="111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70760" y="3232080"/>
              <a:ext cx="10620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70760" y="320688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8336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94520" y="320688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05680" y="320688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1828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229440" y="320688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42040" y="32068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53200" y="32068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6580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6960" y="32068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88120" y="32068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30072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11880" y="320688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70760" y="32068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76960" y="3062160"/>
              <a:ext cx="1116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288120" y="3062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00720" y="3062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311880" y="3062160"/>
              <a:ext cx="1260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276960" y="306216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170760" y="3086280"/>
              <a:ext cx="12600" cy="145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183360" y="3086280"/>
              <a:ext cx="1116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19452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05680" y="3086280"/>
              <a:ext cx="12600" cy="145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218280" y="3086280"/>
              <a:ext cx="1116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29440" y="3086280"/>
              <a:ext cx="1260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4204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53200" y="3086280"/>
              <a:ext cx="1260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265800" y="3086280"/>
              <a:ext cx="11160" cy="14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170760" y="3086280"/>
              <a:ext cx="106200" cy="14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170760" y="3062160"/>
              <a:ext cx="1260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8336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94520" y="30621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5680" y="3062160"/>
              <a:ext cx="1260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1828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29440" y="306216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42040" y="30621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253200" y="30621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26580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76960" y="30621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88120" y="306216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0072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11880" y="306216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70760" y="3062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48400" y="3862440"/>
              <a:ext cx="11160" cy="1492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59560" y="3862440"/>
              <a:ext cx="1260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72160" y="3862440"/>
              <a:ext cx="1116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83320" y="3862440"/>
              <a:ext cx="12600" cy="1492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3862440"/>
              <a:ext cx="34920" cy="1481040"/>
            </a:xfrm>
            <a:custGeom>
              <a:avLst/>
              <a:gdLst/>
              <a:ahLst/>
              <a:rect l="l" t="t" r="r" b="b"/>
              <a:pathLst>
                <a:path w="22" h="933">
                  <a:moveTo>
                    <a:pt x="0" y="93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7"/>
                  </a:lnTo>
                  <a:lnTo>
                    <a:pt x="0" y="93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442200" y="3898800"/>
              <a:ext cx="11160" cy="1444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3360" y="3898800"/>
              <a:ext cx="1260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6596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477120" y="3898800"/>
              <a:ext cx="12600" cy="1444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489720" y="3898800"/>
              <a:ext cx="1116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00880" y="3898800"/>
              <a:ext cx="1260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1348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24640" y="3898800"/>
              <a:ext cx="1116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535800" y="3898800"/>
              <a:ext cx="12600" cy="1444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42200" y="3898800"/>
              <a:ext cx="106200" cy="14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42200" y="386244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53360" y="386244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465960" y="386244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77120" y="386244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489720" y="386244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0880" y="386244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1348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2464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35800" y="386244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48400" y="386244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559560" y="386244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572160" y="386244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3320" y="386244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442200" y="38624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548400" y="3449520"/>
              <a:ext cx="11160" cy="462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59560" y="3449520"/>
              <a:ext cx="1260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72160" y="3449520"/>
              <a:ext cx="1116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83320" y="3449520"/>
              <a:ext cx="12600" cy="462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548400" y="344952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42200" y="3486240"/>
              <a:ext cx="11160" cy="4125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453360" y="3486240"/>
              <a:ext cx="1260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46596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77120" y="3486240"/>
              <a:ext cx="12600" cy="4125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489720" y="3486240"/>
              <a:ext cx="1116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500880" y="3486240"/>
              <a:ext cx="1260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1348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4640" y="3486240"/>
              <a:ext cx="1116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35800" y="3486240"/>
              <a:ext cx="12600" cy="41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442200" y="3486240"/>
              <a:ext cx="106200" cy="412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42200" y="34495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453360" y="34495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465960" y="34495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34495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89720" y="34495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00880" y="34495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51348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2464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35800" y="34495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8400" y="34495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9560" y="34495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72160" y="34495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83320" y="344952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442200" y="344952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548400" y="330516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559560" y="330516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72160" y="330516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83320" y="330516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6442200" y="3146400"/>
            <a:ext cx="425160" cy="2208240"/>
            <a:chOff x="6442200" y="3146400"/>
            <a:chExt cx="425160" cy="2208240"/>
          </a:xfrm>
        </p:grpSpPr>
        <p:sp>
          <p:nvSpPr>
            <p:cNvPr id="2508" name=""/>
            <p:cNvSpPr/>
            <p:nvPr/>
          </p:nvSpPr>
          <p:spPr>
            <a:xfrm>
              <a:off x="6548400" y="330516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0" y="11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42200" y="3341520"/>
              <a:ext cx="11160" cy="144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53360" y="3341520"/>
              <a:ext cx="1260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6596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77120" y="3341520"/>
              <a:ext cx="12600" cy="144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89720" y="3341520"/>
              <a:ext cx="1116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00880" y="3341520"/>
              <a:ext cx="1260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24640" y="3341520"/>
              <a:ext cx="1116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5800" y="3341520"/>
              <a:ext cx="12600" cy="14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442200" y="3341520"/>
              <a:ext cx="106200" cy="144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42200" y="33051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53360" y="33051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65960" y="33051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77120" y="330516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33051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00880" y="33051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1348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2464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35800" y="33051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548400" y="33051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59560" y="330516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72160" y="33051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583320" y="330516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442200" y="33051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48400" y="325584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59560" y="325584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72160" y="325584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83320" y="325584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8400" y="32558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442200" y="3279600"/>
              <a:ext cx="11160" cy="619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3279600"/>
              <a:ext cx="1260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6596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77120" y="3279600"/>
              <a:ext cx="12600" cy="619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489720" y="3279600"/>
              <a:ext cx="1116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00880" y="3279600"/>
              <a:ext cx="1260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1348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524640" y="3279600"/>
              <a:ext cx="1116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35800" y="3279600"/>
              <a:ext cx="12600" cy="6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42200" y="3279600"/>
              <a:ext cx="10620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32558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453360" y="325584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5960" y="325584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77120" y="325584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89720" y="32558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00880" y="32558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1348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2464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35800" y="32558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548400" y="32558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559560" y="32558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572160" y="32558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83320" y="32558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42200" y="32558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48400" y="314640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560" y="314640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2160" y="314640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3320" y="3146400"/>
              <a:ext cx="1260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48400" y="314640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442200" y="317196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453360" y="317196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46596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77120" y="3171960"/>
              <a:ext cx="1260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9720" y="317196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500880" y="317196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51348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524640" y="317196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35800" y="317196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42200" y="3171960"/>
              <a:ext cx="10620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42200" y="31464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53360" y="31464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65960" y="31464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7120" y="31464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89720" y="31464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00880" y="31464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51348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52464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35800" y="31464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8400" y="31464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559560" y="31464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72160" y="31464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83320" y="31464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42200" y="31464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819840" y="3959280"/>
              <a:ext cx="11160" cy="1395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831000" y="3959280"/>
              <a:ext cx="1260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843600" y="3959280"/>
              <a:ext cx="1116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54760" y="3959280"/>
              <a:ext cx="12600" cy="1395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19840" y="3959280"/>
              <a:ext cx="34920" cy="1384200"/>
            </a:xfrm>
            <a:custGeom>
              <a:avLst/>
              <a:gdLst/>
              <a:ahLst/>
              <a:rect l="l" t="t" r="r" b="b"/>
              <a:pathLst>
                <a:path w="22" h="872">
                  <a:moveTo>
                    <a:pt x="0" y="87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56"/>
                  </a:lnTo>
                  <a:lnTo>
                    <a:pt x="0" y="8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02480" y="3984480"/>
              <a:ext cx="11160" cy="135900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1364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4800" y="3984480"/>
              <a:ext cx="12600" cy="135900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37400" y="3984480"/>
              <a:ext cx="1116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48560" y="3984480"/>
              <a:ext cx="1260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61160" y="3984480"/>
              <a:ext cx="1116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72320" y="3984480"/>
              <a:ext cx="1260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784920" y="3984480"/>
              <a:ext cx="11160" cy="135900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9608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07240" y="3984480"/>
              <a:ext cx="12600" cy="135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2480" y="3984480"/>
              <a:ext cx="117360" cy="135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702480" y="3959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1364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248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37400" y="3959280"/>
              <a:ext cx="111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4856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6116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72320" y="3959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784920" y="3959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79608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0724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19840" y="395928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310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4360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54760" y="3959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02480" y="3959280"/>
              <a:ext cx="15228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4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74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819840" y="3535200"/>
              <a:ext cx="11160" cy="460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831000" y="3535200"/>
              <a:ext cx="1260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43600" y="3535200"/>
              <a:ext cx="1116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854760" y="3535200"/>
              <a:ext cx="12600" cy="460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19840" y="353520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67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702480" y="3559320"/>
              <a:ext cx="11160" cy="42516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1364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724800" y="3559320"/>
              <a:ext cx="1260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737400" y="3559320"/>
              <a:ext cx="1116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8560" y="3559320"/>
              <a:ext cx="1260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61160" y="3559320"/>
              <a:ext cx="1116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72320" y="3559320"/>
              <a:ext cx="1260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784920" y="3559320"/>
              <a:ext cx="1116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79608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807240" y="3559320"/>
              <a:ext cx="12600" cy="42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02480" y="3559320"/>
              <a:ext cx="117360" cy="425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02480" y="353520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1364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48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37400" y="3535200"/>
              <a:ext cx="111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74856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76116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772320" y="3535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84920" y="3535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9608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80724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19840" y="353520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310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84360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54760" y="353520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2480" y="353520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19840" y="3389400"/>
              <a:ext cx="11160" cy="182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31000" y="3389400"/>
              <a:ext cx="1260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43600" y="3389400"/>
              <a:ext cx="1116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54760" y="3389400"/>
              <a:ext cx="12600" cy="182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19840" y="338940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2480" y="3425760"/>
              <a:ext cx="11160" cy="1335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71364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24800" y="3425760"/>
              <a:ext cx="12600" cy="1335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37400" y="3425760"/>
              <a:ext cx="1116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748560" y="3425760"/>
              <a:ext cx="1260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61160" y="3425760"/>
              <a:ext cx="1116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772320" y="3425760"/>
              <a:ext cx="1260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84920" y="3425760"/>
              <a:ext cx="11160" cy="1335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9608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7240" y="3425760"/>
              <a:ext cx="12600" cy="133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02480" y="3425760"/>
              <a:ext cx="1173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2480" y="338940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1364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248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740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856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76116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72320" y="3389400"/>
              <a:ext cx="1260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84920" y="338940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79608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80724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81984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8310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84360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54760" y="3389400"/>
              <a:ext cx="1260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02480" y="338940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74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19840" y="334152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31000" y="334152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43600" y="334152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54760" y="334152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819840" y="33415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02480" y="3365640"/>
              <a:ext cx="11160" cy="6012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71364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24800" y="3365640"/>
              <a:ext cx="12600" cy="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37400" y="3365640"/>
              <a:ext cx="1116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8560" y="336564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1160" y="336564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72320" y="3365640"/>
              <a:ext cx="1260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84920" y="3365640"/>
              <a:ext cx="11160" cy="6012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9608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07240" y="3365640"/>
              <a:ext cx="1260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2480" y="3365640"/>
              <a:ext cx="1173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02480" y="334152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1364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248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3740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4856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6116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72320" y="334152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784920" y="334152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702480" y="3122640"/>
            <a:ext cx="695160" cy="2232000"/>
            <a:chOff x="6702480" y="3122640"/>
            <a:chExt cx="695160" cy="2232000"/>
          </a:xfrm>
        </p:grpSpPr>
        <p:sp>
          <p:nvSpPr>
            <p:cNvPr id="2709" name=""/>
            <p:cNvSpPr/>
            <p:nvPr/>
          </p:nvSpPr>
          <p:spPr>
            <a:xfrm>
              <a:off x="679608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80724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81984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8310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84360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854760" y="3341520"/>
              <a:ext cx="1260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702480" y="334152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819840" y="3268800"/>
              <a:ext cx="11160" cy="107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831000" y="3268800"/>
              <a:ext cx="1260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843600" y="3268800"/>
              <a:ext cx="1116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854760" y="3268800"/>
              <a:ext cx="12600" cy="107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819840" y="32688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02480" y="3292560"/>
              <a:ext cx="11160" cy="7308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364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724800" y="3292560"/>
              <a:ext cx="12600" cy="7308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37400" y="3292560"/>
              <a:ext cx="1116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748560" y="329256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1160" y="329256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72320" y="3292560"/>
              <a:ext cx="1260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4920" y="3292560"/>
              <a:ext cx="11160" cy="7308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9608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07240" y="3292560"/>
              <a:ext cx="1260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02480" y="3292560"/>
              <a:ext cx="1173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02480" y="3268800"/>
              <a:ext cx="1116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1364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248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37400" y="3268800"/>
              <a:ext cx="1116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4856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6116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72320" y="3268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784920" y="3268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9608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0724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19840" y="3268800"/>
              <a:ext cx="1116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310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4360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4760" y="3268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2480" y="326880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78680" y="3898800"/>
              <a:ext cx="12600" cy="1455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91280" y="3898800"/>
              <a:ext cx="1116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102440" y="3898800"/>
              <a:ext cx="1260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15040" y="3898800"/>
              <a:ext cx="11160" cy="1455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078680" y="3898800"/>
              <a:ext cx="36360" cy="1444680"/>
            </a:xfrm>
            <a:custGeom>
              <a:avLst/>
              <a:gdLst/>
              <a:ahLst/>
              <a:rect l="l" t="t" r="r" b="b"/>
              <a:pathLst>
                <a:path w="23" h="910">
                  <a:moveTo>
                    <a:pt x="0" y="910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94"/>
                  </a:lnTo>
                  <a:lnTo>
                    <a:pt x="0" y="91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972480" y="3935520"/>
              <a:ext cx="12600" cy="14079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985080" y="3935520"/>
              <a:ext cx="1116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996240" y="3935520"/>
              <a:ext cx="1260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08840" y="3935520"/>
              <a:ext cx="11160" cy="14079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20000" y="3935520"/>
              <a:ext cx="1260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032600" y="3935520"/>
              <a:ext cx="1116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043760" y="3935520"/>
              <a:ext cx="1116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54920" y="3935520"/>
              <a:ext cx="1260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67520" y="3935520"/>
              <a:ext cx="11160" cy="1407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972480" y="3935520"/>
              <a:ext cx="106200" cy="140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972480" y="3898800"/>
              <a:ext cx="1260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85080" y="38988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96240" y="38988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08840" y="38988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20000" y="389880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032600" y="389880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43760" y="38988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54920" y="38988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67520" y="38988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78680" y="38988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91280" y="38988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02440" y="389880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15040" y="389880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972480" y="38988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78680" y="3438360"/>
              <a:ext cx="12600" cy="509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91280" y="3438360"/>
              <a:ext cx="1116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102440" y="3438360"/>
              <a:ext cx="1260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15040" y="3438360"/>
              <a:ext cx="11160" cy="50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78680" y="3438360"/>
              <a:ext cx="36360" cy="497160"/>
            </a:xfrm>
            <a:custGeom>
              <a:avLst/>
              <a:gdLst/>
              <a:ahLst/>
              <a:rect l="l" t="t" r="r" b="b"/>
              <a:pathLst>
                <a:path w="23" h="313">
                  <a:moveTo>
                    <a:pt x="0" y="31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90"/>
                  </a:lnTo>
                  <a:lnTo>
                    <a:pt x="0" y="3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972480" y="3475080"/>
              <a:ext cx="12600" cy="46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985080" y="3475080"/>
              <a:ext cx="1116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996240" y="3475080"/>
              <a:ext cx="1260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8840" y="3475080"/>
              <a:ext cx="11160" cy="46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20000" y="3475080"/>
              <a:ext cx="1260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32600" y="3475080"/>
              <a:ext cx="1116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43760" y="3475080"/>
              <a:ext cx="1116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54920" y="3475080"/>
              <a:ext cx="1260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67520" y="3475080"/>
              <a:ext cx="11160" cy="46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972480" y="3475080"/>
              <a:ext cx="106200" cy="46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972480" y="343836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985080" y="3438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96240" y="343836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8840" y="343836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20000" y="343836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32600" y="343836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43760" y="3438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54920" y="34383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67520" y="3438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78680" y="343836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91280" y="3438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02440" y="343836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115040" y="34383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72480" y="34383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78680" y="3243240"/>
              <a:ext cx="12600" cy="2430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91280" y="3243240"/>
              <a:ext cx="1116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102440" y="3243240"/>
              <a:ext cx="1260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115040" y="3243240"/>
              <a:ext cx="11160" cy="2430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78680" y="324324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0" y="14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23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972480" y="3268800"/>
              <a:ext cx="12600" cy="206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85080" y="3268800"/>
              <a:ext cx="1116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96240" y="3268800"/>
              <a:ext cx="1260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8840" y="3268800"/>
              <a:ext cx="11160" cy="206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20000" y="3268800"/>
              <a:ext cx="1260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32600" y="3268800"/>
              <a:ext cx="1116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43760" y="3268800"/>
              <a:ext cx="1116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54920" y="3268800"/>
              <a:ext cx="1260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67520" y="3268800"/>
              <a:ext cx="11160" cy="206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972480" y="3268800"/>
              <a:ext cx="10620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972480" y="324324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85080" y="32432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96240" y="32432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8840" y="32432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20000" y="324324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2600" y="32432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43760" y="32432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54920" y="32432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67520" y="32432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78680" y="32432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91280" y="32432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102440" y="32432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115040" y="32432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972480" y="3243240"/>
              <a:ext cx="14256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78680" y="3182760"/>
              <a:ext cx="1260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91280" y="318276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02440" y="318276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15040" y="3182760"/>
              <a:ext cx="1116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7868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72480" y="3219480"/>
              <a:ext cx="12600" cy="493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5080" y="3219480"/>
              <a:ext cx="1116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996240" y="3219480"/>
              <a:ext cx="1260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008840" y="3219480"/>
              <a:ext cx="11160" cy="493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20000" y="3219480"/>
              <a:ext cx="1260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032600" y="3219480"/>
              <a:ext cx="1116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043760" y="3219480"/>
              <a:ext cx="1116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054920" y="3219480"/>
              <a:ext cx="1260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67520" y="3219480"/>
              <a:ext cx="1116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972480" y="321948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972480" y="3182760"/>
              <a:ext cx="1260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85080" y="31827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96240" y="31827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008840" y="31827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20000" y="318276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32600" y="318276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43760" y="31827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54920" y="31827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67520" y="31827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78680" y="31827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91280" y="31827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02440" y="318276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15040" y="318276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72480" y="31827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78680" y="3122640"/>
              <a:ext cx="12600" cy="1094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91280" y="3122640"/>
              <a:ext cx="1116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102440" y="3122640"/>
              <a:ext cx="1260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115040" y="3122640"/>
              <a:ext cx="11160" cy="1094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078680" y="312264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72480" y="3146400"/>
              <a:ext cx="12600" cy="730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985080" y="3146400"/>
              <a:ext cx="1116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96240" y="3146400"/>
              <a:ext cx="1260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08840" y="3146400"/>
              <a:ext cx="11160" cy="730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20000" y="314640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32600" y="314640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43760" y="3146400"/>
              <a:ext cx="1116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54920" y="3146400"/>
              <a:ext cx="1260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67520" y="3146400"/>
              <a:ext cx="1116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72480" y="314640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7248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8508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99624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0884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2000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3260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4376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5492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06752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07868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9128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0244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1504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97248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350120" y="3851280"/>
              <a:ext cx="12600" cy="1503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362720" y="3851280"/>
              <a:ext cx="1116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373880" y="3851280"/>
              <a:ext cx="1260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86480" y="3851280"/>
              <a:ext cx="11160" cy="1503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350120" y="3851280"/>
              <a:ext cx="36360" cy="1492200"/>
            </a:xfrm>
            <a:custGeom>
              <a:avLst/>
              <a:gdLst/>
              <a:ahLst/>
              <a:rect l="l" t="t" r="r" b="b"/>
              <a:pathLst>
                <a:path w="23" h="940">
                  <a:moveTo>
                    <a:pt x="0" y="940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924"/>
                  </a:lnTo>
                  <a:lnTo>
                    <a:pt x="0" y="9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43920" y="3886200"/>
              <a:ext cx="12600" cy="1457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56520" y="3886200"/>
              <a:ext cx="1116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67680" y="3886200"/>
              <a:ext cx="1260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0280" y="3886200"/>
              <a:ext cx="11160" cy="1457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91440" y="3886200"/>
              <a:ext cx="1260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304040" y="3886200"/>
              <a:ext cx="1116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315200" y="3886200"/>
              <a:ext cx="1116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326360" y="3886200"/>
              <a:ext cx="1260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338960" y="3886200"/>
              <a:ext cx="11160" cy="1457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43920" y="3886200"/>
              <a:ext cx="106200" cy="1457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43920" y="3851280"/>
              <a:ext cx="1260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56520" y="385128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43920" y="2759040"/>
            <a:ext cx="414360" cy="2595600"/>
            <a:chOff x="7243920" y="2759040"/>
            <a:chExt cx="414360" cy="2595600"/>
          </a:xfrm>
        </p:grpSpPr>
        <p:sp>
          <p:nvSpPr>
            <p:cNvPr id="2910" name=""/>
            <p:cNvSpPr/>
            <p:nvPr/>
          </p:nvSpPr>
          <p:spPr>
            <a:xfrm>
              <a:off x="7267680" y="385128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0280" y="38512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91440" y="38512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04040" y="38512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15200" y="38512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326360" y="385128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338960" y="385128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350120" y="385128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362720" y="38512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373880" y="38512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86480" y="38512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243920" y="3851280"/>
              <a:ext cx="142560" cy="3492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67" y="22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50120" y="3352680"/>
              <a:ext cx="12600" cy="546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2720" y="3352680"/>
              <a:ext cx="1116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73880" y="3352680"/>
              <a:ext cx="1260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86480" y="3352680"/>
              <a:ext cx="11160" cy="546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50120" y="3352680"/>
              <a:ext cx="36360" cy="53352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33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4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243920" y="3376440"/>
              <a:ext cx="12600" cy="509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256520" y="3376440"/>
              <a:ext cx="1116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67680" y="3376440"/>
              <a:ext cx="1260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80280" y="3376440"/>
              <a:ext cx="11160" cy="509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91440" y="3376440"/>
              <a:ext cx="1260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04040" y="3376440"/>
              <a:ext cx="1116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15200" y="3376440"/>
              <a:ext cx="1116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26360" y="3376440"/>
              <a:ext cx="1260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38960" y="3376440"/>
              <a:ext cx="11160" cy="50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43920" y="3376440"/>
              <a:ext cx="106200" cy="50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243920" y="3352680"/>
              <a:ext cx="126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56520" y="3352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267680" y="33526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280280" y="3352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291440" y="33526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304040" y="335268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5200" y="3352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26360" y="335268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38960" y="3352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350120" y="335268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362720" y="335268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373880" y="335268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386480" y="335268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43920" y="335268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350120" y="3219480"/>
              <a:ext cx="12600" cy="1699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62720" y="3219480"/>
              <a:ext cx="1116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373880" y="3219480"/>
              <a:ext cx="1260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386480" y="3219480"/>
              <a:ext cx="11160" cy="1699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50120" y="3219480"/>
              <a:ext cx="36360" cy="1569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43920" y="3255840"/>
              <a:ext cx="12600" cy="120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256520" y="3255840"/>
              <a:ext cx="1116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67680" y="3255840"/>
              <a:ext cx="1260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80280" y="3255840"/>
              <a:ext cx="11160" cy="120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91440" y="3255840"/>
              <a:ext cx="1260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04040" y="3255840"/>
              <a:ext cx="1116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15200" y="3255840"/>
              <a:ext cx="1116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26360" y="3255840"/>
              <a:ext cx="1260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38960" y="3255840"/>
              <a:ext cx="11160" cy="120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43920" y="3255840"/>
              <a:ext cx="10620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392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565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6768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8028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91440" y="3219480"/>
              <a:ext cx="1260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04040" y="3219480"/>
              <a:ext cx="1116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1520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636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33896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5012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627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73880" y="3219480"/>
              <a:ext cx="1260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86480" y="3219480"/>
              <a:ext cx="1116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43920" y="3219480"/>
              <a:ext cx="142560" cy="363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350120" y="3159000"/>
              <a:ext cx="1260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62720" y="31590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373880" y="31590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386480" y="31590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50120" y="315900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43920" y="3195720"/>
              <a:ext cx="1260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56520" y="3195720"/>
              <a:ext cx="1116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67680" y="3195720"/>
              <a:ext cx="1260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0280" y="319572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1440" y="319572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4040" y="319572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15200" y="319572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26360" y="319572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319572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43920" y="3195720"/>
              <a:ext cx="10620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43920" y="3159000"/>
              <a:ext cx="1260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56520" y="315900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267680" y="315900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80280" y="315900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91440" y="315900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04040" y="315900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15200" y="315900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26360" y="315900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338960" y="315900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50120" y="315900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62720" y="315900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73880" y="315900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386480" y="315900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43920" y="31590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0120" y="3122640"/>
              <a:ext cx="12600" cy="842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62720" y="31226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73880" y="3122640"/>
              <a:ext cx="1260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86480" y="3122640"/>
              <a:ext cx="1116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0120" y="312264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243920" y="3146400"/>
              <a:ext cx="12600" cy="493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56520" y="3146400"/>
              <a:ext cx="1116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67680" y="3146400"/>
              <a:ext cx="1260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80280" y="3146400"/>
              <a:ext cx="11160" cy="493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91440" y="3146400"/>
              <a:ext cx="1260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04040" y="3146400"/>
              <a:ext cx="1116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5200" y="3146400"/>
              <a:ext cx="1116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326360" y="3146400"/>
              <a:ext cx="1260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38960" y="3146400"/>
              <a:ext cx="11160" cy="49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43920" y="314640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24392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5652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26768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28028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9144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30404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31520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2636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33896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35012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6272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7388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38648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4392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10400" y="3535200"/>
              <a:ext cx="11160" cy="1819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21560" y="3535200"/>
              <a:ext cx="1260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34160" y="3535200"/>
              <a:ext cx="1116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45320" y="3535200"/>
              <a:ext cx="12960" cy="1819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610400" y="3535200"/>
              <a:ext cx="34920" cy="1808280"/>
            </a:xfrm>
            <a:custGeom>
              <a:avLst/>
              <a:gdLst/>
              <a:ahLst/>
              <a:rect l="l" t="t" r="r" b="b"/>
              <a:pathLst>
                <a:path w="22" h="1139">
                  <a:moveTo>
                    <a:pt x="0" y="113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23"/>
                  </a:lnTo>
                  <a:lnTo>
                    <a:pt x="0" y="11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504200" y="3559320"/>
              <a:ext cx="11160" cy="17841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15360" y="3559320"/>
              <a:ext cx="1260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2796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539120" y="3559320"/>
              <a:ext cx="12600" cy="17841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551720" y="3559320"/>
              <a:ext cx="1116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62880" y="3559320"/>
              <a:ext cx="1260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57548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86640" y="3559320"/>
              <a:ext cx="1116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597800" y="3559320"/>
              <a:ext cx="12600" cy="1784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504200" y="3559320"/>
              <a:ext cx="106200" cy="178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504200" y="353520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15360" y="35352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527960" y="3535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539120" y="3535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51720" y="3535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62880" y="3535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57548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58664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597800" y="35352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10400" y="3535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21560" y="3535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634160" y="3535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645320" y="3535200"/>
              <a:ext cx="129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04200" y="353520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610400" y="2940120"/>
              <a:ext cx="11160" cy="631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621560" y="2940120"/>
              <a:ext cx="1260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634160" y="2940120"/>
              <a:ext cx="1116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45320" y="2940120"/>
              <a:ext cx="12960" cy="631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10400" y="2940120"/>
              <a:ext cx="34920" cy="619200"/>
            </a:xfrm>
            <a:custGeom>
              <a:avLst/>
              <a:gdLst/>
              <a:ahLst/>
              <a:rect l="l" t="t" r="r" b="b"/>
              <a:pathLst>
                <a:path w="22" h="390">
                  <a:moveTo>
                    <a:pt x="0" y="3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75"/>
                  </a:lnTo>
                  <a:lnTo>
                    <a:pt x="0" y="3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504200" y="2976480"/>
              <a:ext cx="11160" cy="582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515360" y="2976480"/>
              <a:ext cx="1260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52796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9120" y="2976480"/>
              <a:ext cx="12600" cy="582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51720" y="2976480"/>
              <a:ext cx="1116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62880" y="2976480"/>
              <a:ext cx="1260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57548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586640" y="2976480"/>
              <a:ext cx="1116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597800" y="2976480"/>
              <a:ext cx="12600" cy="58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04200" y="2976480"/>
              <a:ext cx="106200" cy="582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504200" y="29401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15360" y="29401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527960" y="29401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39120" y="29401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551720" y="29401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62880" y="29401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57548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58664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597800" y="29401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610400" y="29401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21560" y="29401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634160" y="29401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645320" y="2940120"/>
              <a:ext cx="129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504200" y="294012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10400" y="2759040"/>
              <a:ext cx="11160" cy="230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621560" y="2759040"/>
              <a:ext cx="1260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634160" y="2759040"/>
              <a:ext cx="1116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645320" y="2759040"/>
              <a:ext cx="12960" cy="230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610400" y="2759040"/>
              <a:ext cx="34920" cy="217440"/>
            </a:xfrm>
            <a:custGeom>
              <a:avLst/>
              <a:gdLst/>
              <a:ahLst/>
              <a:rect l="l" t="t" r="r" b="b"/>
              <a:pathLst>
                <a:path w="22" h="137">
                  <a:moveTo>
                    <a:pt x="0" y="1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4"/>
                  </a:lnTo>
                  <a:lnTo>
                    <a:pt x="0" y="1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04200" y="2782800"/>
              <a:ext cx="11160" cy="1936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515360" y="2782800"/>
              <a:ext cx="1260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2796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539120" y="2782800"/>
              <a:ext cx="12600" cy="1936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551720" y="2782800"/>
              <a:ext cx="1116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562880" y="2782800"/>
              <a:ext cx="1260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57548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86640" y="2782800"/>
              <a:ext cx="1116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597800" y="2782800"/>
              <a:ext cx="12600" cy="193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504200" y="2492280"/>
            <a:ext cx="423720" cy="2862360"/>
            <a:chOff x="7504200" y="2492280"/>
            <a:chExt cx="423720" cy="2862360"/>
          </a:xfrm>
        </p:grpSpPr>
        <p:sp>
          <p:nvSpPr>
            <p:cNvPr id="3111" name=""/>
            <p:cNvSpPr/>
            <p:nvPr/>
          </p:nvSpPr>
          <p:spPr>
            <a:xfrm>
              <a:off x="7504200" y="2782800"/>
              <a:ext cx="106200" cy="19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04200" y="2759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515360" y="275904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27960" y="27590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539120" y="27590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551720" y="2759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562880" y="2759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57548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58664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97800" y="2759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10400" y="2759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621560" y="2759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4160" y="2759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645320" y="2759040"/>
              <a:ext cx="129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04200" y="27590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610400" y="268596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621560" y="268596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634160" y="268596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45320" y="2685960"/>
              <a:ext cx="129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10400" y="268596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504200" y="270972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15360" y="270972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2796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39120" y="270972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551720" y="270972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62880" y="2709720"/>
              <a:ext cx="1260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57548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586640" y="270972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597800" y="270972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4200" y="270972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04200" y="26859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515360" y="26859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27960" y="26859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539120" y="268596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551720" y="268596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562880" y="268596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57548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58664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597800" y="26859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10400" y="26859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621560" y="268596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634160" y="268596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645320" y="2685960"/>
              <a:ext cx="129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504200" y="26859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610400" y="2637000"/>
              <a:ext cx="11160" cy="856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621560" y="2637000"/>
              <a:ext cx="1260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634160" y="2637000"/>
              <a:ext cx="1116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645320" y="2637000"/>
              <a:ext cx="12960" cy="856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610400" y="263700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504200" y="2662200"/>
              <a:ext cx="11160" cy="475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515360" y="2662200"/>
              <a:ext cx="1260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52796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39120" y="2662200"/>
              <a:ext cx="12600" cy="475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551720" y="266220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62880" y="2662200"/>
              <a:ext cx="1260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57548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586640" y="2662200"/>
              <a:ext cx="1116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97800" y="266220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04200" y="266220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4200" y="26370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515360" y="26370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527960" y="26370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539120" y="26370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551720" y="26370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562880" y="26370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7548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8664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597800" y="26370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610400" y="26370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621560" y="26370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634160" y="26370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645320" y="263700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504200" y="263700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881840" y="3475080"/>
              <a:ext cx="11160" cy="18795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893000" y="3475080"/>
              <a:ext cx="1260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905600" y="3475080"/>
              <a:ext cx="1116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916760" y="3475080"/>
              <a:ext cx="11160" cy="1879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881840" y="3475080"/>
              <a:ext cx="34920" cy="1868400"/>
            </a:xfrm>
            <a:custGeom>
              <a:avLst/>
              <a:gdLst/>
              <a:ahLst/>
              <a:rect l="l" t="t" r="r" b="b"/>
              <a:pathLst>
                <a:path w="22" h="1177">
                  <a:moveTo>
                    <a:pt x="0" y="11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61"/>
                  </a:lnTo>
                  <a:lnTo>
                    <a:pt x="0" y="11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75640" y="3498840"/>
              <a:ext cx="11160" cy="1844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786800" y="3498840"/>
              <a:ext cx="1260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799400" y="3498840"/>
              <a:ext cx="1116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7810560" y="3498840"/>
              <a:ext cx="12600" cy="1844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2316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83432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845480" y="3498840"/>
              <a:ext cx="1260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858080" y="3498840"/>
              <a:ext cx="1116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869240" y="3498840"/>
              <a:ext cx="12600" cy="1844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775640" y="3498840"/>
              <a:ext cx="106200" cy="1844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775640" y="34750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786800" y="34750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799400" y="34750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10560" y="34750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823160" y="34750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834320" y="34750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845480" y="34750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858080" y="34750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869240" y="34750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881840" y="34750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893000" y="34750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905600" y="34750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916760" y="34750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775640" y="347508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881840" y="2832120"/>
              <a:ext cx="11160" cy="679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893000" y="2832120"/>
              <a:ext cx="1260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905600" y="2832120"/>
              <a:ext cx="1116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916760" y="2832120"/>
              <a:ext cx="11160" cy="679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881840" y="2832120"/>
              <a:ext cx="34920" cy="666720"/>
            </a:xfrm>
            <a:custGeom>
              <a:avLst/>
              <a:gdLst/>
              <a:ahLst/>
              <a:rect l="l" t="t" r="r" b="b"/>
              <a:pathLst>
                <a:path w="22" h="420">
                  <a:moveTo>
                    <a:pt x="0" y="42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05"/>
                  </a:lnTo>
                  <a:lnTo>
                    <a:pt x="0" y="42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75640" y="2855880"/>
              <a:ext cx="11160" cy="642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86800" y="2855880"/>
              <a:ext cx="1260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799400" y="2855880"/>
              <a:ext cx="1116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10560" y="2855880"/>
              <a:ext cx="12600" cy="642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2316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83432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845480" y="2855880"/>
              <a:ext cx="1260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858080" y="2855880"/>
              <a:ext cx="1116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869240" y="2855880"/>
              <a:ext cx="12600" cy="64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775640" y="2855880"/>
              <a:ext cx="106200" cy="642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775640" y="28321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786800" y="28321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799400" y="28321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810560" y="28321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23160" y="28321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4320" y="28321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45480" y="28321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58080" y="28321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69240" y="28321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881840" y="28321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893000" y="28321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905600" y="28321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916760" y="28321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75640" y="28321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81840" y="2600280"/>
              <a:ext cx="11160" cy="2667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93000" y="2600280"/>
              <a:ext cx="1260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05600" y="2600280"/>
              <a:ext cx="1116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916760" y="2600280"/>
              <a:ext cx="11160" cy="2667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81840" y="2600280"/>
              <a:ext cx="34920" cy="255600"/>
            </a:xfrm>
            <a:custGeom>
              <a:avLst/>
              <a:gdLst/>
              <a:ahLst/>
              <a:rect l="l" t="t" r="r" b="b"/>
              <a:pathLst>
                <a:path w="22" h="161">
                  <a:moveTo>
                    <a:pt x="0" y="16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4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775640" y="2625840"/>
              <a:ext cx="11160" cy="2300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786800" y="2625840"/>
              <a:ext cx="1260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799400" y="2625840"/>
              <a:ext cx="1116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810560" y="2625840"/>
              <a:ext cx="12600" cy="2300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82316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83432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845480" y="2625840"/>
              <a:ext cx="1260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858080" y="2625840"/>
              <a:ext cx="1116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869240" y="2625840"/>
              <a:ext cx="12600" cy="2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775640" y="2625840"/>
              <a:ext cx="106200" cy="230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775640" y="260028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786800" y="260028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99400" y="260028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810560" y="260028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823160" y="260028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4320" y="260028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45480" y="260028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58080" y="260028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69240" y="260028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881840" y="260028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893000" y="260028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905600" y="260028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916760" y="260028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75640" y="260028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81840" y="252720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93000" y="25272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905600" y="25272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916760" y="25272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881840" y="252720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6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775640" y="255276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786800" y="255276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799400" y="255276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10560" y="255276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82316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83432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845480" y="2552760"/>
              <a:ext cx="1260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858080" y="255276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869240" y="255276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5640" y="255276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75640" y="252720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86800" y="252720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799400" y="252720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810560" y="252720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23160" y="252720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834320" y="252720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845480" y="252720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858080" y="252720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869240" y="252720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881840" y="252720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893000" y="252720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905600" y="252720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916760" y="252720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75640" y="25272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881840" y="24922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893000" y="24922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905600" y="24922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6760" y="24922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881840" y="24922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775640" y="2527200"/>
              <a:ext cx="11160" cy="25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786800" y="2527200"/>
              <a:ext cx="1260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9400" y="2527200"/>
              <a:ext cx="1116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810560" y="2527200"/>
              <a:ext cx="12600" cy="25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82316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3432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7775640" y="2322360"/>
            <a:ext cx="684000" cy="3032280"/>
            <a:chOff x="7775640" y="2322360"/>
            <a:chExt cx="684000" cy="3032280"/>
          </a:xfrm>
        </p:grpSpPr>
        <p:sp>
          <p:nvSpPr>
            <p:cNvPr id="3312" name=""/>
            <p:cNvSpPr/>
            <p:nvPr/>
          </p:nvSpPr>
          <p:spPr>
            <a:xfrm>
              <a:off x="7845480" y="2527200"/>
              <a:ext cx="1260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58080" y="2527200"/>
              <a:ext cx="1116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869240" y="2527200"/>
              <a:ext cx="12600" cy="25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775640" y="2527200"/>
              <a:ext cx="10620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75640" y="2492280"/>
              <a:ext cx="11160" cy="4788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786800" y="2492280"/>
              <a:ext cx="1260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799400" y="2492280"/>
              <a:ext cx="1116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810560" y="2492280"/>
              <a:ext cx="1260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23160" y="2492280"/>
              <a:ext cx="1116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834320" y="2492280"/>
              <a:ext cx="11160" cy="4788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845480" y="249228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58080" y="249228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869240" y="2492280"/>
              <a:ext cx="1260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881840" y="2492280"/>
              <a:ext cx="1116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893000" y="2492280"/>
              <a:ext cx="1260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905600" y="2492280"/>
              <a:ext cx="1116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916760" y="249228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775640" y="2492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67" y="22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53280" y="3376440"/>
              <a:ext cx="11160" cy="1978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64440" y="3376440"/>
              <a:ext cx="1260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77040" y="3376440"/>
              <a:ext cx="1116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88200" y="3376440"/>
              <a:ext cx="11160" cy="1978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53280" y="3376440"/>
              <a:ext cx="34920" cy="1967040"/>
            </a:xfrm>
            <a:custGeom>
              <a:avLst/>
              <a:gdLst/>
              <a:ahLst/>
              <a:rect l="l" t="t" r="r" b="b"/>
              <a:pathLst>
                <a:path w="22" h="1239">
                  <a:moveTo>
                    <a:pt x="0" y="1239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223"/>
                  </a:lnTo>
                  <a:lnTo>
                    <a:pt x="0" y="12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34480" y="3402000"/>
              <a:ext cx="12600" cy="19414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4708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58240" y="3402000"/>
              <a:ext cx="12600" cy="19414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084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082000" y="3402000"/>
              <a:ext cx="1260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94600" y="3402000"/>
              <a:ext cx="1116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0576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6920" y="3402000"/>
              <a:ext cx="12600" cy="19414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2952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40680" y="3402000"/>
              <a:ext cx="12600" cy="1941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34480" y="3402000"/>
              <a:ext cx="118800" cy="1941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34480" y="337644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4708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582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70840" y="337644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8200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9460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105760" y="33764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6920" y="33764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2952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4068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53280" y="337644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1644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17704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188200" y="337644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34480" y="337644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153280" y="2685960"/>
              <a:ext cx="11160" cy="7272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164440" y="2685960"/>
              <a:ext cx="1260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177040" y="2685960"/>
              <a:ext cx="1116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188200" y="2685960"/>
              <a:ext cx="11160" cy="72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153280" y="2685960"/>
              <a:ext cx="34920" cy="71604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35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034480" y="2722680"/>
              <a:ext cx="1260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4708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05824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07084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82000" y="2722680"/>
              <a:ext cx="126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094600" y="272268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10576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11692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12952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140680" y="2722680"/>
              <a:ext cx="1260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034480" y="2722680"/>
              <a:ext cx="11880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34480" y="2685960"/>
              <a:ext cx="1260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04708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0582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070840" y="268596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08200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9460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05760" y="26859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16920" y="26859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12952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14068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153280" y="268596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1644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17704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88200" y="26859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034480" y="2685960"/>
              <a:ext cx="15372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75" y="23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153280" y="2419200"/>
              <a:ext cx="11160" cy="314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164440" y="2419200"/>
              <a:ext cx="1260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177040" y="2419200"/>
              <a:ext cx="1116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88200" y="2419200"/>
              <a:ext cx="11160" cy="31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53280" y="2419200"/>
              <a:ext cx="34920" cy="303480"/>
            </a:xfrm>
            <a:custGeom>
              <a:avLst/>
              <a:gdLst/>
              <a:ahLst/>
              <a:rect l="l" t="t" r="r" b="b"/>
              <a:pathLst>
                <a:path w="22" h="191">
                  <a:moveTo>
                    <a:pt x="0" y="19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034480" y="2443320"/>
              <a:ext cx="12600" cy="2793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04708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058240" y="2443320"/>
              <a:ext cx="12600" cy="2793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07084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082000" y="2443320"/>
              <a:ext cx="1260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094600" y="2443320"/>
              <a:ext cx="1116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10576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116920" y="2443320"/>
              <a:ext cx="12600" cy="2793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12952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140680" y="2443320"/>
              <a:ext cx="12600" cy="27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034480" y="2443320"/>
              <a:ext cx="118800" cy="27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34480" y="2419200"/>
              <a:ext cx="12600" cy="367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04708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582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7084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08200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9460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105760" y="2419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8116920" y="2419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812952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14068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5328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644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7704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88200" y="2419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34480" y="241920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53280" y="2357280"/>
              <a:ext cx="11160" cy="986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64440" y="2357280"/>
              <a:ext cx="1260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77040" y="2357280"/>
              <a:ext cx="1116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88200" y="2357280"/>
              <a:ext cx="11160" cy="98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53280" y="2357280"/>
              <a:ext cx="34920" cy="8604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4480" y="2382840"/>
              <a:ext cx="12600" cy="604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4708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8240" y="2382840"/>
              <a:ext cx="12600" cy="60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7084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82000" y="2382840"/>
              <a:ext cx="1260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94600" y="2382840"/>
              <a:ext cx="1116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10576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116920" y="2382840"/>
              <a:ext cx="12600" cy="604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2952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40680" y="2382840"/>
              <a:ext cx="12600" cy="6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034480" y="2382840"/>
              <a:ext cx="11880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034480" y="235728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4708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0582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07084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8200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09460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5760" y="235728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16920" y="235728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12952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14068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5328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644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704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188200" y="235728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34480" y="235728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153280" y="232236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164440" y="232236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177040" y="232236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88200" y="232236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153280" y="232236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034480" y="2346480"/>
              <a:ext cx="12600" cy="363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4708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058240" y="2346480"/>
              <a:ext cx="12600" cy="363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07084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082000" y="2346480"/>
              <a:ext cx="1260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094600" y="2346480"/>
              <a:ext cx="1116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10576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116920" y="2346480"/>
              <a:ext cx="12600" cy="363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12952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140680" y="2346480"/>
              <a:ext cx="12600" cy="36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034480" y="2346480"/>
              <a:ext cx="11880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34480" y="2322360"/>
              <a:ext cx="1260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04708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0582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070840" y="232236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08200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09460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105760" y="2322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116920" y="2322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12952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14068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53280" y="232236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644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7704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88200" y="2322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34480" y="232236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412120" y="3292560"/>
              <a:ext cx="12600" cy="206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42472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43588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47040" y="3292560"/>
              <a:ext cx="12600" cy="206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12120" y="3292560"/>
              <a:ext cx="34920" cy="2050920"/>
            </a:xfrm>
            <a:custGeom>
              <a:avLst/>
              <a:gdLst/>
              <a:ahLst/>
              <a:rect l="l" t="t" r="r" b="b"/>
              <a:pathLst>
                <a:path w="22" h="1292">
                  <a:moveTo>
                    <a:pt x="0" y="1292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276"/>
                  </a:lnTo>
                  <a:lnTo>
                    <a:pt x="0" y="12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305920" y="3328920"/>
              <a:ext cx="12600" cy="2014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318520" y="3328920"/>
              <a:ext cx="1116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329680" y="3328920"/>
              <a:ext cx="1260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42280" y="3328920"/>
              <a:ext cx="11160" cy="2014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53440" y="3328920"/>
              <a:ext cx="1116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64600" y="3328920"/>
              <a:ext cx="1260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7200" y="3328920"/>
              <a:ext cx="1116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88360" y="3328920"/>
              <a:ext cx="1260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00960" y="3328920"/>
              <a:ext cx="11160" cy="2014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05920" y="3328920"/>
              <a:ext cx="106200" cy="20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05920" y="329256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1852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29680" y="329256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342280" y="329256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5344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364600" y="3292560"/>
              <a:ext cx="1260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377200" y="329256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388360" y="329256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40096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412120" y="329256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24720" y="329256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43588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8447040" y="3292560"/>
            <a:ext cx="12600" cy="489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8305920" y="3292560"/>
            <a:ext cx="141120" cy="36360"/>
          </a:xfrm>
          <a:custGeom>
            <a:avLst/>
            <a:gdLst/>
            <a:ahLst/>
            <a:rect l="l" t="t" r="r" b="b"/>
            <a:pathLst>
              <a:path w="89" h="23">
                <a:moveTo>
                  <a:pt x="67" y="23"/>
                </a:moveTo>
                <a:lnTo>
                  <a:pt x="89" y="0"/>
                </a:lnTo>
                <a:lnTo>
                  <a:pt x="23" y="0"/>
                </a:lnTo>
                <a:lnTo>
                  <a:pt x="0" y="23"/>
                </a:lnTo>
                <a:lnTo>
                  <a:pt x="67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8412120" y="2563920"/>
            <a:ext cx="12600" cy="777600"/>
          </a:xfrm>
          <a:prstGeom prst="rect">
            <a:avLst/>
          </a:prstGeom>
          <a:solidFill>
            <a:srgbClr val="7c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842472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843588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8447040" y="2563920"/>
            <a:ext cx="12600" cy="777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8412120" y="2563920"/>
            <a:ext cx="34920" cy="765000"/>
          </a:xfrm>
          <a:custGeom>
            <a:avLst/>
            <a:gdLst/>
            <a:ahLst/>
            <a:rect l="l" t="t" r="r" b="b"/>
            <a:pathLst>
              <a:path w="22" h="482">
                <a:moveTo>
                  <a:pt x="0" y="482"/>
                </a:moveTo>
                <a:lnTo>
                  <a:pt x="0" y="16"/>
                </a:lnTo>
                <a:lnTo>
                  <a:pt x="22" y="0"/>
                </a:lnTo>
                <a:lnTo>
                  <a:pt x="22" y="459"/>
                </a:lnTo>
                <a:lnTo>
                  <a:pt x="0" y="482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8305920" y="2589120"/>
            <a:ext cx="12600" cy="73980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8318520" y="2589120"/>
            <a:ext cx="1116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8329680" y="2589120"/>
            <a:ext cx="1260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342280" y="2589120"/>
            <a:ext cx="11160" cy="739800"/>
          </a:xfrm>
          <a:prstGeom prst="rect">
            <a:avLst/>
          </a:prstGeom>
          <a:solidFill>
            <a:srgbClr val="ff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8353440" y="2589120"/>
            <a:ext cx="1116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8364600" y="2589120"/>
            <a:ext cx="1260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77200" y="2589120"/>
            <a:ext cx="1116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8388360" y="2589120"/>
            <a:ext cx="1260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8400960" y="2589120"/>
            <a:ext cx="11160" cy="73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8305920" y="2589120"/>
            <a:ext cx="106200" cy="739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8305920" y="2563920"/>
            <a:ext cx="12600" cy="36360"/>
          </a:xfrm>
          <a:prstGeom prst="rect">
            <a:avLst/>
          </a:prstGeom>
          <a:solidFill>
            <a:srgbClr val="be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831852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8329680" y="2563920"/>
            <a:ext cx="1260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8342280" y="2563920"/>
            <a:ext cx="1116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35344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8364600" y="2563920"/>
            <a:ext cx="12600" cy="36360"/>
          </a:xfrm>
          <a:prstGeom prst="rect">
            <a:avLst/>
          </a:prstGeom>
          <a:solidFill>
            <a:srgbClr val="ac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8377200" y="2563920"/>
            <a:ext cx="1116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8388360" y="2563920"/>
            <a:ext cx="1260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840096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8412120" y="2563920"/>
            <a:ext cx="1260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8424720" y="2563920"/>
            <a:ext cx="1116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43588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8447040" y="2563920"/>
            <a:ext cx="12600" cy="3636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8305920" y="2563920"/>
            <a:ext cx="141120" cy="2520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8412120" y="2200320"/>
            <a:ext cx="12600" cy="399960"/>
          </a:xfrm>
          <a:prstGeom prst="rect">
            <a:avLst/>
          </a:prstGeom>
          <a:solidFill>
            <a:srgbClr val="1d44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42472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43588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8447040" y="2200320"/>
            <a:ext cx="12600" cy="399960"/>
          </a:xfrm>
          <a:prstGeom prst="rect">
            <a:avLst/>
          </a:prstGeom>
          <a:solidFill>
            <a:srgbClr val="0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412120" y="2200320"/>
            <a:ext cx="34920" cy="388800"/>
          </a:xfrm>
          <a:custGeom>
            <a:avLst/>
            <a:gdLst/>
            <a:ahLst/>
            <a:rect l="l" t="t" r="r" b="b"/>
            <a:pathLst>
              <a:path w="22" h="245">
                <a:moveTo>
                  <a:pt x="0" y="245"/>
                </a:moveTo>
                <a:lnTo>
                  <a:pt x="0" y="15"/>
                </a:lnTo>
                <a:lnTo>
                  <a:pt x="22" y="0"/>
                </a:lnTo>
                <a:lnTo>
                  <a:pt x="22" y="229"/>
                </a:lnTo>
                <a:lnTo>
                  <a:pt x="0" y="24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305920" y="2224080"/>
            <a:ext cx="12600" cy="365040"/>
          </a:xfrm>
          <a:prstGeom prst="rect">
            <a:avLst/>
          </a:prstGeom>
          <a:solidFill>
            <a:srgbClr val="1d8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318520" y="2224080"/>
            <a:ext cx="1116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329680" y="2224080"/>
            <a:ext cx="1260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342280" y="2224080"/>
            <a:ext cx="11160" cy="365040"/>
          </a:xfrm>
          <a:prstGeom prst="rect">
            <a:avLst/>
          </a:prstGeom>
          <a:solidFill>
            <a:srgbClr val="90c5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353440" y="2224080"/>
            <a:ext cx="1116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64600" y="2224080"/>
            <a:ext cx="1260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377200" y="2224080"/>
            <a:ext cx="1116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388360" y="2224080"/>
            <a:ext cx="1260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400960" y="2224080"/>
            <a:ext cx="11160" cy="36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305920" y="2224080"/>
            <a:ext cx="106200" cy="36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305920" y="2200320"/>
            <a:ext cx="12600" cy="36360"/>
          </a:xfrm>
          <a:prstGeom prst="rect">
            <a:avLst/>
          </a:prstGeom>
          <a:solidFill>
            <a:srgbClr val="116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31852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329680" y="2200320"/>
            <a:ext cx="1260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8342280" y="2200320"/>
            <a:ext cx="1116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835344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8364600" y="2200320"/>
            <a:ext cx="12600" cy="36360"/>
          </a:xfrm>
          <a:prstGeom prst="rect">
            <a:avLst/>
          </a:prstGeom>
          <a:solidFill>
            <a:srgbClr val="6f8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8377200" y="2200320"/>
            <a:ext cx="1116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8388360" y="2200320"/>
            <a:ext cx="1260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840096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8412120" y="2200320"/>
            <a:ext cx="1260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8424720" y="2200320"/>
            <a:ext cx="1116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843588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8447040" y="2200320"/>
            <a:ext cx="12600" cy="3636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8305920" y="220032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8412120" y="2127240"/>
            <a:ext cx="12600" cy="10944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842472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843588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447040" y="2127240"/>
            <a:ext cx="12600" cy="109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8412120" y="2127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61"/>
                </a:moveTo>
                <a:lnTo>
                  <a:pt x="0" y="16"/>
                </a:lnTo>
                <a:lnTo>
                  <a:pt x="22" y="0"/>
                </a:lnTo>
                <a:lnTo>
                  <a:pt x="22" y="46"/>
                </a:lnTo>
                <a:lnTo>
                  <a:pt x="0" y="6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305920" y="2152800"/>
            <a:ext cx="12600" cy="7128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8318520" y="2152800"/>
            <a:ext cx="1116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329680" y="2152800"/>
            <a:ext cx="1260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342280" y="2152800"/>
            <a:ext cx="11160" cy="7128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8353440" y="2152800"/>
            <a:ext cx="1116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364600" y="2152800"/>
            <a:ext cx="1260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8377200" y="2152800"/>
            <a:ext cx="1116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8388360" y="2152800"/>
            <a:ext cx="1260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8400960" y="2152800"/>
            <a:ext cx="1116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8305920" y="2152800"/>
            <a:ext cx="106200" cy="7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305920" y="2127240"/>
            <a:ext cx="12600" cy="3636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31852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8329680" y="2127240"/>
            <a:ext cx="1260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342280" y="2127240"/>
            <a:ext cx="1116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35344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364600" y="2127240"/>
            <a:ext cx="12600" cy="3636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8377200" y="2127240"/>
            <a:ext cx="1116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88360" y="2127240"/>
            <a:ext cx="1260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840096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8412120" y="2127240"/>
            <a:ext cx="1260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8424720" y="2127240"/>
            <a:ext cx="1116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843588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8447040" y="2127240"/>
            <a:ext cx="12600" cy="3636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8305920" y="2127240"/>
            <a:ext cx="141120" cy="2556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8412120" y="2103480"/>
            <a:ext cx="12600" cy="6012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42472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843588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8447040" y="2103480"/>
            <a:ext cx="12600" cy="6012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412120" y="210348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0" y="31"/>
                </a:moveTo>
                <a:lnTo>
                  <a:pt x="0" y="15"/>
                </a:lnTo>
                <a:lnTo>
                  <a:pt x="22" y="0"/>
                </a:lnTo>
                <a:lnTo>
                  <a:pt x="22" y="15"/>
                </a:lnTo>
                <a:lnTo>
                  <a:pt x="0" y="3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8305920" y="2127240"/>
            <a:ext cx="12600" cy="255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8318520" y="2127240"/>
            <a:ext cx="1116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8329680" y="2127240"/>
            <a:ext cx="1260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8342280" y="2127240"/>
            <a:ext cx="11160" cy="255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8353440" y="2127240"/>
            <a:ext cx="1116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8364600" y="2127240"/>
            <a:ext cx="1260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377200" y="2127240"/>
            <a:ext cx="1116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8388360" y="2127240"/>
            <a:ext cx="1260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400960" y="2127240"/>
            <a:ext cx="11160" cy="25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305920" y="2127240"/>
            <a:ext cx="106200" cy="25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305920" y="2103480"/>
            <a:ext cx="12600" cy="3636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31852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329680" y="2103480"/>
            <a:ext cx="1260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342280" y="2103480"/>
            <a:ext cx="1116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35344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8364600" y="2103480"/>
            <a:ext cx="12600" cy="3636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377200" y="2103480"/>
            <a:ext cx="1116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8388360" y="2103480"/>
            <a:ext cx="1260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840096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412120" y="2103480"/>
            <a:ext cx="1260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424720" y="2103480"/>
            <a:ext cx="1116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43588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447040" y="2103480"/>
            <a:ext cx="12600" cy="3636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8305920" y="210348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1003320" y="2066760"/>
            <a:ext cx="1440" cy="330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955800" y="53672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955800" y="50036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955800" y="46386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955800" y="42624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955800" y="38988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955800" y="35352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955800" y="31719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955800" y="27957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955800" y="24303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955800" y="20667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50240" y="5270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72480" y="4905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724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72480" y="4165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2480" y="3801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72480" y="3438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72480" y="3073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72480" y="2697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72480" y="233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72480" y="19699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1003320" y="5367240"/>
            <a:ext cx="7467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003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1262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533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7938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065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3367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95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867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1384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397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68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929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00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471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730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0022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262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533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805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0642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335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595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867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139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397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6690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927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199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4708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957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1228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14871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17586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2019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rot="16200000">
            <a:off x="2290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rot="16200000">
            <a:off x="2562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rot="16200000">
            <a:off x="28209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rot="16200000">
            <a:off x="3092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rot="16200000">
            <a:off x="3352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rot="16200000">
            <a:off x="3624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3895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rot="16200000">
            <a:off x="4154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rot="16200000">
            <a:off x="4425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rot="16200000">
            <a:off x="4686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rot="16200000">
            <a:off x="4957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rot="16200000">
            <a:off x="5229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rot="16200000">
            <a:off x="5487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rot="16200000">
            <a:off x="5759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rot="16200000">
            <a:off x="6018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rot="16200000">
            <a:off x="6289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rot="16200000">
            <a:off x="6561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rot="16200000">
            <a:off x="6821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rot="16200000">
            <a:off x="7092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rot="16200000">
            <a:off x="7351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rot="16200000">
            <a:off x="7623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rot="16200000">
            <a:off x="78944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6200000">
            <a:off x="8154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367280" y="426708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276720" y="4572000"/>
            <a:ext cx="1904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46:15Z</dcterms:created>
  <dc:creator>FERRANDO</dc:creator>
  <dc:description/>
  <dc:language>en-US</dc:language>
  <cp:lastModifiedBy>Eduardo Contreras</cp:lastModifiedBy>
  <cp:lastPrinted>2004-09-22T20:35:45Z</cp:lastPrinted>
  <dcterms:modified xsi:type="dcterms:W3CDTF">2005-08-03T14:20:22Z</dcterms:modified>
  <cp:revision>6</cp:revision>
  <dc:subject/>
  <dc:title>Mercado de capitales</dc:title>
</cp:coreProperties>
</file>