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E30-8942-452B-9B76-A8233AB4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7AB-CB9F-418D-81D5-F6B79E4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579-FB50-4540-8B88-31A0FFAD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99C-AD6A-4B43-A931-D16BB474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8645A-C76C-421A-B4DD-0DC62DD8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C4ADD-C624-41A9-AB36-55F7403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205F3-A43D-47E5-A1C3-C916C5D2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B0C76-4F65-4BE4-BE7B-44377617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AFB7C-5378-45D2-99B2-1A9B822C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3049B-77B7-45E4-99EE-ACF43C1D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21AA4-3E0F-481D-B949-9B6DD2B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5E4-6781-44B6-BE2A-BB1DBCE6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78B9-BF86-4579-BA91-85C90A8F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0BC5-D3DB-4CB0-96A1-2462DAF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CB947-DDBA-431A-8C19-EA640A15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2BD60-51DC-40BC-82BE-A31F73B9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ADEB6-E86C-4F59-BBDC-5AB5B9BA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44C-7121-4C6F-87D6-6087A0F1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833-0E9F-4BDC-8F30-549447E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076-C90A-417E-8386-8603BEE2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3E2-C164-4813-8094-DDE48944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5F5-250D-4F89-842D-36C62ED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8C2-A2C4-4968-A31F-7D8F0D5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662-828E-4ABD-87F2-0D6CCD0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4B0C-F8D7-4FD3-A87D-4B4ABEE5CA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1D96-6F18-403E-A300-7BE9DF7BBA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ión del cambio, poder y é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¿Qué es el cambi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curre en un observador, tanto en términos de hechos como de evalu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s consecuencias dependen del observador y de las destrezas de és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, en diversos grados, conflictos de poder y 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el dominio del poder cambia la correlación de fuerz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relación a la ética, emerge una nueva correlación de valores. Cambia lo permitido o deseado y no lo permitido o no des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solo genera resultados o impactos  diferenciales, los que lo posibilitarán, si no emergen nuevas prácticas que lo sustent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afío de aprendizaje; paradigmas, emociones frente a incertidumbre, observar oportunidades e incorporar  nuevas práct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 valida por la estructura de poder de una comunidad. No necesariamente importan todas las consecuencias, si las que les importan a los con poder para hacerlos va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apas vividas en un proceso de cambio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gación del cambio. Esconder la cabeza como el avestru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ra y enojo. Posibilidad de resentimiento y resignación. Sensación de injusticia e impo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na y tristeza, posible víct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iseño de un nuevo futuro. Lo que requi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cerrar el pasado y aceptar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ver posibilidades para si en el nuevo escen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tomar acción para construir poder, en base a las fortalezas y debilidades y amenazas y oport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evaluación y rediseño permanente del proceso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flictos de poder en el camb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 oponen  dos tipos de comun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que ven amenazas , dado que tienen dominio y poder desde las prácticas cuestionadas. Estas amenazas pueden ser fundadas o infunda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lideres de espacios éticos de una comunidad. A veces se entra en conflicto con creencias y valores en otros dominios, ejemplo; Galileo, clonación, “nuestra empresa no se creó para hacer esto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siempre es tan claro mostrar los resultados del cambio plante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a comunidad es observadora de las prácticas, consecuencias y coherencias del paradigma an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veces el proyecto piloto para mostrar resultados es costoso y no hay dispuestos a experi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 siempre es trivial la relación de causalidad entre prácticas , cambios y result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chas veces el cambio genera requerimientos de infraestructura y de aprendizaje disponibles solo en periodos  muy largos y a veces los lideres del cambio no son muy sensibles a 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flictos éticos en el camb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flictos de intereses. Dilemas 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glas éticas para lidiar con adversarios y conflic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saber que de lo anterior preservar y que quitar y como se acopla con lo nue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 lugar de la escala ética ocupan los integrantes de una comunidad, el cambio lo hago con ellos o contra ell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s de procesos de cambio I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equipo de cambio. Primera red de ali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ción de impacto en actores relevant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lasificándolos por grado de relevancia. Malla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neficios y objeciones recono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tegorización de actores en : Aliados, adversarios, neutrales. En cada uno distinguiéndolos en  tres g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ronograma de actividades, con hitos visibles. Debe considerarse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gir primero actividades de alto impacto y de bajos trastornos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 la medida que los cambios se profundizan, se profundizan la incorporación de ali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s procesos identificados y los tiempos considerados deben ser producto de la capacidad de cambi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be contemplar holguras y espacios de redis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 de procesos de cambio I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omunic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ones de obje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exto de información de  respaldo a las nuevas formas de trabaj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tos de comunicación , coincidentes con los hitos del proyecto, “cacarear huev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ejo de conflic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gociación. Postergación de activ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olpes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Organizacional dinámico que sustentará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evas responsabilidades, roles y equip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seño plan de aprendiz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stema de seguimiento y rediseñ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21T02:16:33Z</dcterms:modified>
  <cp:revision>18</cp:revision>
  <dc:subject/>
  <dc:title>PODER ÉTICA Y GESTIÓN</dc:title>
</cp:coreProperties>
</file>