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7F7-ADA0-4F84-9BBB-24BACC3B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4EE-9C88-48C9-B148-6E7A8E8E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84F-B553-4173-8583-368ABA8E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2B9-2A58-451C-8C8C-1407CCEF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8B187-E4BD-465A-AF22-F1A5B97B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393EC-91F2-4068-B6AA-766AE510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BCFB0-64EE-4030-8724-65AD60FE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D83A6-C404-4BAF-B3CD-4E341AD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02A1B-E87C-4FBD-AFC3-D96FADF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1FA3C-9733-4A7E-A091-D75D328F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458B4-EDEF-4B3F-A004-D9F62C5D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46A-392D-4F59-99B1-B8DF9824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BD1C1-0C81-4027-BEB6-CEDB671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29B03-74B1-425F-997D-C913F04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F06F3-FAA3-4E4D-B6B6-6FDC4EBE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A20A8-09E8-4F57-8B75-1E054298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738A9-0F8F-405D-B7AE-D671928A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F8E-4149-4706-A68B-0AAF7FA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6E2-532A-4894-8926-C300BC06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F54-68A0-429B-B960-6DAA3EA1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72B-1F6F-4BB8-B4E2-7F73F477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A4E-5ACE-4D4E-B5B2-B1C4A9A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678-396E-43CE-B3B1-D427CB0E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F7F-6F63-4753-B584-7FA6080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774C-C29C-4168-B0B3-C49C30FB1B6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E5B3-CA12-419F-B20D-1548004019A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storia de Luis Pas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Historia de Luis Paste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articulan tres convers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la quí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l Microsco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quiebres de l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poder como la capacidad de producir mayor efectividad valorada por la comunidad relev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es suficiente la capacidad de ser efectivo, es necesario generar un espacio para que sea recono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dos de ánimo centrales  para producir po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ersev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taleza emo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44:36Z</dcterms:created>
  <dc:creator>Juan Carlos Lucero Larenas</dc:creator>
  <dc:description/>
  <dc:language>en-US</dc:language>
  <cp:lastModifiedBy>xxx</cp:lastModifiedBy>
  <dcterms:modified xsi:type="dcterms:W3CDTF">2005-08-30T16:54:29Z</dcterms:modified>
  <cp:revision>3</cp:revision>
  <dc:subject/>
  <dc:title>PODER ÉTICA Y GESTIÓN</dc:title>
</cp:coreProperties>
</file>