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F92A-9BCF-401E-B33A-DC1923EA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78D2-2E99-4608-8120-3BA621E9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489B-A13D-41C6-ADCA-0BB56773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6E4E-2E6F-4D98-B969-92837977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31AEF-9D3C-4A13-9029-9E5FA60D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15931-AD62-4669-882A-A2C22B58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1048F-AD46-4153-8680-9D59C659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505EE-36E2-45AE-A938-37DAE2E3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9A2D2-87DD-4A4B-AFDD-C932C6CB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59101-3C46-47ED-B2E6-DE72A150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FC0E7-2475-443A-A2CB-C802A103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A5C6-6F51-48CB-AEDE-845E132A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02E79-47D7-4B08-9B3C-44A3C01C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A42B7-A900-432B-8C9E-E690C1B4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EE04F-2833-43B5-AAB7-5FCE6C48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E4C24-E35C-46A1-B1E5-BE01535A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20C33-9D9C-46D8-B2CB-27EFF080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72D2-B0D8-4DA9-923B-5728A361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7999-CFD0-49B4-9FAE-4BCBD0C1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2E45-94D2-4DC0-95AD-F4A4B2DE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3FAD-D4C0-43E2-AD87-4390B068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E40D-5073-4AB8-AE6A-7784E0C9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0E1E-5E96-4F30-8BB2-E6B491EB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B430-D834-40CF-9814-B821AA71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C866-2EDD-42F6-A0A1-3A530C992E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F1DB-6716-4EFC-B88E-D25F850367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clucero@dyg.cl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DER ÉTICA Y GESTIÓ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65120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e Nro 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stión del cambio, poder y ét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-5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:Juan Carlos Lucero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Aux.:Günther kallina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uanclucero@dyg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gkallina@gruposol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¿Qué es el cambi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4358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curre en un observador, tanto en términos de hechos como de evalu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us consecuencias dependen del observador y de las destrezas de és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enera, en diversos grados, conflictos de poder y ét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 el dominio del poder cambia la correlación de fuerz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 relación a la ética, emerge una nueva correlación de valores. Cambia lo permitido o deseado y no lo permitido o no dese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solo genera resultados o impactos  diferenciales, los que lo posibilitarán, si no emergen nuevas prácticas que lo sustent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safío de aprendizaje; paradigmas, emociones frente a incertidumbre, observar oportunidades e incorporar  nuevas práctic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 valida por la estructura de poder de una comunidad. No necesariamente importan todas las consecuencias, si las que les importan a los con poder para hacerlos val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tapas vividas en un proceso de cambio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gación del cambio. Esconder la cabeza como el avestruz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ra y enojo. Posibilidad de resentimiento y resignación. Sensación de injusticia e impot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na y tristeza, posible víct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diseño de un nuevo futuro. Lo que requie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cerrar el pasado y aceptar el camb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ver posibilidades para si en el nuevo escen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tomar acción para construir poder, en base a las fortalezas y debilidades y amenazas y oport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evaluación y rediseño permanente del proceso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flictos de poder en el cambi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 oponen  dos tipos de comunidad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os que ven amenazas , dado que tienen dominio y poder desde las prácticas cuestionadas. Estas amenazas pueden ser fundadas o infundad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os lideres de espacios éticos de una comunidad. A veces se entra en conflicto con creencias y valores en otros dominios, ejemplo; Galileo, clonación, “nuestra empresa no se creó para hacer esto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siempre es tan claro mostrar los resultados del cambio plante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a comunidad es observadora de las prácticas, consecuencias y coherencias del paradigma anteri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veces el proyecto piloto para mostrar resultados es costoso y no hay dispuestos a experimenta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 siempre es trivial la relación de causalidad entre prácticas , cambios y resultad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uchas veces el cambio genera requerimientos de infraestructura y de aprendizaje disponibles solo en periodos  muy largos y a veces los lideres del cambio no son muy sensibles a e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nflictos éticos en el cambi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flictos de intereses. Dilemas étic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glas éticas para lidiar con adversarios y conflic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 saber que de lo anterior preservar y que quitar y como se acopla con lo nue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 lugar de la escala ética ocupan los integrantes de una comunidad, el cambio lo hago con ellos o contra ello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strategias de procesos de cambio I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83628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eño equipo de cambio. Primera red de ali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valuación de impacto en actores relevante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lasificándolos por grado de relevancia. Malla de po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neficios y objeciones recono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tegorización de actores en : Aliados, adversarios, neutrales. En cada uno distinguiéndolos en  tres gr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eño cronograma de actividades, con hitos visibles. Debe considerarse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gir primero actividades de alto impacto y de bajos trastornos para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 la medida que los cambios se profundizan, se profundizan la incorporación de ali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s procesos identificados y los tiempos considerados deben ser producto de la capacidad de cambio de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be contemplar holguras y espacios de redise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50752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strategia de procesos de cambio I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eño comunica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aciones de obje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exto de información de  respaldo a las nuevas formas de trabaj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tos de comunicación , coincidentes con los hitos del proyecto, “cacarear huev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nejo de conflict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gociación. Postergación de activ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olpes de po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eño Organizacional dinámico que sustentará el camb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uevas responsabilidades, roles y equip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seño plan de aprendizaj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stema de seguimiento y rediseño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2T22:31:44Z</dcterms:created>
  <dc:creator>Juan Carlos Lucero Larenas</dc:creator>
  <dc:description/>
  <dc:language>en-US</dc:language>
  <cp:lastModifiedBy>Juan Carlos Lucero Larenas</cp:lastModifiedBy>
  <dcterms:modified xsi:type="dcterms:W3CDTF">2004-09-21T02:16:33Z</dcterms:modified>
  <cp:revision>18</cp:revision>
  <dc:subject/>
  <dc:title>PODER ÉTICA Y GESTIÓN</dc:title>
</cp:coreProperties>
</file>