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F4F-A8EE-4050-AB97-9618971D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445-3876-44DE-AB58-EC3794C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5DD-4232-4BA9-9766-54014C6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4CA-B22F-4878-8515-BFA70AD0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647B-7ADC-4DD5-8B53-F451C6FD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4DD8-CAAF-4C41-8458-DD0420A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8555-2893-45C3-AD48-5373E6B3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4BE15-A5BF-4D2C-92B6-B49C99F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21BF5-CC3E-4E6B-A266-ED58207E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4E48A-6E8D-4E2D-BED0-94F9CB4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ABE22-AE64-4A6D-99A9-5A89177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1D1-D8D0-4B56-BD6A-494BEBE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76059-6EC9-47F4-8CCB-33AD3143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0A958-FF08-4CB6-AC82-6AE370CD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F252-2971-43EE-876B-EDE76D6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D0F42-EAED-4584-A5A1-FFDA4D30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4721C-3D87-4622-9507-F5D5CA1D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7D7-7ABE-4280-A1FB-0BD0837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007-2E4E-4710-B531-8ADC547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242-0A90-4F20-AFAA-0EE6BF30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D4B-C07D-4B4C-8417-FADD364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16C-9D11-4969-9A92-F11BEE3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15C-2F70-41E2-BF37-EC8997A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D98-AE5A-46FB-B2EF-6DE5465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9162-495D-4185-B60B-9C80008EF8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26F4-79A1-4DF4-B08A-685F098524F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der como juicio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Como Juic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válido en un dominio especí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 por sus consecuencias evaluadas por un observador. En este sentido es siempre pote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de carácter temporal y 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de tener o no fund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ene estándar , en el sentido que hay grados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flexiones adicionales del pod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en el área ch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Emociones; temor, osadía, ansiedad, confianza, ingenuidad, autoestima, focalización,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terpretaciones; intereses , quiebres, preocupaciones, discursos y ética de los involucr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Habilidades conversacionales;  conv. para la acción, conv. de especulación, conv. para tener conversacion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de las re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dividuos de la red y la relación que los une; intereses, aportes y ética que los convo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Prácticas y protocolos de relación; modos de ingresar a la red, como se desarrolla poder dentro de ella, conductas sancionadas y deseadas, modos de salir de la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dentificación de otras redes y la relación con ellas. Puntos de encuentro y desencuen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5:04Z</dcterms:modified>
  <cp:revision>17</cp:revision>
  <dc:subject/>
  <dc:title>PODER ÉTICA Y GESTIÓN</dc:title>
</cp:coreProperties>
</file>