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3150B-B552-45B4-8FE1-BA8F562CD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2A249-5ED8-4636-A29C-1E1E92442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1FB37-74AB-489F-AD9C-1C93ACE1A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997BF-4664-43A7-844D-08232EB9F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A1496A-CBE2-4D04-8CFE-0207353A8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B0CE67-6843-43A0-B73C-C3C560BF2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FC4CDD-904C-49A7-ACB4-0FCAA6AC8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7897D7-0794-410C-8071-A38924367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90B3A5-2AFE-49B7-B06C-E632C314B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D255D9-4BB4-44BE-B135-F6DEA64B6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516420-DDDF-4ED4-BC55-D33BF2835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C9B04-2E66-4E3B-B8DC-4D966533A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4F8BF7-5BFB-4EC0-898C-62FB49F33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22101F-3839-431A-851D-C116416A3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D6E78E-35EB-4545-84E7-AF79BD6B5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01CD01-EE61-4DCA-8CE2-D83A05F72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AA7A05-85E8-46DA-8297-70CD54479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3318B-E865-4387-970E-05827927D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A30F9-C6C7-4306-8661-BB6163C9E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2302D-76BE-47B8-B22B-885435D01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4238B-3C5C-46DD-A2A3-11A89C3F4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59710-F326-44CD-A8A5-4D925924C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F42D7-907C-4CDD-AE1A-48B124C2D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7482E-5DE2-47A2-964D-1316265DB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C3969-91AE-435B-ADEA-E3C0EEB4C284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10C13-2B8E-4DCD-A698-C22479C105B4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juanclucero@dyg.cl" TargetMode="External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PODER ÉTICA Y GESTIÓN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186920" y="3141360"/>
            <a:ext cx="6512040" cy="28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lase Nro  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Historia de Luis Pasteu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IN-54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rof.:Juan Carlos Lucero 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rof. Aux.:Günther kallina 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ffcc"/>
                </a:solidFill>
                <a:uFillTx/>
                <a:latin typeface="Arial"/>
                <a:hlinkClick r:id="rId1"/>
              </a:rPr>
              <a:t>juanclucero@dyg.c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cccc"/>
                </a:solidFill>
                <a:latin typeface="Arial"/>
              </a:rPr>
              <a:t>gkallina@gruposol.c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e3e3ff"/>
                </a:solidFill>
                <a:latin typeface="Arial"/>
              </a:rPr>
              <a:t>Historia de Luis Pasteur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e articulan tres conversacion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versación de la químic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versación del Microscopi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versación de quiebres de la comunida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El poder como la capacidad de producir mayor efectividad valorada por la comunidad relevant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No es suficiente la capacidad de ser efectivo, es necesario generar un espacio para que sea reconocid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Estados de ánimo centrales  para producir poder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erseveranc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taleza emocion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vicc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laborac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31T02:44:36Z</dcterms:created>
  <dc:creator>Juan Carlos Lucero Larenas</dc:creator>
  <dc:description/>
  <dc:language>en-US</dc:language>
  <cp:lastModifiedBy>xxx</cp:lastModifiedBy>
  <dcterms:modified xsi:type="dcterms:W3CDTF">2005-08-30T16:54:29Z</dcterms:modified>
  <cp:revision>3</cp:revision>
  <dc:subject/>
  <dc:title>PODER ÉTICA Y GESTIÓN</dc:title>
</cp:coreProperties>
</file>