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499-5B41-41F2-B7CC-7830D01D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8F6-B430-42C7-A82A-A82571D0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123-BAA6-4ECC-AA11-978FE310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0B4-74BA-46BA-9D7A-A5913D11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99C6F-A859-4494-95D9-26FA4816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5B507-A1D2-4EBD-9F88-BF22D30E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7B3FF-60F4-43CC-9656-7E424130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55620-9DDC-40D4-8884-D65FBA28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591C4-8C0E-4417-A48E-1FE4C2B9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F18E1-0A5B-4561-B33B-99E8B7ED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C539A-872F-453D-BF51-C23E4BE1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E26-0146-4FF6-9561-A53C0FCE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82C56-4CE2-4802-A042-F90CC23C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BF863-582A-4A73-9282-A2F9A8A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9E804-9A62-4FD2-9B9F-D02A10EF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92E7F-4556-42FB-B12F-02992243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096EE-DC52-4E5C-B500-4CABAF09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EA2-000D-419E-92E4-E171F59D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C80-F9A0-4F86-A401-EDAF6824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55E-282A-48B9-9F86-5174C010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148-DC93-4F9D-99C2-2359EAA3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B93-2666-4669-B034-6BBC2932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9BF-0B65-4308-9DDF-D13AD4E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F35-6C7F-47F1-84FC-0B3B17D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3B1E-7791-4942-B21F-8CD098DC8A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DF56-8B53-494F-970A-BDAF482EB5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ión del cambio, poder y é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¿Qué es el cambi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curre en un observador, tanto en términos de hechos como de evalu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s consecuencias dependen del observador y de las destrezas de és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nera, en diversos grados, conflictos de poder y 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el dominio del poder cambia la correlación de fuerz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relación a la ética, emerge una nueva correlación de valores. Cambia lo permitido o deseado y no lo permitido o no des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solo genera resultados o impactos  diferenciales, los que lo posibilitarán, si no emergen nuevas prácticas que lo sustent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afío de aprendizaje; paradigmas, emociones frente a incertidumbre, observar oportunidades e incorporar  nuevas práct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 valida por la estructura de poder de una comunidad. No necesariamente importan todas las consecuencias, si las que les importan a los con poder para hacerlos va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apas vividas en un proceso de cambio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gación del cambio. Esconder la cabeza como el avestru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ra y enojo. Posibilidad de resentimiento y resignación. Sensación de injusticia e impo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na y tristeza, posible víct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iseño de un nuevo futuro. Lo que requi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cerrar el pasado y aceptar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ver posibilidades para si en el nuevo escen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tomar acción para construir poder, en base a las fortalezas y debilidades y amenazas y oport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evaluación y rediseño permanente del proceso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flictos de poder en el camb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 oponen  dos tipos de comun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que ven amenazas , dado que tienen dominio y poder desde las prácticas cuestionadas. Estas amenazas pueden ser fundadas o infunda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lideres de espacios éticos de una comunidad. A veces se entra en conflicto con creencias y valores en otros dominios, ejemplo; Galileo, clonación, “nuestra empresa no se creó para hacer esto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siempre es tan claro mostrar los resultados del cambio plante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a comunidad es observadora de las prácticas, consecuencias y coherencias del paradigma anter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veces el proyecto piloto para mostrar resultados es costoso y no hay dispuestos a experi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 siempre es trivial la relación de causalidad entre prácticas , cambios y result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chas veces el cambio genera requerimientos de infraestructura y de aprendizaje disponibles solo en periodos  muy largos y a veces los lideres del cambio no son muy sensibles a 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flictos éticos en el camb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flictos de intereses. Dilemas 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glas éticas para lidiar con adversarios y conflic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saber que de lo anterior preservar y que quitar y como se acopla con lo nue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 lugar de la escala ética ocupan los integrantes de una comunidad, el cambio lo hago con ellos o contra ello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s de procesos de cambio I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equipo de cambio. Primera red de ali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ción de impacto en actores relevant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lasificándolos por grado de relevancia. Malla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neficios y objeciones recono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tegorización de actores en : Aliados, adversarios, neutrales. En cada uno distinguiéndolos en  tres g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ronograma de actividades, con hitos visibles. Debe considerarse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gir primero actividades de alto impacto y de bajos trastornos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 la medida que los cambios se profundizan, se profundizan la incorporación de ali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s procesos identificados y los tiempos considerados deben ser producto de la capacidad de cambi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be contemplar holguras y espacios de redis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 de procesos de cambio I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omunic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ones de obje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exto de información de  respaldo a las nuevas formas de trabaj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tos de comunicación , coincidentes con los hitos del proyecto, “cacarear huev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ejo de conflic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gociación. Postergación de activ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olpes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Organizacional dinámico que sustentará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evas responsabilidades, roles y equip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seño plan de aprendiz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stema de seguimiento y rediseñ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09-21T02:16:33Z</dcterms:modified>
  <cp:revision>18</cp:revision>
  <dc:subject/>
  <dc:title>PODER ÉTICA Y GESTIÓN</dc:title>
</cp:coreProperties>
</file>