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uan Carlos Lucero Larenas" initials="JCL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4-08-22T21:51:24.459000000" idx="1">
    <p:pos x="10" y="10"/>
    <p:text>ejemplo de profesión del mejor consultor de software del Silicon Valley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F265-0C4F-45DD-832D-A9D7166506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 de la profesión del mejor consultor tecnológico del silicon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470-4C7D-47E9-8969-1EC55BCB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935-70DE-4ABE-9925-045B868B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508-94C6-425D-9094-BEA7D29C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44B-C3A2-4886-B4FF-4FCD86DE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36CA1-0AAB-45C9-89D2-35858891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A07B4-CCF4-4357-9362-A6660997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8C548-70B7-47A0-A9F3-5A44B301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83FE6-6105-4F5C-9EFD-3FB79DF3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5B023-B069-4F5A-8514-09CB4AE5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86482-1D81-45C5-82EA-01E48518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C5969-10F2-496A-93D3-036A9ED5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A79-B75E-4452-902F-04B4C6A4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7504D-813B-4B8F-B8FF-08344B46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44FCA-508A-4F35-8E38-71BC0781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68B11-A08B-47B2-B442-690E1B3C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87000-0E18-4220-B8B8-4BAB9BEA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05DF6-F252-4BFC-8A4C-BF76F571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F64-17A8-4856-97E6-ED6264D6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344-BF64-46CC-A5CB-A9A70402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C82-0D9A-44AD-8CB2-CDB44849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77E-5160-4B33-91CD-7E9AF7E5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A5E-B4C4-4E5A-B7AC-8C2AD68E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45F-9762-49F0-ADEB-FDA76D0D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94B-D777-4498-B1D7-B956FBD3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D6A5-3BE7-4085-B306-5B354A48A5F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174E-2C82-48CE-B4AC-ADE7A9D0181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ntes de po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uentes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 la fuer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car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di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cono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articu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 la fuerz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ecuencias en la integridad física o daños mater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 general se emplea en situaciones donde las otras fuentes de poder se agotaron o perdieron credi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ética que la sustenta dice relación con proteger integridad física o sobre viv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y culturas donde se valida, llegando incluso a influir en otros domi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Carg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ecuencias en dominios organizacionales. Contrataciones, despidos, ascensos, incentivos, pedidos, decis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 asociado a la responsabilidad que tiene el que lo ost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un instrumento del diseño organizacional, a veces asociado a las competencias de los individu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unque a veces hay espacios de ambigüedad, tiene límites y atribu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 culturas organizacionales van construyendo espacios éticos que se aplica en diversos estilos y con distintos grados de legitim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roductiv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el desempeño en un  mercado. Produce bienes valorados en un mercado por clientes. Es el poder de la of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grado de poder depende del grado de valor que genera a otros con capacidad de adquirirlo y de las alternativas que le compi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o sustenta es la del mercado y su validación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poderes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erechos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Dine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la capacidad de acceder a bienes y servicios. Poder de la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mbién lo sustenta la ética del mercado y de los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 consecuencias más allá del ámbito del mercado, lo que plantea dilemas éticos. Por 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emocracia y distribución del ingr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Igualdad de oportunida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mple la función de intermediar las relaciones de oferta y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Conocimien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generar posibilidades a otros desde lo quiebres que ti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iste en articular discursos y habilidades que permiten actuar con mayor ef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a sustenta dice relación con el suministro de servicios profesionales, incluso se habla de ética profe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fesionales que desarrollan oferta diferenciadora. Consultores en tecnología, gestión, finanzas , economía, abogados, médicos, arquitecto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der por Identidad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la oferta o capacidad declarativa de personas o ent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que ver con el compromiso con lo que quiero “ser” y con como me “ ve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tiene que ver con la integridad entre la imagen y el compromi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liderazgo requiere este tipo de po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 los tiempos del desarrollo de las tecnologías de información y comunicación, este poder es vi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Articulac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ne consecuencias en facilitar coordinaciones entre personas sin relaciones  de confianza. Ejm A, B y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clave el desarrollo de relaciones de confianza y la capacidad escuchar los intereses, quiebres y preocupaciones y las formas de ver de los articul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ética está dada por el compromiso con ambos , podría haber conflicto por no ser “bisagr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velocidad de los cambios , hace de este tipo de poder un factor central en los negocios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xxx</cp:lastModifiedBy>
  <dcterms:modified xsi:type="dcterms:W3CDTF">2005-08-30T16:54:49Z</dcterms:modified>
  <cp:revision>11</cp:revision>
  <dc:subject/>
  <dc:title>PODER ÉTICA Y GESTIÓN</dc:title>
</cp:coreProperties>
</file>