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51CE-E7AF-469F-B097-F10274A4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6298-9E18-4065-8FA8-5CF73063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B8B3-D8F6-4859-B515-B5422449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0BA5-B419-4390-A266-70D13251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2104C-CDCC-4189-8D0E-B727FF35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B8999-828E-4652-8898-BF306B91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8999A-532F-4904-BF64-18D154DB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E00F4-950D-462F-BDF9-8A685BE8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68992-BD63-4639-BF4D-1D311E9C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C45BE-5B71-4796-958E-DD00B968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982F5-E0C9-4AA3-9BB6-DFBAF483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19DE-5D83-4828-BD6F-BE10B24D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FF630-355D-4188-983E-FF6DC263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367D3-754F-448F-95AD-4017555F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8DE12-4F9A-497A-A7B7-905F4C93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5F849-2EFB-4F9C-87A1-98456260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C1817-D719-4143-85FA-1F8CD0BA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9CA1-21E0-4F77-9100-8B924ED6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C648-C314-4311-8FF8-5F593A25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F0C1-A6D4-4222-A564-0E351932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C42E-5951-487D-81B2-42C9AE89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9E19-BC24-40A1-B9E0-92948AB9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22E8-955B-4418-8E0D-66DF7136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A2C7-D2FC-4FC3-B859-6DA1A202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7FF3-614F-4369-87A5-CA918B103F8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F7C5-E515-42A5-A085-FCAFC25AFD1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clucero@dyg.cl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DER ÉTICA Y GESTIÓ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65120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lase Nro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istoria de Luis Paste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-5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.:Juan Carlos Lucero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. Aux.:Günther kallina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uanclucero@dyg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cccc"/>
                </a:solidFill>
                <a:latin typeface="Arial"/>
              </a:rPr>
              <a:t>gkallina@gruposol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3e3ff"/>
                </a:solidFill>
                <a:latin typeface="Arial"/>
              </a:rPr>
              <a:t>Historia de Luis Pasteu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 articulan tres conversa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ación de la quím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ación del Microscop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ación de quiebres de la comun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 poder como la capacidad de producir mayor efectividad valorada por la comunidad relev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 es suficiente la capacidad de ser efectivo, es necesario generar un espacio para que sea reconoc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tados de ánimo centrales  para producir pod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ersevera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taleza emo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i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labor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02:44:36Z</dcterms:created>
  <dc:creator>Juan Carlos Lucero Larenas</dc:creator>
  <dc:description/>
  <dc:language>en-US</dc:language>
  <cp:lastModifiedBy>xxx</cp:lastModifiedBy>
  <dcterms:modified xsi:type="dcterms:W3CDTF">2005-08-30T16:54:29Z</dcterms:modified>
  <cp:revision>3</cp:revision>
  <dc:subject/>
  <dc:title>PODER ÉTICA Y GESTIÓN</dc:title>
</cp:coreProperties>
</file>