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1C24-25E0-445F-B2CB-31E5D2EC0A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C04-0DEF-45CC-A6BB-B2D0397E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F75-AB92-4197-A06F-07CB559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BD7-9B3C-47EB-A594-4DED2A78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7D0-F5FE-4928-800F-D8887851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9F863-B8CC-4F82-A5E7-8825A5FF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3757-B6F3-45B6-A7D1-E0AF244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414F2-E4A5-48AB-9D5A-E229F01F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5C0CD-683C-4CCD-BD5C-BAE59B7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CD4C3-14F6-40A1-8183-41ECCCE8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0E080-092E-49B4-AE7D-5A37396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49BA2-E8F9-409B-9E92-40FCA37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2A0-118E-4600-ADF3-D8E5BF69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D8297-1023-46DA-BCE0-355B44C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27E90-8828-45AD-B327-9939C0F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C8C1-C1AB-4392-887C-85BEA306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566DA-4A91-4455-AF47-6A27DAAF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5690F-BDB0-4196-B98C-195535CB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8FB-D837-4E73-A251-851E1583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27B-E392-4652-88AA-33AED9ED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EC3-7D01-4AA0-BE8C-A63E8938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57B-D1B6-4310-A42F-DA3C82B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4A5-16AC-4B9E-B6E9-C460265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50A-6B9F-4C5A-B2FB-89C0F04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4F7-A18C-4583-8200-CB586D0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64D3-BAC1-4451-9392-6585827A9C4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F0E1-9FDA-49B8-9836-0F1F66A9802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4:49Z</dcterms:modified>
  <cp:revision>11</cp:revision>
  <dc:subject/>
  <dc:title>PODER ÉTICA Y GESTIÓN</dc:title>
</cp:coreProperties>
</file>