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819-6F45-4250-BC5A-7E512386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D28-CCDD-4842-BB2F-67AF7921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2C9-1AA1-46A2-BF0C-863C4D0D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E43-1AB1-4FF5-AD81-C7759D92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CB3F6-68AE-40E4-8D64-05753E28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0D3A4-8254-4C24-B91E-28F1D421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A707B-10F0-47DC-B1CD-1BABB618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511BC-3EC8-4C4D-8FA1-BC39EA28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53CCE-0394-412E-A2E4-5779613C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A309B-C42D-4654-B7E3-72665C0C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6E8E1-EF44-4568-9CDE-63AED3B3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0BA-953B-42FF-A3AF-D6BAC904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28723-BD5E-4969-A2EE-0E59738C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D7870-A3E3-4904-A993-F7C01EEE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C55C7-3073-480F-BFB6-BF9932C6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37C2C-5B89-412A-9525-391C0D02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95DD1-720E-44FA-8E8F-4356D3F3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627-E5CD-4FE9-A5C5-2AEC6A15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05F-6123-40F3-9CCD-6A22361F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1C6-DE42-4157-AE2C-86576221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F0E-B4F2-4E42-AEA9-0FAF84F3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860-E9EC-4F53-8B51-4280DEFD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CDA-164B-457C-BBA4-18E960C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748-4FBD-4DED-B01A-8D42D6E3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F0AD-69C9-4A96-956E-F07E9CF43D6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C26D-B992-48F5-B3B1-82911F5EBB9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der como juicio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Como Juic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 válido en un dominio especí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 por sus consecuencias evaluadas por un observador. En este sentido es siempre poten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 de carácter temporal y dinám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ede tener o no fundam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ene estándar , en el sentido que hay grados de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flexiones adicionales del pod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oder en el área ch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Emociones; temor, osadía, ansiedad, confianza, ingenuidad, autoestima, focalización, ot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nterpretaciones; intereses , quiebres, preocupaciones, discursos y ética de los involucra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Habilidades conversacionales;  conv. para la acción, conv. de especulación, conv. para tener conversaciones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oder de las re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ndividuos de la red y la relación que los une; intereses, aportes y ética que los convo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Prácticas y protocolos de relación; modos de ingresar a la red, como se desarrolla poder dentro de ella, conductas sancionadas y deseadas, modos de salir de la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dentificación de otras redes y la relación con ellas. Puntos de encuentro y desencuentr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xxx</cp:lastModifiedBy>
  <dcterms:modified xsi:type="dcterms:W3CDTF">2005-08-30T16:55:04Z</dcterms:modified>
  <cp:revision>17</cp:revision>
  <dc:subject/>
  <dc:title>PODER ÉTICA Y GESTIÓN</dc:title>
</cp:coreProperties>
</file>