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uan Carlos Lucero Larenas" initials="JCL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<Relationship Id="rId15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4-08-22T21:51:24.459000000" idx="1">
    <p:pos x="10" y="10"/>
    <p:text>ejemplo de profesión del mejor consultor de software del Silicon Valley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A5AE-52C1-44B0-81CF-A9B910B4FB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emplo de la profesión del mejor consultor tecnológico del silicon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6CA-BDF8-4CCD-927F-E3D007F2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71D-B14A-4337-B823-2177C2FC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A1A8-CDDF-4039-9A6F-0EB143FE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5D4-B546-4EEA-8D99-44995F4C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946AE-4606-4E2F-9650-E0C2C02C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8A02E-D219-4AFF-BEB1-58318E85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E30A1-3D56-44A5-9B7B-1AC9CFD8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4F8A3-F544-4F6E-8BFF-364A3C77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4E811-FF88-4A80-80A3-0304653C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58AA8-B4CD-469F-9789-499E5A3A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850CA-283E-4EF7-BC1F-3188DC7A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2DC3-837B-4641-B291-26C2CB8C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6EDBC-9F5A-450B-990A-799D563A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4B7FE-6DC7-4346-AA3B-02BF14A4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28290-EC1D-4FEC-8825-E8F17A4C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EDFF2-3B26-42D3-918B-564E2A6F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D520C-1F44-4DE8-A8E1-D9A8EB37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D4C-CAC4-4138-84B4-7DC6A088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759A-95DE-4A81-8163-77D2A05A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34F-22B5-4BC3-BF19-5E8F93FD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9C9D-518A-4EA6-AE5D-D1DDD0C1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54D-8D03-4628-A8B1-47B33352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5721-7F6C-4341-A66A-1FE21927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C44-DBD0-4A80-ABF2-363C35EF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1CCA-699F-46E1-ABD3-470C5D06249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CC41-B947-47A3-BE0B-CB13C0FABF7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e Nro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entes de po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uentes de Po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 la fuer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l car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roduc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l din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conoc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ident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articulac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 la fuerz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ecuencias en la integridad física o daños materi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n general se emplea en situaciones donde las otras fuentes de poder se agotaron o perdieron credibil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 ética que la sustenta dice relación con proteger integridad física o sobre viv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y culturas donde se valida, llegando incluso a influir en otros domin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l Carg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secuencias en dominios organizacionales. Contrataciones, despidos, ascensos, incentivos, pedidos, decis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ta asociado a la responsabilidad que tiene el que lo ost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 un instrumento del diseño organizacional, a veces asociado a las competencias de los individu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unque a veces hay espacios de ambigüedad, tiene límites y atribu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s culturas organizacionales van construyendo espacios éticos que se aplica en diversos estilos y con distintos grados de legitim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roductiv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cuencias en el desempeño en un  mercado. Produce bienes valorados en un mercado por clientes. Es el poder de la ofer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 grado de poder depende del grado de valor que genera a otros con capacidad de adquirirlo y de las alternativas que le compi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que lo sustenta es la del mercado y su validación so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poderes de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derechos del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l Dine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consecuencias en la capacidad de acceder a bienes y servicios. Poder de la deman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ambién lo sustenta la ética del mercado y de los nego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enera consecuencias más allá del ámbito del mercado, lo que plantea dilemas éticos. Por ejemp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emocracia y distribución del ingre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Igualdad de oportunidad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umple la función de intermediar las relaciones de oferta y deman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or Conocimien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consecuencias en generar posibilidades a otros desde lo quiebres que tien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iste en articular discursos y habilidades que permiten actuar con mayor efe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que la sustenta dice relación con el suministro de servicios profesionales, incluso se habla de ética profes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fesionales que desarrollan oferta diferenciadora. Consultores en tecnología, gestión, finanzas , economía, abogados, médicos, arquitecto, et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oder por Identidad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cuencias en la oferta o capacidad declarativa de personas o ent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que ver con el compromiso con lo que quiero “ser” y con como me “ ven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tiene que ver con la integridad entre la imagen y el compromi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 liderazgo requiere este tipo de po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 los tiempos del desarrollo de las tecnologías de información y comunicación, este poder es vit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or Articulació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ene consecuencias en facilitar coordinaciones entre personas sin relaciones  de confianza. Ejm A, B y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 clave el desarrollo de relaciones de confianza y la capacidad escuchar los intereses, quiebres y preocupaciones y las formas de ver de los articul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 ética está dada por el compromiso con ambos , podría haber conflicto por no ser “bisagra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 velocidad de los cambios , hace de este tipo de poder un factor central en los negocios de h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22:31:44Z</dcterms:created>
  <dc:creator>Juan Carlos Lucero Larenas</dc:creator>
  <dc:description/>
  <dc:language>en-US</dc:language>
  <cp:lastModifiedBy>xxx</cp:lastModifiedBy>
  <dcterms:modified xsi:type="dcterms:W3CDTF">2005-08-30T16:54:49Z</dcterms:modified>
  <cp:revision>11</cp:revision>
  <dc:subject/>
  <dc:title>PODER ÉTICA Y GESTIÓN</dc:title>
</cp:coreProperties>
</file>