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8CBC-3171-46C7-B3DA-2E829912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F09E-4AA0-482A-90E5-997F18D0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A2A-C4A1-4E4F-88AB-B5AB824C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A2AB-3125-4CC1-BB68-0A394D3A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D5893-6116-4490-9515-5D90F80F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40B53-D2EE-4060-9A11-CDE52DA2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673CF-F8B3-4FD6-96BF-42632108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7D2DB-C314-419F-A5F3-8111DF7F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A503E-E4B9-4FF0-B1D7-002A4C91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D9C17-7B01-4622-94A7-A3D05405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AC8C8-D078-4B13-B7AF-C5B49A97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BB7-03AB-4F90-A278-EED86573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78644-8613-401A-A4F0-2EBAF07D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BFE5A-15FF-4F99-BFE6-32AF8B36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3873F-6B5C-429E-8F23-AEB69B11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035C8-76B7-4CF7-9668-FCE747FB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4031F-3224-41D8-ACE5-3BAC3365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14AF-DE42-447B-A4B5-4B77BF88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E240-7342-4570-B5E5-24D99CE8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A7DD-3DD0-4D80-9B2D-F5A40F8D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5D47-67B5-4932-B64C-0CA4C9FB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F0DA-4CC5-487B-8587-449A2AA2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9E92-6F1E-475E-AEE2-39272015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4688-5794-47B2-83EC-23851927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1EB6-A230-41F0-B6AF-23DD2D486BC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3E29-36DC-4F4E-B975-55C7B704305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lase Nro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der como juicio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Como Juici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s válido en un dominio específ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orta por sus consecuencias evaluadas por un observador. En este sentido es siempre potenc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s de carácter temporal y dinám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uede tener o no fundamen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iene estándar , en el sentido que hay grados de po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eflexiones adicionales del poder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Poder en el área ch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Emociones; temor, osadía, ansiedad, confianza, ingenuidad, autoestima, focalización, ot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Interpretaciones; intereses , quiebres, preocupaciones, discursos y ética de los involucrad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Habilidades conversacionales;  conv. para la acción, conv. de especulación, conv. para tener conversaciones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Poder de las re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Individuos de la red y la relación que los une; intereses, aportes y ética que los convo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Prácticas y protocolos de relación; modos de ingresar a la red, como se desarrolla poder dentro de ella, conductas sancionadas y deseadas, modos de salir de la 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Identificación de otras redes y la relación con ellas. Puntos de encuentro y desencuentr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22:31:44Z</dcterms:created>
  <dc:creator>Juan Carlos Lucero Larenas</dc:creator>
  <dc:description/>
  <dc:language>en-US</dc:language>
  <cp:lastModifiedBy>xxx</cp:lastModifiedBy>
  <dcterms:modified xsi:type="dcterms:W3CDTF">2005-08-30T16:55:04Z</dcterms:modified>
  <cp:revision>17</cp:revision>
  <dc:subject/>
  <dc:title>PODER ÉTICA Y GESTIÓN</dc:title>
</cp:coreProperties>
</file>