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B58-F520-4A7C-B587-671DFFF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AC8-4A5A-4834-92CC-952AD4E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9FD-A121-4B7D-B202-9F1509CB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E3B-DE16-43B9-8853-727F133B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3E5A-5C8F-4E90-91A4-7C039CB6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D8C5-76D8-439F-B5B3-564940D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AA54-E715-4B94-818B-58E1E8F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945B-09B6-4012-A5D5-1F17CC1A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039C-E64D-4448-A3A3-F3AF8BA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1CCA-6DE3-4A6A-A3B2-B6B6D266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1D57-709B-44C2-BC32-57439D8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E05-5F07-45AF-B64D-EC2EA96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9E38-C504-4222-AFBB-5DAC982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EA66-8113-49A5-9B3A-A838DD5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3228-1A52-438C-929A-6EBAE879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0C2-F601-4050-AD68-08BFAE24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6924-223B-4804-B129-F9D70067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936-5AF2-47E6-96B2-274A67A4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A1F-A087-4011-AF1A-F4621413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D7F-F488-43A7-8C7D-5829ECA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8E8-5EC8-4075-A8C3-BA6C5D0A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50C-4C8A-4912-8099-7C80F8C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532-093A-484F-B40E-63B3307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445-661A-4531-BDD3-C6810E7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21A-8E0D-4FA2-A7A7-29A26B32D55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C30-ED66-4A77-9A7D-A77BA231978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2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A5C8-42A1-499C-ACFC-FC647F5C36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lujos de inform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9799-A2EA-4B02-A3A0-C39EE86DC2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70000" y="-324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871-356E-4FD9-9BCE-AEEB3856B4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00" y="1116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D41-1B28-4E46-B82A-C21CE7079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o de negocios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les de st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de gestión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ordenamiento con MRP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125-8B31-4DA7-99DE-ECC9FE3E8B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rvicios de valor agregad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gís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dor Managed Inventory (V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gn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bilidad de 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rtual pooled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-procurem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s log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quidación d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í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43C-4AF5-4F31-97F2-E87D624D7D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"/>
          <p:cNvCxnSpPr>
            <a:stCxn id="153" idx="2"/>
            <a:endCxn id="155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53" idx="2"/>
            <a:endCxn id="156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52" idx="0"/>
            <a:endCxn id="154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>
            <a:stCxn id="152" idx="0"/>
            <a:endCxn id="155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>
            <a:stCxn id="152" idx="0"/>
            <a:endCxn id="156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6880" y="45799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ChileCom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837-230C-45B0-AA0E-BB8A14195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2852640"/>
            <a:ext cx="396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RFx (RFI – RFQ – R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91628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304308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417204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30064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276640"/>
            <a:ext cx="1152720" cy="3960720"/>
          </a:xfrm>
          <a:prstGeom prst="downArrow">
            <a:avLst>
              <a:gd name="adj1" fmla="val 50000"/>
              <a:gd name="adj2" fmla="val 858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3760" y="37972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2DF-AB19-4C48-8EC2-0F8CD819A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plic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9988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tálog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ahoo! Sh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600280"/>
            <a:ext cx="215928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139920"/>
            <a:ext cx="223200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060640"/>
            <a:ext cx="2232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77" idx="1"/>
          </p:cNvCxnSpPr>
          <p:nvPr/>
        </p:nvCxnSpPr>
        <p:spPr>
          <a:xfrm flipV="1">
            <a:off x="2698920" y="2457000"/>
            <a:ext cx="50544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6" idx="1"/>
          </p:cNvCxnSpPr>
          <p:nvPr/>
        </p:nvCxnSpPr>
        <p:spPr>
          <a:xfrm>
            <a:off x="2698920" y="2997000"/>
            <a:ext cx="5054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564880" y="213840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8760" y="334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A50-1A22-4AEA-A2B2-45CF330A61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structura de catalog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d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horizontales (UNSPSC - R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verticales (Rosetta N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dades de búsque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peo de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utas de nave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FF0-F3C4-4D5C-B606-F2FC1328D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lución funcion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6920" y="1989000"/>
            <a:ext cx="2520720" cy="10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o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hopping c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6920" y="316404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earch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6920" y="434016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management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5120" y="5516640"/>
            <a:ext cx="252108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content works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70920" y="1512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1989000"/>
            <a:ext cx="252108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Content fac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164040"/>
            <a:ext cx="2521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5480" y="1512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8B7-17EC-49F5-B7B8-9E4E0D870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P – RF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9CE-E978-4B8D-A5D5-5047FE74A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0" t="9052" r="0" b="0"/>
          <a:stretch/>
        </p:blipFill>
        <p:spPr>
          <a:xfrm>
            <a:off x="378000" y="620640"/>
            <a:ext cx="8388000" cy="623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83720" y="2541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1920" y="216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60640" y="216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D8E-F499-48B7-A432-CFCE7E287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asta inver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calificación de ofer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F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trenamiento de los particip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lización del 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ción de las suba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erramientas de monito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dalidades de suba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ormación disponible a los particip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8D9-5CB0-4CF1-A9F5-58968FCFD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10-07T12:31:54Z</dcterms:modified>
  <cp:revision>5</cp:revision>
  <dc:subject/>
  <dc:title>Tecnologías de información para la gestión de abastecimiento</dc:title>
</cp:coreProperties>
</file>