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B7E-9458-4FF1-91DB-3E50901E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9C8-9734-4668-AA6A-A7A94C9B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F124-F503-4809-B61F-4D308EC6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0F0-6512-42AF-ADA4-3BEC0418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7CF1-DEA7-4FA1-85EA-E3281FEE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C32E-7A1C-4B9A-9B2F-01B94400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65EC-D772-4BD3-9990-CB891128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5F6F-7490-4E12-838B-AB3BF565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8804-20C9-43D3-85CA-6D9B2550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3A77-3117-40EC-AC1C-F87D69D7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DE72-A5D7-421D-B42D-FB445D0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FD6-1C00-4756-9454-78CCFDE1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693F-29E2-478E-ADE1-5D611C9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8D73-5AEB-4D4E-8322-0DA61BC6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C850-58FF-4F63-9484-07F08D4A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5CFA-CE9D-4DF9-9AB9-794CD7B9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AF0C-89C7-46E6-ABE4-656AD6BE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FE3-AB34-4C79-9886-E03C9F0E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452-79EC-4053-820A-A7D6AA81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7A8-AB1D-4BB3-9222-D7F695B1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85F-0DB3-4468-B8E7-CA5B5FFB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68E-95B4-48C8-8F66-E667806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E40-FE09-4931-8B37-1F0AD54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537-30D1-432B-A363-9D8FF14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22A8-47BB-4578-80CD-53DCB43FEAF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B114-3CFB-4498-AA4D-2A26F2D6105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ecnologías de información para la gestión de abastecimiento (parte 2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54E4-A6D6-488A-9307-3C46A7C29A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lujos de informació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5E87-E730-4749-B2A5-5C8920E606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70000" y="-3240"/>
            <a:ext cx="860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CF7-EDB1-4997-AD91-582394F033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0000" y="11160"/>
            <a:ext cx="8604000" cy="684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D14-113D-45B8-A17F-92548C398A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so de negocios integr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eriales de st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de gestión integr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ordenamiento con MRP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707-827E-409F-B7C0-021909687E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ervicios de valor agregad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gíst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ndor Managed Inventory (V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gn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sibilidad de inve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irtual pooled 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e-procurement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vicios logís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quidación de obso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alít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go electró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AFF-CA82-4065-BE62-29A1A9A3B5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Funcionalida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4869000"/>
            <a:ext cx="6696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2492280"/>
            <a:ext cx="6696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Comp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3427560"/>
            <a:ext cx="187200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98920" y="342756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Fluj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342900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ervicios d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Valo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2"/>
            <a:endCxn id="154" idx="0"/>
          </p:cNvCxnSpPr>
          <p:nvPr/>
        </p:nvCxnSpPr>
        <p:spPr>
          <a:xfrm flipH="1">
            <a:off x="2123280" y="2997000"/>
            <a:ext cx="2412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"/>
          <p:cNvCxnSpPr>
            <a:stCxn id="153" idx="2"/>
            <a:endCxn id="155" idx="0"/>
          </p:cNvCxnSpPr>
          <p:nvPr/>
        </p:nvCxnSpPr>
        <p:spPr>
          <a:xfrm>
            <a:off x="4535280" y="29970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"/>
          <p:cNvCxnSpPr>
            <a:stCxn id="153" idx="2"/>
            <a:endCxn id="156" idx="0"/>
          </p:cNvCxnSpPr>
          <p:nvPr/>
        </p:nvCxnSpPr>
        <p:spPr>
          <a:xfrm>
            <a:off x="4535640" y="2997000"/>
            <a:ext cx="2413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"/>
          <p:cNvCxnSpPr>
            <a:stCxn id="152" idx="0"/>
            <a:endCxn id="154" idx="2"/>
          </p:cNvCxnSpPr>
          <p:nvPr/>
        </p:nvCxnSpPr>
        <p:spPr>
          <a:xfrm flipH="1" flipV="1">
            <a:off x="2123280" y="4435200"/>
            <a:ext cx="241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"/>
          <p:cNvCxnSpPr>
            <a:stCxn id="152" idx="0"/>
            <a:endCxn id="155" idx="2"/>
          </p:cNvCxnSpPr>
          <p:nvPr/>
        </p:nvCxnSpPr>
        <p:spPr>
          <a:xfrm flipV="1">
            <a:off x="4535280" y="44352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"/>
          <p:cNvCxnSpPr>
            <a:stCxn id="152" idx="0"/>
            <a:endCxn id="156" idx="2"/>
          </p:cNvCxnSpPr>
          <p:nvPr/>
        </p:nvCxnSpPr>
        <p:spPr>
          <a:xfrm flipV="1">
            <a:off x="4535640" y="4436640"/>
            <a:ext cx="2413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971640" y="3284640"/>
            <a:ext cx="7129440" cy="1295280"/>
          </a:xfrm>
          <a:prstGeom prst="rect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36880" y="4579920"/>
            <a:ext cx="126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 Black"/>
              </a:rPr>
              <a:t>ChileComp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8DC-850C-4995-8308-4C024A9C07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2852640"/>
            <a:ext cx="396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RFx (RFI – RFQ – RF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goci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916280"/>
            <a:ext cx="2880000" cy="7920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3043080"/>
            <a:ext cx="2880000" cy="79236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4172040"/>
            <a:ext cx="2880000" cy="79200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300640"/>
            <a:ext cx="2880000" cy="792360"/>
          </a:xfrm>
          <a:prstGeom prst="rect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asta in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2276640"/>
            <a:ext cx="1152720" cy="3960720"/>
          </a:xfrm>
          <a:prstGeom prst="downArrow">
            <a:avLst>
              <a:gd name="adj1" fmla="val 50000"/>
              <a:gd name="adj2" fmla="val 8589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63760" y="37972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et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AFE-C06F-4F1B-9112-67672A0CED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plica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399888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j.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tálogo públ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egociación no habit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Yahoo! Sho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2600280"/>
            <a:ext cx="215928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3139920"/>
            <a:ext cx="2232000" cy="792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060640"/>
            <a:ext cx="2232000" cy="792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3"/>
            <a:endCxn id="177" idx="1"/>
          </p:cNvCxnSpPr>
          <p:nvPr/>
        </p:nvCxnSpPr>
        <p:spPr>
          <a:xfrm flipV="1">
            <a:off x="2698920" y="2457000"/>
            <a:ext cx="505440" cy="54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5" idx="3"/>
            <a:endCxn id="176" idx="1"/>
          </p:cNvCxnSpPr>
          <p:nvPr/>
        </p:nvCxnSpPr>
        <p:spPr>
          <a:xfrm>
            <a:off x="2698920" y="2997000"/>
            <a:ext cx="50544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564880" y="2138400"/>
            <a:ext cx="29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ación no hab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58760" y="33480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103-8153-4FDD-96A6-5AB20CDBF9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structura de catalogac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axonom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tánd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álogos horizontales (UNSPSC - R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tálogos verticales (Rosetta N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acilidades de búsque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apeo de categor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l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utas de nave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1F0-FE94-4452-9BC8-601148B04F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tálogos electrónico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olución funciona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66920" y="1989000"/>
            <a:ext cx="2520720" cy="10083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ro de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shopping c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66920" y="3164040"/>
            <a:ext cx="252072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search eng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66920" y="4340160"/>
            <a:ext cx="252072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management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65120" y="5516640"/>
            <a:ext cx="2521080" cy="1008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content works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70920" y="1512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1989000"/>
            <a:ext cx="252108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reación de 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(Content fac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164040"/>
            <a:ext cx="25210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55480" y="1512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C640-B347-4127-B84F-5760B9BCA9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FP – RF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asta inver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A54-D8A2-4C25-8EAE-50626C9A8E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0" t="9052" r="0" b="0"/>
          <a:stretch/>
        </p:blipFill>
        <p:spPr>
          <a:xfrm>
            <a:off x="378000" y="620640"/>
            <a:ext cx="8388000" cy="6237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83720" y="2541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81920" y="2160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60640" y="216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1B3-C0B4-4590-8C8E-7E80439617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basta inver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epar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calificación de ofer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F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trenamiento de los particip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alización del ev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ción de las suba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ns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erramientas de monitor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dalidades de subas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28188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nformación disponible a los participa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2F1-C831-4103-890E-D1B483A8A0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34:13Z</dcterms:created>
  <dc:creator>Patricio Renner P.</dc:creator>
  <dc:description/>
  <dc:language>en-US</dc:language>
  <cp:lastModifiedBy>Patricio Renner P.</cp:lastModifiedBy>
  <dcterms:modified xsi:type="dcterms:W3CDTF">2004-10-07T12:31:54Z</dcterms:modified>
  <cp:revision>5</cp:revision>
  <dc:subject/>
  <dc:title>Tecnologías de información para la gestión de abastecimiento</dc:title>
</cp:coreProperties>
</file>