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9294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2846-167E-40A3-AB2D-D9F018F40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7E37-9452-43AA-B29D-1EF53AE3D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F507-AD71-41A6-B1B1-E4BBB51CD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F53F-B335-4CFA-96A0-2FE1E814A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BFDB2-FB66-4B75-8A65-BFADC3539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9A739-60DC-4592-804B-7DD8BC81F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49348-6523-4D33-92E6-C2DE6F898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4D4A5-368D-4837-B784-59224C905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42E71-6E1B-4D70-8FB0-E646FCB61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0CF68-E970-4D9F-A7A3-0590BCF12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0C47C-8C8A-44DF-AF08-1B5339DF0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8509-000F-4638-8FB0-59D90AA13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977D2-546C-46FE-A5FA-6099559B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36762-0B88-4912-92EE-3A2D59B3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2BD9B-9BF0-4E62-96DF-3C324CBCB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A5997-31A4-4419-A38A-D116C3930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D2734-3B21-4AFC-B87F-7A823E5E5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C1E0-2495-4DDB-86D9-47B9A8DB7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7E09-CC75-4182-B019-FFEE565E6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6326-F0B8-4E8A-AD5E-D811505EC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C95C-8545-4BE1-B97C-C0BD46071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4396-910A-4F78-B1D7-BE855067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B8B1-0831-4DB7-B966-91F318FDE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56DA-69A7-419A-BAEF-72640D352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E94E7-B63D-4D38-BD5A-88082B86E09D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9B9FD-EEB7-45E0-82EC-33F70DD65EF2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200"/>
            <a:ext cx="709776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Tecnologías de información para la gestión de abastecimiento (parte 2)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5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stión de Abastec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ricio Re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atricio.renner@dyg.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83809-16E7-4349-BEC5-FCE21526A49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Flujos de información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55F7C-E47C-4DD1-8F48-097F75ACC9B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70000" y="-3240"/>
            <a:ext cx="8604000" cy="6846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9F16-CD09-4E3D-9150-F24234AB353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70000" y="11160"/>
            <a:ext cx="8604000" cy="6846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C29C-B0D2-4FDA-BED6-2496EC5DC96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jempl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ceso de negocios integra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teriales de stoc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stema de gestión integra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ordenamiento con MRP I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D8E8-69E3-451B-BFC8-4CDCE75AEA5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ervicios de valor agregado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Logístic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dministración de invent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endor Managed Inventory (VM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sign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isibilidad de invent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Virtual pooled inven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e-procurement proces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rvicios logíst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ransp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lmacen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iquidación de obsole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Analític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nálisis de gas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Financier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ago electrón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88ED-262D-4DB1-8C4D-AB60747C066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500" spc="-1" strike="noStrike">
                <a:solidFill>
                  <a:srgbClr val="330066"/>
                </a:solidFill>
                <a:latin typeface="Arial"/>
              </a:rPr>
              <a:t>Marketplace</a:t>
            </a:r>
            <a:br>
              <a:rPr sz="3500"/>
            </a:br>
            <a:r>
              <a:rPr b="1" lang="es-MX" sz="3500" spc="-1" strike="noStrike">
                <a:solidFill>
                  <a:srgbClr val="330066"/>
                </a:solidFill>
                <a:latin typeface="Arial"/>
              </a:rPr>
              <a:t>Funcionalidad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87280" y="4869000"/>
            <a:ext cx="6696360" cy="504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Black"/>
              </a:rPr>
              <a:t>Vende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187280" y="2492280"/>
            <a:ext cx="6696360" cy="5050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 Black"/>
              </a:rPr>
              <a:t>Compra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87280" y="3427560"/>
            <a:ext cx="1872000" cy="1008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 Black"/>
              </a:rPr>
              <a:t>Negoci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98920" y="3427560"/>
            <a:ext cx="1871640" cy="1008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 Black"/>
              </a:rPr>
              <a:t>Flujos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 Black"/>
              </a:rPr>
              <a:t>Inform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012000" y="3429000"/>
            <a:ext cx="1871640" cy="1008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 Black"/>
              </a:rPr>
              <a:t>Servicios de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 Black"/>
              </a:rPr>
              <a:t>Valor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 Black"/>
              </a:rPr>
              <a:t>Agreg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>
            <a:stCxn id="153" idx="2"/>
            <a:endCxn id="154" idx="0"/>
          </p:cNvCxnSpPr>
          <p:nvPr/>
        </p:nvCxnSpPr>
        <p:spPr>
          <a:xfrm flipH="1">
            <a:off x="2123280" y="2997000"/>
            <a:ext cx="2412360" cy="43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8" name=""/>
          <p:cNvCxnSpPr>
            <a:stCxn id="153" idx="2"/>
            <a:endCxn id="155" idx="0"/>
          </p:cNvCxnSpPr>
          <p:nvPr/>
        </p:nvCxnSpPr>
        <p:spPr>
          <a:xfrm>
            <a:off x="4535280" y="2997000"/>
            <a:ext cx="1080" cy="43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9" name=""/>
          <p:cNvCxnSpPr>
            <a:stCxn id="153" idx="2"/>
            <a:endCxn id="156" idx="0"/>
          </p:cNvCxnSpPr>
          <p:nvPr/>
        </p:nvCxnSpPr>
        <p:spPr>
          <a:xfrm>
            <a:off x="4535640" y="2997000"/>
            <a:ext cx="241344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0" name=""/>
          <p:cNvCxnSpPr>
            <a:stCxn id="152" idx="0"/>
            <a:endCxn id="154" idx="2"/>
          </p:cNvCxnSpPr>
          <p:nvPr/>
        </p:nvCxnSpPr>
        <p:spPr>
          <a:xfrm flipH="1" flipV="1">
            <a:off x="2123280" y="4435200"/>
            <a:ext cx="2412360" cy="43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1" name=""/>
          <p:cNvCxnSpPr>
            <a:stCxn id="152" idx="0"/>
            <a:endCxn id="155" idx="2"/>
          </p:cNvCxnSpPr>
          <p:nvPr/>
        </p:nvCxnSpPr>
        <p:spPr>
          <a:xfrm flipV="1">
            <a:off x="4535280" y="4435200"/>
            <a:ext cx="1080" cy="43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2" name=""/>
          <p:cNvCxnSpPr>
            <a:stCxn id="152" idx="0"/>
            <a:endCxn id="156" idx="2"/>
          </p:cNvCxnSpPr>
          <p:nvPr/>
        </p:nvCxnSpPr>
        <p:spPr>
          <a:xfrm flipV="1">
            <a:off x="4535640" y="4436640"/>
            <a:ext cx="2413440" cy="43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3" name=""/>
          <p:cNvSpPr/>
          <p:nvPr/>
        </p:nvSpPr>
        <p:spPr>
          <a:xfrm>
            <a:off x="971640" y="3284640"/>
            <a:ext cx="7129440" cy="1295280"/>
          </a:xfrm>
          <a:prstGeom prst="rect">
            <a:avLst/>
          </a:prstGeom>
          <a:noFill/>
          <a:ln cap="rnd" w="28440">
            <a:solidFill>
              <a:srgbClr val="4d4d4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536880" y="4579920"/>
            <a:ext cx="126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33"/>
                </a:solidFill>
                <a:latin typeface="Arial Black"/>
              </a:rPr>
              <a:t>ChileComp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65F6-F821-4ADA-BBEC-1DE3F3AC896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95280" y="2852640"/>
            <a:ext cx="3960720" cy="381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Black"/>
              </a:rPr>
              <a:t>RFx (RFI – RFQ – RF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egociaci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187280" y="1916280"/>
            <a:ext cx="2880000" cy="792000"/>
          </a:xfrm>
          <a:prstGeom prst="rect">
            <a:avLst/>
          </a:prstGeom>
          <a:solidFill>
            <a:srgbClr val="7e9c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tá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87280" y="3043080"/>
            <a:ext cx="2880000" cy="792360"/>
          </a:xfrm>
          <a:prstGeom prst="rect">
            <a:avLst/>
          </a:prstGeom>
          <a:solidFill>
            <a:srgbClr val="7e9c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t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87280" y="4172040"/>
            <a:ext cx="2880000" cy="792000"/>
          </a:xfrm>
          <a:prstGeom prst="rect">
            <a:avLst/>
          </a:prstGeom>
          <a:solidFill>
            <a:srgbClr val="7e9c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ci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87280" y="5300640"/>
            <a:ext cx="2880000" cy="792360"/>
          </a:xfrm>
          <a:prstGeom prst="rect">
            <a:avLst/>
          </a:prstGeom>
          <a:solidFill>
            <a:srgbClr val="7e9c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asta inver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580000" y="2276640"/>
            <a:ext cx="1152720" cy="3960720"/>
          </a:xfrm>
          <a:prstGeom prst="downArrow">
            <a:avLst>
              <a:gd name="adj1" fmla="val 50000"/>
              <a:gd name="adj2" fmla="val 85899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63760" y="3797280"/>
            <a:ext cx="18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ompetitiv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9548-4B34-4330-B053-5B5982D4A21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atálogos electrónicos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Aplicació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3998880"/>
            <a:ext cx="822960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j.-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atálogo públ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Negociación no habitu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Yahoo! Shopp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9640" y="2600280"/>
            <a:ext cx="2159280" cy="7923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tá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203640" y="3139920"/>
            <a:ext cx="2232000" cy="7923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v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03640" y="2060640"/>
            <a:ext cx="2232000" cy="7920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úb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5" idx="3"/>
            <a:endCxn id="177" idx="1"/>
          </p:cNvCxnSpPr>
          <p:nvPr/>
        </p:nvCxnSpPr>
        <p:spPr>
          <a:xfrm flipV="1">
            <a:off x="2698920" y="2457000"/>
            <a:ext cx="505440" cy="540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9" name=""/>
          <p:cNvCxnSpPr>
            <a:stCxn id="175" idx="3"/>
            <a:endCxn id="176" idx="1"/>
          </p:cNvCxnSpPr>
          <p:nvPr/>
        </p:nvCxnSpPr>
        <p:spPr>
          <a:xfrm>
            <a:off x="2698920" y="2997000"/>
            <a:ext cx="505440" cy="540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0" name=""/>
          <p:cNvSpPr/>
          <p:nvPr/>
        </p:nvSpPr>
        <p:spPr>
          <a:xfrm>
            <a:off x="5564880" y="2138400"/>
            <a:ext cx="295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úsque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gociación no habi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58760" y="3348000"/>
            <a:ext cx="221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atos mar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CAA0-17B6-4C82-8C0B-6C428EAC7B4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atálogos electrónicos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Estructura de catalogació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Taxonomí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32688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ategorí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32688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tribu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32688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structu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stánda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32688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atálogos horizontales (UNSPSC - RU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32688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atálogos verticales (Rosetta NE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Facilidades de búsque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32688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Mapeo de categorí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32688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li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32688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Rutas de naveg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C8AF-581A-46F1-B13E-6EFAFE536E8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atálogos electrónicos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olución funcional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366920" y="1989000"/>
            <a:ext cx="2520720" cy="10083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rro de comp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(shopping ca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366920" y="3164040"/>
            <a:ext cx="2520720" cy="10080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otor de búsque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(search engi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366920" y="4340160"/>
            <a:ext cx="2520720" cy="10080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dministr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(management too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365120" y="5516640"/>
            <a:ext cx="2521080" cy="10080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reación de conten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(content workst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870920" y="151272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plic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57800" y="1989000"/>
            <a:ext cx="2521080" cy="1008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reación de conten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(Content factor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57800" y="3164040"/>
            <a:ext cx="2521080" cy="100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minist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xonom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955480" y="151272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erv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EB6C-B84A-41E5-89C2-594F375508C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RFx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F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FP – RFQ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basta invers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0FE7-0E08-453C-952D-A337AA8ABA2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rcRect l="0" t="9052" r="0" b="0"/>
          <a:stretch/>
        </p:blipFill>
        <p:spPr>
          <a:xfrm>
            <a:off x="378000" y="620640"/>
            <a:ext cx="8388000" cy="62373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783720" y="254160"/>
            <a:ext cx="141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ompr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081920" y="216000"/>
            <a:ext cx="130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Provee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860640" y="2160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Market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1C9E-BECB-43C8-9B5D-06E98CD2BFB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ubasta invers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repar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nálisis de merc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recalificación de ofere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RF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ntrenamiento de los participa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ealización del eve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uración de las subast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xtens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Herramientas de monitore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Modalidades de subas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47880" indent="-28188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Información disponible a los participant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7029-8277-4FFA-B28F-B0CF7BDCAAA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15:34:13Z</dcterms:created>
  <dc:creator>Patricio Renner P.</dc:creator>
  <dc:description/>
  <dc:language>en-US</dc:language>
  <cp:lastModifiedBy>Patricio Renner P.</cp:lastModifiedBy>
  <dcterms:modified xsi:type="dcterms:W3CDTF">2004-10-07T12:31:54Z</dcterms:modified>
  <cp:revision>5</cp:revision>
  <dc:subject/>
  <dc:title>Tecnologías de información para la gestión de abastecimiento</dc:title>
</cp:coreProperties>
</file>