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FDD-3087-48B6-A61A-0F3FB1DA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47-EB31-4802-9F1B-DDB87386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870-7546-4BD4-A6B0-43FB0F3B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A61-D157-4CF7-97B2-F4DD1B8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C0F3-61B6-4A1E-898B-91281A6A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E5C4-B0CD-43C6-83B4-EED577DB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1DF-3AC1-4146-93C8-65843EC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E8F-4117-4B43-8007-414A220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D37B-6680-4D89-8DB8-ADBBD636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E27E-5746-4EAB-A3FC-849AE52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907-80D2-4CB6-81A4-CF43770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4A5-4C19-431F-A03A-9D46073B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4E6-285D-4C47-AF5A-3712597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0A26-88F6-429D-92EB-3E5896B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85E5-09AF-4674-A896-6BFAC6F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1CF4-E1C0-40EB-898A-2554A8CC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32E-E6F9-4786-B261-3F0B6C7B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961-0D1B-4AB4-B336-181C44C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59A-238B-405B-B100-0A11C47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B12-6FA7-4C2E-91D6-29FB238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816-8CEC-4A80-B695-D9140207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EB5-0B6F-4252-937D-7C74639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EEE-7FA3-4B50-99AE-335F98A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A88-223B-4179-AF68-4D36D97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8C4-B69E-4274-B73F-1745DC297CC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F16-26F5-4F79-A83A-68572A503FB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2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EB94-26A2-49BB-8E38-C7292FC9B9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lujos de inform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CA9-79B5-4D4F-AB11-4C69CAFB11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0000" y="-324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DFA-9812-490E-B6FC-F9047D0B8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00" y="1116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378-E280-4583-992E-C527DD4FD4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o de negocios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les de st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de gestión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ordenamiento con M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C34-654D-478B-A7F5-70E686921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rvicios de valor agregad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gís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gn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bilidad de 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rtual pooled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-procurem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s log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quidación d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í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04D-C857-46B5-B57E-9E621DE02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"/>
          <p:cNvCxnSpPr>
            <a:stCxn id="153" idx="2"/>
            <a:endCxn id="155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53" idx="2"/>
            <a:endCxn id="156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52" idx="0"/>
            <a:endCxn id="154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>
            <a:stCxn id="152" idx="0"/>
            <a:endCxn id="155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>
            <a:stCxn id="152" idx="0"/>
            <a:endCxn id="156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880" y="45799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ChileCom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0E2-A1F8-4AD9-AEDB-8E8AEC30C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852640"/>
            <a:ext cx="396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RFx (RFI – RFQ – R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91628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304308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417204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30064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276640"/>
            <a:ext cx="1152720" cy="3960720"/>
          </a:xfrm>
          <a:prstGeom prst="downArrow">
            <a:avLst>
              <a:gd name="adj1" fmla="val 50000"/>
              <a:gd name="adj2" fmla="val 858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3760" y="3797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97E-1731-4F66-84FB-1B8643BBA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lic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9988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tálog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ahoo! Sh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600280"/>
            <a:ext cx="215928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139920"/>
            <a:ext cx="223200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060640"/>
            <a:ext cx="2232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77" idx="1"/>
          </p:cNvCxnSpPr>
          <p:nvPr/>
        </p:nvCxnSpPr>
        <p:spPr>
          <a:xfrm flipV="1">
            <a:off x="2698920" y="2457000"/>
            <a:ext cx="50544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6" idx="1"/>
          </p:cNvCxnSpPr>
          <p:nvPr/>
        </p:nvCxnSpPr>
        <p:spPr>
          <a:xfrm>
            <a:off x="2698920" y="2997000"/>
            <a:ext cx="505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564880" y="21384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8760" y="334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A2B-9AF0-4EC4-BF27-7B292B603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structura de catalog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horizontales (UNSPSC - R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verticales (Rosetta 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dades de búsqu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peo de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utas de nav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A1E-3FC2-49D3-AA1B-1915119A13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lución funcion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6920" y="1989000"/>
            <a:ext cx="25207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o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hopping c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6920" y="316404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earch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434016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management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5120" y="5516640"/>
            <a:ext cx="252108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content works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920" y="151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989000"/>
            <a:ext cx="252108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Content fac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164040"/>
            <a:ext cx="2521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5480" y="1512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8BC-87E5-40FD-9B02-E3310F4680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P – RF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C33-2BA7-4F60-B713-FD6ABC316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0" t="9052" r="0" b="0"/>
          <a:stretch/>
        </p:blipFill>
        <p:spPr>
          <a:xfrm>
            <a:off x="378000" y="620640"/>
            <a:ext cx="8388000" cy="623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83720" y="2541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1920" y="216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60640" y="216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359-1636-436C-8195-D2DB963FD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asta inver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calificación de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F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trenamiento de los particip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lización del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ción de las suba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erramientas de 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dalidades de suba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ormación disponible a los particip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AB1-5E71-4EB8-901A-72616443AC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10-07T12:31:54Z</dcterms:modified>
  <cp:revision>5</cp:revision>
  <dc:subject/>
  <dc:title>Tecnologías de información para la gestión de abastecimiento</dc:title>
</cp:coreProperties>
</file>