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787-1FE4-4F29-BE02-CB171FB5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7BC-8636-4635-9427-3E369B3B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361-37DF-44CA-9D05-A983DB83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916-49A4-41E2-A3A7-97760C02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54E6-51D4-4490-8145-E2884813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B29-FC1A-450D-A17C-84CBE3AE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44AB-DD7C-4450-8F9A-50B836E5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58F-CAE5-4F78-9996-F4161F9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7D38-E7B1-485B-A305-4D190FB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1EE3-FD5A-4744-8E76-1B199300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A0E-ADC2-439B-97EC-88734F4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F88-A197-46ED-95FF-AB979B00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4344-C061-4135-8E30-8944EA7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EBA-5ADF-4543-AB4C-7B74B59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C46-B89B-4D6F-88E6-7CAAE06D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39ED-A759-4879-A9D7-F2E4926F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ECCA-FCB4-4E14-8486-03A66E87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D58-1EAC-4377-B552-CAC0A26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602-1149-49D8-9D97-5522C10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45B-FD2C-46A3-A161-360B2EDA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AD1-0834-4C6D-938D-69CDBD8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166-100A-4E65-A26F-35999BC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FAE-A914-48DA-8BA5-A212CFB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90A-3AAB-46E2-B1E2-96240D8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56E3-1BC3-4D01-8A00-17F67FC6490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579-216D-4FD0-986A-3650D3DE457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488-0EA8-4199-8051-2F3276F96A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6A2-2348-425C-B782-27CF593B3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ED2-6D8E-46A9-83CF-35F11A371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C7E-D23D-4E16-BE4F-A9DA93A43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52960" y="3216240"/>
            <a:ext cx="2636640" cy="2706840"/>
            <a:chOff x="3252960" y="3216240"/>
            <a:chExt cx="2636640" cy="27068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217680" y="3251160"/>
              <a:ext cx="27068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001040" y="398304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3280" y="4793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89840" y="461304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43720" y="5132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96320" y="344736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>
            <a:off x="2238480" y="4524480"/>
            <a:ext cx="101808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5892480" y="4524120"/>
            <a:ext cx="101340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2000" y="2492280"/>
            <a:ext cx="216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264-0FC7-4094-9238-5736ECA057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B3A-E622-4497-80D5-6E34248982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8C1-B0F9-46BC-BB1D-A185D4E22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90D-2862-42D1-B9ED-F448B63F5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D77-25F3-4293-9530-8711A40D9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</cp:lastModifiedBy>
  <dcterms:modified xsi:type="dcterms:W3CDTF">2005-09-28T18:39:26Z</dcterms:modified>
  <cp:revision>8</cp:revision>
  <dc:subject/>
  <dc:title>Tecnologías de información para la gestión de abastecimiento</dc:title>
</cp:coreProperties>
</file>